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CED-869B-4E85-9F02-9695E97F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A87-879A-4FCD-B91C-4B7BD8D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7F1-D2F7-4B04-9C00-C2BCC8B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EF4-694C-42EC-99DC-5A4CDE4D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798-677F-4D5F-9594-05B1E77F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B20-8BFF-4FA1-82DD-80A2262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5AA-5F8A-4362-BD1C-E31F12FA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5D1-2B0C-46D5-AD66-9C20CC62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9EC-3FFA-43FA-A9B5-090C4FC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3D4-BD35-4BD3-88C5-D7F3D0C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577-697A-4A9D-938F-CDDECD2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818-0221-48F6-9930-56D7484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935-E755-448E-A4AA-A9A99369A8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930-4754-4DFE-BFE4-47EEA6E387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36360" y="-2700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0800" y="227664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关于生物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24" name="矩形 2"/>
          <p:cNvSpPr/>
          <p:nvPr/>
        </p:nvSpPr>
        <p:spPr>
          <a:xfrm>
            <a:off x="324000" y="4365720"/>
            <a:ext cx="606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26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5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6"/>
          <p:cNvSpPr/>
          <p:nvPr/>
        </p:nvSpPr>
        <p:spPr>
          <a:xfrm>
            <a:off x="4095720" y="2708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FB0-671E-4548-98DC-C56CAF27DE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55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4560" y="4005360"/>
          <a:ext cx="7994520" cy="2017440"/>
        </p:xfrm>
        <a:graphic>
          <a:graphicData uri="http://schemas.openxmlformats.org/drawingml/2006/table">
            <a:tbl>
              <a:tblPr/>
              <a:tblGrid>
                <a:gridCol w="3584520"/>
                <a:gridCol w="441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410-2A8B-4E2D-8B31-7BDEDD382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64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67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70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73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0C2-DBF4-46DA-990F-8C37841110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6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9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  <a:ea typeface="宋体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8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2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5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8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101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4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7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10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3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6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肘形连接符 14"/>
            <p:cNvCxnSpPr/>
            <p:nvPr/>
          </p:nvCxnSpPr>
          <p:spPr>
            <a:xfrm flipV="1" rot="10800000">
              <a:off x="3347280" y="3825720"/>
              <a:ext cx="1801080" cy="889560"/>
            </a:xfrm>
            <a:prstGeom prst="bentConnector3">
              <a:avLst>
                <a:gd name="adj1" fmla="val 2475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29" name="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肘形连接符 33"/>
            <p:cNvCxnSpPr/>
            <p:nvPr/>
          </p:nvCxnSpPr>
          <p:spPr>
            <a:xfrm>
              <a:off x="6435720" y="3897000"/>
              <a:ext cx="1347120" cy="689040"/>
            </a:xfrm>
            <a:prstGeom prst="bentConnector3">
              <a:avLst>
                <a:gd name="adj1" fmla="val 27719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4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肘形连接符 37"/>
            <p:cNvCxnSpPr/>
            <p:nvPr/>
          </p:nvCxnSpPr>
          <p:spPr>
            <a:xfrm>
              <a:off x="4973400" y="339876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38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肘形连接符 41"/>
            <p:cNvCxnSpPr/>
            <p:nvPr/>
          </p:nvCxnSpPr>
          <p:spPr>
            <a:xfrm>
              <a:off x="7103880" y="3479400"/>
              <a:ext cx="724680" cy="6894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1" name="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2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肘形连接符 45"/>
            <p:cNvCxnSpPr/>
            <p:nvPr/>
          </p:nvCxnSpPr>
          <p:spPr>
            <a:xfrm flipV="1" rot="10800000">
              <a:off x="3557160" y="3352320"/>
              <a:ext cx="71604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46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肘形连接符 49"/>
            <p:cNvCxnSpPr/>
            <p:nvPr/>
          </p:nvCxnSpPr>
          <p:spPr>
            <a:xfrm>
              <a:off x="7794360" y="3479760"/>
              <a:ext cx="581400" cy="1087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9" name="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5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肘形连接符 55"/>
            <p:cNvCxnSpPr>
              <a:stCxn id="151" idx="6"/>
              <a:endCxn id="15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3" name="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5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" name="肘形连接符 60"/>
            <p:cNvCxnSpPr/>
            <p:nvPr/>
          </p:nvCxnSpPr>
          <p:spPr>
            <a:xfrm>
              <a:off x="1550880" y="2584080"/>
              <a:ext cx="724320" cy="689400"/>
            </a:xfrm>
            <a:prstGeom prst="bentConnector3">
              <a:avLst>
                <a:gd name="adj1" fmla="val 49975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58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肘形连接符 64"/>
            <p:cNvCxnSpPr/>
            <p:nvPr/>
          </p:nvCxnSpPr>
          <p:spPr>
            <a:xfrm>
              <a:off x="7681680" y="509112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sp>
        <p:nvSpPr>
          <p:cNvPr id="161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1116000" y="3284640"/>
            <a:ext cx="34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rcRect l="17871" t="0" r="6448" b="0"/>
          <a:stretch/>
        </p:blipFill>
        <p:spPr>
          <a:xfrm flipH="1">
            <a:off x="-9252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“地球上的人类已免于天花疾病”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98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02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3933720"/>
            <a:ext cx="3240000" cy="2159280"/>
            <a:chOff x="324000" y="3933720"/>
            <a:chExt cx="3240000" cy="2159280"/>
          </a:xfrm>
        </p:grpSpPr>
        <p:sp>
          <p:nvSpPr>
            <p:cNvPr id="207" name="剪去单角的矩形 19"/>
            <p:cNvSpPr/>
            <p:nvPr/>
          </p:nvSpPr>
          <p:spPr>
            <a:xfrm>
              <a:off x="324000" y="3933720"/>
              <a:ext cx="3240000" cy="2159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2159280"/>
                <a:gd name="textAreaBottom" fmla="*/ 2159640 h 2159280"/>
              </a:gdLst>
              <a:ahLst/>
              <a:rect l="textAreaLeft" t="textAreaTop" r="textAreaRight" b="textAreaBottom"/>
              <a:pathLst>
                <a:path w="3240450" h="2160300">
                  <a:moveTo>
                    <a:pt x="0" y="0"/>
                  </a:moveTo>
                  <a:lnTo>
                    <a:pt x="2880392" y="0"/>
                  </a:lnTo>
                  <a:lnTo>
                    <a:pt x="3240450" y="360057"/>
                  </a:lnTo>
                  <a:lnTo>
                    <a:pt x="3240450" y="2160300"/>
                  </a:lnTo>
                  <a:lnTo>
                    <a:pt x="0" y="21603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09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12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6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“牛痘接种术”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箭头连接符 6"/>
          <p:cNvCxnSpPr/>
          <p:nvPr/>
        </p:nvCxnSpPr>
        <p:spPr>
          <a:xfrm>
            <a:off x="1835280" y="2333160"/>
            <a:ext cx="2160" cy="359640"/>
          </a:xfrm>
          <a:prstGeom prst="straightConnector1">
            <a:avLst/>
          </a:prstGeom>
          <a:ln w="38160">
            <a:solidFill>
              <a:srgbClr val="ff550d"/>
            </a:solidFill>
            <a:miter/>
            <a:tailEnd len="med" type="arrow" w="med"/>
          </a:ln>
        </p:spPr>
      </p:cxnSp>
      <p:sp>
        <p:nvSpPr>
          <p:cNvPr id="222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0:46Z</dcterms:modified>
  <cp:revision>1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