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0ED-F60C-4E46-A4DE-BED92BA0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45C-7F18-4CBC-86E3-25D8442F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D9C-F8A9-4291-A677-F8F74269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096-5A18-42AF-99DF-C5D90323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139-323C-4B6C-ACEF-97714BDF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921-5829-47B4-A65A-F410670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7A8-777D-4ECD-820A-B609DCCF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261-802E-4FC8-BE81-22E2ADEE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011-B5C2-47B3-9CE1-26279326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15C-23D0-4D13-957F-D24770AC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664-EB03-4B23-90F3-5C4421A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196-3BDD-465D-A570-AE72FCC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AEA0-4FE6-40B3-91B0-C15B8BE37A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8763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汉仪行楷繁"/>
                <a:ea typeface="汉仪行楷繁"/>
              </a:rPr>
              <a:t>高中家长会</a:t>
            </a:r>
            <a:r>
              <a:rPr b="0" lang="en-US" sz="4000" spc="-1" strike="noStrike">
                <a:solidFill>
                  <a:srgbClr val="92d050"/>
                </a:solidFill>
                <a:latin typeface="汉仪行楷繁"/>
                <a:ea typeface="汉仪行楷繁"/>
              </a:rPr>
              <a:t>ppt</a:t>
            </a:r>
            <a:r>
              <a:rPr b="0" lang="zh-CN" sz="4000" spc="-1" strike="noStrike">
                <a:solidFill>
                  <a:srgbClr val="92d050"/>
                </a:solidFill>
                <a:latin typeface="汉仪行楷繁"/>
                <a:ea typeface="汉仪行楷繁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066680" y="1600200"/>
            <a:ext cx="670572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92d05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华康简综艺"/>
              </a:rPr>
              <a:t>欢迎各位家长观临指导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92d050"/>
              </a:solidFill>
              <a:effectLst>
                <a:outerShdw dist="0" dir="0" blurRad="0" rotWithShape="0">
                  <a:srgbClr val="000000"/>
                </a:outerShdw>
              </a:effectLst>
              <a:latin typeface="华康简综艺"/>
              <a:ea typeface="华康简综艺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4495680" y="6095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高一（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12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）班家长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2013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年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5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月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8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1981080" y="4896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2a2a"/>
                </a:solidFill>
                <a:latin typeface="Arial"/>
              </a:rPr>
              <a:t>*</a:t>
            </a:r>
            <a:r>
              <a:rPr b="0" lang="zh-CN" sz="1800" spc="-1" strike="noStrike">
                <a:solidFill>
                  <a:srgbClr val="a52a2a"/>
                </a:solidFill>
                <a:latin typeface="Arial"/>
              </a:rPr>
              <a:t>本</a:t>
            </a:r>
            <a:r>
              <a:rPr b="0" lang="en-US" sz="1800" spc="-1" strike="noStrike">
                <a:solidFill>
                  <a:srgbClr val="a52a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a52a2a"/>
                </a:solidFill>
                <a:latin typeface="Arial"/>
              </a:rPr>
              <a:t>，重在提供一个家长会</a:t>
            </a:r>
            <a:r>
              <a:rPr b="0" lang="en-US" sz="1800" spc="-1" strike="noStrike">
                <a:solidFill>
                  <a:srgbClr val="a52a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a52a2a"/>
                </a:solidFill>
                <a:latin typeface="Arial"/>
              </a:rPr>
              <a:t>制作的内容组织思路</a:t>
            </a:r>
            <a:r>
              <a:rPr b="0" lang="zh-CN" sz="1800" spc="-1" strike="noStrike">
                <a:solidFill>
                  <a:srgbClr val="a52a2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A20-C6FA-4396-B85B-11D648846A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教育需要社会 家庭 学校共同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我们对学生的关爱是火热的友情，沉静的了解、相互信任、共同享受和彼此了解；是互相取长补短承认孩子们的弱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孩子们的进步也是</a:t>
            </a:r>
            <a:r>
              <a:rPr b="1" lang="zh-CN" sz="3200" spc="-1" strike="noStrike">
                <a:solidFill>
                  <a:srgbClr val="ff0066"/>
                </a:solidFill>
                <a:latin typeface="汉仪行楷简"/>
                <a:ea typeface="汉仪行楷简"/>
              </a:rPr>
              <a:t>我们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我们</a:t>
            </a: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老师</a:t>
            </a: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家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生致家长的一封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120" y="1066320"/>
            <a:ext cx="5334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家，赐予我一座又一座路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父母永远不疲倦的向我期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古老而又永恒的关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有时，父母的手送我一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有时，父母的心送我一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其实送与不送都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早已经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无论是刮风下雨，还是冰天雪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都以是你心头的牵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在岁月的风雨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会带着感恩和虔诚为您祝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琥珀"/>
              </a:rPr>
              <a:t>谢谢您的支持，祝您工作顺利</a:t>
            </a:r>
            <a:br>
              <a:rPr sz="4800"/>
            </a:b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琥珀"/>
              </a:rPr>
              <a:t>生活愉快，再见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汉仪方隶简"/>
                <a:ea typeface="汉仪方隶简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1 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校领导讲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2 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期中考试成绩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生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对您的几点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针对您孩子的情况反馈您的意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生致家长的一封信及您对孩子的鼓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班级情况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           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本班共有</a:t>
            </a: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69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学生，期中</a:t>
            </a: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38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位女生，入学成绩相差较大。学生来源以敦化市为主，也有周边县市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ordArt 5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82598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期中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理科参加考试人数：</a:t>
            </a:r>
            <a:r>
              <a:rPr b="0" lang="en-US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14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各科平均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2743200"/>
          <a:ext cx="8839080" cy="1293840"/>
        </p:xfrm>
        <a:graphic>
          <a:graphicData uri="http://schemas.openxmlformats.org/drawingml/2006/table">
            <a:tbl>
              <a:tblPr/>
              <a:tblGrid>
                <a:gridCol w="1787400"/>
                <a:gridCol w="933480"/>
                <a:gridCol w="1011240"/>
                <a:gridCol w="916200"/>
                <a:gridCol w="1143000"/>
                <a:gridCol w="990360"/>
                <a:gridCol w="9907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文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班级平均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班级各科最高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895840"/>
                <a:gridCol w="312408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学生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宋义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杨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曲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宋义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沈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欧阳博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文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沈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  <a:ea typeface="华文行楷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067680" cy="6705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表现优秀的同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王岩、魏子策、李慧、夏文静、邢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班级前十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沈威、欧阳博宇、杨杰、李伟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迟玉婷、李振华、王雪冰、孟凡博、张轩、李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班级进步较快的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王艺霖、赵健、代安妮，祁若男、丁梦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吴柳虎、魏子策、张轩、姜博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邢宇、张轩、宋金明、夏文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本学期出勤良好的同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沈威、欧阳博宇、杨杰、李振华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孟凡博、李慧、宋义双、郭连东、曲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6337440" y="3295800"/>
            <a:ext cx="208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教子宝典康熙年间就有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生不败宝典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规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W020100929372548913723"/>
          <p:cNvPicPr/>
          <p:nvPr/>
        </p:nvPicPr>
        <p:blipFill>
          <a:blip r:embed="rId15"/>
          <a:stretch/>
        </p:blipFill>
        <p:spPr>
          <a:xfrm>
            <a:off x="5715000" y="1600200"/>
            <a:ext cx="32320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690920" y="609120"/>
            <a:ext cx="49456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总纲： 弟子规 圣人训 首孝悌 次谨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泛爱众 而亲仁 有余力 则学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066680" y="3241800"/>
            <a:ext cx="43434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首先，在日常生活中要做到孝敬父母，友爱兄弟姐妹，其次一切言行中，要谨慎，要讲信用；和大众交往时要平等仁和，要时常亲近有仁德的人，向他学习 。以上这些事是学习的根本，非做不可。如果做了还有余遐，更应努力的学习礼、乐、射、御、书、术等六艺，各种经典，以及其他有益的学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04920" y="5956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通过细节改变习惯 再改变性格 从而改变命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学生存在的一些问题及给您的几点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57913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5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空挡时间安排不合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1295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少数同学没从根本上认识到学习的重要性，课堂不能集中注意力好好听课，在课堂还玩心十足，上课思路不能跟着老师走，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听讲效率不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2666880"/>
            <a:ext cx="883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习上相当一部分同学存在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懒学情绪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学习不主动，有一些同学根本不会自主学习，学习根本没有压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3733920"/>
            <a:ext cx="9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校园携带手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上课发信息，上网，看小说，百害而无一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457200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良的行为习惯，主要表现在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早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穿着打扮不得体，不讲文明礼貌，缺少认识错误的心理承受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早恋的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781640" y="152316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当前高中校园早恋问题日趋严重，并呈现五个鲜明特征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80880" y="2559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1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行为公开化。以前学生恋爱是小偷式地下活动，而今学生恋爱毫无顾忌。他们之间的称呼也令人吃惊，“老婆，过来一下”、“老公，我先去点菜”，类似的语言在校园常能听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713040" y="33519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动作神速化。入学一个月后，高一学生早恋状况，每个班都不同程度地存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567240" y="403776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方式信息化。利用手机、现代通讯工具表达爱意，或利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谈情说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892320" y="464760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恋爱联盟化。几对人集体行动，同时约会、同场所举止亲昵，形成恋爱同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380880" y="5821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后果疯狂化。处理早恋问题成了学校、班主任花精力最大、效果最不明显的工作。不少学校处理方法比较简单，往往是发现问题后严肃批评，通报处分，告诉家长，直至退学。这些传统方法收效甚微，甚至造成严重后果。所以，如何科学地正确地应对高中学生早恋是摆在学校、家庭面前的急待解决的问题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0T07:33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9:01Z</dcterms:modified>
  <cp:revision>2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