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2C9-B5A6-4081-B218-8190BAF5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637-FD98-497F-8362-83E87D7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875-699C-43DB-B7CC-E6152D2E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3CF-91D9-4E00-9388-9D90A7D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2DB-5E41-4376-A45E-78029527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373A-768F-4C2F-A974-C79FF5C9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5092-291D-418F-88B3-6D3CCFA7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0D7-B2FF-4788-9E22-BF23E46C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45F-4FA1-4A07-B5F7-96E52B53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4BD-286C-4F61-B083-1E2606B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74E3-A967-45F5-9602-9C47099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F7E-D794-4EF5-868B-D7E771C8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073-C8C3-4B01-ACB1-8BE2DFC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5EFE-674B-407A-ACE0-76A694C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C46E-03F5-4537-BACB-8F4DC78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DEA8-F5A9-45A4-A904-1522962C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001-317E-4705-8E63-DBAC4CF9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158-16E0-4229-987C-D5F23392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7A-D1A3-4014-924B-7D53F4E0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83E-4A0F-44EE-BE28-AB6A9890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13B-AB33-4AE6-9912-FE0B1DF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F09-BEA1-48A1-92BC-CC38457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A02-512B-45F8-8275-806ADCF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486-63A3-4ABA-9082-62BA6A0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85E-F539-4EDF-940E-D75B09537BE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F481-E31A-4070-BDCE-BD3120CE4FE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139120" y="249228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白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7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434280" y="3665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116000" y="115920"/>
            <a:ext cx="7559280" cy="1512720"/>
            <a:chOff x="1116000" y="115920"/>
            <a:chExt cx="7559280" cy="1512720"/>
          </a:xfrm>
        </p:grpSpPr>
        <p:sp>
          <p:nvSpPr>
            <p:cNvPr id="86" name="矩形 12"/>
            <p:cNvSpPr/>
            <p:nvPr/>
          </p:nvSpPr>
          <p:spPr>
            <a:xfrm>
              <a:off x="1116000" y="115920"/>
              <a:ext cx="359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1620000" y="115920"/>
              <a:ext cx="359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14"/>
            <p:cNvSpPr/>
            <p:nvPr/>
          </p:nvSpPr>
          <p:spPr>
            <a:xfrm>
              <a:off x="212400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5"/>
            <p:cNvSpPr/>
            <p:nvPr/>
          </p:nvSpPr>
          <p:spPr>
            <a:xfrm>
              <a:off x="3203640" y="115920"/>
              <a:ext cx="35964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16"/>
            <p:cNvSpPr/>
            <p:nvPr/>
          </p:nvSpPr>
          <p:spPr>
            <a:xfrm>
              <a:off x="3707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4211640" y="115920"/>
              <a:ext cx="35964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18"/>
            <p:cNvSpPr/>
            <p:nvPr/>
          </p:nvSpPr>
          <p:spPr>
            <a:xfrm>
              <a:off x="5275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19"/>
            <p:cNvSpPr/>
            <p:nvPr/>
          </p:nvSpPr>
          <p:spPr>
            <a:xfrm>
              <a:off x="5779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20"/>
            <p:cNvSpPr/>
            <p:nvPr/>
          </p:nvSpPr>
          <p:spPr>
            <a:xfrm>
              <a:off x="6283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21"/>
            <p:cNvSpPr/>
            <p:nvPr/>
          </p:nvSpPr>
          <p:spPr>
            <a:xfrm>
              <a:off x="7307640" y="115920"/>
              <a:ext cx="3596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22"/>
            <p:cNvSpPr/>
            <p:nvPr/>
          </p:nvSpPr>
          <p:spPr>
            <a:xfrm>
              <a:off x="7811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23"/>
            <p:cNvSpPr/>
            <p:nvPr/>
          </p:nvSpPr>
          <p:spPr>
            <a:xfrm>
              <a:off x="8315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2484360" y="1557360"/>
            <a:ext cx="4464000" cy="4464000"/>
            <a:chOff x="2484360" y="1557360"/>
            <a:chExt cx="4464000" cy="4464000"/>
          </a:xfrm>
        </p:grpSpPr>
        <p:sp>
          <p:nvSpPr>
            <p:cNvPr id="100" name="AutoShape 26"/>
            <p:cNvSpPr/>
            <p:nvPr/>
          </p:nvSpPr>
          <p:spPr>
            <a:xfrm flipH="1" rot="16200000">
              <a:off x="1614960" y="313164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214080" y="15573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24"/>
            <p:cNvSpPr/>
            <p:nvPr/>
          </p:nvSpPr>
          <p:spPr>
            <a:xfrm flipV="1">
              <a:off x="3214080" y="47577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25"/>
            <p:cNvSpPr/>
            <p:nvPr/>
          </p:nvSpPr>
          <p:spPr>
            <a:xfrm rot="5400000">
              <a:off x="4815360" y="313380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1"/>
            <p:cNvSpPr/>
            <p:nvPr/>
          </p:nvSpPr>
          <p:spPr>
            <a:xfrm>
              <a:off x="3738960" y="2818440"/>
              <a:ext cx="1954800" cy="19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3963960" y="3016800"/>
              <a:ext cx="1504440" cy="150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15"/>
          <p:cNvSpPr/>
          <p:nvPr/>
        </p:nvSpPr>
        <p:spPr>
          <a:xfrm>
            <a:off x="12153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7"/>
          <p:cNvSpPr/>
          <p:nvPr/>
        </p:nvSpPr>
        <p:spPr>
          <a:xfrm>
            <a:off x="250920" y="119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18"/>
          <p:cNvSpPr/>
          <p:nvPr/>
        </p:nvSpPr>
        <p:spPr>
          <a:xfrm>
            <a:off x="250920" y="6237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432036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69388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594612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4467960" y="51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4320360" y="35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565200" y="1589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471240" y="1989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7410240" y="3022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7316640" y="3422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892-EC70-436D-9D62-69078DACD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421920" y="5229360"/>
            <a:ext cx="7561080" cy="1512720"/>
            <a:chOff x="421920" y="5229360"/>
            <a:chExt cx="7561080" cy="1512720"/>
          </a:xfrm>
        </p:grpSpPr>
        <p:sp>
          <p:nvSpPr>
            <p:cNvPr id="122" name="矩形 2"/>
            <p:cNvSpPr/>
            <p:nvPr/>
          </p:nvSpPr>
          <p:spPr>
            <a:xfrm rot="10800000">
              <a:off x="7623000" y="6165720"/>
              <a:ext cx="360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3"/>
            <p:cNvSpPr/>
            <p:nvPr/>
          </p:nvSpPr>
          <p:spPr>
            <a:xfrm rot="10800000">
              <a:off x="7119000" y="5949720"/>
              <a:ext cx="360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4"/>
            <p:cNvSpPr/>
            <p:nvPr/>
          </p:nvSpPr>
          <p:spPr>
            <a:xfrm rot="10800000">
              <a:off x="66150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5"/>
            <p:cNvSpPr/>
            <p:nvPr/>
          </p:nvSpPr>
          <p:spPr>
            <a:xfrm rot="10800000">
              <a:off x="5534640" y="5661360"/>
              <a:ext cx="36000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 rot="10800000">
              <a:off x="50306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7"/>
            <p:cNvSpPr/>
            <p:nvPr/>
          </p:nvSpPr>
          <p:spPr>
            <a:xfrm rot="10800000">
              <a:off x="4526640" y="5229360"/>
              <a:ext cx="36000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 rot="10800000">
              <a:off x="3463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9"/>
            <p:cNvSpPr/>
            <p:nvPr/>
          </p:nvSpPr>
          <p:spPr>
            <a:xfrm rot="10800000">
              <a:off x="2959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0"/>
            <p:cNvSpPr/>
            <p:nvPr/>
          </p:nvSpPr>
          <p:spPr>
            <a:xfrm rot="10800000">
              <a:off x="24548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11"/>
            <p:cNvSpPr/>
            <p:nvPr/>
          </p:nvSpPr>
          <p:spPr>
            <a:xfrm rot="10800000">
              <a:off x="1429920" y="5805720"/>
              <a:ext cx="36000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12"/>
            <p:cNvSpPr/>
            <p:nvPr/>
          </p:nvSpPr>
          <p:spPr>
            <a:xfrm rot="10800000">
              <a:off x="925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3"/>
            <p:cNvSpPr/>
            <p:nvPr/>
          </p:nvSpPr>
          <p:spPr>
            <a:xfrm rot="10800000">
              <a:off x="421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4"/>
          <p:cNvSpPr/>
          <p:nvPr/>
        </p:nvSpPr>
        <p:spPr>
          <a:xfrm>
            <a:off x="3749040" y="20304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15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5613840" y="3762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5819400" y="414972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1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7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