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1870-FB6F-4FDC-9F27-CE55974D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948-0303-4284-BFCA-B9786BD9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CDF1-BE5F-460D-8A8D-B39A40AA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E1A-9014-436B-80E1-B65ABF4D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89B2-2F05-4A7D-AB41-3EF7475B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2045-8E3F-4E9E-976D-79CC52B3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0C2E-41A7-40D3-A9F2-E862CCC9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203D-BB90-43A4-853B-361278EB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E14E-9F9F-4C98-9F61-8199DCC5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1771-EA15-49EA-86C3-9D75D54C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109B-EC31-42C1-8894-D61D68A6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1DB-A108-47A6-B15F-F817F45B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5DCA-8BFC-4507-8006-3ACCAE4F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221F-3668-4050-BC55-C4C7F673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83D1-E76C-422F-81C2-3F1BC4DD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322C-B4D6-4D7A-A658-312DCF60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008A-53CC-42A9-9A0F-CBC8F9AD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639-A3A8-40DA-ABD3-4576E1BE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BD8-4FD3-4EC5-B6F3-16F35C14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CE57-0877-4235-A179-AE2E7151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D6B8-F144-467C-B782-2D16C1BC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256-D421-4008-A1C5-1F1845D3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FE1-8537-4976-9762-275232FF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338-8772-4A08-8E52-AD7FAC65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6971-8703-4EE1-8877-D4E4FEEA8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69696"/>
                </a:solidFill>
                <a:latin typeface="微软雅黑"/>
                <a:ea typeface="微软雅黑"/>
              </a:rPr>
              <a:t>此页为内页背景，在母版编辑视图下，双击白色区域选择填充图片，填入背景图（</a:t>
            </a:r>
            <a:r>
              <a:rPr b="0" lang="en-US" sz="1400" spc="-1" strike="noStrike">
                <a:solidFill>
                  <a:srgbClr val="969696"/>
                </a:solidFill>
                <a:latin typeface="微软雅黑"/>
                <a:ea typeface="微软雅黑"/>
              </a:rPr>
              <a:t>1024*768</a:t>
            </a:r>
            <a:r>
              <a:rPr b="0" lang="zh-CN" sz="1400" spc="-1" strike="noStrike">
                <a:solidFill>
                  <a:srgbClr val="969696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91C8-500C-4C00-BA62-EFB371E248C0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162920" y="457200"/>
            <a:ext cx="1388880" cy="349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1120" y="1143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Arial"/>
              </a:rPr>
              <a:t>蝴蝶飞飞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57200" y="45720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514600" y="1066680"/>
            <a:ext cx="632448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配色方案在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格式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设计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配色方案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编辑配色方案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添加修改在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母版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。直接选择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图片删除或修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括标题和文本格式的设置在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母版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首页主标题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36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加粗；副标题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16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加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内页标题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24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加粗；内页内容文字</a:t>
            </a: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号（华文细黑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14520" y="533520"/>
            <a:ext cx="21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D924-6C89-4BDF-989B-CCD16BB878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69696"/>
                </a:solidFill>
                <a:latin typeface="微软雅黑"/>
                <a:ea typeface="微软雅黑"/>
              </a:rPr>
              <a:t>此页为尾页，双击白色区域选择填充图片，填入尾页背景图（</a:t>
            </a:r>
            <a:r>
              <a:rPr b="0" lang="en-US" sz="1800" spc="-1" strike="noStrike">
                <a:solidFill>
                  <a:srgbClr val="969696"/>
                </a:solidFill>
                <a:latin typeface="微软雅黑"/>
                <a:ea typeface="微软雅黑"/>
              </a:rPr>
              <a:t>1024*768</a:t>
            </a:r>
            <a:r>
              <a:rPr b="0" lang="zh-CN" sz="1800" spc="-1" strike="noStrike">
                <a:solidFill>
                  <a:srgbClr val="969696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438624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9T06:07:0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8:59Z</dcterms:modified>
  <cp:revision>9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