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A2B-292E-4CB5-9B33-9AE59DB4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C1E-CF32-451C-B8FE-44BF3253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748-3B63-4D96-A5DB-3864EFCE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C48-5986-40B2-97CC-E19AD227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C45-FD9C-48B3-BE24-2EEC5200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872-5252-4CAD-BD45-1A6C0D97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4C8-E2AF-4B44-82D0-A540D1B0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F6A-43AA-46A2-9E91-05D8D2CD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221-1166-43B6-AF2E-BC0FDE66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872-E8F1-41D1-AC26-2E624368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476-D307-4226-AD46-C8BB591B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76F-FABE-456C-B940-E167591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A4D2-B606-42DA-A621-82121EB3B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486080"/>
            <a:ext cx="546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ccff"/>
                </a:solidFill>
                <a:latin typeface="Times New Roman"/>
              </a:rPr>
              <a:t>红酒</a:t>
            </a:r>
            <a:r>
              <a:rPr b="0" lang="zh-CN" sz="4000" spc="-1" strike="noStrike">
                <a:solidFill>
                  <a:srgbClr val="cccc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ccccff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D:\网站更新\新图素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网站更新\新图素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76C-2163-40E5-88A9-2BF088C8056F}" type="slidenum">
              <a:t>4</a:t>
            </a:fld>
          </a:p>
        </p:txBody>
      </p:sp>
    </p:spTree>
  </p:cSld>
  <p:transition>
    <p:cover dir="rd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2:33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8:26Z</dcterms:modified>
  <cp:revision>123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