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7488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32000" y="3882600"/>
            <a:ext cx="7488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924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32000" y="388260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69240" y="388260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63880" y="83628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95760" y="83628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32000" y="388260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63880" y="388260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95760" y="388260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32000" y="836280"/>
            <a:ext cx="748800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7488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365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69240" y="836280"/>
            <a:ext cx="365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41360" y="188640"/>
            <a:ext cx="7407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69240" y="836280"/>
            <a:ext cx="365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32000" y="388260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32000" y="836280"/>
            <a:ext cx="748800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365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924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69240" y="388260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924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32000" y="3882600"/>
            <a:ext cx="7488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7488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32000" y="3882600"/>
            <a:ext cx="7488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924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32000" y="388260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69240" y="388260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63880" y="83628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95760" y="83628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32000" y="388260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63880" y="388260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95760" y="3882600"/>
            <a:ext cx="241092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7488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365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69240" y="836280"/>
            <a:ext cx="365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41360" y="188640"/>
            <a:ext cx="7407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9240" y="836280"/>
            <a:ext cx="365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32000" y="388260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365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924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69240" y="388260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41360" y="121320"/>
            <a:ext cx="7407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3200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9240" y="836280"/>
            <a:ext cx="3654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32000" y="3882600"/>
            <a:ext cx="7488000" cy="27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1360" y="188640"/>
            <a:ext cx="74073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836280"/>
            <a:ext cx="7488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1360" y="188640"/>
            <a:ext cx="74073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332000" y="836280"/>
            <a:ext cx="7488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11111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2000" y="105264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红色韩国</a:t>
            </a:r>
            <a:r>
              <a:rPr b="0" lang="en-US" sz="4000" spc="-1" strike="noStrike">
                <a:solidFill>
                  <a:srgbClr val="cc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模板在线下载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6985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24000" y="1528920"/>
            <a:ext cx="66312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ru-RU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ru-RU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056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63280" y="1052280"/>
            <a:ext cx="70563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04:28:0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06:30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