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796-70C4-47FE-8487-DA1FDC8D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957-D3D5-4391-8A12-2B0012A8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E9F-BD91-4A9A-A083-28BDEECC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E42-931F-40FA-9695-C6F11841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2A81-3ADA-4C7B-B396-8615D880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892D-45E8-4D35-8DF2-99651507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B13B-26F2-4E5B-A302-570648B8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E23D-A2BF-49DA-A344-162910C0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F127-57C7-4EDE-99B1-CF151762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54160" y="193320"/>
            <a:ext cx="754704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A71E-6A70-41D8-B649-69F02384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D38B-4315-45B0-AF21-B0D5507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09F-5BAA-447A-AA23-89B51ACC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BDBA-9C7D-46A6-86E7-F2519DE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0F60-5CDE-4429-8B7F-4594729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5FD7-6650-4999-94D0-164CDA20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4943-5E95-45C7-BFBC-D6F2DC24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33AF-7276-47CA-B989-EA4C0FF9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96B-EFD7-4E01-B7E0-4EE2DB40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10C-C9B4-4C90-87BE-0AC371F8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7BF-942D-41C8-8630-2C9D0A8C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4160" y="193320"/>
            <a:ext cx="754704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84B-EFD2-4EA2-8C33-E93FDA79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8F1-482A-417D-AC93-2FB01DD0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CD0-184B-456B-A1A3-92B6CF03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155-64D5-4190-BDA6-7F4ECEA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16360"/>
            <a:ext cx="9144000" cy="28386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4992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7a783b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640" cy="2754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3360" y="223920"/>
            <a:ext cx="484200" cy="4586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402200">
            <a:off x="764640" y="15552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9240" y="743040"/>
            <a:ext cx="14436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9312200">
            <a:off x="896760" y="42516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939600">
            <a:off x="628200" y="93996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0" b="31"/>
          <a:stretch/>
        </p:blipFill>
        <p:spPr>
          <a:xfrm>
            <a:off x="6072120" y="5560920"/>
            <a:ext cx="3071880" cy="10875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6E8-F0F7-4CA5-B366-0245657FA1C7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38120"/>
            <a:ext cx="9144000" cy="6210360"/>
          </a:xfrm>
          <a:prstGeom prst="rect">
            <a:avLst/>
          </a:prstGeom>
          <a:gradFill rotWithShape="0">
            <a:gsLst>
              <a:gs pos="0">
                <a:srgbClr val="7e0b04"/>
              </a:gs>
              <a:gs pos="100000">
                <a:srgbClr val="c8120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19720"/>
            <a:ext cx="9144000" cy="22287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0" t="5135" r="0" b="0"/>
          <a:stretch/>
        </p:blipFill>
        <p:spPr>
          <a:xfrm>
            <a:off x="6270480" y="438120"/>
            <a:ext cx="2873520" cy="264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1157400"/>
            <a:ext cx="1627200" cy="154620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402200">
            <a:off x="2738160" y="927000"/>
            <a:ext cx="4856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24360" y="2836800"/>
            <a:ext cx="4838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9312200">
            <a:off x="3184200" y="1767960"/>
            <a:ext cx="484200" cy="4622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939600">
            <a:off x="2282400" y="3501720"/>
            <a:ext cx="48420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87360"/>
          </a:xfrm>
          <a:prstGeom prst="rect">
            <a:avLst/>
          </a:prstGeom>
          <a:gradFill rotWithShape="0">
            <a:gsLst>
              <a:gs pos="0">
                <a:srgbClr val="7a783b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430280" y="3657600"/>
            <a:ext cx="7713720" cy="2994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dt" idx="4"/>
          </p:nvPr>
        </p:nvSpPr>
        <p:spPr>
          <a:xfrm>
            <a:off x="4888080" y="6259320"/>
            <a:ext cx="1218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ftr" idx="5"/>
          </p:nvPr>
        </p:nvSpPr>
        <p:spPr>
          <a:xfrm>
            <a:off x="6259320" y="6259320"/>
            <a:ext cx="14252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6"/>
          </p:nvPr>
        </p:nvSpPr>
        <p:spPr>
          <a:xfrm>
            <a:off x="7783200" y="6259320"/>
            <a:ext cx="12193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B0AC-79BF-42B4-984B-7087C49102E8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3720" y="612936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7a783b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1405080" y="1053720"/>
            <a:ext cx="7627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cfdcc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36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404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红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57200" y="4202280"/>
            <a:ext cx="8153280" cy="1512720"/>
            <a:chOff x="457200" y="4202280"/>
            <a:chExt cx="8153280" cy="1512720"/>
          </a:xfrm>
        </p:grpSpPr>
        <p:sp>
          <p:nvSpPr>
            <p:cNvPr id="359" name=""/>
            <p:cNvSpPr/>
            <p:nvPr/>
          </p:nvSpPr>
          <p:spPr>
            <a:xfrm>
              <a:off x="457200" y="4202280"/>
              <a:ext cx="8153280" cy="15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c5c5"/>
                </a:gs>
                <a:gs pos="50000">
                  <a:srgbClr val="dddddd"/>
                </a:gs>
                <a:gs pos="100000">
                  <a:srgbClr val="c5c5c5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6720" y="4232520"/>
              <a:ext cx="8096760" cy="144576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c5c5c5"/>
                </a:gs>
                <a:gs pos="50000">
                  <a:srgbClr val="dddddd"/>
                </a:gs>
                <a:gs pos="100000">
                  <a:srgbClr val="c5c5c5"/>
                </a:gs>
              </a:gsLst>
              <a:lin ang="5400000"/>
            </a:gradFill>
            <a:ln w="19080">
              <a:solidFill>
                <a:srgbClr val="dddddd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36560" y="3809880"/>
            <a:ext cx="1854360" cy="816120"/>
            <a:chOff x="736560" y="3809880"/>
            <a:chExt cx="1854360" cy="816120"/>
          </a:xfrm>
        </p:grpSpPr>
        <p:sp>
          <p:nvSpPr>
            <p:cNvPr id="362" name=""/>
            <p:cNvSpPr/>
            <p:nvPr/>
          </p:nvSpPr>
          <p:spPr>
            <a:xfrm>
              <a:off x="73656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3f3eb"/>
                </a:gs>
                <a:gs pos="50000">
                  <a:srgbClr val="959349"/>
                </a:gs>
                <a:gs pos="100000">
                  <a:srgbClr val="f3f3eb"/>
                </a:gs>
              </a:gsLst>
              <a:lin ang="10800000"/>
            </a:gradFill>
            <a:ln w="12600">
              <a:solidFill>
                <a:srgbClr val="959349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860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8c7a1"/>
                </a:gs>
                <a:gs pos="50000">
                  <a:srgbClr val="959349"/>
                </a:gs>
                <a:gs pos="100000">
                  <a:srgbClr val="c8c7a1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85716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612880" y="3809880"/>
            <a:ext cx="1854360" cy="816120"/>
            <a:chOff x="2612880" y="3809880"/>
            <a:chExt cx="1854360" cy="816120"/>
          </a:xfrm>
        </p:grpSpPr>
        <p:sp>
          <p:nvSpPr>
            <p:cNvPr id="366" name=""/>
            <p:cNvSpPr/>
            <p:nvPr/>
          </p:nvSpPr>
          <p:spPr>
            <a:xfrm>
              <a:off x="261288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4f7e8"/>
                </a:gs>
                <a:gs pos="50000">
                  <a:srgbClr val="a2bb27"/>
                </a:gs>
                <a:gs pos="100000">
                  <a:srgbClr val="f4f7e8"/>
                </a:gs>
              </a:gsLst>
              <a:lin ang="10800000"/>
            </a:gradFill>
            <a:ln w="12600">
              <a:solidFill>
                <a:srgbClr val="a2bb2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4492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edb90"/>
                </a:gs>
                <a:gs pos="50000">
                  <a:srgbClr val="a2bb27"/>
                </a:gs>
                <a:gs pos="100000">
                  <a:srgbClr val="cedb90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98920" y="3809880"/>
            <a:ext cx="1854360" cy="816120"/>
            <a:chOff x="4498920" y="3809880"/>
            <a:chExt cx="1854360" cy="816120"/>
          </a:xfrm>
        </p:grpSpPr>
        <p:sp>
          <p:nvSpPr>
            <p:cNvPr id="369" name=""/>
            <p:cNvSpPr/>
            <p:nvPr/>
          </p:nvSpPr>
          <p:spPr>
            <a:xfrm>
              <a:off x="449892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beee7"/>
                </a:gs>
                <a:gs pos="50000">
                  <a:srgbClr val="eb6b1d"/>
                </a:gs>
                <a:gs pos="100000">
                  <a:srgbClr val="fbeee7"/>
                </a:gs>
              </a:gsLst>
              <a:lin ang="10800000"/>
            </a:gradFill>
            <a:ln w="12600">
              <a:solidFill>
                <a:srgbClr val="eb6b1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096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3b28b"/>
                </a:gs>
                <a:gs pos="50000">
                  <a:srgbClr val="eb6b1d"/>
                </a:gs>
                <a:gs pos="100000">
                  <a:srgbClr val="f3b28b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375240" y="3809880"/>
            <a:ext cx="1854360" cy="816120"/>
            <a:chOff x="6375240" y="3809880"/>
            <a:chExt cx="1854360" cy="816120"/>
          </a:xfrm>
        </p:grpSpPr>
        <p:sp>
          <p:nvSpPr>
            <p:cNvPr id="372" name=""/>
            <p:cNvSpPr/>
            <p:nvPr/>
          </p:nvSpPr>
          <p:spPr>
            <a:xfrm>
              <a:off x="637524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7f5f6"/>
                </a:gs>
                <a:gs pos="50000">
                  <a:srgbClr val="25a7b5"/>
                </a:gs>
                <a:gs pos="100000">
                  <a:srgbClr val="e7f5f6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728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fd1d8"/>
                </a:gs>
                <a:gs pos="50000">
                  <a:srgbClr val="25a7b5"/>
                </a:gs>
                <a:gs pos="100000">
                  <a:srgbClr val="8fd1d8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85800" y="478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71840" y="4784760"/>
            <a:ext cx="17524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75160" y="478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99360" y="478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4040280" y="16146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012680" y="1371600"/>
            <a:ext cx="1873440" cy="2116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7716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544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46960" y="39513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243828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666880" y="4780080"/>
            <a:ext cx="4075200" cy="9360"/>
          </a:xfrm>
          <a:prstGeom prst="line">
            <a:avLst/>
          </a:prstGeom>
          <a:ln w="76320">
            <a:solidFill>
              <a:srgbClr val="c812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06800" y="3340080"/>
            <a:ext cx="4074840" cy="9720"/>
          </a:xfrm>
          <a:prstGeom prst="line">
            <a:avLst/>
          </a:prstGeom>
          <a:ln w="76320">
            <a:solidFill>
              <a:srgbClr val="c812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5160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0dd95"/>
              </a:gs>
              <a:gs pos="100000">
                <a:srgbClr val="a2bb27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c81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9dece"/>
              </a:gs>
              <a:gs pos="100000">
                <a:srgbClr val="eb6b1d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c81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33760" y="2658960"/>
            <a:ext cx="1958760" cy="468360"/>
          </a:xfrm>
          <a:custGeom>
            <a:avLst/>
            <a:gdLst>
              <a:gd name="textAreaLeft" fmla="*/ 0 w 1958760"/>
              <a:gd name="textAreaRight" fmla="*/ 1959120 w 19587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95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92520" y="265896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95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706720" y="2658960"/>
            <a:ext cx="2459160" cy="2764800"/>
            <a:chOff x="5706720" y="2658960"/>
            <a:chExt cx="2459160" cy="2764800"/>
          </a:xfrm>
        </p:grpSpPr>
        <p:sp>
          <p:nvSpPr>
            <p:cNvPr id="391" name=""/>
            <p:cNvSpPr/>
            <p:nvPr/>
          </p:nvSpPr>
          <p:spPr>
            <a:xfrm rot="5400000">
              <a:off x="5559120" y="2806200"/>
              <a:ext cx="2754360" cy="2459160"/>
            </a:xfrm>
            <a:prstGeom prst="blockArc">
              <a:avLst>
                <a:gd name="adj1" fmla="val 10567623"/>
                <a:gd name="adj2" fmla="val 232377"/>
                <a:gd name="adj3" fmla="val 17032"/>
              </a:avLst>
            </a:pr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1640" y="2677680"/>
              <a:ext cx="652320" cy="4662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0800000">
              <a:off x="6581880" y="4957560"/>
              <a:ext cx="498240" cy="4662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 flipH="1">
            <a:off x="2735280" y="495468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866880" y="2662200"/>
            <a:ext cx="2458800" cy="2766240"/>
            <a:chOff x="866880" y="2662200"/>
            <a:chExt cx="2458800" cy="2766240"/>
          </a:xfrm>
        </p:grpSpPr>
        <p:sp>
          <p:nvSpPr>
            <p:cNvPr id="396" name=""/>
            <p:cNvSpPr/>
            <p:nvPr/>
          </p:nvSpPr>
          <p:spPr>
            <a:xfrm flipH="1" rot="16200000">
              <a:off x="721440" y="2807640"/>
              <a:ext cx="2749680" cy="2458800"/>
            </a:xfrm>
            <a:prstGeom prst="blockArc">
              <a:avLst>
                <a:gd name="adj1" fmla="val 10380659"/>
                <a:gd name="adj2" fmla="val 419341"/>
                <a:gd name="adj3" fmla="val 16861"/>
              </a:avLst>
            </a:pr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81080" y="2680920"/>
              <a:ext cx="651960" cy="46548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1961640" y="4962960"/>
              <a:ext cx="791640" cy="46548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956040" y="50101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79720" y="2705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41720" y="2705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55920" y="387504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8360" y="387504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51280" y="3689280"/>
            <a:ext cx="301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1207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38400" y="15238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flipV="1">
            <a:off x="1214280" y="1141920"/>
            <a:ext cx="6604200" cy="738360"/>
          </a:xfrm>
          <a:custGeom>
            <a:avLst/>
            <a:gdLst>
              <a:gd name="textAreaLeft" fmla="*/ 1182600 w 6604200"/>
              <a:gd name="textAreaRight" fmla="*/ 5421600 w 6604200"/>
              <a:gd name="textAreaTop" fmla="*/ 132120 h 738360"/>
              <a:gd name="textAreaBottom" fmla="*/ 6062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a2bb27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214280" y="2595240"/>
            <a:ext cx="6604200" cy="738000"/>
          </a:xfrm>
          <a:custGeom>
            <a:avLst/>
            <a:gdLst>
              <a:gd name="textAreaLeft" fmla="*/ 1182600 w 6604200"/>
              <a:gd name="textAreaRight" fmla="*/ 5421600 w 6604200"/>
              <a:gd name="textAreaTop" fmla="*/ 132120 h 738000"/>
              <a:gd name="textAreaBottom" fmla="*/ 60588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eb6b1d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246320" y="4113720"/>
            <a:ext cx="6543720" cy="741240"/>
          </a:xfrm>
          <a:custGeom>
            <a:avLst/>
            <a:gdLst>
              <a:gd name="textAreaLeft" fmla="*/ 1171800 w 6543720"/>
              <a:gd name="textAreaRight" fmla="*/ 5371920 w 6543720"/>
              <a:gd name="textAreaTop" fmla="*/ 132480 h 741240"/>
              <a:gd name="textAreaBottom" fmla="*/ 60876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4400" y="175104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2bb27"/>
              </a:gs>
              <a:gs pos="100000">
                <a:srgbClr val="70821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3341520"/>
            <a:ext cx="6653520" cy="1019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b6b1d"/>
              </a:gs>
              <a:gs pos="100000">
                <a:srgbClr val="a34a1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95560" y="485784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a7b5"/>
              </a:gs>
              <a:gs pos="100000">
                <a:srgbClr val="19747d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241280" y="179388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1238400" y="33876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1243080" y="48988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671480" y="15238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a2b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1480" y="31338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1480" y="46353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95520" y="213372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95520" y="367020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95520" y="514836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2720" y="152388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bb27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2720" y="314316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b1d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52720" y="464652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a7b5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95680" y="189396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5040" y="326700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2b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33560" y="1371600"/>
            <a:ext cx="2438280" cy="178596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959349"/>
              </a:gs>
              <a:gs pos="100000">
                <a:srgbClr val="6261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2752560"/>
            <a:ext cx="247680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a2bb27"/>
              </a:gs>
              <a:gs pos="100000">
                <a:srgbClr val="5a681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23920" y="4662360"/>
            <a:ext cx="567072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2400" y="4122720"/>
            <a:ext cx="2438640" cy="180504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25a7b5"/>
              </a:gs>
              <a:gs pos="100000">
                <a:srgbClr val="155f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 rot="5400000">
            <a:off x="1677960" y="349416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 rot="5400000">
            <a:off x="1202760" y="508392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5" name=""/>
          <p:cNvSpPr txBox="1"/>
          <p:nvPr/>
        </p:nvSpPr>
        <p:spPr>
          <a:xfrm rot="5400000">
            <a:off x="2310840" y="21096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6" name=""/>
          <p:cNvSpPr/>
          <p:nvPr/>
        </p:nvSpPr>
        <p:spPr>
          <a:xfrm>
            <a:off x="3000240" y="1933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00480" y="32241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9720" y="47005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57480" y="47322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35320" y="1940040"/>
            <a:ext cx="32385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17920" y="3322800"/>
            <a:ext cx="35812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30760" y="4375080"/>
            <a:ext cx="2522520" cy="1478160"/>
          </a:xfrm>
          <a:prstGeom prst="rect">
            <a:avLst/>
          </a:prstGeom>
          <a:gradFill rotWithShape="0">
            <a:gsLst>
              <a:gs pos="0">
                <a:srgbClr val="a2bb27"/>
              </a:gs>
              <a:gs pos="100000">
                <a:srgbClr val="7587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19400" y="21016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67560" y="21016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16080" y="4519440"/>
            <a:ext cx="2503800" cy="1478160"/>
          </a:xfrm>
          <a:prstGeom prst="rect">
            <a:avLst/>
          </a:prstGeom>
          <a:gradFill rotWithShape="0">
            <a:gsLst>
              <a:gs pos="0">
                <a:srgbClr val="a2bb27"/>
              </a:gs>
              <a:gs pos="100000">
                <a:srgbClr val="8ba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28920" y="497520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38080" y="3073320"/>
            <a:ext cx="2111040" cy="1446120"/>
            <a:chOff x="838080" y="3073320"/>
            <a:chExt cx="2111040" cy="1446120"/>
          </a:xfrm>
        </p:grpSpPr>
        <p:sp>
          <p:nvSpPr>
            <p:cNvPr id="449" name=""/>
            <p:cNvSpPr/>
            <p:nvPr/>
          </p:nvSpPr>
          <p:spPr>
            <a:xfrm>
              <a:off x="838080" y="307332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8960" y="308808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838080" y="4572000"/>
            <a:ext cx="2111040" cy="1447920"/>
            <a:chOff x="838080" y="4572000"/>
            <a:chExt cx="2111040" cy="1447920"/>
          </a:xfrm>
        </p:grpSpPr>
        <p:sp>
          <p:nvSpPr>
            <p:cNvPr id="452" name=""/>
            <p:cNvSpPr/>
            <p:nvPr/>
          </p:nvSpPr>
          <p:spPr>
            <a:xfrm>
              <a:off x="838080" y="457200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58960" y="458676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762120" y="359244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508644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67560" y="451332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86160" y="21337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37200" y="21337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2833560"/>
            <a:ext cx="2522520" cy="1476360"/>
          </a:xfrm>
          <a:prstGeom prst="rect">
            <a:avLst/>
          </a:prstGeom>
          <a:gradFill rotWithShape="0">
            <a:gsLst>
              <a:gs pos="0">
                <a:srgbClr val="eb6b1d"/>
              </a:gs>
              <a:gs pos="100000">
                <a:srgbClr val="a94d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16080" y="2970360"/>
            <a:ext cx="2503800" cy="1477800"/>
          </a:xfrm>
          <a:prstGeom prst="rect">
            <a:avLst/>
          </a:prstGeom>
          <a:gradFill rotWithShape="0">
            <a:gsLst>
              <a:gs pos="0">
                <a:srgbClr val="eb6b1d"/>
              </a:gs>
              <a:gs pos="100000">
                <a:srgbClr val="c95b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28920" y="342900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67560" y="297180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1447920"/>
            <a:ext cx="777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50896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43000" y="4889520"/>
            <a:ext cx="2885760" cy="444240"/>
            <a:chOff x="1143000" y="4889520"/>
            <a:chExt cx="2885760" cy="444240"/>
          </a:xfrm>
        </p:grpSpPr>
        <p:sp>
          <p:nvSpPr>
            <p:cNvPr id="467" name=""/>
            <p:cNvSpPr/>
            <p:nvPr/>
          </p:nvSpPr>
          <p:spPr>
            <a:xfrm>
              <a:off x="11430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62440" y="48931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572000" y="50896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800600" y="4889520"/>
            <a:ext cx="2885760" cy="444240"/>
            <a:chOff x="4800600" y="4889520"/>
            <a:chExt cx="2885760" cy="444240"/>
          </a:xfrm>
        </p:grpSpPr>
        <p:sp>
          <p:nvSpPr>
            <p:cNvPr id="471" name=""/>
            <p:cNvSpPr/>
            <p:nvPr/>
          </p:nvSpPr>
          <p:spPr>
            <a:xfrm>
              <a:off x="48006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0040" y="48931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33240" y="4280040"/>
            <a:ext cx="7824960" cy="552240"/>
            <a:chOff x="633240" y="4280040"/>
            <a:chExt cx="7824960" cy="552240"/>
          </a:xfrm>
        </p:grpSpPr>
        <p:sp>
          <p:nvSpPr>
            <p:cNvPr id="474" name=""/>
            <p:cNvSpPr/>
            <p:nvPr/>
          </p:nvSpPr>
          <p:spPr>
            <a:xfrm>
              <a:off x="633240" y="4414680"/>
              <a:ext cx="345960" cy="27756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1760" y="4280040"/>
              <a:ext cx="7696440" cy="552240"/>
            </a:xfrm>
            <a:prstGeom prst="rightArrow">
              <a:avLst>
                <a:gd name="adj1" fmla="val 50000"/>
                <a:gd name="adj2" fmla="val 63232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600200" y="43750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45040" y="43750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0240" y="43750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914400" y="2469960"/>
            <a:ext cx="0" cy="19047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270240" y="2133720"/>
            <a:ext cx="0" cy="2241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5610240" y="1676520"/>
            <a:ext cx="0" cy="2698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7974000" y="1294920"/>
            <a:ext cx="0" cy="307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391788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c1c096"/>
              </a:gs>
              <a:gs pos="100000">
                <a:srgbClr val="95934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71680" y="3384720"/>
            <a:ext cx="2347920" cy="99036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cbd989"/>
              </a:gs>
              <a:gs pos="100000">
                <a:srgbClr val="a2bb2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19600" y="277488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74c6cf"/>
              </a:gs>
              <a:gs pos="100000">
                <a:srgbClr val="25a7b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14400" y="274644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98680" y="22417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646600" y="16318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43000" y="3921120"/>
            <a:ext cx="182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73240" y="49356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30840" y="49356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20600" y="54118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68840" y="54118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05320" y="3689280"/>
            <a:ext cx="182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34160" y="3421080"/>
            <a:ext cx="182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1495440"/>
            <a:ext cx="9144000" cy="53625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98" name="未知"/>
          <p:cNvSpPr/>
          <p:nvPr/>
        </p:nvSpPr>
        <p:spPr>
          <a:xfrm>
            <a:off x="671400" y="285588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236600" y="4059360"/>
            <a:ext cx="1133280" cy="1044000"/>
            <a:chOff x="1236600" y="4059360"/>
            <a:chExt cx="1133280" cy="1044000"/>
          </a:xfrm>
        </p:grpSpPr>
        <p:sp>
          <p:nvSpPr>
            <p:cNvPr id="500" name="未知"/>
            <p:cNvSpPr/>
            <p:nvPr/>
          </p:nvSpPr>
          <p:spPr>
            <a:xfrm>
              <a:off x="1348560" y="4863600"/>
              <a:ext cx="441360" cy="226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651680" y="4780800"/>
              <a:ext cx="48348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965600" y="4916160"/>
              <a:ext cx="404280" cy="1872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1236600" y="434124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521360" y="405936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861200" y="435708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7183440" y="19350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5130720" y="257328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3224160" y="3209760"/>
            <a:ext cx="1017720" cy="115920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600120" y="5424480"/>
            <a:ext cx="1808280" cy="314280"/>
            <a:chOff x="600120" y="5424480"/>
            <a:chExt cx="1808280" cy="314280"/>
          </a:xfrm>
        </p:grpSpPr>
        <p:sp>
          <p:nvSpPr>
            <p:cNvPr id="510" name=""/>
            <p:cNvSpPr/>
            <p:nvPr/>
          </p:nvSpPr>
          <p:spPr>
            <a:xfrm>
              <a:off x="600120" y="54244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318400" y="545112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0920" y="545220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Text Box 18"/>
          <p:cNvSpPr/>
          <p:nvPr/>
        </p:nvSpPr>
        <p:spPr>
          <a:xfrm>
            <a:off x="660240" y="5402160"/>
            <a:ext cx="16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538200" y="1935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71400" y="57736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92520" y="507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95920" y="424512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00840" y="341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30600" y="4626000"/>
            <a:ext cx="1807920" cy="312840"/>
            <a:chOff x="2730600" y="4626000"/>
            <a:chExt cx="1807920" cy="312840"/>
          </a:xfrm>
        </p:grpSpPr>
        <p:sp>
          <p:nvSpPr>
            <p:cNvPr id="520" name=""/>
            <p:cNvSpPr/>
            <p:nvPr/>
          </p:nvSpPr>
          <p:spPr>
            <a:xfrm>
              <a:off x="2730600" y="462600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448520" y="465228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1400" y="4653720"/>
              <a:ext cx="8028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Text Box 18"/>
          <p:cNvSpPr/>
          <p:nvPr/>
        </p:nvSpPr>
        <p:spPr>
          <a:xfrm>
            <a:off x="2787480" y="460368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761000" y="3813120"/>
            <a:ext cx="1807920" cy="314280"/>
            <a:chOff x="4761000" y="3813120"/>
            <a:chExt cx="1807920" cy="314280"/>
          </a:xfrm>
        </p:grpSpPr>
        <p:sp>
          <p:nvSpPr>
            <p:cNvPr id="525" name=""/>
            <p:cNvSpPr/>
            <p:nvPr/>
          </p:nvSpPr>
          <p:spPr>
            <a:xfrm>
              <a:off x="4761000" y="381312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478920" y="383976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71800" y="384084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Text Box 18"/>
          <p:cNvSpPr/>
          <p:nvPr/>
        </p:nvSpPr>
        <p:spPr>
          <a:xfrm>
            <a:off x="4867200" y="379080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878520" y="3022560"/>
            <a:ext cx="1808280" cy="314280"/>
            <a:chOff x="6878520" y="3022560"/>
            <a:chExt cx="1808280" cy="314280"/>
          </a:xfrm>
        </p:grpSpPr>
        <p:sp>
          <p:nvSpPr>
            <p:cNvPr id="530" name=""/>
            <p:cNvSpPr/>
            <p:nvPr/>
          </p:nvSpPr>
          <p:spPr>
            <a:xfrm>
              <a:off x="6878520" y="302256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8596800" y="304920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89320" y="305028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Text Box 18"/>
          <p:cNvSpPr/>
          <p:nvPr/>
        </p:nvSpPr>
        <p:spPr>
          <a:xfrm>
            <a:off x="6969240" y="300024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621240" y="2270160"/>
            <a:ext cx="4760640" cy="2414880"/>
            <a:chOff x="3621240" y="2270160"/>
            <a:chExt cx="4760640" cy="2414880"/>
          </a:xfrm>
        </p:grpSpPr>
        <p:sp>
          <p:nvSpPr>
            <p:cNvPr id="536" name=""/>
            <p:cNvSpPr/>
            <p:nvPr/>
          </p:nvSpPr>
          <p:spPr>
            <a:xfrm>
              <a:off x="3621240" y="2270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21240" y="2675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21240" y="30690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21240" y="34747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21240" y="38685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21240" y="42739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21240" y="46846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196440" y="2011320"/>
            <a:ext cx="636480" cy="2670480"/>
            <a:chOff x="3196440" y="2011320"/>
            <a:chExt cx="636480" cy="2670480"/>
          </a:xfrm>
        </p:grpSpPr>
        <p:sp>
          <p:nvSpPr>
            <p:cNvPr id="544" name=""/>
            <p:cNvSpPr/>
            <p:nvPr/>
          </p:nvSpPr>
          <p:spPr>
            <a:xfrm>
              <a:off x="3226320" y="43747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20560" y="4000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20560" y="35740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96440" y="31683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96440" y="27925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96440" y="23662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96440" y="201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522520" y="53341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731960" y="4879800"/>
            <a:ext cx="6478560" cy="792000"/>
            <a:chOff x="1731960" y="4879800"/>
            <a:chExt cx="6478560" cy="792000"/>
          </a:xfrm>
        </p:grpSpPr>
        <p:sp>
          <p:nvSpPr>
            <p:cNvPr id="553" name=""/>
            <p:cNvSpPr/>
            <p:nvPr/>
          </p:nvSpPr>
          <p:spPr>
            <a:xfrm flipV="1">
              <a:off x="1731960" y="542160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2901960" y="4879800"/>
              <a:ext cx="5308560" cy="792000"/>
              <a:chOff x="2901960" y="4879800"/>
              <a:chExt cx="5308560" cy="792000"/>
            </a:xfrm>
          </p:grpSpPr>
          <p:sp>
            <p:nvSpPr>
              <p:cNvPr id="555" name=""/>
              <p:cNvSpPr/>
              <p:nvPr/>
            </p:nvSpPr>
            <p:spPr>
              <a:xfrm flipV="1">
                <a:off x="2901960" y="489888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4799160" y="492264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5657760" y="506520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581880" y="510804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7497720" y="513540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867120" y="487980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未知"/>
          <p:cNvSpPr/>
          <p:nvPr/>
        </p:nvSpPr>
        <p:spPr>
          <a:xfrm>
            <a:off x="3386160" y="23176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5f7e9">
                  <a:alpha val="80000"/>
                </a:srgbClr>
              </a:gs>
              <a:gs pos="100000">
                <a:srgbClr val="a2bb2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未知"/>
          <p:cNvSpPr/>
          <p:nvPr/>
        </p:nvSpPr>
        <p:spPr>
          <a:xfrm>
            <a:off x="3201840" y="3565440"/>
            <a:ext cx="464040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b9e2e6">
                  <a:alpha val="90196"/>
                </a:srgbClr>
              </a:gs>
              <a:gs pos="100000">
                <a:srgbClr val="25a7b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71840" y="54100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89480" y="5518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801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192720" y="5670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118280" y="5746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440400" y="30290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025880" y="42354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5800" y="295740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25a7b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75360" y="18288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a2bb2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54160" y="39243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154160" y="43401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2640" y="20955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2640" y="3695760"/>
            <a:ext cx="25146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97040" y="4381560"/>
            <a:ext cx="314280" cy="330120"/>
          </a:xfrm>
          <a:prstGeom prst="ellipse">
            <a:avLst/>
          </a:prstGeom>
          <a:gradFill rotWithShape="0">
            <a:gsLst>
              <a:gs pos="0">
                <a:srgbClr val="a2bb27"/>
              </a:gs>
              <a:gs pos="100000">
                <a:srgbClr val="6b7c1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90560" y="3954600"/>
            <a:ext cx="314280" cy="330120"/>
          </a:xfrm>
          <a:prstGeom prst="ellipse">
            <a:avLst/>
          </a:prstGeom>
          <a:gradFill rotWithShape="0">
            <a:gsLst>
              <a:gs pos="0">
                <a:srgbClr val="25a7b5"/>
              </a:gs>
              <a:gs pos="100000">
                <a:srgbClr val="186e7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24320" y="296064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42320" y="1851120"/>
            <a:ext cx="18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54720" y="2757600"/>
            <a:ext cx="3232080" cy="3100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2757600"/>
            <a:ext cx="3359160" cy="3100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5412600">
            <a:off x="5407560" y="2322000"/>
            <a:ext cx="557280" cy="1608120"/>
          </a:xfrm>
          <a:prstGeom prst="upArrow">
            <a:avLst>
              <a:gd name="adj1" fmla="val 62222"/>
              <a:gd name="adj2" fmla="val 73450"/>
            </a:avLst>
          </a:prstGeom>
          <a:gradFill rotWithShape="0">
            <a:gsLst>
              <a:gs pos="0">
                <a:srgbClr val="46b3bf"/>
              </a:gs>
              <a:gs pos="100000">
                <a:srgbClr val="25a7b5"/>
              </a:gs>
            </a:gsLst>
            <a:lin ang="162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6187400">
            <a:off x="2798640" y="2322360"/>
            <a:ext cx="557280" cy="1608120"/>
          </a:xfrm>
          <a:prstGeom prst="upArrow">
            <a:avLst>
              <a:gd name="adj1" fmla="val 62222"/>
              <a:gd name="adj2" fmla="val 73450"/>
            </a:avLst>
          </a:prstGeom>
          <a:gradFill rotWithShape="0">
            <a:gsLst>
              <a:gs pos="0">
                <a:srgbClr val="959349"/>
              </a:gs>
              <a:gs pos="100000">
                <a:srgbClr val="adac74"/>
              </a:gs>
            </a:gsLst>
            <a:lin ang="108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6187400">
            <a:off x="2028600" y="2320560"/>
            <a:ext cx="557280" cy="3148200"/>
          </a:xfrm>
          <a:prstGeom prst="upArrow">
            <a:avLst>
              <a:gd name="adj1" fmla="val 53593"/>
              <a:gd name="adj2" fmla="val 82044"/>
            </a:avLst>
          </a:prstGeom>
          <a:gradFill rotWithShape="0">
            <a:gsLst>
              <a:gs pos="0">
                <a:srgbClr val="959349"/>
              </a:gs>
              <a:gs pos="100000">
                <a:srgbClr val="adac74"/>
              </a:gs>
            </a:gsLst>
            <a:lin ang="108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16187400">
            <a:off x="2431800" y="3512880"/>
            <a:ext cx="557280" cy="2341800"/>
          </a:xfrm>
          <a:prstGeom prst="upArrow">
            <a:avLst>
              <a:gd name="adj1" fmla="val 53611"/>
              <a:gd name="adj2" fmla="val 70815"/>
            </a:avLst>
          </a:prstGeom>
          <a:gradFill rotWithShape="0">
            <a:gsLst>
              <a:gs pos="0">
                <a:srgbClr val="959349"/>
              </a:gs>
              <a:gs pos="100000">
                <a:srgbClr val="adac74"/>
              </a:gs>
            </a:gsLst>
            <a:lin ang="108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187400">
            <a:off x="3217680" y="5078520"/>
            <a:ext cx="557280" cy="766800"/>
          </a:xfrm>
          <a:prstGeom prst="upArrow">
            <a:avLst>
              <a:gd name="adj1" fmla="val 60083"/>
              <a:gd name="adj2" fmla="val 62523"/>
            </a:avLst>
          </a:prstGeom>
          <a:gradFill rotWithShape="0">
            <a:gsLst>
              <a:gs pos="0">
                <a:srgbClr val="959349"/>
              </a:gs>
              <a:gs pos="100000">
                <a:srgbClr val="adac74"/>
              </a:gs>
            </a:gsLst>
            <a:lin ang="108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 rot="5412600">
            <a:off x="5561640" y="2320200"/>
            <a:ext cx="557280" cy="3148200"/>
          </a:xfrm>
          <a:prstGeom prst="upArrow">
            <a:avLst>
              <a:gd name="adj1" fmla="val 53593"/>
              <a:gd name="adj2" fmla="val 82044"/>
            </a:avLst>
          </a:prstGeom>
          <a:gradFill rotWithShape="0">
            <a:gsLst>
              <a:gs pos="0">
                <a:srgbClr val="46b3bf"/>
              </a:gs>
              <a:gs pos="100000">
                <a:srgbClr val="25a7b5"/>
              </a:gs>
            </a:gsLst>
            <a:lin ang="162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rot="5412600">
            <a:off x="6539760" y="3317760"/>
            <a:ext cx="556920" cy="2727360"/>
          </a:xfrm>
          <a:prstGeom prst="upArrow">
            <a:avLst>
              <a:gd name="adj1" fmla="val 52463"/>
              <a:gd name="adj2" fmla="val 74773"/>
            </a:avLst>
          </a:prstGeom>
          <a:gradFill rotWithShape="0">
            <a:gsLst>
              <a:gs pos="0">
                <a:srgbClr val="46b3bf"/>
              </a:gs>
              <a:gs pos="100000">
                <a:srgbClr val="25a7b5"/>
              </a:gs>
            </a:gsLst>
            <a:lin ang="162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rot="5412600">
            <a:off x="6443640" y="4196520"/>
            <a:ext cx="556920" cy="2535120"/>
          </a:xfrm>
          <a:prstGeom prst="upArrow">
            <a:avLst>
              <a:gd name="adj1" fmla="val 62722"/>
              <a:gd name="adj2" fmla="val 70156"/>
            </a:avLst>
          </a:prstGeom>
          <a:gradFill rotWithShape="0">
            <a:gsLst>
              <a:gs pos="0">
                <a:srgbClr val="46b3bf"/>
              </a:gs>
              <a:gs pos="100000">
                <a:srgbClr val="25a7b5"/>
              </a:gs>
            </a:gsLst>
            <a:lin ang="162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74400" y="2952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0800" y="3743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74480" y="451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74360" y="5300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74960" y="2986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95600" y="373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38560" y="4529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838560" y="5310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82960" y="274644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5d5d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82960" y="3527280"/>
            <a:ext cx="1581120" cy="76860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5d5d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82960" y="430848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5d5d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2960" y="508968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5d5d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72400" y="29527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172400" y="3762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172400" y="45244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72400" y="52959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5238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4960" y="2279520"/>
            <a:ext cx="3357720" cy="476280"/>
          </a:xfrm>
          <a:prstGeom prst="rect">
            <a:avLst/>
          </a:prstGeom>
          <a:solidFill>
            <a:srgbClr val="a2bb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64080" y="2279520"/>
            <a:ext cx="3222720" cy="476280"/>
          </a:xfrm>
          <a:prstGeom prst="rect">
            <a:avLst/>
          </a:prstGeom>
          <a:solidFill>
            <a:srgbClr val="eb6b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2279520"/>
            <a:ext cx="1577880" cy="476280"/>
          </a:xfrm>
          <a:prstGeom prst="rect">
            <a:avLst/>
          </a:prstGeom>
          <a:solidFill>
            <a:srgbClr val="959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11560" y="23385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326280" y="23385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135320" y="2338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dcc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5105520" y="4314960"/>
            <a:ext cx="3809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</a:t>
            </a: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367240" y="1905120"/>
            <a:ext cx="2831760" cy="2376360"/>
            <a:chOff x="5367240" y="1905120"/>
            <a:chExt cx="2831760" cy="2376360"/>
          </a:xfrm>
        </p:grpSpPr>
        <p:sp>
          <p:nvSpPr>
            <p:cNvPr id="617" name="未知"/>
            <p:cNvSpPr/>
            <p:nvPr/>
          </p:nvSpPr>
          <p:spPr>
            <a:xfrm flipH="1">
              <a:off x="6634800" y="3567240"/>
              <a:ext cx="1335240" cy="685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5852880" y="3397320"/>
              <a:ext cx="1400400" cy="663480"/>
            </a:xfrm>
            <a:custGeom>
              <a:avLst/>
              <a:gdLst/>
              <a:ahLst/>
              <a:rect l="l" t="t" r="r" b="b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5367240" y="3719520"/>
              <a:ext cx="1187280" cy="561960"/>
            </a:xfrm>
            <a:custGeom>
              <a:avLst/>
              <a:gdLst/>
              <a:ahLst/>
              <a:rect l="l" t="t" r="r" b="b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6113160" y="1905120"/>
              <a:ext cx="2085840" cy="2364840"/>
              <a:chOff x="6113160" y="1905120"/>
              <a:chExt cx="2085840" cy="2364840"/>
            </a:xfrm>
          </p:grpSpPr>
          <p:sp>
            <p:nvSpPr>
              <p:cNvPr id="621" name="未知"/>
              <p:cNvSpPr/>
              <p:nvPr/>
            </p:nvSpPr>
            <p:spPr>
              <a:xfrm flipH="1">
                <a:off x="7529400" y="2543400"/>
                <a:ext cx="669600" cy="169092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 flipH="1">
                <a:off x="6711840" y="1905120"/>
                <a:ext cx="842400" cy="21272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fcfc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未知"/>
              <p:cNvSpPr/>
              <p:nvPr/>
            </p:nvSpPr>
            <p:spPr>
              <a:xfrm flipH="1">
                <a:off x="6112800" y="2578680"/>
                <a:ext cx="669240" cy="1691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8c8c8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"/>
          <p:cNvSpPr/>
          <p:nvPr/>
        </p:nvSpPr>
        <p:spPr>
          <a:xfrm>
            <a:off x="2386080" y="2309760"/>
            <a:ext cx="45540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25a7b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98680" y="3616200"/>
            <a:ext cx="45576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2bb2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86080" y="4900680"/>
            <a:ext cx="45540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eb6b1d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68440" y="5356080"/>
            <a:ext cx="4051080" cy="914400"/>
            <a:chOff x="568440" y="5356080"/>
            <a:chExt cx="4051080" cy="914400"/>
          </a:xfrm>
        </p:grpSpPr>
        <p:sp>
          <p:nvSpPr>
            <p:cNvPr id="628" name=""/>
            <p:cNvSpPr/>
            <p:nvPr/>
          </p:nvSpPr>
          <p:spPr>
            <a:xfrm>
              <a:off x="568440" y="53560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240" y="5365440"/>
              <a:ext cx="4025520" cy="416160"/>
            </a:xfrm>
            <a:prstGeom prst="rect">
              <a:avLst/>
            </a:prstGeom>
            <a:solidFill>
              <a:srgbClr val="959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0680" y="57625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959349"/>
                </a:gs>
                <a:gs pos="100000">
                  <a:srgbClr val="bdbc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949320" y="58896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79600" y="2744640"/>
            <a:ext cx="4051080" cy="914400"/>
            <a:chOff x="579600" y="2744640"/>
            <a:chExt cx="4051080" cy="914400"/>
          </a:xfrm>
        </p:grpSpPr>
        <p:sp>
          <p:nvSpPr>
            <p:cNvPr id="633" name=""/>
            <p:cNvSpPr/>
            <p:nvPr/>
          </p:nvSpPr>
          <p:spPr>
            <a:xfrm>
              <a:off x="579600" y="274464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0400" y="2754000"/>
              <a:ext cx="4025520" cy="425520"/>
            </a:xfrm>
            <a:prstGeom prst="rect">
              <a:avLst/>
            </a:prstGeom>
            <a:solidFill>
              <a:srgbClr val="a2b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840" y="315108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a2bb27"/>
                </a:gs>
                <a:gs pos="100000">
                  <a:srgbClr val="c5d4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947880" y="32637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66640" y="4029120"/>
            <a:ext cx="4051440" cy="914400"/>
            <a:chOff x="566640" y="4029120"/>
            <a:chExt cx="4051440" cy="914400"/>
          </a:xfrm>
        </p:grpSpPr>
        <p:sp>
          <p:nvSpPr>
            <p:cNvPr id="638" name=""/>
            <p:cNvSpPr/>
            <p:nvPr/>
          </p:nvSpPr>
          <p:spPr>
            <a:xfrm>
              <a:off x="566640" y="402912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8960" y="4038480"/>
              <a:ext cx="4014720" cy="416160"/>
            </a:xfrm>
            <a:prstGeom prst="rect">
              <a:avLst/>
            </a:prstGeom>
            <a:solidFill>
              <a:srgbClr val="eb6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9240" y="443556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eb6b1d"/>
                </a:gs>
                <a:gs pos="100000">
                  <a:srgbClr val="f1a3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947880" y="45543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92120" y="53640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24160" y="273852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24160" y="400680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66640" y="1398600"/>
            <a:ext cx="4051440" cy="914400"/>
            <a:chOff x="566640" y="1398600"/>
            <a:chExt cx="4051440" cy="914400"/>
          </a:xfrm>
        </p:grpSpPr>
        <p:sp>
          <p:nvSpPr>
            <p:cNvPr id="646" name=""/>
            <p:cNvSpPr/>
            <p:nvPr/>
          </p:nvSpPr>
          <p:spPr>
            <a:xfrm>
              <a:off x="566640" y="139860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7160" y="1407960"/>
              <a:ext cx="4016520" cy="416160"/>
            </a:xfrm>
            <a:prstGeom prst="rect">
              <a:avLst/>
            </a:prstGeom>
            <a:solidFill>
              <a:srgbClr val="25a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9240" y="180504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25a7b5"/>
                </a:gs>
                <a:gs pos="100000">
                  <a:srgbClr val="79c8d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947880" y="19209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24160" y="137160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ontents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70120" y="2386080"/>
            <a:ext cx="3895560" cy="38923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41280" y="2773440"/>
            <a:ext cx="3124080" cy="3123720"/>
            <a:chOff x="1241280" y="2773440"/>
            <a:chExt cx="3124080" cy="3123720"/>
          </a:xfrm>
        </p:grpSpPr>
        <p:sp>
          <p:nvSpPr>
            <p:cNvPr id="109" name=""/>
            <p:cNvSpPr/>
            <p:nvPr/>
          </p:nvSpPr>
          <p:spPr>
            <a:xfrm>
              <a:off x="1241280" y="2773440"/>
              <a:ext cx="3124080" cy="3123720"/>
            </a:xfrm>
            <a:prstGeom prst="ellipse">
              <a:avLst/>
            </a:prstGeom>
            <a:gradFill rotWithShape="0">
              <a:gsLst>
                <a:gs pos="0">
                  <a:srgbClr val="f8e5e4"/>
                </a:gs>
                <a:gs pos="50000">
                  <a:srgbClr val="c81207"/>
                </a:gs>
                <a:gs pos="100000">
                  <a:srgbClr val="f8e5e4"/>
                </a:gs>
              </a:gsLst>
              <a:lin ang="5400000"/>
            </a:gradFill>
            <a:ln w="12600">
              <a:solidFill>
                <a:srgbClr val="c8120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89160" y="2821320"/>
              <a:ext cx="3010680" cy="3010320"/>
            </a:xfrm>
            <a:prstGeom prst="ellipse">
              <a:avLst/>
            </a:prstGeom>
            <a:gradFill rotWithShape="0">
              <a:gsLst>
                <a:gs pos="0">
                  <a:srgbClr val="d9d8be"/>
                </a:gs>
                <a:gs pos="50000">
                  <a:srgbClr val="959349"/>
                </a:gs>
                <a:gs pos="100000">
                  <a:srgbClr val="d9d8be"/>
                </a:gs>
              </a:gsLst>
              <a:lin ang="5400000"/>
            </a:gradFill>
            <a:ln w="19080">
              <a:solidFill>
                <a:srgbClr val="c81207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609560" y="403056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3520" y="1447920"/>
            <a:ext cx="75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79760" y="265428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55627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36960" y="4889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72160" y="33847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11560" y="41353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971880" y="2620800"/>
            <a:ext cx="457200" cy="457200"/>
            <a:chOff x="3971880" y="2620800"/>
            <a:chExt cx="457200" cy="457200"/>
          </a:xfrm>
        </p:grpSpPr>
        <p:sp>
          <p:nvSpPr>
            <p:cNvPr id="119" name=""/>
            <p:cNvSpPr/>
            <p:nvPr/>
          </p:nvSpPr>
          <p:spPr>
            <a:xfrm>
              <a:off x="3971880" y="2620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3f3eb"/>
                </a:gs>
                <a:gs pos="50000">
                  <a:srgbClr val="959349"/>
                </a:gs>
                <a:gs pos="100000">
                  <a:srgbClr val="f3f3eb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78720" y="262764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d9d8be"/>
                </a:gs>
                <a:gs pos="50000">
                  <a:srgbClr val="959349"/>
                </a:gs>
                <a:gs pos="100000">
                  <a:srgbClr val="d9d8be"/>
                </a:gs>
              </a:gsLst>
              <a:lin ang="5400000"/>
            </a:gradFill>
            <a:ln w="19080">
              <a:solidFill>
                <a:srgbClr val="959349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429080" y="3306600"/>
            <a:ext cx="457200" cy="457200"/>
            <a:chOff x="4429080" y="3306600"/>
            <a:chExt cx="457200" cy="457200"/>
          </a:xfrm>
        </p:grpSpPr>
        <p:sp>
          <p:nvSpPr>
            <p:cNvPr id="122" name=""/>
            <p:cNvSpPr/>
            <p:nvPr/>
          </p:nvSpPr>
          <p:spPr>
            <a:xfrm>
              <a:off x="4429080" y="3306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4f7e8"/>
                </a:gs>
                <a:gs pos="50000">
                  <a:srgbClr val="a2bb27"/>
                </a:gs>
                <a:gs pos="100000">
                  <a:srgbClr val="f4f7e8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35920" y="331344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dde6b2"/>
                </a:gs>
                <a:gs pos="50000">
                  <a:srgbClr val="a2bb27"/>
                </a:gs>
                <a:gs pos="100000">
                  <a:srgbClr val="dde6b2"/>
                </a:gs>
              </a:gsLst>
              <a:lin ang="5400000"/>
            </a:gradFill>
            <a:ln w="19080">
              <a:solidFill>
                <a:srgbClr val="a2bb27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657680" y="4064040"/>
            <a:ext cx="457200" cy="457200"/>
            <a:chOff x="4657680" y="4064040"/>
            <a:chExt cx="457200" cy="457200"/>
          </a:xfrm>
        </p:grpSpPr>
        <p:sp>
          <p:nvSpPr>
            <p:cNvPr id="125" name=""/>
            <p:cNvSpPr/>
            <p:nvPr/>
          </p:nvSpPr>
          <p:spPr>
            <a:xfrm>
              <a:off x="4657680" y="40640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beee7"/>
                </a:gs>
                <a:gs pos="50000">
                  <a:srgbClr val="eb6b1d"/>
                </a:gs>
                <a:gs pos="100000">
                  <a:srgbClr val="fbeee7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64520" y="40708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7caaf"/>
                </a:gs>
                <a:gs pos="50000">
                  <a:srgbClr val="eb6b1d"/>
                </a:gs>
                <a:gs pos="100000">
                  <a:srgbClr val="f7caaf"/>
                </a:gs>
              </a:gsLst>
              <a:lin ang="5400000"/>
            </a:gradFill>
            <a:ln w="19080">
              <a:solidFill>
                <a:srgbClr val="eb6b1d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429080" y="4830840"/>
            <a:ext cx="457200" cy="457200"/>
            <a:chOff x="4429080" y="4830840"/>
            <a:chExt cx="457200" cy="457200"/>
          </a:xfrm>
        </p:grpSpPr>
        <p:sp>
          <p:nvSpPr>
            <p:cNvPr id="128" name=""/>
            <p:cNvSpPr/>
            <p:nvPr/>
          </p:nvSpPr>
          <p:spPr>
            <a:xfrm>
              <a:off x="4429080" y="48308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7f5f6"/>
                </a:gs>
                <a:gs pos="50000">
                  <a:srgbClr val="25a7b5"/>
                </a:gs>
                <a:gs pos="100000">
                  <a:srgbClr val="e7f5f6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35920" y="48376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b2dfe4"/>
                </a:gs>
                <a:gs pos="50000">
                  <a:srgbClr val="25a7b5"/>
                </a:gs>
                <a:gs pos="100000">
                  <a:srgbClr val="b2dfe4"/>
                </a:gs>
              </a:gsLst>
              <a:lin ang="5400000"/>
            </a:gradFill>
            <a:ln w="19080">
              <a:solidFill>
                <a:srgbClr val="25a7b5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025880" y="5489640"/>
            <a:ext cx="457200" cy="457200"/>
            <a:chOff x="4025880" y="5489640"/>
            <a:chExt cx="457200" cy="457200"/>
          </a:xfrm>
        </p:grpSpPr>
        <p:sp>
          <p:nvSpPr>
            <p:cNvPr id="131" name=""/>
            <p:cNvSpPr/>
            <p:nvPr/>
          </p:nvSpPr>
          <p:spPr>
            <a:xfrm>
              <a:off x="4025880" y="5489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9ebf3"/>
                </a:gs>
                <a:gs pos="50000">
                  <a:srgbClr val="d04896"/>
                </a:gs>
                <a:gs pos="100000">
                  <a:srgbClr val="f9ebf3"/>
                </a:gs>
              </a:gsLst>
              <a:lin ang="5400000"/>
            </a:gradFill>
            <a:ln w="12600">
              <a:solidFill>
                <a:srgbClr val="d04896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2720" y="54964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edbed9"/>
                </a:gs>
                <a:gs pos="50000">
                  <a:srgbClr val="d04896"/>
                </a:gs>
                <a:gs pos="100000">
                  <a:srgbClr val="edbed9"/>
                </a:gs>
              </a:gsLst>
              <a:lin ang="5400000"/>
            </a:gradFill>
            <a:ln w="19080">
              <a:solidFill>
                <a:srgbClr val="d04896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>
            <a:grayscl/>
          </a:blip>
          <a:srcRect l="0" t="0" r="145" b="-244"/>
          <a:stretch/>
        </p:blipFill>
        <p:spPr>
          <a:xfrm>
            <a:off x="533520" y="5638680"/>
            <a:ext cx="69840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987560" y="3710160"/>
            <a:ext cx="5056200" cy="923760"/>
            <a:chOff x="1987560" y="3710160"/>
            <a:chExt cx="5056200" cy="923760"/>
          </a:xfrm>
        </p:grpSpPr>
        <p:sp>
          <p:nvSpPr>
            <p:cNvPr id="653" name=""/>
            <p:cNvSpPr/>
            <p:nvPr/>
          </p:nvSpPr>
          <p:spPr>
            <a:xfrm>
              <a:off x="1987560" y="371016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4613"/>
                </a:gs>
                <a:gs pos="100000">
                  <a:srgbClr val="eb6b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17600" y="46292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7320" y="37101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062080" y="4900680"/>
            <a:ext cx="5084640" cy="923760"/>
            <a:chOff x="2062080" y="4900680"/>
            <a:chExt cx="5084640" cy="923760"/>
          </a:xfrm>
        </p:grpSpPr>
        <p:sp>
          <p:nvSpPr>
            <p:cNvPr id="657" name=""/>
            <p:cNvSpPr/>
            <p:nvPr/>
          </p:nvSpPr>
          <p:spPr>
            <a:xfrm>
              <a:off x="2062080" y="490068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6a7b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85920" y="58197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09680" y="49006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062080" y="2519280"/>
            <a:ext cx="5084640" cy="923760"/>
            <a:chOff x="2062080" y="2519280"/>
            <a:chExt cx="5084640" cy="923760"/>
          </a:xfrm>
        </p:grpSpPr>
        <p:sp>
          <p:nvSpPr>
            <p:cNvPr id="661" name=""/>
            <p:cNvSpPr/>
            <p:nvPr/>
          </p:nvSpPr>
          <p:spPr>
            <a:xfrm>
              <a:off x="2062080" y="251928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6261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27320" y="34383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85920" y="25225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1968480" y="1357200"/>
            <a:ext cx="5027760" cy="923760"/>
            <a:chOff x="1968480" y="1357200"/>
            <a:chExt cx="5027760" cy="923760"/>
          </a:xfrm>
        </p:grpSpPr>
        <p:sp>
          <p:nvSpPr>
            <p:cNvPr id="665" name=""/>
            <p:cNvSpPr/>
            <p:nvPr/>
          </p:nvSpPr>
          <p:spPr>
            <a:xfrm>
              <a:off x="1968480" y="135720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6e77"/>
                </a:gs>
                <a:gs pos="100000">
                  <a:srgbClr val="25a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85920" y="22809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85920" y="13604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Text Box 4"/>
          <p:cNvSpPr/>
          <p:nvPr/>
        </p:nvSpPr>
        <p:spPr>
          <a:xfrm>
            <a:off x="2276640" y="151920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2235240" y="266544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276640" y="388944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25"/>
          <p:cNvSpPr/>
          <p:nvPr/>
        </p:nvSpPr>
        <p:spPr>
          <a:xfrm>
            <a:off x="2235240" y="505764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152360" y="1295280"/>
            <a:ext cx="1238400" cy="1236960"/>
            <a:chOff x="1152360" y="1295280"/>
            <a:chExt cx="1238400" cy="1236960"/>
          </a:xfrm>
        </p:grpSpPr>
        <p:sp>
          <p:nvSpPr>
            <p:cNvPr id="673" name="Oval 6"/>
            <p:cNvSpPr/>
            <p:nvPr/>
          </p:nvSpPr>
          <p:spPr>
            <a:xfrm>
              <a:off x="1152360" y="129528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7"/>
            <p:cNvSpPr/>
            <p:nvPr/>
          </p:nvSpPr>
          <p:spPr>
            <a:xfrm>
              <a:off x="1203120" y="134604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25a7b5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8"/>
            <p:cNvSpPr/>
            <p:nvPr/>
          </p:nvSpPr>
          <p:spPr>
            <a:xfrm>
              <a:off x="1253880" y="140004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25a7b5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Text Box 9"/>
          <p:cNvSpPr/>
          <p:nvPr/>
        </p:nvSpPr>
        <p:spPr>
          <a:xfrm>
            <a:off x="1224000" y="161280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734160" y="2338560"/>
            <a:ext cx="1238400" cy="1236600"/>
            <a:chOff x="6734160" y="2338560"/>
            <a:chExt cx="1238400" cy="1236600"/>
          </a:xfrm>
        </p:grpSpPr>
        <p:sp>
          <p:nvSpPr>
            <p:cNvPr id="678" name="Oval 13"/>
            <p:cNvSpPr/>
            <p:nvPr/>
          </p:nvSpPr>
          <p:spPr>
            <a:xfrm>
              <a:off x="6734160" y="233856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14"/>
            <p:cNvSpPr/>
            <p:nvPr/>
          </p:nvSpPr>
          <p:spPr>
            <a:xfrm>
              <a:off x="6784920" y="2389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95934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15"/>
            <p:cNvSpPr/>
            <p:nvPr/>
          </p:nvSpPr>
          <p:spPr>
            <a:xfrm>
              <a:off x="6835680" y="24433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59349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1" name="Text Box 16"/>
          <p:cNvSpPr/>
          <p:nvPr/>
        </p:nvSpPr>
        <p:spPr>
          <a:xfrm>
            <a:off x="6805440" y="264780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43000" y="3559320"/>
            <a:ext cx="1238400" cy="1236600"/>
            <a:chOff x="1143000" y="3559320"/>
            <a:chExt cx="1238400" cy="1236600"/>
          </a:xfrm>
        </p:grpSpPr>
        <p:sp>
          <p:nvSpPr>
            <p:cNvPr id="683" name="Oval 20"/>
            <p:cNvSpPr/>
            <p:nvPr/>
          </p:nvSpPr>
          <p:spPr>
            <a:xfrm>
              <a:off x="1143000" y="35593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21"/>
            <p:cNvSpPr/>
            <p:nvPr/>
          </p:nvSpPr>
          <p:spPr>
            <a:xfrm>
              <a:off x="1193760" y="361008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eb6b1d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22"/>
            <p:cNvSpPr/>
            <p:nvPr/>
          </p:nvSpPr>
          <p:spPr>
            <a:xfrm>
              <a:off x="1244520" y="366408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eb6b1d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6" name="Text Box 23"/>
          <p:cNvSpPr/>
          <p:nvPr/>
        </p:nvSpPr>
        <p:spPr>
          <a:xfrm>
            <a:off x="1214280" y="38592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734160" y="4719600"/>
            <a:ext cx="1238400" cy="1236600"/>
            <a:chOff x="6734160" y="4719600"/>
            <a:chExt cx="1238400" cy="1236600"/>
          </a:xfrm>
        </p:grpSpPr>
        <p:sp>
          <p:nvSpPr>
            <p:cNvPr id="688" name="Oval 27"/>
            <p:cNvSpPr/>
            <p:nvPr/>
          </p:nvSpPr>
          <p:spPr>
            <a:xfrm>
              <a:off x="6734160" y="47196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28"/>
            <p:cNvSpPr/>
            <p:nvPr/>
          </p:nvSpPr>
          <p:spPr>
            <a:xfrm>
              <a:off x="6784920" y="47703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2bb27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29"/>
            <p:cNvSpPr/>
            <p:nvPr/>
          </p:nvSpPr>
          <p:spPr>
            <a:xfrm>
              <a:off x="6835680" y="48243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2bb27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1" name="Text Box 30"/>
          <p:cNvSpPr/>
          <p:nvPr/>
        </p:nvSpPr>
        <p:spPr>
          <a:xfrm>
            <a:off x="6805440" y="502776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93" name="未知"/>
          <p:cNvSpPr/>
          <p:nvPr/>
        </p:nvSpPr>
        <p:spPr>
          <a:xfrm flipH="1">
            <a:off x="517680" y="1828800"/>
            <a:ext cx="206352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959349"/>
              </a:gs>
              <a:gs pos="100000">
                <a:srgbClr val="676632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未知"/>
          <p:cNvSpPr/>
          <p:nvPr/>
        </p:nvSpPr>
        <p:spPr>
          <a:xfrm>
            <a:off x="2819520" y="1828800"/>
            <a:ext cx="206352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2bb27"/>
              </a:gs>
              <a:gs pos="100000">
                <a:srgbClr val="81951f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未知"/>
          <p:cNvSpPr/>
          <p:nvPr/>
        </p:nvSpPr>
        <p:spPr>
          <a:xfrm>
            <a:off x="517680" y="3843360"/>
            <a:ext cx="206352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1c7e89"/>
              </a:gs>
              <a:gs pos="100000">
                <a:srgbClr val="25a7b5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未知"/>
          <p:cNvSpPr/>
          <p:nvPr/>
        </p:nvSpPr>
        <p:spPr>
          <a:xfrm flipH="1">
            <a:off x="2819520" y="3843360"/>
            <a:ext cx="206352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9b4613"/>
              </a:gs>
              <a:gs pos="100000">
                <a:srgbClr val="eb6b1d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60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9280" y="223200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7008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27200" y="478296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07008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2888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03228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2888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03228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5029200" y="2819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未知"/>
          <p:cNvSpPr/>
          <p:nvPr/>
        </p:nvSpPr>
        <p:spPr>
          <a:xfrm>
            <a:off x="2413080" y="33685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未知"/>
          <p:cNvSpPr/>
          <p:nvPr/>
        </p:nvSpPr>
        <p:spPr>
          <a:xfrm>
            <a:off x="4332240" y="33037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未知"/>
          <p:cNvSpPr/>
          <p:nvPr/>
        </p:nvSpPr>
        <p:spPr>
          <a:xfrm flipH="1">
            <a:off x="4731480" y="33685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905120" y="2295360"/>
            <a:ext cx="1361160" cy="1321920"/>
            <a:chOff x="1905120" y="2295360"/>
            <a:chExt cx="1361160" cy="1321920"/>
          </a:xfrm>
        </p:grpSpPr>
        <p:sp>
          <p:nvSpPr>
            <p:cNvPr id="711" name=""/>
            <p:cNvSpPr/>
            <p:nvPr/>
          </p:nvSpPr>
          <p:spPr>
            <a:xfrm>
              <a:off x="1905120" y="2295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67663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1990800" y="23810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ac9a5"/>
                </a:gs>
                <a:gs pos="50000">
                  <a:srgbClr val="959349">
                    <a:alpha val="0"/>
                  </a:srgbClr>
                </a:gs>
                <a:gs pos="100000">
                  <a:srgbClr val="cac9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1998720" y="258120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830760" y="2295360"/>
            <a:ext cx="1361160" cy="1321920"/>
            <a:chOff x="3830760" y="2295360"/>
            <a:chExt cx="1361160" cy="1321920"/>
          </a:xfrm>
        </p:grpSpPr>
        <p:sp>
          <p:nvSpPr>
            <p:cNvPr id="715" name=""/>
            <p:cNvSpPr/>
            <p:nvPr/>
          </p:nvSpPr>
          <p:spPr>
            <a:xfrm>
              <a:off x="3830760" y="2295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70821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3916440" y="23810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0dd95"/>
                </a:gs>
                <a:gs pos="50000">
                  <a:srgbClr val="a2bb27">
                    <a:alpha val="0"/>
                  </a:srgbClr>
                </a:gs>
                <a:gs pos="100000">
                  <a:srgbClr val="d0dd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800680" y="2305080"/>
            <a:ext cx="1361520" cy="1321560"/>
            <a:chOff x="5800680" y="2305080"/>
            <a:chExt cx="1361520" cy="1321560"/>
          </a:xfrm>
        </p:grpSpPr>
        <p:sp>
          <p:nvSpPr>
            <p:cNvPr id="718" name=""/>
            <p:cNvSpPr/>
            <p:nvPr/>
          </p:nvSpPr>
          <p:spPr>
            <a:xfrm>
              <a:off x="5800680" y="2305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a34a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5886360" y="2390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4b690"/>
                </a:gs>
                <a:gs pos="50000">
                  <a:srgbClr val="eb6b1d">
                    <a:alpha val="0"/>
                  </a:srgbClr>
                </a:gs>
                <a:gs pos="100000">
                  <a:srgbClr val="f4b69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3879720" y="258120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880240" y="25909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295280" y="13716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579680" y="495612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5934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70040" y="51116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9480" y="396252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757339"/>
              </a:gs>
              <a:gs pos="100000">
                <a:srgbClr val="959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584520" y="3333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63480" y="439092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8"/>
          <p:cNvSpPr/>
          <p:nvPr/>
        </p:nvSpPr>
        <p:spPr>
          <a:xfrm>
            <a:off x="1065240" y="3986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704880" y="446868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160020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19747d"/>
              </a:gs>
              <a:gs pos="100000">
                <a:srgbClr val="25a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3480" y="20289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1065240" y="1623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704880" y="21067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396252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b95416"/>
              </a:gs>
              <a:gs pos="100000">
                <a:srgbClr val="eb6b1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97600" y="43909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6399360" y="3986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6039000" y="44686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43600" y="160020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7f931e"/>
              </a:gs>
              <a:gs pos="100000">
                <a:srgbClr val="a2bb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997600" y="2028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8"/>
          <p:cNvSpPr/>
          <p:nvPr/>
        </p:nvSpPr>
        <p:spPr>
          <a:xfrm>
            <a:off x="6399360" y="1623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6039000" y="2106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2687400" y="1801440"/>
            <a:ext cx="3636000" cy="3620160"/>
            <a:chOff x="2687400" y="1801440"/>
            <a:chExt cx="3636000" cy="3620160"/>
          </a:xfrm>
        </p:grpSpPr>
        <p:sp>
          <p:nvSpPr>
            <p:cNvPr id="745" name=""/>
            <p:cNvSpPr/>
            <p:nvPr/>
          </p:nvSpPr>
          <p:spPr>
            <a:xfrm rot="6774000">
              <a:off x="3152160" y="2352600"/>
              <a:ext cx="2679840" cy="26413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eb6b1d"/>
                </a:gs>
                <a:gs pos="100000">
                  <a:srgbClr val="000000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2174000">
              <a:off x="3095640" y="233460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959349"/>
                </a:gs>
                <a:gs pos="100000">
                  <a:srgbClr val="000000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7574600">
              <a:off x="3192480" y="222876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25a7b5"/>
                </a:gs>
                <a:gs pos="100000">
                  <a:srgbClr val="020a0b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374000">
              <a:off x="3235320" y="2286000"/>
              <a:ext cx="2679840" cy="26413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a2bb27"/>
                </a:gs>
                <a:gs pos="100000">
                  <a:srgbClr val="000000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90720" y="2133720"/>
            <a:ext cx="7061040" cy="373356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1340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b6b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5194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25a7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908440" y="24940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2bb2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2938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5934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19320" y="1362240"/>
            <a:ext cx="662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298520" y="4842000"/>
            <a:ext cx="1553760" cy="704880"/>
            <a:chOff x="1298520" y="4842000"/>
            <a:chExt cx="1553760" cy="704880"/>
          </a:xfrm>
        </p:grpSpPr>
        <p:sp>
          <p:nvSpPr>
            <p:cNvPr id="757" name=""/>
            <p:cNvSpPr/>
            <p:nvPr/>
          </p:nvSpPr>
          <p:spPr>
            <a:xfrm>
              <a:off x="129852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99600" y="48430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917800" y="4842000"/>
            <a:ext cx="1553760" cy="704880"/>
            <a:chOff x="2917800" y="4842000"/>
            <a:chExt cx="1553760" cy="704880"/>
          </a:xfrm>
        </p:grpSpPr>
        <p:sp>
          <p:nvSpPr>
            <p:cNvPr id="760" name=""/>
            <p:cNvSpPr/>
            <p:nvPr/>
          </p:nvSpPr>
          <p:spPr>
            <a:xfrm>
              <a:off x="291780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18880" y="48430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c7d5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535640" y="4842000"/>
            <a:ext cx="1553760" cy="704880"/>
            <a:chOff x="4535640" y="4842000"/>
            <a:chExt cx="1553760" cy="704880"/>
          </a:xfrm>
        </p:grpSpPr>
        <p:sp>
          <p:nvSpPr>
            <p:cNvPr id="763" name=""/>
            <p:cNvSpPr/>
            <p:nvPr/>
          </p:nvSpPr>
          <p:spPr>
            <a:xfrm>
              <a:off x="453564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f8e9a"/>
                </a:gs>
                <a:gs pos="100000">
                  <a:srgbClr val="25a7b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36720" y="48430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7dca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6151680" y="4842000"/>
            <a:ext cx="1553760" cy="704880"/>
            <a:chOff x="6151680" y="4842000"/>
            <a:chExt cx="1553760" cy="704880"/>
          </a:xfrm>
        </p:grpSpPr>
        <p:sp>
          <p:nvSpPr>
            <p:cNvPr id="766" name=""/>
            <p:cNvSpPr/>
            <p:nvPr/>
          </p:nvSpPr>
          <p:spPr>
            <a:xfrm>
              <a:off x="615168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52760" y="48430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1a2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38600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000240" y="26557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2132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222960" y="26557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316160" y="48340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33640" y="48340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56160" y="48340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154560" y="48340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301760" y="4648320"/>
            <a:ext cx="1550520" cy="153720"/>
            <a:chOff x="1301760" y="4648320"/>
            <a:chExt cx="1550520" cy="153720"/>
          </a:xfrm>
        </p:grpSpPr>
        <p:sp>
          <p:nvSpPr>
            <p:cNvPr id="777" name=""/>
            <p:cNvSpPr/>
            <p:nvPr/>
          </p:nvSpPr>
          <p:spPr>
            <a:xfrm>
              <a:off x="1301760" y="46483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284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1301760" y="4494240"/>
            <a:ext cx="1550520" cy="152280"/>
            <a:chOff x="1301760" y="4494240"/>
            <a:chExt cx="1550520" cy="152280"/>
          </a:xfrm>
        </p:grpSpPr>
        <p:sp>
          <p:nvSpPr>
            <p:cNvPr id="780" name=""/>
            <p:cNvSpPr/>
            <p:nvPr/>
          </p:nvSpPr>
          <p:spPr>
            <a:xfrm>
              <a:off x="130176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0284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1301760" y="4307040"/>
            <a:ext cx="1550520" cy="153720"/>
            <a:chOff x="1301760" y="4307040"/>
            <a:chExt cx="1550520" cy="153720"/>
          </a:xfrm>
        </p:grpSpPr>
        <p:sp>
          <p:nvSpPr>
            <p:cNvPr id="783" name=""/>
            <p:cNvSpPr/>
            <p:nvPr/>
          </p:nvSpPr>
          <p:spPr>
            <a:xfrm>
              <a:off x="1301760" y="43070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02840" y="43070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301760" y="4119480"/>
            <a:ext cx="1550520" cy="154080"/>
            <a:chOff x="1301760" y="4119480"/>
            <a:chExt cx="1550520" cy="154080"/>
          </a:xfrm>
        </p:grpSpPr>
        <p:sp>
          <p:nvSpPr>
            <p:cNvPr id="786" name=""/>
            <p:cNvSpPr/>
            <p:nvPr/>
          </p:nvSpPr>
          <p:spPr>
            <a:xfrm>
              <a:off x="1301760" y="4119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02840" y="4119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301760" y="3936960"/>
            <a:ext cx="1550520" cy="154080"/>
            <a:chOff x="1301760" y="3936960"/>
            <a:chExt cx="1550520" cy="154080"/>
          </a:xfrm>
        </p:grpSpPr>
        <p:sp>
          <p:nvSpPr>
            <p:cNvPr id="789" name=""/>
            <p:cNvSpPr/>
            <p:nvPr/>
          </p:nvSpPr>
          <p:spPr>
            <a:xfrm>
              <a:off x="1301760" y="393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02840" y="393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301760" y="3749760"/>
            <a:ext cx="1550520" cy="154080"/>
            <a:chOff x="1301760" y="3749760"/>
            <a:chExt cx="1550520" cy="154080"/>
          </a:xfrm>
        </p:grpSpPr>
        <p:sp>
          <p:nvSpPr>
            <p:cNvPr id="792" name=""/>
            <p:cNvSpPr/>
            <p:nvPr/>
          </p:nvSpPr>
          <p:spPr>
            <a:xfrm>
              <a:off x="1301760" y="3749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02840" y="3749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1301760" y="3562200"/>
            <a:ext cx="1550520" cy="154080"/>
            <a:chOff x="1301760" y="3562200"/>
            <a:chExt cx="1550520" cy="154080"/>
          </a:xfrm>
        </p:grpSpPr>
        <p:sp>
          <p:nvSpPr>
            <p:cNvPr id="795" name=""/>
            <p:cNvSpPr/>
            <p:nvPr/>
          </p:nvSpPr>
          <p:spPr>
            <a:xfrm>
              <a:off x="1301760" y="3562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02840" y="3562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1301760" y="3376440"/>
            <a:ext cx="1550520" cy="154080"/>
            <a:chOff x="1301760" y="3376440"/>
            <a:chExt cx="1550520" cy="154080"/>
          </a:xfrm>
        </p:grpSpPr>
        <p:sp>
          <p:nvSpPr>
            <p:cNvPr id="798" name=""/>
            <p:cNvSpPr/>
            <p:nvPr/>
          </p:nvSpPr>
          <p:spPr>
            <a:xfrm>
              <a:off x="1301760" y="33764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02840" y="33764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2925720" y="4648320"/>
            <a:ext cx="1550520" cy="153720"/>
            <a:chOff x="2925720" y="4648320"/>
            <a:chExt cx="1550520" cy="153720"/>
          </a:xfrm>
        </p:grpSpPr>
        <p:sp>
          <p:nvSpPr>
            <p:cNvPr id="801" name=""/>
            <p:cNvSpPr/>
            <p:nvPr/>
          </p:nvSpPr>
          <p:spPr>
            <a:xfrm>
              <a:off x="2925720" y="46483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a2bb27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2680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2925720" y="4494240"/>
            <a:ext cx="1550520" cy="152280"/>
            <a:chOff x="2925720" y="4494240"/>
            <a:chExt cx="1550520" cy="152280"/>
          </a:xfrm>
        </p:grpSpPr>
        <p:sp>
          <p:nvSpPr>
            <p:cNvPr id="804" name=""/>
            <p:cNvSpPr/>
            <p:nvPr/>
          </p:nvSpPr>
          <p:spPr>
            <a:xfrm>
              <a:off x="292572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92680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4527720" y="4648320"/>
            <a:ext cx="1548720" cy="153720"/>
            <a:chOff x="4527720" y="4648320"/>
            <a:chExt cx="1548720" cy="153720"/>
          </a:xfrm>
        </p:grpSpPr>
        <p:sp>
          <p:nvSpPr>
            <p:cNvPr id="807" name=""/>
            <p:cNvSpPr/>
            <p:nvPr/>
          </p:nvSpPr>
          <p:spPr>
            <a:xfrm>
              <a:off x="4527720" y="464832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8800" y="46483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148440" y="4648320"/>
            <a:ext cx="1549080" cy="153720"/>
            <a:chOff x="6148440" y="4648320"/>
            <a:chExt cx="1549080" cy="153720"/>
          </a:xfrm>
        </p:grpSpPr>
        <p:sp>
          <p:nvSpPr>
            <p:cNvPr id="810" name=""/>
            <p:cNvSpPr/>
            <p:nvPr/>
          </p:nvSpPr>
          <p:spPr>
            <a:xfrm>
              <a:off x="6148440" y="46483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49520" y="46483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097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925720" y="4308480"/>
            <a:ext cx="1550520" cy="152280"/>
            <a:chOff x="2925720" y="4308480"/>
            <a:chExt cx="1550520" cy="152280"/>
          </a:xfrm>
        </p:grpSpPr>
        <p:sp>
          <p:nvSpPr>
            <p:cNvPr id="813" name=""/>
            <p:cNvSpPr/>
            <p:nvPr/>
          </p:nvSpPr>
          <p:spPr>
            <a:xfrm>
              <a:off x="2925720" y="43084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26800" y="43084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925720" y="4130640"/>
            <a:ext cx="1550520" cy="152280"/>
            <a:chOff x="2925720" y="4130640"/>
            <a:chExt cx="1550520" cy="152280"/>
          </a:xfrm>
        </p:grpSpPr>
        <p:sp>
          <p:nvSpPr>
            <p:cNvPr id="816" name=""/>
            <p:cNvSpPr/>
            <p:nvPr/>
          </p:nvSpPr>
          <p:spPr>
            <a:xfrm>
              <a:off x="2925720" y="41306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26800" y="4130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2925720" y="3944880"/>
            <a:ext cx="1550520" cy="152280"/>
            <a:chOff x="2925720" y="3944880"/>
            <a:chExt cx="1550520" cy="152280"/>
          </a:xfrm>
        </p:grpSpPr>
        <p:sp>
          <p:nvSpPr>
            <p:cNvPr id="819" name=""/>
            <p:cNvSpPr/>
            <p:nvPr/>
          </p:nvSpPr>
          <p:spPr>
            <a:xfrm>
              <a:off x="2925720" y="39448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926800" y="39448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527720" y="4492800"/>
            <a:ext cx="1548720" cy="153720"/>
            <a:chOff x="4527720" y="4492800"/>
            <a:chExt cx="1548720" cy="153720"/>
          </a:xfrm>
        </p:grpSpPr>
        <p:sp>
          <p:nvSpPr>
            <p:cNvPr id="822" name=""/>
            <p:cNvSpPr/>
            <p:nvPr/>
          </p:nvSpPr>
          <p:spPr>
            <a:xfrm>
              <a:off x="4527720" y="449280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28800" y="44928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4527720" y="4307040"/>
            <a:ext cx="1548720" cy="153720"/>
            <a:chOff x="4527720" y="4307040"/>
            <a:chExt cx="1548720" cy="153720"/>
          </a:xfrm>
        </p:grpSpPr>
        <p:sp>
          <p:nvSpPr>
            <p:cNvPr id="825" name=""/>
            <p:cNvSpPr/>
            <p:nvPr/>
          </p:nvSpPr>
          <p:spPr>
            <a:xfrm>
              <a:off x="4527720" y="430704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28800" y="43070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6148440" y="4484520"/>
            <a:ext cx="1549080" cy="154080"/>
            <a:chOff x="6148440" y="4484520"/>
            <a:chExt cx="1549080" cy="154080"/>
          </a:xfrm>
        </p:grpSpPr>
        <p:sp>
          <p:nvSpPr>
            <p:cNvPr id="828" name=""/>
            <p:cNvSpPr/>
            <p:nvPr/>
          </p:nvSpPr>
          <p:spPr>
            <a:xfrm>
              <a:off x="6148440" y="44845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49520" y="4484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097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593720" y="1463760"/>
            <a:ext cx="1517400" cy="897840"/>
            <a:chOff x="1593720" y="1463760"/>
            <a:chExt cx="1517400" cy="897840"/>
          </a:xfrm>
        </p:grpSpPr>
        <p:grpSp>
          <p:nvGrpSpPr>
            <p:cNvPr id="832" name=""/>
            <p:cNvGrpSpPr/>
            <p:nvPr/>
          </p:nvGrpSpPr>
          <p:grpSpPr>
            <a:xfrm>
              <a:off x="1593720" y="1770120"/>
              <a:ext cx="1517400" cy="591480"/>
              <a:chOff x="1593720" y="1770120"/>
              <a:chExt cx="1517400" cy="591480"/>
            </a:xfrm>
          </p:grpSpPr>
          <p:pic>
            <p:nvPicPr>
              <p:cNvPr id="8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3720" y="2150280"/>
                <a:ext cx="1510920" cy="2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未知"/>
              <p:cNvSpPr/>
              <p:nvPr/>
            </p:nvSpPr>
            <p:spPr>
              <a:xfrm>
                <a:off x="1601280" y="1803960"/>
                <a:ext cx="1509840" cy="46980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b8a"/>
                  </a:gs>
                  <a:gs pos="50000">
                    <a:srgbClr val="fcfdcc"/>
                  </a:gs>
                  <a:gs pos="100000">
                    <a:srgbClr val="abab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603800" y="1770120"/>
                <a:ext cx="1504440" cy="42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1593720" y="1617480"/>
              <a:ext cx="1517400" cy="592200"/>
              <a:chOff x="1593720" y="1617480"/>
              <a:chExt cx="1517400" cy="592200"/>
            </a:xfrm>
          </p:grpSpPr>
          <p:pic>
            <p:nvPicPr>
              <p:cNvPr id="8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3720" y="1998000"/>
                <a:ext cx="151092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未知"/>
              <p:cNvSpPr/>
              <p:nvPr/>
            </p:nvSpPr>
            <p:spPr>
              <a:xfrm>
                <a:off x="1601280" y="1651320"/>
                <a:ext cx="1509840" cy="47016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6542a"/>
                  </a:gs>
                  <a:gs pos="50000">
                    <a:srgbClr val="959349"/>
                  </a:gs>
                  <a:gs pos="100000">
                    <a:srgbClr val="56542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603800" y="1617480"/>
                <a:ext cx="1504440" cy="422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593720" y="1463760"/>
              <a:ext cx="1517400" cy="592200"/>
              <a:chOff x="1593720" y="1463760"/>
              <a:chExt cx="1517400" cy="592200"/>
            </a:xfrm>
          </p:grpSpPr>
          <p:pic>
            <p:nvPicPr>
              <p:cNvPr id="8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93720" y="1844280"/>
                <a:ext cx="151092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未知"/>
              <p:cNvSpPr/>
              <p:nvPr/>
            </p:nvSpPr>
            <p:spPr>
              <a:xfrm>
                <a:off x="1601280" y="1497600"/>
                <a:ext cx="1509840" cy="47016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b8a"/>
                  </a:gs>
                  <a:gs pos="50000">
                    <a:srgbClr val="fcfdcc"/>
                  </a:gs>
                  <a:gs pos="100000">
                    <a:srgbClr val="abab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03800" y="1463760"/>
                <a:ext cx="1504440" cy="422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4" name=""/>
          <p:cNvGrpSpPr/>
          <p:nvPr/>
        </p:nvGrpSpPr>
        <p:grpSpPr>
          <a:xfrm>
            <a:off x="4794120" y="1844640"/>
            <a:ext cx="1863360" cy="1104120"/>
            <a:chOff x="4794120" y="1844640"/>
            <a:chExt cx="1863360" cy="1104120"/>
          </a:xfrm>
        </p:grpSpPr>
        <p:grpSp>
          <p:nvGrpSpPr>
            <p:cNvPr id="845" name=""/>
            <p:cNvGrpSpPr/>
            <p:nvPr/>
          </p:nvGrpSpPr>
          <p:grpSpPr>
            <a:xfrm>
              <a:off x="4794120" y="2221560"/>
              <a:ext cx="1863360" cy="727200"/>
              <a:chOff x="4794120" y="2221560"/>
              <a:chExt cx="1863360" cy="727200"/>
            </a:xfrm>
          </p:grpSpPr>
          <p:pic>
            <p:nvPicPr>
              <p:cNvPr id="8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94120" y="268884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未知"/>
              <p:cNvSpPr/>
              <p:nvPr/>
            </p:nvSpPr>
            <p:spPr>
              <a:xfrm>
                <a:off x="4803480" y="2262960"/>
                <a:ext cx="1854000" cy="57780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b8a"/>
                  </a:gs>
                  <a:gs pos="50000">
                    <a:srgbClr val="fcfdcc"/>
                  </a:gs>
                  <a:gs pos="100000">
                    <a:srgbClr val="abab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806360" y="2221560"/>
                <a:ext cx="1847520" cy="518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794120" y="2034000"/>
              <a:ext cx="1863360" cy="727560"/>
              <a:chOff x="4794120" y="2034000"/>
              <a:chExt cx="1863360" cy="727560"/>
            </a:xfrm>
          </p:grpSpPr>
          <p:pic>
            <p:nvPicPr>
              <p:cNvPr id="85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4120" y="250164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1" name="未知"/>
              <p:cNvSpPr/>
              <p:nvPr/>
            </p:nvSpPr>
            <p:spPr>
              <a:xfrm>
                <a:off x="4803480" y="2075400"/>
                <a:ext cx="1854000" cy="57780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6542a"/>
                  </a:gs>
                  <a:gs pos="50000">
                    <a:srgbClr val="959349"/>
                  </a:gs>
                  <a:gs pos="100000">
                    <a:srgbClr val="56542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806360" y="2034000"/>
                <a:ext cx="1847520" cy="519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4794120" y="1844640"/>
              <a:ext cx="1863360" cy="727560"/>
              <a:chOff x="4794120" y="1844640"/>
              <a:chExt cx="1863360" cy="727560"/>
            </a:xfrm>
          </p:grpSpPr>
          <p:pic>
            <p:nvPicPr>
              <p:cNvPr id="8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94120" y="231228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未知"/>
              <p:cNvSpPr/>
              <p:nvPr/>
            </p:nvSpPr>
            <p:spPr>
              <a:xfrm>
                <a:off x="4803480" y="1886040"/>
                <a:ext cx="1854000" cy="57780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b8a"/>
                  </a:gs>
                  <a:gs pos="50000">
                    <a:srgbClr val="fcfdcc"/>
                  </a:gs>
                  <a:gs pos="100000">
                    <a:srgbClr val="abab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06360" y="1844640"/>
                <a:ext cx="1847520" cy="519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5479920" y="4535640"/>
            <a:ext cx="3054240" cy="1194840"/>
            <a:chOff x="5479920" y="4535640"/>
            <a:chExt cx="3054240" cy="1194840"/>
          </a:xfrm>
        </p:grpSpPr>
        <p:pic>
          <p:nvPicPr>
            <p:cNvPr id="858" name="" descr=""/>
            <p:cNvPicPr/>
            <p:nvPr/>
          </p:nvPicPr>
          <p:blipFill>
            <a:blip r:embed="rId7"/>
            <a:stretch/>
          </p:blipFill>
          <p:spPr>
            <a:xfrm>
              <a:off x="5479920" y="5303520"/>
              <a:ext cx="3040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未知"/>
            <p:cNvSpPr/>
            <p:nvPr/>
          </p:nvSpPr>
          <p:spPr>
            <a:xfrm>
              <a:off x="5495760" y="4603680"/>
              <a:ext cx="3038400" cy="94896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b8a"/>
                </a:gs>
                <a:gs pos="50000">
                  <a:srgbClr val="fcfdcc"/>
                </a:gs>
                <a:gs pos="100000">
                  <a:srgbClr val="abab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00440" y="4535640"/>
              <a:ext cx="302760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H="1" rot="1032600">
            <a:off x="3318840" y="2016000"/>
            <a:ext cx="1233360" cy="430200"/>
          </a:xfrm>
          <a:prstGeom prst="rightArrow">
            <a:avLst>
              <a:gd name="adj1" fmla="val 50000"/>
              <a:gd name="adj2" fmla="val 71674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1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rot="11862000">
            <a:off x="3174840" y="4206600"/>
            <a:ext cx="2138400" cy="1066680"/>
          </a:xfrm>
          <a:prstGeom prst="rightArrow">
            <a:avLst>
              <a:gd name="adj1" fmla="val 50000"/>
              <a:gd name="adj2" fmla="val 50118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968720" y="2003400"/>
            <a:ext cx="14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19453800">
            <a:off x="3675240" y="2706480"/>
            <a:ext cx="1523880" cy="757080"/>
          </a:xfrm>
          <a:prstGeom prst="rightArrow">
            <a:avLst>
              <a:gd name="adj1" fmla="val 50000"/>
              <a:gd name="adj2" fmla="val 50321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2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612800" y="1595520"/>
            <a:ext cx="14972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479920" y="4227480"/>
            <a:ext cx="3054240" cy="1195560"/>
            <a:chOff x="5479920" y="4227480"/>
            <a:chExt cx="3054240" cy="1195560"/>
          </a:xfrm>
        </p:grpSpPr>
        <p:pic>
          <p:nvPicPr>
            <p:cNvPr id="867" name="" descr=""/>
            <p:cNvPicPr/>
            <p:nvPr/>
          </p:nvPicPr>
          <p:blipFill>
            <a:blip r:embed="rId8"/>
            <a:stretch/>
          </p:blipFill>
          <p:spPr>
            <a:xfrm>
              <a:off x="5479920" y="4995720"/>
              <a:ext cx="304020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未知"/>
            <p:cNvSpPr/>
            <p:nvPr/>
          </p:nvSpPr>
          <p:spPr>
            <a:xfrm>
              <a:off x="5495760" y="4295880"/>
              <a:ext cx="3038400" cy="94932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656331"/>
                </a:gs>
                <a:gs pos="50000">
                  <a:srgbClr val="959349"/>
                </a:gs>
                <a:gs pos="100000">
                  <a:srgbClr val="656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00440" y="4227480"/>
              <a:ext cx="3027600" cy="852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479920" y="3916440"/>
            <a:ext cx="3054240" cy="1194840"/>
            <a:chOff x="5479920" y="3916440"/>
            <a:chExt cx="3054240" cy="1194840"/>
          </a:xfrm>
        </p:grpSpPr>
        <p:pic>
          <p:nvPicPr>
            <p:cNvPr id="871" name="" descr=""/>
            <p:cNvPicPr/>
            <p:nvPr/>
          </p:nvPicPr>
          <p:blipFill>
            <a:blip r:embed="rId9"/>
            <a:stretch/>
          </p:blipFill>
          <p:spPr>
            <a:xfrm>
              <a:off x="5479920" y="4684320"/>
              <a:ext cx="3040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未知"/>
            <p:cNvSpPr/>
            <p:nvPr/>
          </p:nvSpPr>
          <p:spPr>
            <a:xfrm>
              <a:off x="5495760" y="3984480"/>
              <a:ext cx="3038400" cy="94896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b8a"/>
                </a:gs>
                <a:gs pos="50000">
                  <a:srgbClr val="fcfdcc"/>
                </a:gs>
                <a:gs pos="100000">
                  <a:srgbClr val="abab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00440" y="3916440"/>
              <a:ext cx="302760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5940360" y="4191120"/>
            <a:ext cx="211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5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1365120" y="3575160"/>
            <a:ext cx="2400120" cy="936000"/>
            <a:chOff x="1365120" y="3575160"/>
            <a:chExt cx="2400120" cy="936000"/>
          </a:xfrm>
        </p:grpSpPr>
        <p:pic>
          <p:nvPicPr>
            <p:cNvPr id="876" name="" descr=""/>
            <p:cNvPicPr/>
            <p:nvPr/>
          </p:nvPicPr>
          <p:blipFill>
            <a:blip r:embed="rId10"/>
            <a:stretch/>
          </p:blipFill>
          <p:spPr>
            <a:xfrm>
              <a:off x="1365120" y="4176720"/>
              <a:ext cx="238932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未知"/>
            <p:cNvSpPr/>
            <p:nvPr/>
          </p:nvSpPr>
          <p:spPr>
            <a:xfrm>
              <a:off x="1377360" y="3628440"/>
              <a:ext cx="2387880" cy="74340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b8a"/>
                </a:gs>
                <a:gs pos="50000">
                  <a:srgbClr val="fcfdcc"/>
                </a:gs>
                <a:gs pos="100000">
                  <a:srgbClr val="abab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80960" y="3575160"/>
              <a:ext cx="2379600" cy="667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365120" y="3333600"/>
            <a:ext cx="2400120" cy="936720"/>
            <a:chOff x="1365120" y="3333600"/>
            <a:chExt cx="2400120" cy="936720"/>
          </a:xfrm>
        </p:grpSpPr>
        <p:pic>
          <p:nvPicPr>
            <p:cNvPr id="880" name="" descr=""/>
            <p:cNvPicPr/>
            <p:nvPr/>
          </p:nvPicPr>
          <p:blipFill>
            <a:blip r:embed="rId11"/>
            <a:stretch/>
          </p:blipFill>
          <p:spPr>
            <a:xfrm>
              <a:off x="1365120" y="3935520"/>
              <a:ext cx="2389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未知"/>
            <p:cNvSpPr/>
            <p:nvPr/>
          </p:nvSpPr>
          <p:spPr>
            <a:xfrm>
              <a:off x="1377360" y="3386880"/>
              <a:ext cx="2387880" cy="74376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42a"/>
                </a:gs>
                <a:gs pos="50000">
                  <a:srgbClr val="959349"/>
                </a:gs>
                <a:gs pos="100000">
                  <a:srgbClr val="5654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380960" y="3333600"/>
              <a:ext cx="2379600" cy="667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365120" y="3089160"/>
            <a:ext cx="2400120" cy="936720"/>
            <a:chOff x="1365120" y="3089160"/>
            <a:chExt cx="2400120" cy="936720"/>
          </a:xfrm>
        </p:grpSpPr>
        <p:pic>
          <p:nvPicPr>
            <p:cNvPr id="884" name="" descr=""/>
            <p:cNvPicPr/>
            <p:nvPr/>
          </p:nvPicPr>
          <p:blipFill>
            <a:blip r:embed="rId12"/>
            <a:stretch/>
          </p:blipFill>
          <p:spPr>
            <a:xfrm>
              <a:off x="1365120" y="3691080"/>
              <a:ext cx="2389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未知"/>
            <p:cNvSpPr/>
            <p:nvPr/>
          </p:nvSpPr>
          <p:spPr>
            <a:xfrm>
              <a:off x="1377360" y="3142440"/>
              <a:ext cx="2387880" cy="74376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b8a"/>
                </a:gs>
                <a:gs pos="50000">
                  <a:srgbClr val="fcfdcc"/>
                </a:gs>
                <a:gs pos="100000">
                  <a:srgbClr val="abab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80960" y="3089160"/>
              <a:ext cx="2379600" cy="667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1633680" y="3281400"/>
            <a:ext cx="18414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125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9320" y="5273640"/>
            <a:ext cx="5029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55640" y="981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6b1d"/>
                </a:solidFill>
                <a:uFillTx/>
                <a:latin typeface="Arial"/>
                <a:hlinkClick r:id="rId13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0" y="306396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0" y="212076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33520" y="1523880"/>
            <a:ext cx="3809520" cy="466560"/>
            <a:chOff x="533520" y="1523880"/>
            <a:chExt cx="3809520" cy="466560"/>
          </a:xfrm>
        </p:grpSpPr>
        <p:sp>
          <p:nvSpPr>
            <p:cNvPr id="894" name=""/>
            <p:cNvSpPr/>
            <p:nvPr/>
          </p:nvSpPr>
          <p:spPr>
            <a:xfrm>
              <a:off x="533520" y="1523880"/>
              <a:ext cx="38095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97c3"/>
                </a:gs>
                <a:gs pos="100000">
                  <a:srgbClr val="83c5dd"/>
                </a:gs>
              </a:gsLst>
              <a:lin ang="1080000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153320" y="1563480"/>
              <a:ext cx="169920" cy="39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6200" y="1565280"/>
              <a:ext cx="169560" cy="38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Text Box 18"/>
          <p:cNvSpPr/>
          <p:nvPr/>
        </p:nvSpPr>
        <p:spPr>
          <a:xfrm>
            <a:off x="911160" y="1473120"/>
            <a:ext cx="30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5400000">
            <a:off x="4404960" y="2390760"/>
            <a:ext cx="345960" cy="345960"/>
          </a:xfrm>
          <a:prstGeom prst="ellipse">
            <a:avLst/>
          </a:prstGeom>
          <a:solidFill>
            <a:srgbClr val="eb6b1d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5400000">
            <a:off x="4404600" y="3333600"/>
            <a:ext cx="346320" cy="345960"/>
          </a:xfrm>
          <a:prstGeom prst="ellipse">
            <a:avLst/>
          </a:prstGeom>
          <a:solidFill>
            <a:srgbClr val="25a7b5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572000" y="494028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0" y="399744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rot="5400000">
            <a:off x="4404600" y="4267080"/>
            <a:ext cx="346320" cy="345960"/>
          </a:xfrm>
          <a:prstGeom prst="ellipse">
            <a:avLst/>
          </a:prstGeom>
          <a:solidFill>
            <a:srgbClr val="95934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rot="5400000">
            <a:off x="4404960" y="5210280"/>
            <a:ext cx="345960" cy="345960"/>
          </a:xfrm>
          <a:prstGeom prst="ellipse">
            <a:avLst/>
          </a:prstGeom>
          <a:solidFill>
            <a:srgbClr val="a2bb27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876920" y="233352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9"/>
          <p:cNvSpPr/>
          <p:nvPr/>
        </p:nvSpPr>
        <p:spPr>
          <a:xfrm>
            <a:off x="4876920" y="313524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876920" y="420048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9"/>
          <p:cNvSpPr/>
          <p:nvPr/>
        </p:nvSpPr>
        <p:spPr>
          <a:xfrm>
            <a:off x="4876920" y="501156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33520" y="2211480"/>
            <a:ext cx="3625560" cy="3625920"/>
          </a:xfrm>
          <a:prstGeom prst="ellipse">
            <a:avLst/>
          </a:prstGeom>
          <a:solidFill>
            <a:srgbClr val="eb6b1d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82720" y="2978280"/>
            <a:ext cx="2927160" cy="2867040"/>
          </a:xfrm>
          <a:prstGeom prst="ellipse">
            <a:avLst/>
          </a:prstGeom>
          <a:solidFill>
            <a:srgbClr val="25a7b5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278000" y="3706920"/>
            <a:ext cx="2160360" cy="2139840"/>
          </a:xfrm>
          <a:prstGeom prst="ellipse">
            <a:avLst/>
          </a:prstGeom>
          <a:solidFill>
            <a:srgbClr val="959349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628640" y="4400640"/>
            <a:ext cx="1484280" cy="1452600"/>
          </a:xfrm>
          <a:prstGeom prst="ellipse">
            <a:avLst/>
          </a:prstGeom>
          <a:solidFill>
            <a:srgbClr val="a2bb27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8"/>
          <p:cNvSpPr/>
          <p:nvPr/>
        </p:nvSpPr>
        <p:spPr>
          <a:xfrm>
            <a:off x="1501920" y="498636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1406520" y="396540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18"/>
          <p:cNvSpPr/>
          <p:nvPr/>
        </p:nvSpPr>
        <p:spPr>
          <a:xfrm>
            <a:off x="1406520" y="317340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18"/>
          <p:cNvSpPr/>
          <p:nvPr/>
        </p:nvSpPr>
        <p:spPr>
          <a:xfrm>
            <a:off x="1406520" y="240660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 flipV="1">
            <a:off x="2201760" y="3859920"/>
            <a:ext cx="22827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7360e"/>
              </a:gs>
              <a:gs pos="100000">
                <a:srgbClr val="eb6b1d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584600" y="2246400"/>
            <a:ext cx="22845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5a7b5"/>
              </a:gs>
              <a:gs pos="100000">
                <a:srgbClr val="1e8894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201760" y="2246400"/>
            <a:ext cx="22845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c7e89"/>
              </a:gs>
              <a:gs pos="100000">
                <a:srgbClr val="25a7b5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3395520" y="2235240"/>
            <a:ext cx="228456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6646c"/>
              </a:gs>
              <a:gs pos="100000">
                <a:srgbClr val="25a7b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90840" y="3876840"/>
            <a:ext cx="22845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5115"/>
              </a:gs>
              <a:gs pos="100000">
                <a:srgbClr val="eb6b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581360" y="3870360"/>
            <a:ext cx="228312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b6b1d"/>
              </a:gs>
              <a:gs pos="100000">
                <a:srgbClr val="aa4d15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914640" y="232560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728800" y="408924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67360" y="409896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914640" y="469728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61920" y="262908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00800" y="264636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942840" y="44640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448320" y="44816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048120" y="152388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317760" y="5519880"/>
            <a:ext cx="24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28800" y="291924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67360" y="291924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686040" y="3276720"/>
            <a:ext cx="1652760" cy="1108080"/>
            <a:chOff x="3686040" y="3276720"/>
            <a:chExt cx="1652760" cy="1108080"/>
          </a:xfrm>
        </p:grpSpPr>
        <p:sp>
          <p:nvSpPr>
            <p:cNvPr id="935" name=""/>
            <p:cNvSpPr/>
            <p:nvPr/>
          </p:nvSpPr>
          <p:spPr>
            <a:xfrm>
              <a:off x="3686040" y="3276720"/>
              <a:ext cx="1652760" cy="1108080"/>
            </a:xfrm>
            <a:prstGeom prst="hexagon">
              <a:avLst>
                <a:gd name="adj" fmla="val 37289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29600" y="3303720"/>
              <a:ext cx="1554120" cy="1042200"/>
            </a:xfrm>
            <a:prstGeom prst="hexagon">
              <a:avLst>
                <a:gd name="adj" fmla="val 37280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4484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>
            <a:off x="0" y="6205680"/>
            <a:ext cx="2819520" cy="2286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-360" y="3767040"/>
            <a:ext cx="609480" cy="266724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614600" y="3348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506680" y="38368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884320" y="513864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0" y="3556080"/>
            <a:ext cx="1665360" cy="28782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-360" y="5286240"/>
            <a:ext cx="2895480" cy="114804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0" y="2048040"/>
            <a:ext cx="1866960" cy="4386240"/>
          </a:xfrm>
          <a:prstGeom prst="line">
            <a:avLst/>
          </a:prstGeom>
          <a:ln w="19080">
            <a:solidFill>
              <a:srgbClr val="fffff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0" y="3375000"/>
            <a:ext cx="2309760" cy="3059280"/>
          </a:xfrm>
          <a:prstGeom prst="line">
            <a:avLst/>
          </a:prstGeom>
          <a:ln w="19080">
            <a:solidFill>
              <a:srgbClr val="fffff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-360" y="4641840"/>
            <a:ext cx="2846520" cy="1792440"/>
          </a:xfrm>
          <a:prstGeom prst="line">
            <a:avLst/>
          </a:prstGeom>
          <a:ln w="19080">
            <a:solidFill>
              <a:srgbClr val="fffff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0" y="5688000"/>
            <a:ext cx="3867120" cy="746280"/>
          </a:xfrm>
          <a:prstGeom prst="line">
            <a:avLst/>
          </a:prstGeom>
          <a:ln w="19080">
            <a:solidFill>
              <a:srgbClr val="fffff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-2285640" y="4371840"/>
            <a:ext cx="4571280" cy="458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0" y="4037040"/>
            <a:ext cx="2532240" cy="262584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2193480" y="4465800"/>
            <a:ext cx="4386960" cy="438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bbc63"/>
              </a:gs>
              <a:gs pos="100000">
                <a:srgbClr val="9388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-2138040" y="4521240"/>
            <a:ext cx="4276080" cy="426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ddd39b"/>
              </a:gs>
              <a:gs pos="100000">
                <a:srgbClr val="cbbc63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3080" y="5442120"/>
            <a:ext cx="164448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368440" y="1447920"/>
            <a:ext cx="14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2010. 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08440" y="28465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9~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424320" y="4121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8~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2637000" y="1925640"/>
            <a:ext cx="128520" cy="128520"/>
            <a:chOff x="2637000" y="1925640"/>
            <a:chExt cx="128520" cy="128520"/>
          </a:xfrm>
        </p:grpSpPr>
        <p:sp>
          <p:nvSpPr>
            <p:cNvPr id="959" name=""/>
            <p:cNvSpPr/>
            <p:nvPr/>
          </p:nvSpPr>
          <p:spPr>
            <a:xfrm>
              <a:off x="2637000" y="19256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75880" y="19425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774880" y="1838160"/>
            <a:ext cx="49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3273480" y="3313080"/>
            <a:ext cx="128520" cy="128520"/>
            <a:chOff x="3273480" y="3313080"/>
            <a:chExt cx="128520" cy="128520"/>
          </a:xfrm>
        </p:grpSpPr>
        <p:sp>
          <p:nvSpPr>
            <p:cNvPr id="963" name=""/>
            <p:cNvSpPr/>
            <p:nvPr/>
          </p:nvSpPr>
          <p:spPr>
            <a:xfrm>
              <a:off x="3273480" y="3313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12360" y="3330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3411360" y="3225960"/>
            <a:ext cx="46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3857760" y="4591080"/>
            <a:ext cx="128520" cy="128520"/>
            <a:chOff x="3857760" y="4591080"/>
            <a:chExt cx="128520" cy="128520"/>
          </a:xfrm>
        </p:grpSpPr>
        <p:sp>
          <p:nvSpPr>
            <p:cNvPr id="967" name=""/>
            <p:cNvSpPr/>
            <p:nvPr/>
          </p:nvSpPr>
          <p:spPr>
            <a:xfrm>
              <a:off x="3857760" y="4591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896640" y="4608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3995640" y="4503600"/>
            <a:ext cx="461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34960" y="3537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819520" y="610704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20226600">
            <a:off x="3521160" y="5203440"/>
            <a:ext cx="514440" cy="514440"/>
          </a:xfrm>
          <a:custGeom>
            <a:avLst/>
            <a:gdLst>
              <a:gd name="textAreaLeft" fmla="*/ 120960 w 514440"/>
              <a:gd name="textAreaRight" fmla="*/ 393120 w 51444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a2bb27"/>
              </a:gs>
              <a:gs pos="100000">
                <a:srgbClr val="525e13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523880" y="155736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ae0d0"/>
              </a:gs>
              <a:gs pos="100000">
                <a:srgbClr val="eb6b1d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rot="801600">
            <a:off x="2041200" y="2757600"/>
            <a:ext cx="657360" cy="65700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000"/>
              <a:gd name="textAreaBottom" fmla="*/ 412200 h 657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fdfca"/>
              </a:gs>
              <a:gs pos="100000">
                <a:srgbClr val="959349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rot="1833000">
            <a:off x="2705040" y="4097160"/>
            <a:ext cx="604800" cy="605160"/>
          </a:xfrm>
          <a:custGeom>
            <a:avLst/>
            <a:gdLst>
              <a:gd name="textAreaLeft" fmla="*/ 142200 w 604800"/>
              <a:gd name="textAreaRight" fmla="*/ 462240 w 604800"/>
              <a:gd name="textAreaTop" fmla="*/ 70920 h 605160"/>
              <a:gd name="textAreaBottom" fmla="*/ 379800 h 605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5a7b5"/>
              </a:gs>
              <a:gs pos="100000">
                <a:srgbClr val="1d838e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5304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2566800" y="3746520"/>
            <a:ext cx="1788840" cy="407520"/>
            <a:chOff x="2566800" y="3746520"/>
            <a:chExt cx="1788840" cy="407520"/>
          </a:xfrm>
        </p:grpSpPr>
        <p:sp>
          <p:nvSpPr>
            <p:cNvPr id="980" name=""/>
            <p:cNvSpPr/>
            <p:nvPr/>
          </p:nvSpPr>
          <p:spPr>
            <a:xfrm>
              <a:off x="25732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2566800" y="3804480"/>
              <a:ext cx="97200" cy="320400"/>
              <a:chOff x="2566800" y="3804480"/>
              <a:chExt cx="97200" cy="320400"/>
            </a:xfrm>
          </p:grpSpPr>
          <p:sp>
            <p:nvSpPr>
              <p:cNvPr id="982" name=""/>
              <p:cNvSpPr/>
              <p:nvPr/>
            </p:nvSpPr>
            <p:spPr>
              <a:xfrm flipV="1" rot="21333000">
                <a:off x="25790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 rot="21333000">
                <a:off x="25837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 rot="21333000">
                <a:off x="25819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4251240" y="3800160"/>
              <a:ext cx="104400" cy="338400"/>
              <a:chOff x="4251240" y="3800160"/>
              <a:chExt cx="104400" cy="338400"/>
            </a:xfrm>
          </p:grpSpPr>
          <p:sp>
            <p:nvSpPr>
              <p:cNvPr id="986" name=""/>
              <p:cNvSpPr/>
              <p:nvPr/>
            </p:nvSpPr>
            <p:spPr>
              <a:xfrm flipH="1" flipV="1" rot="267000">
                <a:off x="42638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 flipV="1" rot="267000">
                <a:off x="42883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 rot="267000">
                <a:off x="43084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89" name="" descr=""/>
            <p:cNvPicPr/>
            <p:nvPr/>
          </p:nvPicPr>
          <p:blipFill>
            <a:blip r:embed="rId1"/>
            <a:srcRect l="0" t="0" r="-1017" b="87"/>
            <a:stretch/>
          </p:blipFill>
          <p:spPr>
            <a:xfrm rot="16200000">
              <a:off x="33224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>
            <a:off x="66200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71832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1832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71832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1832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6483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74660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4660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74660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74660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2728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62728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62728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62728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587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603000" y="3746520"/>
            <a:ext cx="1788840" cy="407520"/>
            <a:chOff x="603000" y="3746520"/>
            <a:chExt cx="1788840" cy="407520"/>
          </a:xfrm>
        </p:grpSpPr>
        <p:sp>
          <p:nvSpPr>
            <p:cNvPr id="1006" name=""/>
            <p:cNvSpPr/>
            <p:nvPr/>
          </p:nvSpPr>
          <p:spPr>
            <a:xfrm>
              <a:off x="6094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603000" y="3804480"/>
              <a:ext cx="97200" cy="320400"/>
              <a:chOff x="603000" y="3804480"/>
              <a:chExt cx="97200" cy="320400"/>
            </a:xfrm>
          </p:grpSpPr>
          <p:sp>
            <p:nvSpPr>
              <p:cNvPr id="1008" name=""/>
              <p:cNvSpPr/>
              <p:nvPr/>
            </p:nvSpPr>
            <p:spPr>
              <a:xfrm flipV="1" rot="21333000">
                <a:off x="6152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 rot="21333000">
                <a:off x="6199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 rot="21333000">
                <a:off x="6181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2287440" y="3800160"/>
              <a:ext cx="104400" cy="338400"/>
              <a:chOff x="2287440" y="3800160"/>
              <a:chExt cx="104400" cy="338400"/>
            </a:xfrm>
          </p:grpSpPr>
          <p:sp>
            <p:nvSpPr>
              <p:cNvPr id="1012" name=""/>
              <p:cNvSpPr/>
              <p:nvPr/>
            </p:nvSpPr>
            <p:spPr>
              <a:xfrm flipH="1" flipV="1" rot="267000">
                <a:off x="23000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 flipV="1" rot="267000">
                <a:off x="23245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flipV="1" rot="267000">
                <a:off x="23446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15" name="" descr=""/>
            <p:cNvPicPr/>
            <p:nvPr/>
          </p:nvPicPr>
          <p:blipFill>
            <a:blip r:embed="rId2"/>
            <a:srcRect l="0" t="0" r="-1017" b="87"/>
            <a:stretch/>
          </p:blipFill>
          <p:spPr>
            <a:xfrm rot="16200000">
              <a:off x="13586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6" name=""/>
          <p:cNvGrpSpPr/>
          <p:nvPr/>
        </p:nvGrpSpPr>
        <p:grpSpPr>
          <a:xfrm>
            <a:off x="4687920" y="3746520"/>
            <a:ext cx="1787040" cy="407520"/>
            <a:chOff x="4687920" y="3746520"/>
            <a:chExt cx="1787040" cy="407520"/>
          </a:xfrm>
        </p:grpSpPr>
        <p:sp>
          <p:nvSpPr>
            <p:cNvPr id="1017" name=""/>
            <p:cNvSpPr/>
            <p:nvPr/>
          </p:nvSpPr>
          <p:spPr>
            <a:xfrm>
              <a:off x="4694400" y="374652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4687920" y="3804480"/>
              <a:ext cx="97200" cy="320400"/>
              <a:chOff x="4687920" y="3804480"/>
              <a:chExt cx="97200" cy="320400"/>
            </a:xfrm>
          </p:grpSpPr>
          <p:sp>
            <p:nvSpPr>
              <p:cNvPr id="1019" name=""/>
              <p:cNvSpPr/>
              <p:nvPr/>
            </p:nvSpPr>
            <p:spPr>
              <a:xfrm flipV="1" rot="21333000">
                <a:off x="470016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V="1" rot="21333000">
                <a:off x="470484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 rot="21333000">
                <a:off x="470304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370560" y="3800160"/>
              <a:ext cx="104400" cy="338400"/>
              <a:chOff x="6370560" y="3800160"/>
              <a:chExt cx="104400" cy="338400"/>
            </a:xfrm>
          </p:grpSpPr>
          <p:sp>
            <p:nvSpPr>
              <p:cNvPr id="1023" name=""/>
              <p:cNvSpPr/>
              <p:nvPr/>
            </p:nvSpPr>
            <p:spPr>
              <a:xfrm flipH="1" flipV="1" rot="267000">
                <a:off x="638316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 flipV="1" rot="267000">
                <a:off x="640764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 rot="267000">
                <a:off x="642780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26" name="" descr=""/>
            <p:cNvPicPr/>
            <p:nvPr/>
          </p:nvPicPr>
          <p:blipFill>
            <a:blip r:embed="rId3"/>
            <a:srcRect l="0" t="0" r="-1017" b="87"/>
            <a:stretch/>
          </p:blipFill>
          <p:spPr>
            <a:xfrm rot="16200000">
              <a:off x="5442840" y="307368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"/>
          <p:cNvGrpSpPr/>
          <p:nvPr/>
        </p:nvGrpSpPr>
        <p:grpSpPr>
          <a:xfrm>
            <a:off x="6643440" y="3746520"/>
            <a:ext cx="1788840" cy="407520"/>
            <a:chOff x="6643440" y="3746520"/>
            <a:chExt cx="1788840" cy="407520"/>
          </a:xfrm>
        </p:grpSpPr>
        <p:sp>
          <p:nvSpPr>
            <p:cNvPr id="1028" name=""/>
            <p:cNvSpPr/>
            <p:nvPr/>
          </p:nvSpPr>
          <p:spPr>
            <a:xfrm>
              <a:off x="664992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643440" y="3804480"/>
              <a:ext cx="97200" cy="320400"/>
              <a:chOff x="6643440" y="3804480"/>
              <a:chExt cx="97200" cy="320400"/>
            </a:xfrm>
          </p:grpSpPr>
          <p:sp>
            <p:nvSpPr>
              <p:cNvPr id="1030" name=""/>
              <p:cNvSpPr/>
              <p:nvPr/>
            </p:nvSpPr>
            <p:spPr>
              <a:xfrm flipV="1" rot="21333000">
                <a:off x="665568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 rot="21333000">
                <a:off x="666036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 rot="21333000">
                <a:off x="665856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8327880" y="3800160"/>
              <a:ext cx="104400" cy="338400"/>
              <a:chOff x="8327880" y="3800160"/>
              <a:chExt cx="104400" cy="338400"/>
            </a:xfrm>
          </p:grpSpPr>
          <p:sp>
            <p:nvSpPr>
              <p:cNvPr id="1034" name=""/>
              <p:cNvSpPr/>
              <p:nvPr/>
            </p:nvSpPr>
            <p:spPr>
              <a:xfrm flipH="1" flipV="1" rot="267000">
                <a:off x="834048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flipV="1" rot="267000">
                <a:off x="836496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 flipV="1" rot="267000">
                <a:off x="838512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37" name="" descr=""/>
            <p:cNvPicPr/>
            <p:nvPr/>
          </p:nvPicPr>
          <p:blipFill>
            <a:blip r:embed="rId4"/>
            <a:srcRect l="0" t="0" r="-1017" b="87"/>
            <a:stretch/>
          </p:blipFill>
          <p:spPr>
            <a:xfrm rot="16200000">
              <a:off x="739908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38" name=""/>
          <p:cNvCxnSpPr>
            <a:stCxn id="1039" idx="2"/>
            <a:endCxn id="1040" idx="3"/>
          </p:cNvCxnSpPr>
          <p:nvPr/>
        </p:nvCxnSpPr>
        <p:spPr>
          <a:xfrm rot="5400000">
            <a:off x="3116880" y="147636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41" name=""/>
          <p:cNvCxnSpPr>
            <a:stCxn id="1039" idx="2"/>
            <a:endCxn id="1042" idx="3"/>
          </p:cNvCxnSpPr>
          <p:nvPr/>
        </p:nvCxnSpPr>
        <p:spPr>
          <a:xfrm flipH="1" rot="16200000">
            <a:off x="5178960" y="149652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043" name=""/>
          <p:cNvGrpSpPr/>
          <p:nvPr/>
        </p:nvGrpSpPr>
        <p:grpSpPr>
          <a:xfrm>
            <a:off x="6180840" y="1371600"/>
            <a:ext cx="1483560" cy="366480"/>
            <a:chOff x="6180840" y="1371600"/>
            <a:chExt cx="1483560" cy="366480"/>
          </a:xfrm>
        </p:grpSpPr>
        <p:sp>
          <p:nvSpPr>
            <p:cNvPr id="1044" name=""/>
            <p:cNvSpPr/>
            <p:nvPr/>
          </p:nvSpPr>
          <p:spPr>
            <a:xfrm>
              <a:off x="6186600" y="137160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e7e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6180840" y="1423800"/>
              <a:ext cx="81720" cy="288000"/>
              <a:chOff x="6180840" y="1423800"/>
              <a:chExt cx="81720" cy="288000"/>
            </a:xfrm>
          </p:grpSpPr>
          <p:sp>
            <p:nvSpPr>
              <p:cNvPr id="1046" name=""/>
              <p:cNvSpPr/>
              <p:nvPr/>
            </p:nvSpPr>
            <p:spPr>
              <a:xfrm flipV="1" rot="21333000">
                <a:off x="6191640" y="14256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 rot="21333000">
                <a:off x="6194880" y="144576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 rot="21333000">
                <a:off x="6193440" y="147744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7576200" y="1419840"/>
              <a:ext cx="88200" cy="304560"/>
              <a:chOff x="7576200" y="1419840"/>
              <a:chExt cx="88200" cy="304560"/>
            </a:xfrm>
          </p:grpSpPr>
          <p:sp>
            <p:nvSpPr>
              <p:cNvPr id="1050" name=""/>
              <p:cNvSpPr/>
              <p:nvPr/>
            </p:nvSpPr>
            <p:spPr>
              <a:xfrm flipH="1" flipV="1" rot="267000">
                <a:off x="7587000" y="142164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 flipV="1" rot="267000">
                <a:off x="7607880" y="144396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 flipV="1" rot="267000">
                <a:off x="7625160" y="14778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53" name="" descr=""/>
            <p:cNvPicPr/>
            <p:nvPr/>
          </p:nvPicPr>
          <p:blipFill>
            <a:blip r:embed="rId5"/>
            <a:srcRect l="0" t="0" r="-1017" b="87"/>
            <a:stretch/>
          </p:blipFill>
          <p:spPr>
            <a:xfrm rot="16200000">
              <a:off x="6797880" y="82260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4" name=""/>
          <p:cNvGrpSpPr/>
          <p:nvPr/>
        </p:nvGrpSpPr>
        <p:grpSpPr>
          <a:xfrm>
            <a:off x="6180840" y="1978200"/>
            <a:ext cx="1483560" cy="366120"/>
            <a:chOff x="6180840" y="1978200"/>
            <a:chExt cx="1483560" cy="366120"/>
          </a:xfrm>
        </p:grpSpPr>
        <p:sp>
          <p:nvSpPr>
            <p:cNvPr id="1055" name=""/>
            <p:cNvSpPr/>
            <p:nvPr/>
          </p:nvSpPr>
          <p:spPr>
            <a:xfrm>
              <a:off x="6186600" y="197820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e7e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6180840" y="2030400"/>
              <a:ext cx="81720" cy="288000"/>
              <a:chOff x="6180840" y="2030400"/>
              <a:chExt cx="81720" cy="288000"/>
            </a:xfrm>
          </p:grpSpPr>
          <p:sp>
            <p:nvSpPr>
              <p:cNvPr id="1057" name=""/>
              <p:cNvSpPr/>
              <p:nvPr/>
            </p:nvSpPr>
            <p:spPr>
              <a:xfrm flipV="1" rot="21333000">
                <a:off x="6191640" y="20322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 rot="21333000">
                <a:off x="6194880" y="205308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 rot="21333000">
                <a:off x="6193440" y="208476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7576200" y="2026080"/>
              <a:ext cx="88200" cy="304200"/>
              <a:chOff x="7576200" y="2026080"/>
              <a:chExt cx="88200" cy="304200"/>
            </a:xfrm>
          </p:grpSpPr>
          <p:sp>
            <p:nvSpPr>
              <p:cNvPr id="1061" name=""/>
              <p:cNvSpPr/>
              <p:nvPr/>
            </p:nvSpPr>
            <p:spPr>
              <a:xfrm flipH="1" flipV="1" rot="267000">
                <a:off x="7587000" y="202752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 flipV="1" rot="267000">
                <a:off x="7607880" y="205092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 flipV="1" rot="267000">
                <a:off x="7625160" y="20844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64" name="" descr=""/>
            <p:cNvPicPr/>
            <p:nvPr/>
          </p:nvPicPr>
          <p:blipFill>
            <a:blip r:embed="rId6"/>
            <a:srcRect l="0" t="0" r="-1017" b="87"/>
            <a:stretch/>
          </p:blipFill>
          <p:spPr>
            <a:xfrm rot="16200000">
              <a:off x="6798240" y="142884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65" name=""/>
          <p:cNvCxnSpPr>
            <a:endCxn id="1015" idx="3"/>
          </p:cNvCxnSpPr>
          <p:nvPr/>
        </p:nvCxnSpPr>
        <p:spPr>
          <a:xfrm rot="5400000">
            <a:off x="1668960" y="301572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66" name=""/>
          <p:cNvCxnSpPr/>
          <p:nvPr/>
        </p:nvCxnSpPr>
        <p:spPr>
          <a:xfrm flipH="1" rot="16200000">
            <a:off x="2645640" y="296100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067" name=""/>
          <p:cNvGrpSpPr/>
          <p:nvPr/>
        </p:nvGrpSpPr>
        <p:grpSpPr>
          <a:xfrm>
            <a:off x="1406160" y="2847960"/>
            <a:ext cx="2048760" cy="364680"/>
            <a:chOff x="1406160" y="2847960"/>
            <a:chExt cx="2048760" cy="364680"/>
          </a:xfrm>
        </p:grpSpPr>
        <p:sp>
          <p:nvSpPr>
            <p:cNvPr id="1068" name=""/>
            <p:cNvSpPr/>
            <p:nvPr/>
          </p:nvSpPr>
          <p:spPr>
            <a:xfrm>
              <a:off x="1409760" y="284796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1406160" y="2899080"/>
              <a:ext cx="105120" cy="288720"/>
              <a:chOff x="1406160" y="2899080"/>
              <a:chExt cx="105120" cy="288720"/>
            </a:xfrm>
          </p:grpSpPr>
          <p:sp>
            <p:nvSpPr>
              <p:cNvPr id="1070" name=""/>
              <p:cNvSpPr/>
              <p:nvPr/>
            </p:nvSpPr>
            <p:spPr>
              <a:xfrm flipV="1" rot="21333000">
                <a:off x="141732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 rot="21333000">
                <a:off x="142200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 rot="21333000">
                <a:off x="141948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3340800" y="2894760"/>
              <a:ext cx="114120" cy="304200"/>
              <a:chOff x="3340800" y="2894760"/>
              <a:chExt cx="114120" cy="304200"/>
            </a:xfrm>
          </p:grpSpPr>
          <p:sp>
            <p:nvSpPr>
              <p:cNvPr id="1074" name=""/>
              <p:cNvSpPr/>
              <p:nvPr/>
            </p:nvSpPr>
            <p:spPr>
              <a:xfrm flipH="1" flipV="1" rot="267000">
                <a:off x="335196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 rot="267000">
                <a:off x="338040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 rot="267000">
                <a:off x="340380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7" name="" descr=""/>
            <p:cNvPicPr/>
            <p:nvPr/>
          </p:nvPicPr>
          <p:blipFill>
            <a:blip r:embed="rId7"/>
            <a:srcRect l="0" t="0" r="-1017" b="87"/>
            <a:stretch/>
          </p:blipFill>
          <p:spPr>
            <a:xfrm rot="16200000">
              <a:off x="2302200" y="203940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78" name=""/>
          <p:cNvCxnSpPr>
            <a:endCxn id="1026" idx="3"/>
          </p:cNvCxnSpPr>
          <p:nvPr/>
        </p:nvCxnSpPr>
        <p:spPr>
          <a:xfrm rot="5400000">
            <a:off x="5770800" y="299484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9" name=""/>
          <p:cNvCxnSpPr>
            <a:endCxn id="1037" idx="3"/>
          </p:cNvCxnSpPr>
          <p:nvPr/>
        </p:nvCxnSpPr>
        <p:spPr>
          <a:xfrm flipH="1" rot="16200000">
            <a:off x="6748200" y="297936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0" name=""/>
          <p:cNvCxnSpPr>
            <a:stCxn id="1039" idx="3"/>
            <a:endCxn id="1046" idx="1"/>
          </p:cNvCxnSpPr>
          <p:nvPr/>
        </p:nvCxnSpPr>
        <p:spPr>
          <a:xfrm flipV="1">
            <a:off x="5213520" y="156924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1" name=""/>
          <p:cNvCxnSpPr>
            <a:stCxn id="1039" idx="3"/>
            <a:endCxn id="1057" idx="1"/>
          </p:cNvCxnSpPr>
          <p:nvPr/>
        </p:nvCxnSpPr>
        <p:spPr>
          <a:xfrm>
            <a:off x="5213520" y="185256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082" name=""/>
          <p:cNvGrpSpPr/>
          <p:nvPr/>
        </p:nvGrpSpPr>
        <p:grpSpPr>
          <a:xfrm>
            <a:off x="5527080" y="2847960"/>
            <a:ext cx="2050560" cy="364680"/>
            <a:chOff x="5527080" y="2847960"/>
            <a:chExt cx="2050560" cy="364680"/>
          </a:xfrm>
        </p:grpSpPr>
        <p:sp>
          <p:nvSpPr>
            <p:cNvPr id="1083" name=""/>
            <p:cNvSpPr/>
            <p:nvPr/>
          </p:nvSpPr>
          <p:spPr>
            <a:xfrm>
              <a:off x="5530680" y="284796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5527080" y="2899080"/>
              <a:ext cx="105120" cy="288720"/>
              <a:chOff x="5527080" y="2899080"/>
              <a:chExt cx="105120" cy="288720"/>
            </a:xfrm>
          </p:grpSpPr>
          <p:sp>
            <p:nvSpPr>
              <p:cNvPr id="1085" name=""/>
              <p:cNvSpPr/>
              <p:nvPr/>
            </p:nvSpPr>
            <p:spPr>
              <a:xfrm flipV="1" rot="21333000">
                <a:off x="553824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 rot="21333000">
                <a:off x="554292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 rot="21333000">
                <a:off x="554040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7463520" y="2894760"/>
              <a:ext cx="114120" cy="304200"/>
              <a:chOff x="7463520" y="2894760"/>
              <a:chExt cx="114120" cy="304200"/>
            </a:xfrm>
          </p:grpSpPr>
          <p:sp>
            <p:nvSpPr>
              <p:cNvPr id="1089" name=""/>
              <p:cNvSpPr/>
              <p:nvPr/>
            </p:nvSpPr>
            <p:spPr>
              <a:xfrm flipH="1" flipV="1" rot="267000">
                <a:off x="747468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 rot="267000">
                <a:off x="750312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 flipV="1" rot="267000">
                <a:off x="752652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92" name="" descr=""/>
            <p:cNvPicPr/>
            <p:nvPr/>
          </p:nvPicPr>
          <p:blipFill>
            <a:blip r:embed="rId8"/>
            <a:srcRect l="0" t="0" r="-1017" b="87"/>
            <a:stretch/>
          </p:blipFill>
          <p:spPr>
            <a:xfrm rot="16200000">
              <a:off x="6423840" y="203868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3" name=""/>
          <p:cNvSpPr/>
          <p:nvPr/>
        </p:nvSpPr>
        <p:spPr>
          <a:xfrm>
            <a:off x="65556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5556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5556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5556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782880" y="1525680"/>
            <a:ext cx="1430640" cy="652320"/>
            <a:chOff x="3782880" y="1525680"/>
            <a:chExt cx="1430640" cy="652320"/>
          </a:xfrm>
        </p:grpSpPr>
        <p:sp>
          <p:nvSpPr>
            <p:cNvPr id="1039" name=""/>
            <p:cNvSpPr/>
            <p:nvPr/>
          </p:nvSpPr>
          <p:spPr>
            <a:xfrm>
              <a:off x="3782880" y="152568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5c6a1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8" name="" descr=""/>
            <p:cNvPicPr/>
            <p:nvPr/>
          </p:nvPicPr>
          <p:blipFill>
            <a:blip r:embed="rId9"/>
            <a:srcRect l="0" t="0" r="-1017" b="87"/>
            <a:stretch/>
          </p:blipFill>
          <p:spPr>
            <a:xfrm rot="16200000">
              <a:off x="4379040" y="96084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9" name=""/>
          <p:cNvSpPr/>
          <p:nvPr/>
        </p:nvSpPr>
        <p:spPr>
          <a:xfrm>
            <a:off x="4159080" y="1655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247440" y="138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268320" y="1989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84080" y="283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803920" y="283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4448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9856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83228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79428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82944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2944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2944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2944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78676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78676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8676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8676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93956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93956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93956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93956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90156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90156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90156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0156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Hot Tip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758600"/>
            <a:ext cx="701064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967280"/>
            <a:ext cx="632448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405080" y="1333080"/>
            <a:ext cx="762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fdcc"/>
                </a:solidFill>
                <a:latin typeface="Times New Roman"/>
                <a:ea typeface="宋体"/>
              </a:rPr>
              <a:t>Thank You!</a:t>
            </a:r>
            <a:endParaRPr b="1" lang="en-US" sz="54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</a:rPr>
              <a:t>使用规范说明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CB8-40F3-4663-8C94-2AF4591119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17663"/>
          <a:stretch/>
        </p:blipFill>
        <p:spPr>
          <a:xfrm>
            <a:off x="4035600" y="3100320"/>
            <a:ext cx="963360" cy="1776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02360" y="2948040"/>
            <a:ext cx="963360" cy="2157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389640" y="2743200"/>
            <a:ext cx="96372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99240" y="2386080"/>
            <a:ext cx="963720" cy="3057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37960" y="398952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37960" y="3502080"/>
            <a:ext cx="32004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itle in here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10160" y="5114880"/>
            <a:ext cx="930600" cy="2574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08960" y="5268960"/>
            <a:ext cx="930240" cy="29196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15080" y="4262400"/>
            <a:ext cx="92880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eb6b1d"/>
              </a:gs>
              <a:gs pos="50000">
                <a:srgbClr val="f3b28b"/>
              </a:gs>
              <a:gs pos="100000">
                <a:srgbClr val="eb6b1d"/>
              </a:gs>
            </a:gsLst>
            <a:lin ang="10800000"/>
          </a:gradFill>
          <a:ln w="9360">
            <a:solidFill>
              <a:srgbClr val="f8f8f8">
                <a:alpha val="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4322880"/>
            <a:ext cx="930240" cy="623880"/>
          </a:xfrm>
          <a:prstGeom prst="can">
            <a:avLst>
              <a:gd name="adj" fmla="val 30416"/>
            </a:avLst>
          </a:prstGeom>
          <a:gradFill rotWithShape="0">
            <a:gsLst>
              <a:gs pos="0">
                <a:srgbClr val="a2bb27"/>
              </a:gs>
              <a:gs pos="50000">
                <a:srgbClr val="cedb90"/>
              </a:gs>
              <a:gs pos="100000">
                <a:srgbClr val="a2bb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3892680"/>
            <a:ext cx="93024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959349"/>
              </a:gs>
              <a:gs pos="50000">
                <a:srgbClr val="c8c7a1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5480" y="3449520"/>
            <a:ext cx="930240" cy="1922760"/>
          </a:xfrm>
          <a:prstGeom prst="can">
            <a:avLst>
              <a:gd name="adj" fmla="val 14527"/>
            </a:avLst>
          </a:prstGeom>
          <a:gradFill rotWithShape="0">
            <a:gsLst>
              <a:gs pos="0">
                <a:srgbClr val="25a7b5"/>
              </a:gs>
              <a:gs pos="50000">
                <a:srgbClr val="8fd1d8"/>
              </a:gs>
              <a:gs pos="100000">
                <a:srgbClr val="25a7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52960" y="4495680"/>
            <a:ext cx="762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4143240"/>
            <a:ext cx="76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96200" y="3724200"/>
            <a:ext cx="76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05800" y="4495680"/>
            <a:ext cx="76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05600" y="5367240"/>
            <a:ext cx="144756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4040" y="5554800"/>
            <a:ext cx="154476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80960" y="2646360"/>
            <a:ext cx="200664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05200" y="2133720"/>
            <a:ext cx="200664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9800" y="1295280"/>
            <a:ext cx="2057400" cy="330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86280" y="5180040"/>
            <a:ext cx="14479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43280" y="4992840"/>
            <a:ext cx="14479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48200" y="1676520"/>
            <a:ext cx="206856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759280" y="2365200"/>
            <a:ext cx="2355840" cy="419400"/>
            <a:chOff x="5759280" y="2365200"/>
            <a:chExt cx="2355840" cy="419400"/>
          </a:xfrm>
        </p:grpSpPr>
        <p:sp>
          <p:nvSpPr>
            <p:cNvPr id="164" name=""/>
            <p:cNvSpPr/>
            <p:nvPr/>
          </p:nvSpPr>
          <p:spPr>
            <a:xfrm>
              <a:off x="57592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5640" y="2390400"/>
              <a:ext cx="2273400" cy="170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068480" y="2365200"/>
            <a:ext cx="2355840" cy="419400"/>
            <a:chOff x="1068480" y="2365200"/>
            <a:chExt cx="2355840" cy="419400"/>
          </a:xfrm>
        </p:grpSpPr>
        <p:sp>
          <p:nvSpPr>
            <p:cNvPr id="167" name=""/>
            <p:cNvSpPr/>
            <p:nvPr/>
          </p:nvSpPr>
          <p:spPr>
            <a:xfrm>
              <a:off x="10684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04840" y="2390400"/>
              <a:ext cx="2273400" cy="170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626480" y="2394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040" y="2386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28800" y="309888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e8e8e"/>
              </a:gs>
              <a:gs pos="100000">
                <a:srgbClr val="0808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6280" y="3110040"/>
            <a:ext cx="2695680" cy="26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642047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642047"/>
              </a:path>
            </a:pathLst>
          </a:custGeom>
          <a:solidFill>
            <a:srgbClr val="a2bb2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 rot="5400000">
            <a:off x="940680" y="3098160"/>
            <a:ext cx="2682720" cy="26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eb6b1d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9670200">
            <a:off x="924480" y="3090960"/>
            <a:ext cx="2696040" cy="26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" y="12827"/>
                </a:moveTo>
                <a:arcTo wR="10800" hR="10800" stAng="10150833" swAng="7033431"/>
                <a:lnTo>
                  <a:pt x="10800" y="10800"/>
                </a:lnTo>
                <a:close/>
              </a:path>
              <a:path fill="none" w="21600" h="21600">
                <a:moveTo>
                  <a:pt x="192" y="12827"/>
                </a:moveTo>
                <a:arcTo wR="10800" hR="10800" stAng="10150833" swAng="7033431"/>
              </a:path>
            </a:pathLst>
          </a:custGeom>
          <a:solidFill>
            <a:srgbClr val="25a7b5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096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23120" y="3052440"/>
            <a:ext cx="1671120" cy="1380600"/>
            <a:chOff x="1923120" y="3052440"/>
            <a:chExt cx="1671120" cy="1380600"/>
          </a:xfrm>
        </p:grpSpPr>
        <p:grpSp>
          <p:nvGrpSpPr>
            <p:cNvPr id="177" name=""/>
            <p:cNvGrpSpPr/>
            <p:nvPr/>
          </p:nvGrpSpPr>
          <p:grpSpPr>
            <a:xfrm>
              <a:off x="2288880" y="3052440"/>
              <a:ext cx="1305360" cy="1380600"/>
              <a:chOff x="2288880" y="3052440"/>
              <a:chExt cx="1305360" cy="1380600"/>
            </a:xfrm>
          </p:grpSpPr>
          <p:sp>
            <p:nvSpPr>
              <p:cNvPr id="178" name=""/>
              <p:cNvSpPr/>
              <p:nvPr/>
            </p:nvSpPr>
            <p:spPr>
              <a:xfrm flipV="1" rot="8983800">
                <a:off x="3034800" y="3229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8167800">
                <a:off x="2925720" y="3058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 rot="7872600">
                <a:off x="2842920" y="2976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 rot="7340400">
                <a:off x="2739960" y="28828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923120" y="3059280"/>
              <a:ext cx="1596960" cy="961200"/>
              <a:chOff x="1923120" y="3059280"/>
              <a:chExt cx="1596960" cy="961200"/>
            </a:xfrm>
          </p:grpSpPr>
          <p:sp>
            <p:nvSpPr>
              <p:cNvPr id="183" name=""/>
              <p:cNvSpPr/>
              <p:nvPr/>
            </p:nvSpPr>
            <p:spPr>
              <a:xfrm flipV="1" rot="7630800">
                <a:off x="2816280" y="2934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 rot="6814800">
                <a:off x="2650320" y="281772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 rot="6519600">
                <a:off x="2541600" y="277488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5987400">
                <a:off x="2410200" y="2727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980640" y="4532760"/>
            <a:ext cx="1373760" cy="1294560"/>
            <a:chOff x="980640" y="4532760"/>
            <a:chExt cx="1373760" cy="1294560"/>
          </a:xfrm>
        </p:grpSpPr>
        <p:sp>
          <p:nvSpPr>
            <p:cNvPr id="188" name=""/>
            <p:cNvSpPr/>
            <p:nvPr/>
          </p:nvSpPr>
          <p:spPr>
            <a:xfrm flipV="1" rot="19510800">
              <a:off x="1302480" y="450072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18694800">
              <a:off x="1424160" y="46612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18399600">
              <a:off x="1513080" y="473544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7867400">
              <a:off x="1621800" y="482076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969840" y="42163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1940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71920" y="458316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57760" y="30988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59595"/>
              </a:gs>
              <a:gs pos="100000">
                <a:srgbClr val="0808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5240" y="3110040"/>
            <a:ext cx="2695680" cy="26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642047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642047"/>
              </a:path>
            </a:pathLst>
          </a:custGeom>
          <a:solidFill>
            <a:srgbClr val="a2bb2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 rot="5400000">
            <a:off x="5673240" y="3099960"/>
            <a:ext cx="2683080" cy="269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9" y="1609"/>
                </a:moveTo>
                <a:arcTo wR="10800" hR="10800" stAng="-7300427" swAng="7238555"/>
                <a:lnTo>
                  <a:pt x="10800" y="10800"/>
                </a:lnTo>
                <a:close/>
              </a:path>
              <a:path fill="none" w="21600" h="21600">
                <a:moveTo>
                  <a:pt x="5129" y="1609"/>
                </a:moveTo>
                <a:arcTo wR="10800" hR="10800" stAng="-7300427" swAng="7238555"/>
              </a:path>
            </a:pathLst>
          </a:custGeom>
          <a:solidFill>
            <a:srgbClr val="eb6b1d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9670200">
            <a:off x="5657040" y="3086280"/>
            <a:ext cx="2691360" cy="269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" y="12827"/>
                </a:moveTo>
                <a:arcTo wR="10800" hR="10800" stAng="10150833" swAng="10648419"/>
                <a:lnTo>
                  <a:pt x="10800" y="10800"/>
                </a:lnTo>
                <a:close/>
              </a:path>
              <a:path fill="none" w="21600" h="21600">
                <a:moveTo>
                  <a:pt x="192" y="12827"/>
                </a:moveTo>
                <a:arcTo wR="10800" hR="10800" stAng="10150833" swAng="10648419"/>
              </a:path>
            </a:pathLst>
          </a:custGeom>
          <a:solidFill>
            <a:srgbClr val="25a7b5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4992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52080" y="3052440"/>
            <a:ext cx="1671120" cy="1380600"/>
            <a:chOff x="6652080" y="3052440"/>
            <a:chExt cx="1671120" cy="1380600"/>
          </a:xfrm>
        </p:grpSpPr>
        <p:grpSp>
          <p:nvGrpSpPr>
            <p:cNvPr id="201" name=""/>
            <p:cNvGrpSpPr/>
            <p:nvPr/>
          </p:nvGrpSpPr>
          <p:grpSpPr>
            <a:xfrm>
              <a:off x="7017840" y="3052440"/>
              <a:ext cx="1305360" cy="1380600"/>
              <a:chOff x="7017840" y="3052440"/>
              <a:chExt cx="1305360" cy="1380600"/>
            </a:xfrm>
          </p:grpSpPr>
          <p:sp>
            <p:nvSpPr>
              <p:cNvPr id="202" name=""/>
              <p:cNvSpPr/>
              <p:nvPr/>
            </p:nvSpPr>
            <p:spPr>
              <a:xfrm flipV="1" rot="8983800">
                <a:off x="7763760" y="3229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 rot="8167800">
                <a:off x="7654680" y="3058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7872600">
                <a:off x="7571880" y="2976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7340400">
                <a:off x="7468920" y="28828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6652080" y="3059280"/>
              <a:ext cx="1596960" cy="961200"/>
              <a:chOff x="6652080" y="3059280"/>
              <a:chExt cx="1596960" cy="961200"/>
            </a:xfrm>
          </p:grpSpPr>
          <p:sp>
            <p:nvSpPr>
              <p:cNvPr id="207" name=""/>
              <p:cNvSpPr/>
              <p:nvPr/>
            </p:nvSpPr>
            <p:spPr>
              <a:xfrm flipV="1" rot="7630800">
                <a:off x="7545240" y="2934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 rot="6814800">
                <a:off x="7379280" y="281772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 rot="6519600">
                <a:off x="7270560" y="277488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5987400">
                <a:off x="7139160" y="2727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5710680" y="4530960"/>
            <a:ext cx="1371600" cy="1294560"/>
            <a:chOff x="5710680" y="4530960"/>
            <a:chExt cx="1371600" cy="1294560"/>
          </a:xfrm>
        </p:grpSpPr>
        <p:sp>
          <p:nvSpPr>
            <p:cNvPr id="212" name=""/>
            <p:cNvSpPr/>
            <p:nvPr/>
          </p:nvSpPr>
          <p:spPr>
            <a:xfrm flipV="1" rot="19510800">
              <a:off x="6031800" y="4498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18694800">
              <a:off x="6152760" y="46591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 rot="18399600">
              <a:off x="6242040" y="4732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17867400">
              <a:off x="6350400" y="48196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888160" y="3773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22960" y="48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941640" y="3975120"/>
            <a:ext cx="219240" cy="218880"/>
            <a:chOff x="3941640" y="3975120"/>
            <a:chExt cx="219240" cy="218880"/>
          </a:xfrm>
        </p:grpSpPr>
        <p:sp>
          <p:nvSpPr>
            <p:cNvPr id="220" name=""/>
            <p:cNvSpPr/>
            <p:nvPr/>
          </p:nvSpPr>
          <p:spPr>
            <a:xfrm>
              <a:off x="3941640" y="3976200"/>
              <a:ext cx="219240" cy="217800"/>
            </a:xfrm>
            <a:prstGeom prst="ellipse">
              <a:avLst/>
            </a:prstGeom>
            <a:solidFill>
              <a:srgbClr val="eb6b1d"/>
            </a:solidFill>
            <a:ln w="1260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3960000" y="39751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3941640" y="4367160"/>
            <a:ext cx="219240" cy="219240"/>
            <a:chOff x="3941640" y="4367160"/>
            <a:chExt cx="219240" cy="219240"/>
          </a:xfrm>
        </p:grpSpPr>
        <p:sp>
          <p:nvSpPr>
            <p:cNvPr id="223" name=""/>
            <p:cNvSpPr/>
            <p:nvPr/>
          </p:nvSpPr>
          <p:spPr>
            <a:xfrm>
              <a:off x="3941640" y="4368240"/>
              <a:ext cx="219240" cy="218160"/>
            </a:xfrm>
            <a:prstGeom prst="ellipse">
              <a:avLst/>
            </a:prstGeom>
            <a:solidFill>
              <a:srgbClr val="a2bb27"/>
            </a:solidFill>
            <a:ln w="1260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3960000" y="436716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941640" y="4759200"/>
            <a:ext cx="219240" cy="219240"/>
            <a:chOff x="3941640" y="4759200"/>
            <a:chExt cx="219240" cy="219240"/>
          </a:xfrm>
        </p:grpSpPr>
        <p:sp>
          <p:nvSpPr>
            <p:cNvPr id="226" name=""/>
            <p:cNvSpPr/>
            <p:nvPr/>
          </p:nvSpPr>
          <p:spPr>
            <a:xfrm>
              <a:off x="3941640" y="4760280"/>
              <a:ext cx="219240" cy="218160"/>
            </a:xfrm>
            <a:prstGeom prst="ellipse">
              <a:avLst/>
            </a:prstGeom>
            <a:solidFill>
              <a:srgbClr val="25a7b5"/>
            </a:solidFill>
            <a:ln w="1260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960000" y="475920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4119480" y="39067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9480" y="42991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9480" y="47005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29852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07040" y="2500200"/>
            <a:ext cx="2849400" cy="275292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70400" y="256536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73080" y="1936800"/>
            <a:ext cx="2857320" cy="466560"/>
            <a:chOff x="973080" y="1936800"/>
            <a:chExt cx="2857320" cy="466560"/>
          </a:xfrm>
        </p:grpSpPr>
        <p:sp>
          <p:nvSpPr>
            <p:cNvPr id="236" name=""/>
            <p:cNvSpPr/>
            <p:nvPr/>
          </p:nvSpPr>
          <p:spPr>
            <a:xfrm>
              <a:off x="9730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5416"/>
                </a:gs>
                <a:gs pos="50000">
                  <a:srgbClr val="eb6b1d"/>
                </a:gs>
                <a:gs pos="100000">
                  <a:srgbClr val="b95416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68784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0332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181480" y="1936800"/>
            <a:ext cx="2857320" cy="466560"/>
            <a:chOff x="5181480" y="1936800"/>
            <a:chExt cx="2857320" cy="466560"/>
          </a:xfrm>
        </p:grpSpPr>
        <p:sp>
          <p:nvSpPr>
            <p:cNvPr id="240" name=""/>
            <p:cNvSpPr/>
            <p:nvPr/>
          </p:nvSpPr>
          <p:spPr>
            <a:xfrm>
              <a:off x="51814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8e9a"/>
                </a:gs>
                <a:gs pos="50000">
                  <a:srgbClr val="25a7b5"/>
                </a:gs>
                <a:gs pos="100000">
                  <a:srgbClr val="1f8e9a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9624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1172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973080" y="25002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12510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55134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50040" y="264168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8880" y="392112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29462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0000" y="41673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338800" y="2711520"/>
            <a:ext cx="168120" cy="168120"/>
            <a:chOff x="5338800" y="2711520"/>
            <a:chExt cx="168120" cy="168120"/>
          </a:xfrm>
        </p:grpSpPr>
        <p:sp>
          <p:nvSpPr>
            <p:cNvPr id="251" name=""/>
            <p:cNvSpPr/>
            <p:nvPr/>
          </p:nvSpPr>
          <p:spPr>
            <a:xfrm>
              <a:off x="5338800" y="27115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52120" y="27255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4c6cf"/>
                </a:gs>
                <a:gs pos="100000">
                  <a:srgbClr val="25a7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338800" y="4002120"/>
            <a:ext cx="168120" cy="168120"/>
            <a:chOff x="5338800" y="4002120"/>
            <a:chExt cx="168120" cy="168120"/>
          </a:xfrm>
        </p:grpSpPr>
        <p:sp>
          <p:nvSpPr>
            <p:cNvPr id="254" name=""/>
            <p:cNvSpPr/>
            <p:nvPr/>
          </p:nvSpPr>
          <p:spPr>
            <a:xfrm>
              <a:off x="5338800" y="40021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52120" y="40161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4c6cf"/>
                </a:gs>
                <a:gs pos="100000">
                  <a:srgbClr val="25a7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125360" y="449100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9400" y="272736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49400" y="33116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49400" y="38718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51200" y="2800440"/>
            <a:ext cx="266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51200" y="3384720"/>
            <a:ext cx="266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51200" y="3943440"/>
            <a:ext cx="266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 rot="10806000">
            <a:off x="3934800" y="3089160"/>
            <a:ext cx="1236600" cy="720720"/>
          </a:xfrm>
          <a:prstGeom prst="rightArrow">
            <a:avLst>
              <a:gd name="adj1" fmla="val 46509"/>
              <a:gd name="adj2" fmla="val 37699"/>
            </a:avLst>
          </a:prstGeom>
          <a:gradFill rotWithShape="0">
            <a:gsLst>
              <a:gs pos="0">
                <a:srgbClr val="fcfdcc"/>
              </a:gs>
              <a:gs pos="100000">
                <a:srgbClr val="c81207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 rot="10794000">
            <a:off x="3844440" y="3666600"/>
            <a:ext cx="1239840" cy="720720"/>
          </a:xfrm>
          <a:prstGeom prst="rightArrow">
            <a:avLst>
              <a:gd name="adj1" fmla="val 46509"/>
              <a:gd name="adj2" fmla="val 37798"/>
            </a:avLst>
          </a:prstGeom>
          <a:gradFill rotWithShape="0">
            <a:gsLst>
              <a:gs pos="0">
                <a:srgbClr val="fcfdcc"/>
              </a:gs>
              <a:gs pos="100000">
                <a:srgbClr val="c81207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914400" y="1123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4680" y="5378400"/>
            <a:ext cx="280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65720" y="5378400"/>
            <a:ext cx="280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03560" y="4208400"/>
            <a:ext cx="614520" cy="614520"/>
          </a:xfrm>
          <a:prstGeom prst="cube">
            <a:avLst>
              <a:gd name="adj" fmla="val 28912"/>
            </a:avLst>
          </a:prstGeom>
          <a:solidFill>
            <a:srgbClr val="eb6b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08400" y="401652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3716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95800" y="3510000"/>
            <a:ext cx="614160" cy="614160"/>
          </a:xfrm>
          <a:prstGeom prst="cube">
            <a:avLst>
              <a:gd name="adj" fmla="val 28912"/>
            </a:avLst>
          </a:prstGeom>
          <a:solidFill>
            <a:srgbClr val="fcfdcc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95800" y="3071880"/>
            <a:ext cx="614160" cy="614160"/>
          </a:xfrm>
          <a:prstGeom prst="cube">
            <a:avLst>
              <a:gd name="adj" fmla="val 28912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95800" y="2633760"/>
            <a:ext cx="614160" cy="614160"/>
          </a:xfrm>
          <a:prstGeom prst="cube">
            <a:avLst>
              <a:gd name="adj" fmla="val 28912"/>
            </a:avLst>
          </a:prstGeom>
          <a:solidFill>
            <a:srgbClr val="fcfdcc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9200" y="350208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7960" y="35020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350208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9200" y="3063960"/>
            <a:ext cx="1465200" cy="614160"/>
          </a:xfrm>
          <a:prstGeom prst="cube">
            <a:avLst>
              <a:gd name="adj" fmla="val 28912"/>
            </a:avLst>
          </a:prstGeom>
          <a:solidFill>
            <a:srgbClr val="f8f8f8"/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59200" y="262584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16360" y="262584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4560" y="4203720"/>
            <a:ext cx="614520" cy="619200"/>
          </a:xfrm>
          <a:prstGeom prst="cube">
            <a:avLst>
              <a:gd name="adj" fmla="val 28912"/>
            </a:avLst>
          </a:prstGeom>
          <a:solidFill>
            <a:srgbClr val="25a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95080" y="4491000"/>
            <a:ext cx="2709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92880" y="4494240"/>
            <a:ext cx="2946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7960" y="26258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19480" y="1981080"/>
            <a:ext cx="614160" cy="614520"/>
          </a:xfrm>
          <a:prstGeom prst="cube">
            <a:avLst>
              <a:gd name="adj" fmla="val 28912"/>
            </a:avLst>
          </a:prstGeom>
          <a:solidFill>
            <a:srgbClr val="a2b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98400" y="2281320"/>
            <a:ext cx="2710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4560" y="3510000"/>
            <a:ext cx="614520" cy="603360"/>
          </a:xfrm>
          <a:prstGeom prst="cube">
            <a:avLst>
              <a:gd name="adj" fmla="val 28912"/>
            </a:avLst>
          </a:prstGeom>
          <a:solidFill>
            <a:srgbClr val="fcfdcc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4560" y="3071880"/>
            <a:ext cx="614520" cy="603360"/>
          </a:xfrm>
          <a:prstGeom prst="cube">
            <a:avLst>
              <a:gd name="adj" fmla="val 28912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54560" y="2633760"/>
            <a:ext cx="614520" cy="603000"/>
          </a:xfrm>
          <a:prstGeom prst="cube">
            <a:avLst>
              <a:gd name="adj" fmla="val 28912"/>
            </a:avLst>
          </a:prstGeom>
          <a:solidFill>
            <a:srgbClr val="fcfdcc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60640" y="210024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76800" y="209700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18160" y="210024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70480" y="1981080"/>
            <a:ext cx="614520" cy="614520"/>
          </a:xfrm>
          <a:prstGeom prst="cube">
            <a:avLst>
              <a:gd name="adj" fmla="val 28912"/>
            </a:avLst>
          </a:pr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92600" y="2281320"/>
            <a:ext cx="2946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81040" y="3287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0200" y="1981080"/>
            <a:ext cx="21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31760" y="1981080"/>
            <a:ext cx="21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5400" y="4191120"/>
            <a:ext cx="21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49400" y="4191120"/>
            <a:ext cx="21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46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182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640" y="463860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41920" y="463860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06" name="未知"/>
          <p:cNvSpPr/>
          <p:nvPr/>
        </p:nvSpPr>
        <p:spPr>
          <a:xfrm>
            <a:off x="-20520" y="2622600"/>
            <a:ext cx="8456400" cy="4262400"/>
          </a:xfrm>
          <a:custGeom>
            <a:avLst/>
            <a:gdLst/>
            <a:ahLst/>
            <a:rect l="l" t="t" r="r" b="b"/>
            <a:pathLst>
              <a:path w="5334" h="2685">
                <a:moveTo>
                  <a:pt x="20" y="2393"/>
                </a:moveTo>
                <a:cubicBezTo>
                  <a:pt x="20" y="2533"/>
                  <a:pt x="0" y="2658"/>
                  <a:pt x="0" y="2658"/>
                </a:cubicBezTo>
                <a:cubicBezTo>
                  <a:pt x="2443" y="2685"/>
                  <a:pt x="4643" y="1996"/>
                  <a:pt x="5334" y="220"/>
                </a:cubicBezTo>
                <a:lnTo>
                  <a:pt x="4105" y="0"/>
                </a:lnTo>
                <a:cubicBezTo>
                  <a:pt x="3414" y="2003"/>
                  <a:pt x="736" y="2272"/>
                  <a:pt x="20" y="2393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46360" y="5823000"/>
            <a:ext cx="764640" cy="799920"/>
            <a:chOff x="1746360" y="5823000"/>
            <a:chExt cx="764640" cy="799920"/>
          </a:xfrm>
        </p:grpSpPr>
        <p:grpSp>
          <p:nvGrpSpPr>
            <p:cNvPr id="308" name="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1746360" y="5823000"/>
                <a:ext cx="759600" cy="739800"/>
              </a:xfrm>
              <a:prstGeom prst="ellipse">
                <a:avLst/>
              </a:prstGeom>
              <a:gradFill rotWithShape="0">
                <a:gsLst>
                  <a:gs pos="0">
                    <a:srgbClr val="25a7b5">
                      <a:alpha val="55294"/>
                    </a:srgbClr>
                  </a:gs>
                  <a:gs pos="50000">
                    <a:srgbClr val="114c53">
                      <a:alpha val="90196"/>
                    </a:srgbClr>
                  </a:gs>
                  <a:gs pos="100000">
                    <a:srgbClr val="25a7b5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5160" cy="2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"/>
          <p:cNvSpPr/>
          <p:nvPr/>
        </p:nvSpPr>
        <p:spPr>
          <a:xfrm rot="4617600">
            <a:off x="2774520" y="5988240"/>
            <a:ext cx="2318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3499200">
            <a:off x="4430160" y="5306760"/>
            <a:ext cx="301680" cy="26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284200">
            <a:off x="6351120" y="3795480"/>
            <a:ext cx="400320" cy="349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1752480" y="5996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263760" y="5213520"/>
            <a:ext cx="1079640" cy="1078920"/>
            <a:chOff x="3263760" y="5213520"/>
            <a:chExt cx="1079640" cy="1078920"/>
          </a:xfrm>
        </p:grpSpPr>
        <p:pic>
          <p:nvPicPr>
            <p:cNvPr id="318" name="" descr=""/>
            <p:cNvPicPr/>
            <p:nvPr/>
          </p:nvPicPr>
          <p:blipFill>
            <a:blip r:embed="rId4"/>
            <a:stretch/>
          </p:blipFill>
          <p:spPr>
            <a:xfrm>
              <a:off x="3367080" y="6059160"/>
              <a:ext cx="88884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5"/>
            <a:stretch/>
          </p:blipFill>
          <p:spPr>
            <a:xfrm>
              <a:off x="3263760" y="5213520"/>
              <a:ext cx="107964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263760" y="5213520"/>
              <a:ext cx="1077840" cy="998280"/>
            </a:xfrm>
            <a:prstGeom prst="ellipse">
              <a:avLst/>
            </a:prstGeom>
            <a:gradFill rotWithShape="0">
              <a:gsLst>
                <a:gs pos="0">
                  <a:srgbClr val="a2bb27">
                    <a:alpha val="55294"/>
                  </a:srgbClr>
                </a:gs>
                <a:gs pos="50000">
                  <a:srgbClr val="4a5611">
                    <a:alpha val="90196"/>
                  </a:srgbClr>
                </a:gs>
                <a:gs pos="100000">
                  <a:srgbClr val="a2bb27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6"/>
            <a:stretch/>
          </p:blipFill>
          <p:spPr>
            <a:xfrm>
              <a:off x="3369960" y="5224320"/>
              <a:ext cx="854280" cy="35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18"/>
            <p:cNvSpPr/>
            <p:nvPr/>
          </p:nvSpPr>
          <p:spPr>
            <a:xfrm>
              <a:off x="3352680" y="54860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870440" y="3994200"/>
            <a:ext cx="1568520" cy="1600200"/>
            <a:chOff x="4870440" y="3994200"/>
            <a:chExt cx="1568520" cy="1600200"/>
          </a:xfrm>
        </p:grpSpPr>
        <p:pic>
          <p:nvPicPr>
            <p:cNvPr id="324" name="" descr=""/>
            <p:cNvPicPr/>
            <p:nvPr/>
          </p:nvPicPr>
          <p:blipFill>
            <a:blip r:embed="rId7"/>
            <a:stretch/>
          </p:blipFill>
          <p:spPr>
            <a:xfrm>
              <a:off x="5024520" y="5248440"/>
              <a:ext cx="128736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8"/>
            <a:stretch/>
          </p:blipFill>
          <p:spPr>
            <a:xfrm>
              <a:off x="4876920" y="3994200"/>
              <a:ext cx="15620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870440" y="3994200"/>
              <a:ext cx="1565280" cy="1479600"/>
            </a:xfrm>
            <a:prstGeom prst="ellipse">
              <a:avLst/>
            </a:prstGeom>
            <a:gradFill rotWithShape="0">
              <a:gsLst>
                <a:gs pos="0">
                  <a:srgbClr val="959349">
                    <a:alpha val="55294"/>
                  </a:srgbClr>
                </a:gs>
                <a:gs pos="50000">
                  <a:srgbClr val="444321">
                    <a:alpha val="90196"/>
                  </a:srgbClr>
                </a:gs>
                <a:gs pos="100000">
                  <a:srgbClr val="959349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9"/>
            <a:stretch/>
          </p:blipFill>
          <p:spPr>
            <a:xfrm>
              <a:off x="5032440" y="4010040"/>
              <a:ext cx="12351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18"/>
            <p:cNvSpPr/>
            <p:nvPr/>
          </p:nvSpPr>
          <p:spPr>
            <a:xfrm>
              <a:off x="5181480" y="4451400"/>
              <a:ext cx="92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324480" y="1631880"/>
            <a:ext cx="2279520" cy="2362320"/>
            <a:chOff x="6324480" y="1631880"/>
            <a:chExt cx="2279520" cy="2362320"/>
          </a:xfrm>
        </p:grpSpPr>
        <p:pic>
          <p:nvPicPr>
            <p:cNvPr id="330" name="" descr=""/>
            <p:cNvPicPr/>
            <p:nvPr/>
          </p:nvPicPr>
          <p:blipFill>
            <a:blip r:embed="rId10"/>
            <a:stretch/>
          </p:blipFill>
          <p:spPr>
            <a:xfrm>
              <a:off x="6540480" y="3484440"/>
              <a:ext cx="18777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324480" y="1631880"/>
              <a:ext cx="22795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324480" y="1631880"/>
              <a:ext cx="2276640" cy="2184480"/>
            </a:xfrm>
            <a:prstGeom prst="ellipse">
              <a:avLst/>
            </a:prstGeom>
            <a:gradFill rotWithShape="0">
              <a:gsLst>
                <a:gs pos="0">
                  <a:srgbClr val="eb6b1d">
                    <a:alpha val="55294"/>
                  </a:srgbClr>
                </a:gs>
                <a:gs pos="50000">
                  <a:srgbClr val="6c310d">
                    <a:alpha val="90196"/>
                  </a:srgbClr>
                </a:gs>
                <a:gs pos="100000">
                  <a:srgbClr val="eb6b1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12"/>
            <a:stretch/>
          </p:blipFill>
          <p:spPr>
            <a:xfrm>
              <a:off x="6549840" y="1654200"/>
              <a:ext cx="18036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8"/>
            <p:cNvSpPr/>
            <p:nvPr/>
          </p:nvSpPr>
          <p:spPr>
            <a:xfrm>
              <a:off x="6791040" y="2438280"/>
              <a:ext cx="136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4"/>
          <p:cNvSpPr/>
          <p:nvPr/>
        </p:nvSpPr>
        <p:spPr>
          <a:xfrm>
            <a:off x="838080" y="23176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3156120"/>
            <a:ext cx="3733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4343400"/>
            <a:ext cx="2778120" cy="17146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791240" y="4343400"/>
            <a:ext cx="27781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5181480" y="2452680"/>
            <a:ext cx="1973160" cy="2190600"/>
            <a:chOff x="5181480" y="2452680"/>
            <a:chExt cx="1973160" cy="2190600"/>
          </a:xfrm>
        </p:grpSpPr>
        <p:sp>
          <p:nvSpPr>
            <p:cNvPr id="341" name="未知"/>
            <p:cNvSpPr/>
            <p:nvPr/>
          </p:nvSpPr>
          <p:spPr>
            <a:xfrm>
              <a:off x="5817960" y="2452680"/>
              <a:ext cx="777960" cy="21859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5181480" y="3398760"/>
              <a:ext cx="4446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5483160" y="339876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6418080" y="339876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711840" y="339876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547640" y="2349360"/>
            <a:ext cx="1355760" cy="2330280"/>
            <a:chOff x="1547640" y="2349360"/>
            <a:chExt cx="1355760" cy="2330280"/>
          </a:xfrm>
        </p:grpSpPr>
        <p:sp>
          <p:nvSpPr>
            <p:cNvPr id="347" name="未知"/>
            <p:cNvSpPr/>
            <p:nvPr/>
          </p:nvSpPr>
          <p:spPr>
            <a:xfrm>
              <a:off x="1547640" y="2349360"/>
              <a:ext cx="1066680" cy="233028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046240" y="3235320"/>
              <a:ext cx="660240" cy="144432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241360" y="3235320"/>
              <a:ext cx="662040" cy="144432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Text Box 4"/>
          <p:cNvSpPr/>
          <p:nvPr/>
        </p:nvSpPr>
        <p:spPr>
          <a:xfrm>
            <a:off x="1206360" y="4896000"/>
            <a:ext cx="242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4986360" y="4894200"/>
            <a:ext cx="24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512720" y="1827360"/>
            <a:ext cx="109728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4871"/>
                </a:lnTo>
                <a:lnTo>
                  <a:pt x="15535" y="76371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2514600" y="167652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18160" y="1803240"/>
            <a:ext cx="1030320" cy="26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47338"/>
                </a:lnTo>
                <a:lnTo>
                  <a:pt x="15143" y="81097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6553080" y="167652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313080" y="2867040"/>
            <a:ext cx="18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002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23:38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38:14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ce11000000000001024140</vt:lpwstr>
  </property>
</Properties>
</file>