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162-6706-42FB-A55E-A277B638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7BF-7B00-47FF-BA10-CE88B635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B03-0075-4FC0-A916-36ABD18D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C63-3259-44DF-92C3-334A1906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5B3-F863-4423-B6BB-A96551F3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F84-BA69-480B-9A17-F5B168DB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3E1-A360-4BE2-BBBB-FC646223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F80-EC05-4FE0-BA86-6A808D19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9B9-C411-43FE-9A95-6CCC6C85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1EE-5F58-4105-986C-0ECDEAF2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8A0-CA23-4D2C-B3EA-8CAC1492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B0B-0439-414A-9807-216F4A84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500-91E7-449E-8EE1-B98F27FCA4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C588-10F8-4AB2-84DE-587120C4A4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1"/>
          <p:cNvSpPr/>
          <p:nvPr/>
        </p:nvSpPr>
        <p:spPr>
          <a:xfrm flipH="1" rot="21122400">
            <a:off x="3657960" y="2217600"/>
            <a:ext cx="154080" cy="1287720"/>
          </a:xfrm>
          <a:custGeom>
            <a:avLst/>
            <a:gdLst>
              <a:gd name="textAreaLeft" fmla="*/ 360 w 154080"/>
              <a:gd name="textAreaRight" fmla="*/ 154800 w 154080"/>
              <a:gd name="textAreaTop" fmla="*/ 0 h 1287720"/>
              <a:gd name="textAreaBottom" fmla="*/ 1288080 h 128772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1"/>
          <p:cNvSpPr/>
          <p:nvPr/>
        </p:nvSpPr>
        <p:spPr>
          <a:xfrm flipH="1" rot="516600">
            <a:off x="3436200" y="2379240"/>
            <a:ext cx="211320" cy="1287360"/>
          </a:xfrm>
          <a:custGeom>
            <a:avLst/>
            <a:gdLst>
              <a:gd name="textAreaLeft" fmla="*/ -360 w 211320"/>
              <a:gd name="textAreaRight" fmla="*/ 211320 w 21132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33"/>
          <p:cNvSpPr/>
          <p:nvPr/>
        </p:nvSpPr>
        <p:spPr>
          <a:xfrm flipH="1">
            <a:off x="3424320" y="1638360"/>
            <a:ext cx="488880" cy="488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4"/>
          <p:cNvSpPr/>
          <p:nvPr/>
        </p:nvSpPr>
        <p:spPr>
          <a:xfrm>
            <a:off x="4363200" y="2435400"/>
            <a:ext cx="3789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Impact"/>
                <a:ea typeface="方正正大黑简体"/>
              </a:rPr>
              <a:t>Why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7"/>
          <p:cNvSpPr/>
          <p:nvPr/>
        </p:nvSpPr>
        <p:spPr>
          <a:xfrm>
            <a:off x="2751120" y="3056040"/>
            <a:ext cx="2095560" cy="116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3179520" y="3046320"/>
            <a:ext cx="1430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孩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8"/>
          <p:cNvSpPr/>
          <p:nvPr/>
        </p:nvSpPr>
        <p:spPr>
          <a:xfrm>
            <a:off x="6164280" y="1936800"/>
            <a:ext cx="3211560" cy="11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5"/>
          <p:cNvSpPr/>
          <p:nvPr/>
        </p:nvSpPr>
        <p:spPr>
          <a:xfrm>
            <a:off x="6743160" y="1892160"/>
            <a:ext cx="20552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不听话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9"/>
          <p:cNvSpPr/>
          <p:nvPr/>
        </p:nvSpPr>
        <p:spPr>
          <a:xfrm>
            <a:off x="4886280" y="2216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为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2"/>
          <p:cNvSpPr/>
          <p:nvPr/>
        </p:nvSpPr>
        <p:spPr>
          <a:xfrm flipH="1" rot="5043600">
            <a:off x="3824280" y="1794240"/>
            <a:ext cx="257400" cy="801720"/>
          </a:xfrm>
          <a:custGeom>
            <a:avLst/>
            <a:gdLst>
              <a:gd name="textAreaLeft" fmla="*/ -360 w 257400"/>
              <a:gd name="textAreaRight" fmla="*/ 257400 w 25740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553073" h="1259278">
                <a:moveTo>
                  <a:pt x="67686" y="41567"/>
                </a:moveTo>
                <a:lnTo>
                  <a:pt x="257327" y="0"/>
                </a:lnTo>
                <a:lnTo>
                  <a:pt x="553073" y="1259278"/>
                </a:ln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梯形 43"/>
          <p:cNvSpPr/>
          <p:nvPr/>
        </p:nvSpPr>
        <p:spPr>
          <a:xfrm rot="567600">
            <a:off x="3446280" y="2008080"/>
            <a:ext cx="495000" cy="717480"/>
          </a:xfrm>
          <a:custGeom>
            <a:avLst/>
            <a:gdLst>
              <a:gd name="textAreaLeft" fmla="*/ 0 w 495000"/>
              <a:gd name="textAreaRight" fmla="*/ 495360 w 4950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83305" h="717487">
                <a:moveTo>
                  <a:pt x="0" y="717487"/>
                </a:moveTo>
                <a:lnTo>
                  <a:pt x="65989" y="30822"/>
                </a:lnTo>
                <a:lnTo>
                  <a:pt x="302845" y="0"/>
                </a:lnTo>
                <a:lnTo>
                  <a:pt x="583305" y="700597"/>
                </a:lnTo>
                <a:lnTo>
                  <a:pt x="0" y="7174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49"/>
          <p:cNvSpPr/>
          <p:nvPr/>
        </p:nvSpPr>
        <p:spPr>
          <a:xfrm>
            <a:off x="4148280" y="1054080"/>
            <a:ext cx="799920" cy="1008000"/>
          </a:xfrm>
          <a:custGeom>
            <a:avLst/>
            <a:gdLst>
              <a:gd name="textAreaLeft" fmla="*/ 0 w 799920"/>
              <a:gd name="textAreaRight" fmla="*/ 800280 w 799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716678" h="903159">
                <a:moveTo>
                  <a:pt x="0" y="451401"/>
                </a:moveTo>
                <a:cubicBezTo>
                  <a:pt x="0" y="202099"/>
                  <a:pt x="160434" y="0"/>
                  <a:pt x="358339" y="0"/>
                </a:cubicBezTo>
                <a:cubicBezTo>
                  <a:pt x="556244" y="0"/>
                  <a:pt x="716678" y="202099"/>
                  <a:pt x="716678" y="451401"/>
                </a:cubicBezTo>
                <a:cubicBezTo>
                  <a:pt x="716678" y="700703"/>
                  <a:pt x="556244" y="913076"/>
                  <a:pt x="358339" y="902802"/>
                </a:cubicBezTo>
                <a:cubicBezTo>
                  <a:pt x="160434" y="892528"/>
                  <a:pt x="0" y="700703"/>
                  <a:pt x="0" y="451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50"/>
          <p:cNvSpPr/>
          <p:nvPr/>
        </p:nvSpPr>
        <p:spPr>
          <a:xfrm>
            <a:off x="4187880" y="2060640"/>
            <a:ext cx="361800" cy="760320"/>
          </a:xfrm>
          <a:custGeom>
            <a:avLst/>
            <a:gdLst>
              <a:gd name="textAreaLeft" fmla="*/ 0 w 361800"/>
              <a:gd name="textAreaRight" fmla="*/ 361800 w 3618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361529" h="760288">
                <a:moveTo>
                  <a:pt x="104675" y="760288"/>
                </a:moveTo>
                <a:cubicBezTo>
                  <a:pt x="71284" y="702924"/>
                  <a:pt x="37893" y="645560"/>
                  <a:pt x="32756" y="606176"/>
                </a:cubicBezTo>
                <a:cubicBezTo>
                  <a:pt x="27619" y="566792"/>
                  <a:pt x="60154" y="546243"/>
                  <a:pt x="73853" y="523982"/>
                </a:cubicBezTo>
                <a:cubicBezTo>
                  <a:pt x="87552" y="501721"/>
                  <a:pt x="125223" y="493160"/>
                  <a:pt x="114949" y="472612"/>
                </a:cubicBezTo>
                <a:cubicBezTo>
                  <a:pt x="104675" y="452064"/>
                  <a:pt x="29331" y="424665"/>
                  <a:pt x="12208" y="400692"/>
                </a:cubicBezTo>
                <a:cubicBezTo>
                  <a:pt x="-4915" y="376719"/>
                  <a:pt x="-3203" y="361308"/>
                  <a:pt x="12208" y="328773"/>
                </a:cubicBezTo>
                <a:cubicBezTo>
                  <a:pt x="27619" y="296238"/>
                  <a:pt x="78990" y="250004"/>
                  <a:pt x="104675" y="205483"/>
                </a:cubicBezTo>
                <a:cubicBezTo>
                  <a:pt x="130360" y="160962"/>
                  <a:pt x="137210" y="83906"/>
                  <a:pt x="166320" y="61645"/>
                </a:cubicBezTo>
                <a:cubicBezTo>
                  <a:pt x="195430" y="39384"/>
                  <a:pt x="246801" y="82193"/>
                  <a:pt x="279336" y="71919"/>
                </a:cubicBezTo>
                <a:cubicBezTo>
                  <a:pt x="311871" y="61645"/>
                  <a:pt x="361529" y="0"/>
                  <a:pt x="361529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51"/>
          <p:cNvSpPr/>
          <p:nvPr/>
        </p:nvSpPr>
        <p:spPr>
          <a:xfrm>
            <a:off x="4495680" y="2025720"/>
            <a:ext cx="82800" cy="75960"/>
          </a:xfrm>
          <a:custGeom>
            <a:avLst/>
            <a:gdLst>
              <a:gd name="textAreaLeft" fmla="*/ 0 w 82800"/>
              <a:gd name="textAreaRight" fmla="*/ 83160 w 82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81399" h="76908">
                <a:moveTo>
                  <a:pt x="8989" y="43"/>
                </a:moveTo>
                <a:cubicBezTo>
                  <a:pt x="-2997" y="1755"/>
                  <a:pt x="-2998" y="61688"/>
                  <a:pt x="8989" y="71962"/>
                </a:cubicBezTo>
                <a:cubicBezTo>
                  <a:pt x="20976" y="82236"/>
                  <a:pt x="74059" y="75387"/>
                  <a:pt x="80908" y="61688"/>
                </a:cubicBezTo>
                <a:cubicBezTo>
                  <a:pt x="87758" y="47989"/>
                  <a:pt x="20975" y="-1669"/>
                  <a:pt x="8989" y="43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187880" y="1144440"/>
            <a:ext cx="974520" cy="789120"/>
            <a:chOff x="4187880" y="1144440"/>
            <a:chExt cx="974520" cy="789120"/>
          </a:xfrm>
        </p:grpSpPr>
        <p:sp>
          <p:nvSpPr>
            <p:cNvPr id="56" name="椭圆 53"/>
            <p:cNvSpPr/>
            <p:nvPr/>
          </p:nvSpPr>
          <p:spPr>
            <a:xfrm>
              <a:off x="4187880" y="1179360"/>
              <a:ext cx="754200" cy="75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54"/>
            <p:cNvSpPr/>
            <p:nvPr/>
          </p:nvSpPr>
          <p:spPr>
            <a:xfrm>
              <a:off x="4250160" y="1626480"/>
              <a:ext cx="912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55"/>
            <p:cNvSpPr/>
            <p:nvPr/>
          </p:nvSpPr>
          <p:spPr>
            <a:xfrm>
              <a:off x="4233240" y="1144440"/>
              <a:ext cx="820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2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 19"/>
          <p:cNvSpPr/>
          <p:nvPr/>
        </p:nvSpPr>
        <p:spPr>
          <a:xfrm flipV="1">
            <a:off x="9441000" y="0"/>
            <a:ext cx="2751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 flipV="1">
            <a:off x="-33120" y="0"/>
            <a:ext cx="27464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 flipV="1">
            <a:off x="2682720" y="5442480"/>
            <a:ext cx="7002720" cy="14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 flipV="1">
            <a:off x="2181240" y="1080"/>
            <a:ext cx="7980480" cy="96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3"/>
          <p:cNvSpPr/>
          <p:nvPr/>
        </p:nvSpPr>
        <p:spPr>
          <a:xfrm>
            <a:off x="2712960" y="4870440"/>
            <a:ext cx="2925720" cy="4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5"/>
          <p:cNvSpPr/>
          <p:nvPr/>
        </p:nvSpPr>
        <p:spPr>
          <a:xfrm>
            <a:off x="2766960" y="4392720"/>
            <a:ext cx="2954520" cy="4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7745400" y="1552680"/>
            <a:ext cx="1146240" cy="114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1"/>
          <p:cNvSpPr/>
          <p:nvPr/>
        </p:nvSpPr>
        <p:spPr>
          <a:xfrm rot="1368000">
            <a:off x="7308720" y="2289240"/>
            <a:ext cx="1387440" cy="193824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938240"/>
              <a:gd name="textAreaBottom" fmla="*/ 1938600 h 1938240"/>
            </a:gdLst>
            <a:ahLst/>
            <a:rect l="textAreaLeft" t="textAreaTop" r="textAreaRight" b="textAreaBottom"/>
            <a:pathLst>
              <a:path w="1147516" h="1938947">
                <a:moveTo>
                  <a:pt x="303911" y="525320"/>
                </a:moveTo>
                <a:lnTo>
                  <a:pt x="756658" y="0"/>
                </a:lnTo>
                <a:lnTo>
                  <a:pt x="1147516" y="1938947"/>
                </a:lnTo>
                <a:lnTo>
                  <a:pt x="0" y="1824721"/>
                </a:lnTo>
                <a:lnTo>
                  <a:pt x="303911" y="5253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"/>
          <p:cNvSpPr/>
          <p:nvPr/>
        </p:nvSpPr>
        <p:spPr>
          <a:xfrm rot="5400000">
            <a:off x="6919920" y="3189960"/>
            <a:ext cx="633600" cy="165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 rot="1279200">
            <a:off x="6162480" y="3752640"/>
            <a:ext cx="552240" cy="140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6891480" y="4289400"/>
            <a:ext cx="2313000" cy="80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8"/>
          <p:cNvSpPr/>
          <p:nvPr/>
        </p:nvSpPr>
        <p:spPr>
          <a:xfrm rot="917400">
            <a:off x="8553240" y="1930320"/>
            <a:ext cx="701640" cy="284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平行四边形 9"/>
          <p:cNvSpPr/>
          <p:nvPr/>
        </p:nvSpPr>
        <p:spPr>
          <a:xfrm rot="10123800">
            <a:off x="3173400" y="1742760"/>
            <a:ext cx="3060720" cy="1428840"/>
          </a:xfrm>
          <a:prstGeom prst="parallelogram">
            <a:avLst>
              <a:gd name="adj" fmla="val 208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平行四边形 10"/>
          <p:cNvSpPr/>
          <p:nvPr/>
        </p:nvSpPr>
        <p:spPr>
          <a:xfrm rot="10123800">
            <a:off x="3399840" y="1828080"/>
            <a:ext cx="2625480" cy="1203480"/>
          </a:xfrm>
          <a:prstGeom prst="parallelogram">
            <a:avLst>
              <a:gd name="adj" fmla="val 208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1"/>
          <p:cNvSpPr/>
          <p:nvPr/>
        </p:nvSpPr>
        <p:spPr>
          <a:xfrm flipH="1" rot="814800">
            <a:off x="9781200" y="3603600"/>
            <a:ext cx="696960" cy="833760"/>
          </a:xfrm>
          <a:custGeom>
            <a:avLst/>
            <a:gdLst>
              <a:gd name="textAreaLeft" fmla="*/ 360 w 696960"/>
              <a:gd name="textAreaRight" fmla="*/ 697680 w 696960"/>
              <a:gd name="textAreaTop" fmla="*/ 0 h 833760"/>
              <a:gd name="textAreaBottom" fmla="*/ 834120 h 833760"/>
            </a:gdLst>
            <a:ahLst/>
            <a:rect l="textAreaLeft" t="textAreaTop" r="textAreaRight" b="textAreaBottom"/>
            <a:pathLst>
              <a:path w="1147516" h="1542934">
                <a:moveTo>
                  <a:pt x="654359" y="1"/>
                </a:moveTo>
                <a:lnTo>
                  <a:pt x="1073297" y="6558"/>
                </a:lnTo>
                <a:lnTo>
                  <a:pt x="1147516" y="1542934"/>
                </a:lnTo>
                <a:lnTo>
                  <a:pt x="0" y="1428708"/>
                </a:lnTo>
                <a:lnTo>
                  <a:pt x="65435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1"/>
          <p:cNvSpPr/>
          <p:nvPr/>
        </p:nvSpPr>
        <p:spPr>
          <a:xfrm flipH="1" rot="21122400">
            <a:off x="9992880" y="3863880"/>
            <a:ext cx="250920" cy="128556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2"/>
          <p:cNvSpPr/>
          <p:nvPr/>
        </p:nvSpPr>
        <p:spPr>
          <a:xfrm flipH="1" rot="8049000">
            <a:off x="10146240" y="3538080"/>
            <a:ext cx="336600" cy="844560"/>
          </a:xfrm>
          <a:custGeom>
            <a:avLst/>
            <a:gdLst>
              <a:gd name="textAreaLeft" fmla="*/ -360 w 336600"/>
              <a:gd name="textAreaRight" fmla="*/ 336600 w 3366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553073" h="1259278">
                <a:moveTo>
                  <a:pt x="67686" y="41567"/>
                </a:moveTo>
                <a:lnTo>
                  <a:pt x="257327" y="0"/>
                </a:lnTo>
                <a:lnTo>
                  <a:pt x="553073" y="1259278"/>
                </a:ln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1"/>
          <p:cNvSpPr/>
          <p:nvPr/>
        </p:nvSpPr>
        <p:spPr>
          <a:xfrm flipH="1" rot="516600">
            <a:off x="9775080" y="3908520"/>
            <a:ext cx="285840" cy="1287360"/>
          </a:xfrm>
          <a:custGeom>
            <a:avLst/>
            <a:gdLst>
              <a:gd name="textAreaLeft" fmla="*/ 360 w 285840"/>
              <a:gd name="textAreaRight" fmla="*/ 286560 w 28584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15"/>
          <p:cNvSpPr/>
          <p:nvPr/>
        </p:nvSpPr>
        <p:spPr>
          <a:xfrm flipH="1">
            <a:off x="9965520" y="3141720"/>
            <a:ext cx="582840" cy="582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34"/>
          <p:cNvSpPr/>
          <p:nvPr/>
        </p:nvSpPr>
        <p:spPr>
          <a:xfrm rot="3529800">
            <a:off x="4005000" y="2327040"/>
            <a:ext cx="47880" cy="238320"/>
          </a:xfrm>
          <a:custGeom>
            <a:avLst/>
            <a:gdLst>
              <a:gd name="textAreaLeft" fmla="*/ 0 w 47880"/>
              <a:gd name="textAreaRight" fmla="*/ 48240 w 47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6"/>
          <p:cNvGrpSpPr/>
          <p:nvPr/>
        </p:nvGrpSpPr>
        <p:grpSpPr>
          <a:xfrm>
            <a:off x="3984480" y="2282760"/>
            <a:ext cx="135720" cy="117720"/>
            <a:chOff x="3984480" y="2282760"/>
            <a:chExt cx="135720" cy="117720"/>
          </a:xfrm>
        </p:grpSpPr>
        <p:sp>
          <p:nvSpPr>
            <p:cNvPr id="283" name="矩形 34"/>
            <p:cNvSpPr/>
            <p:nvPr/>
          </p:nvSpPr>
          <p:spPr>
            <a:xfrm rot="18494400">
              <a:off x="4050000" y="2298600"/>
              <a:ext cx="33480" cy="109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553073" h="1756774">
                  <a:moveTo>
                    <a:pt x="29371" y="25730"/>
                  </a:moveTo>
                  <a:lnTo>
                    <a:pt x="393791" y="0"/>
                  </a:lnTo>
                  <a:lnTo>
                    <a:pt x="553073" y="1756774"/>
                  </a:lnTo>
                  <a:lnTo>
                    <a:pt x="0" y="1756774"/>
                  </a:lnTo>
                  <a:lnTo>
                    <a:pt x="29371" y="257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19"/>
            <p:cNvSpPr/>
            <p:nvPr/>
          </p:nvSpPr>
          <p:spPr>
            <a:xfrm>
              <a:off x="3984480" y="2282760"/>
              <a:ext cx="58320" cy="58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20"/>
          <p:cNvSpPr/>
          <p:nvPr/>
        </p:nvSpPr>
        <p:spPr>
          <a:xfrm rot="20913600">
            <a:off x="4492080" y="2028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国好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21"/>
          <p:cNvSpPr/>
          <p:nvPr/>
        </p:nvSpPr>
        <p:spPr>
          <a:xfrm>
            <a:off x="3567240" y="2278080"/>
            <a:ext cx="569880" cy="979560"/>
          </a:xfrm>
          <a:custGeom>
            <a:avLst/>
            <a:gdLst>
              <a:gd name="textAreaLeft" fmla="*/ 0 w 569880"/>
              <a:gd name="textAreaRight" fmla="*/ 570240 w 56988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90220" h="1703727">
                <a:moveTo>
                  <a:pt x="101765" y="1616693"/>
                </a:moveTo>
                <a:cubicBezTo>
                  <a:pt x="86597" y="1637639"/>
                  <a:pt x="53372" y="1688920"/>
                  <a:pt x="36760" y="1699032"/>
                </a:cubicBezTo>
                <a:cubicBezTo>
                  <a:pt x="20148" y="1709144"/>
                  <a:pt x="4980" y="1703366"/>
                  <a:pt x="2091" y="1677364"/>
                </a:cubicBezTo>
                <a:cubicBezTo>
                  <a:pt x="-798" y="1651362"/>
                  <a:pt x="-4409" y="1626082"/>
                  <a:pt x="19426" y="1543020"/>
                </a:cubicBezTo>
                <a:cubicBezTo>
                  <a:pt x="43261" y="1459958"/>
                  <a:pt x="106099" y="1276501"/>
                  <a:pt x="145102" y="1178994"/>
                </a:cubicBezTo>
                <a:cubicBezTo>
                  <a:pt x="184105" y="1081487"/>
                  <a:pt x="222385" y="1033095"/>
                  <a:pt x="253443" y="957978"/>
                </a:cubicBezTo>
                <a:cubicBezTo>
                  <a:pt x="284501" y="882861"/>
                  <a:pt x="322060" y="767297"/>
                  <a:pt x="331449" y="728294"/>
                </a:cubicBezTo>
                <a:cubicBezTo>
                  <a:pt x="340838" y="689291"/>
                  <a:pt x="306891" y="756463"/>
                  <a:pt x="309780" y="723961"/>
                </a:cubicBezTo>
                <a:cubicBezTo>
                  <a:pt x="312669" y="691459"/>
                  <a:pt x="347338" y="586728"/>
                  <a:pt x="348783" y="533280"/>
                </a:cubicBezTo>
                <a:cubicBezTo>
                  <a:pt x="350228" y="479832"/>
                  <a:pt x="330004" y="445163"/>
                  <a:pt x="318448" y="403271"/>
                </a:cubicBezTo>
                <a:cubicBezTo>
                  <a:pt x="306892" y="361379"/>
                  <a:pt x="288835" y="332488"/>
                  <a:pt x="279445" y="281929"/>
                </a:cubicBezTo>
                <a:cubicBezTo>
                  <a:pt x="270055" y="231370"/>
                  <a:pt x="260666" y="141807"/>
                  <a:pt x="262110" y="99915"/>
                </a:cubicBezTo>
                <a:cubicBezTo>
                  <a:pt x="263554" y="58023"/>
                  <a:pt x="266444" y="42856"/>
                  <a:pt x="288112" y="30577"/>
                </a:cubicBezTo>
                <a:cubicBezTo>
                  <a:pt x="309780" y="18298"/>
                  <a:pt x="368285" y="31299"/>
                  <a:pt x="392120" y="26243"/>
                </a:cubicBezTo>
                <a:cubicBezTo>
                  <a:pt x="415955" y="21187"/>
                  <a:pt x="403676" y="-2648"/>
                  <a:pt x="431122" y="241"/>
                </a:cubicBezTo>
                <a:cubicBezTo>
                  <a:pt x="458568" y="3130"/>
                  <a:pt x="534407" y="24799"/>
                  <a:pt x="556798" y="43578"/>
                </a:cubicBezTo>
                <a:cubicBezTo>
                  <a:pt x="579189" y="62357"/>
                  <a:pt x="562577" y="104971"/>
                  <a:pt x="565466" y="112916"/>
                </a:cubicBezTo>
                <a:cubicBezTo>
                  <a:pt x="568355" y="120861"/>
                  <a:pt x="565466" y="99915"/>
                  <a:pt x="574133" y="91248"/>
                </a:cubicBezTo>
                <a:cubicBezTo>
                  <a:pt x="582800" y="82581"/>
                  <a:pt x="605913" y="52967"/>
                  <a:pt x="617469" y="60912"/>
                </a:cubicBezTo>
                <a:cubicBezTo>
                  <a:pt x="629025" y="68857"/>
                  <a:pt x="632637" y="93415"/>
                  <a:pt x="643471" y="138918"/>
                </a:cubicBezTo>
                <a:cubicBezTo>
                  <a:pt x="654305" y="184421"/>
                  <a:pt x="675251" y="292040"/>
                  <a:pt x="682474" y="333932"/>
                </a:cubicBezTo>
                <a:cubicBezTo>
                  <a:pt x="689697" y="375824"/>
                  <a:pt x="691864" y="372935"/>
                  <a:pt x="686808" y="390270"/>
                </a:cubicBezTo>
                <a:cubicBezTo>
                  <a:pt x="681752" y="407605"/>
                  <a:pt x="664418" y="434329"/>
                  <a:pt x="652139" y="437940"/>
                </a:cubicBezTo>
                <a:cubicBezTo>
                  <a:pt x="639860" y="441551"/>
                  <a:pt x="623970" y="429995"/>
                  <a:pt x="613136" y="411938"/>
                </a:cubicBezTo>
                <a:cubicBezTo>
                  <a:pt x="602302" y="393881"/>
                  <a:pt x="592912" y="332488"/>
                  <a:pt x="587134" y="329599"/>
                </a:cubicBezTo>
                <a:cubicBezTo>
                  <a:pt x="581356" y="326710"/>
                  <a:pt x="569800" y="369324"/>
                  <a:pt x="578467" y="394603"/>
                </a:cubicBezTo>
                <a:cubicBezTo>
                  <a:pt x="587134" y="419882"/>
                  <a:pt x="621081" y="451663"/>
                  <a:pt x="639138" y="481276"/>
                </a:cubicBezTo>
                <a:cubicBezTo>
                  <a:pt x="657195" y="510889"/>
                  <a:pt x="665140" y="543392"/>
                  <a:pt x="686808" y="572283"/>
                </a:cubicBezTo>
                <a:cubicBezTo>
                  <a:pt x="708476" y="601174"/>
                  <a:pt x="762647" y="637288"/>
                  <a:pt x="769147" y="654622"/>
                </a:cubicBezTo>
                <a:cubicBezTo>
                  <a:pt x="775647" y="671956"/>
                  <a:pt x="723644" y="642344"/>
                  <a:pt x="725811" y="676291"/>
                </a:cubicBezTo>
                <a:cubicBezTo>
                  <a:pt x="727978" y="710238"/>
                  <a:pt x="768425" y="810634"/>
                  <a:pt x="782148" y="858304"/>
                </a:cubicBezTo>
                <a:cubicBezTo>
                  <a:pt x="795871" y="905974"/>
                  <a:pt x="798038" y="930531"/>
                  <a:pt x="808150" y="962311"/>
                </a:cubicBezTo>
                <a:cubicBezTo>
                  <a:pt x="818262" y="994091"/>
                  <a:pt x="831263" y="1013593"/>
                  <a:pt x="842819" y="1048984"/>
                </a:cubicBezTo>
                <a:cubicBezTo>
                  <a:pt x="854375" y="1084375"/>
                  <a:pt x="860153" y="1105322"/>
                  <a:pt x="877488" y="1174660"/>
                </a:cubicBezTo>
                <a:cubicBezTo>
                  <a:pt x="894823" y="1243998"/>
                  <a:pt x="928048" y="1391343"/>
                  <a:pt x="946827" y="1465015"/>
                </a:cubicBezTo>
                <a:cubicBezTo>
                  <a:pt x="965606" y="1538687"/>
                  <a:pt x="991608" y="1587080"/>
                  <a:pt x="990163" y="1616693"/>
                </a:cubicBezTo>
                <a:cubicBezTo>
                  <a:pt x="988718" y="1646306"/>
                  <a:pt x="957660" y="1652084"/>
                  <a:pt x="938159" y="1642694"/>
                </a:cubicBezTo>
                <a:cubicBezTo>
                  <a:pt x="918658" y="1633304"/>
                  <a:pt x="886156" y="1574078"/>
                  <a:pt x="873155" y="1560355"/>
                </a:cubicBezTo>
                <a:cubicBezTo>
                  <a:pt x="860154" y="1546632"/>
                  <a:pt x="863043" y="1571189"/>
                  <a:pt x="860154" y="1560355"/>
                </a:cubicBezTo>
                <a:cubicBezTo>
                  <a:pt x="857265" y="1549521"/>
                  <a:pt x="855098" y="1523519"/>
                  <a:pt x="855820" y="1495350"/>
                </a:cubicBezTo>
                <a:cubicBezTo>
                  <a:pt x="856542" y="1467181"/>
                  <a:pt x="873876" y="1434679"/>
                  <a:pt x="864487" y="1391343"/>
                </a:cubicBezTo>
                <a:cubicBezTo>
                  <a:pt x="855098" y="1348007"/>
                  <a:pt x="818984" y="1287335"/>
                  <a:pt x="799483" y="1235331"/>
                </a:cubicBezTo>
                <a:cubicBezTo>
                  <a:pt x="779982" y="1183327"/>
                  <a:pt x="767703" y="1127712"/>
                  <a:pt x="747479" y="1079320"/>
                </a:cubicBezTo>
                <a:cubicBezTo>
                  <a:pt x="727255" y="1030928"/>
                  <a:pt x="678140" y="944977"/>
                  <a:pt x="678140" y="944977"/>
                </a:cubicBezTo>
                <a:cubicBezTo>
                  <a:pt x="651416" y="892973"/>
                  <a:pt x="620358" y="794743"/>
                  <a:pt x="587134" y="767297"/>
                </a:cubicBezTo>
                <a:cubicBezTo>
                  <a:pt x="553910" y="739851"/>
                  <a:pt x="507684" y="752851"/>
                  <a:pt x="478793" y="780298"/>
                </a:cubicBezTo>
                <a:cubicBezTo>
                  <a:pt x="449902" y="807744"/>
                  <a:pt x="431845" y="896585"/>
                  <a:pt x="413788" y="931976"/>
                </a:cubicBezTo>
                <a:cubicBezTo>
                  <a:pt x="395731" y="967367"/>
                  <a:pt x="384174" y="965201"/>
                  <a:pt x="370451" y="992647"/>
                </a:cubicBezTo>
                <a:cubicBezTo>
                  <a:pt x="356728" y="1020093"/>
                  <a:pt x="350228" y="1061986"/>
                  <a:pt x="331449" y="1096655"/>
                </a:cubicBezTo>
                <a:cubicBezTo>
                  <a:pt x="312670" y="1131324"/>
                  <a:pt x="292445" y="1148658"/>
                  <a:pt x="257776" y="1200662"/>
                </a:cubicBezTo>
                <a:cubicBezTo>
                  <a:pt x="223107" y="1252666"/>
                  <a:pt x="147990" y="1366063"/>
                  <a:pt x="123433" y="1408677"/>
                </a:cubicBezTo>
                <a:cubicBezTo>
                  <a:pt x="98876" y="1451291"/>
                  <a:pt x="110432" y="1439012"/>
                  <a:pt x="110432" y="1456347"/>
                </a:cubicBezTo>
                <a:cubicBezTo>
                  <a:pt x="110432" y="1473682"/>
                  <a:pt x="120544" y="1493183"/>
                  <a:pt x="123433" y="1512685"/>
                </a:cubicBezTo>
                <a:cubicBezTo>
                  <a:pt x="126322" y="1532186"/>
                  <a:pt x="127767" y="1555299"/>
                  <a:pt x="127767" y="1573356"/>
                </a:cubicBezTo>
                <a:cubicBezTo>
                  <a:pt x="127767" y="1591413"/>
                  <a:pt x="116933" y="1595747"/>
                  <a:pt x="101765" y="161669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2"/>
          <p:cNvSpPr/>
          <p:nvPr/>
        </p:nvSpPr>
        <p:spPr>
          <a:xfrm>
            <a:off x="3743280" y="2127240"/>
            <a:ext cx="270000" cy="171360"/>
          </a:xfrm>
          <a:custGeom>
            <a:avLst/>
            <a:gdLst>
              <a:gd name="textAreaLeft" fmla="*/ 0 w 270000"/>
              <a:gd name="textAreaRight" fmla="*/ 270360 w 270000"/>
              <a:gd name="textAreaTop" fmla="*/ 0 h 171360"/>
              <a:gd name="textAreaBottom" fmla="*/ 171360 h 171360"/>
            </a:gdLst>
            <a:ahLst/>
            <a:rect l="textAreaLeft" t="textAreaTop" r="textAreaRight" b="textAreaBottom"/>
            <a:pathLst>
              <a:path w="2173130" h="1376569">
                <a:moveTo>
                  <a:pt x="108930" y="969100"/>
                </a:moveTo>
                <a:cubicBezTo>
                  <a:pt x="111948" y="949484"/>
                  <a:pt x="54609" y="957029"/>
                  <a:pt x="36502" y="869512"/>
                </a:cubicBezTo>
                <a:cubicBezTo>
                  <a:pt x="18395" y="781995"/>
                  <a:pt x="-2729" y="471160"/>
                  <a:pt x="289" y="443999"/>
                </a:cubicBezTo>
                <a:cubicBezTo>
                  <a:pt x="3307" y="416838"/>
                  <a:pt x="36502" y="656755"/>
                  <a:pt x="54609" y="706549"/>
                </a:cubicBezTo>
                <a:cubicBezTo>
                  <a:pt x="72716" y="756343"/>
                  <a:pt x="98368" y="759361"/>
                  <a:pt x="108930" y="742763"/>
                </a:cubicBezTo>
                <a:cubicBezTo>
                  <a:pt x="119492" y="726165"/>
                  <a:pt x="114966" y="659773"/>
                  <a:pt x="117984" y="606961"/>
                </a:cubicBezTo>
                <a:cubicBezTo>
                  <a:pt x="121002" y="554149"/>
                  <a:pt x="110439" y="489266"/>
                  <a:pt x="127037" y="425892"/>
                </a:cubicBezTo>
                <a:cubicBezTo>
                  <a:pt x="143635" y="362518"/>
                  <a:pt x="152689" y="279528"/>
                  <a:pt x="217572" y="226716"/>
                </a:cubicBezTo>
                <a:cubicBezTo>
                  <a:pt x="282455" y="173904"/>
                  <a:pt x="427310" y="127128"/>
                  <a:pt x="516336" y="109021"/>
                </a:cubicBezTo>
                <a:cubicBezTo>
                  <a:pt x="605362" y="90914"/>
                  <a:pt x="686843" y="136181"/>
                  <a:pt x="751726" y="118074"/>
                </a:cubicBezTo>
                <a:cubicBezTo>
                  <a:pt x="816609" y="99967"/>
                  <a:pt x="884510" y="-7166"/>
                  <a:pt x="905635" y="379"/>
                </a:cubicBezTo>
                <a:cubicBezTo>
                  <a:pt x="926760" y="7924"/>
                  <a:pt x="867913" y="139199"/>
                  <a:pt x="878475" y="163342"/>
                </a:cubicBezTo>
                <a:cubicBezTo>
                  <a:pt x="889037" y="187485"/>
                  <a:pt x="969009" y="145235"/>
                  <a:pt x="969009" y="145235"/>
                </a:cubicBezTo>
                <a:cubicBezTo>
                  <a:pt x="991643" y="140708"/>
                  <a:pt x="1009750" y="110529"/>
                  <a:pt x="1014277" y="136181"/>
                </a:cubicBezTo>
                <a:cubicBezTo>
                  <a:pt x="1018804" y="161833"/>
                  <a:pt x="978063" y="293108"/>
                  <a:pt x="996170" y="299144"/>
                </a:cubicBezTo>
                <a:cubicBezTo>
                  <a:pt x="1014277" y="305180"/>
                  <a:pt x="1098776" y="163342"/>
                  <a:pt x="1122918" y="172395"/>
                </a:cubicBezTo>
                <a:cubicBezTo>
                  <a:pt x="1147061" y="181448"/>
                  <a:pt x="1085195" y="311215"/>
                  <a:pt x="1141025" y="353464"/>
                </a:cubicBezTo>
                <a:cubicBezTo>
                  <a:pt x="1196855" y="395713"/>
                  <a:pt x="1374906" y="354973"/>
                  <a:pt x="1457896" y="425892"/>
                </a:cubicBezTo>
                <a:cubicBezTo>
                  <a:pt x="1540886" y="496811"/>
                  <a:pt x="1587663" y="711076"/>
                  <a:pt x="1638966" y="778977"/>
                </a:cubicBezTo>
                <a:cubicBezTo>
                  <a:pt x="1690269" y="846878"/>
                  <a:pt x="1711393" y="827262"/>
                  <a:pt x="1765714" y="833298"/>
                </a:cubicBezTo>
                <a:cubicBezTo>
                  <a:pt x="1820035" y="839334"/>
                  <a:pt x="1942256" y="794066"/>
                  <a:pt x="1964890" y="815191"/>
                </a:cubicBezTo>
                <a:cubicBezTo>
                  <a:pt x="1987524" y="836316"/>
                  <a:pt x="1866811" y="935903"/>
                  <a:pt x="1901516" y="960046"/>
                </a:cubicBezTo>
                <a:cubicBezTo>
                  <a:pt x="1936221" y="984189"/>
                  <a:pt x="2171611" y="929868"/>
                  <a:pt x="2173120" y="960046"/>
                </a:cubicBezTo>
                <a:cubicBezTo>
                  <a:pt x="2174629" y="990224"/>
                  <a:pt x="2017703" y="1103393"/>
                  <a:pt x="1910570" y="1141116"/>
                </a:cubicBezTo>
                <a:cubicBezTo>
                  <a:pt x="1803437" y="1178839"/>
                  <a:pt x="1619350" y="1177330"/>
                  <a:pt x="1530324" y="1186383"/>
                </a:cubicBezTo>
                <a:cubicBezTo>
                  <a:pt x="1441298" y="1195437"/>
                  <a:pt x="1414138" y="1180348"/>
                  <a:pt x="1376415" y="1195437"/>
                </a:cubicBezTo>
                <a:cubicBezTo>
                  <a:pt x="1338692" y="1210526"/>
                  <a:pt x="1340202" y="1255793"/>
                  <a:pt x="1303988" y="1276918"/>
                </a:cubicBezTo>
                <a:cubicBezTo>
                  <a:pt x="1267774" y="1298043"/>
                  <a:pt x="1216471" y="1305587"/>
                  <a:pt x="1159132" y="1322185"/>
                </a:cubicBezTo>
                <a:cubicBezTo>
                  <a:pt x="1101793" y="1338783"/>
                  <a:pt x="1050491" y="1374997"/>
                  <a:pt x="959956" y="1376506"/>
                </a:cubicBezTo>
                <a:cubicBezTo>
                  <a:pt x="869421" y="1378015"/>
                  <a:pt x="710985" y="1352364"/>
                  <a:pt x="615924" y="1331239"/>
                </a:cubicBezTo>
                <a:cubicBezTo>
                  <a:pt x="520863" y="1310114"/>
                  <a:pt x="489176" y="1307096"/>
                  <a:pt x="389588" y="1249757"/>
                </a:cubicBezTo>
                <a:cubicBezTo>
                  <a:pt x="290000" y="1192418"/>
                  <a:pt x="59136" y="1035492"/>
                  <a:pt x="18395" y="987207"/>
                </a:cubicBezTo>
                <a:cubicBezTo>
                  <a:pt x="-22346" y="938922"/>
                  <a:pt x="105912" y="988716"/>
                  <a:pt x="108930" y="9691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梯形 23"/>
          <p:cNvSpPr/>
          <p:nvPr/>
        </p:nvSpPr>
        <p:spPr>
          <a:xfrm flipV="1" rot="20637000">
            <a:off x="4195080" y="2359800"/>
            <a:ext cx="46080" cy="806400"/>
          </a:xfrm>
          <a:custGeom>
            <a:avLst/>
            <a:gdLst>
              <a:gd name="textAreaLeft" fmla="*/ 9360 w 46080"/>
              <a:gd name="textAreaRight" fmla="*/ 36720 w 46080"/>
              <a:gd name="textAreaTop" fmla="*/ 167760 h 806400"/>
              <a:gd name="textAreaBottom" fmla="*/ 63864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4"/>
          <p:cNvSpPr/>
          <p:nvPr/>
        </p:nvSpPr>
        <p:spPr>
          <a:xfrm rot="14634000">
            <a:off x="7323840" y="2333880"/>
            <a:ext cx="523800" cy="1604880"/>
          </a:xfrm>
          <a:custGeom>
            <a:avLst/>
            <a:gdLst>
              <a:gd name="textAreaLeft" fmla="*/ 0 w 523800"/>
              <a:gd name="textAreaRight" fmla="*/ 524160 w 5238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4"/>
          <p:cNvSpPr/>
          <p:nvPr/>
        </p:nvSpPr>
        <p:spPr>
          <a:xfrm rot="21142800">
            <a:off x="6144120" y="291240"/>
            <a:ext cx="29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我一边看电视，一边听你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1"/>
          <p:cNvSpPr/>
          <p:nvPr/>
        </p:nvSpPr>
        <p:spPr>
          <a:xfrm>
            <a:off x="5859360" y="120600"/>
            <a:ext cx="3146400" cy="154476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3145888" h="1543660">
                <a:moveTo>
                  <a:pt x="353413" y="160054"/>
                </a:moveTo>
                <a:cubicBezTo>
                  <a:pt x="232275" y="167869"/>
                  <a:pt x="318243" y="128792"/>
                  <a:pt x="259628" y="230392"/>
                </a:cubicBezTo>
                <a:cubicBezTo>
                  <a:pt x="201013" y="331992"/>
                  <a:pt x="-21725" y="593808"/>
                  <a:pt x="1721" y="769654"/>
                </a:cubicBezTo>
                <a:cubicBezTo>
                  <a:pt x="25167" y="945500"/>
                  <a:pt x="240090" y="1195592"/>
                  <a:pt x="400305" y="1285469"/>
                </a:cubicBezTo>
                <a:cubicBezTo>
                  <a:pt x="560520" y="1375346"/>
                  <a:pt x="963013" y="1308915"/>
                  <a:pt x="963013" y="1308915"/>
                </a:cubicBezTo>
                <a:cubicBezTo>
                  <a:pt x="1181844" y="1320638"/>
                  <a:pt x="1549167" y="1316731"/>
                  <a:pt x="1713290" y="1355808"/>
                </a:cubicBezTo>
                <a:cubicBezTo>
                  <a:pt x="1877413" y="1394885"/>
                  <a:pt x="1900859" y="1551193"/>
                  <a:pt x="1947751" y="1543377"/>
                </a:cubicBezTo>
                <a:cubicBezTo>
                  <a:pt x="1994643" y="1535561"/>
                  <a:pt x="1904767" y="1387069"/>
                  <a:pt x="1994644" y="1308915"/>
                </a:cubicBezTo>
                <a:cubicBezTo>
                  <a:pt x="2084521" y="1230761"/>
                  <a:pt x="2311167" y="1148700"/>
                  <a:pt x="2487013" y="1074454"/>
                </a:cubicBezTo>
                <a:cubicBezTo>
                  <a:pt x="2662859" y="1000208"/>
                  <a:pt x="2940306" y="945500"/>
                  <a:pt x="3049721" y="863438"/>
                </a:cubicBezTo>
                <a:cubicBezTo>
                  <a:pt x="3159136" y="781377"/>
                  <a:pt x="3147413" y="714946"/>
                  <a:pt x="3143505" y="582085"/>
                </a:cubicBezTo>
                <a:cubicBezTo>
                  <a:pt x="3139597" y="449224"/>
                  <a:pt x="3163043" y="160054"/>
                  <a:pt x="3026274" y="66269"/>
                </a:cubicBezTo>
                <a:cubicBezTo>
                  <a:pt x="2889505" y="-27516"/>
                  <a:pt x="2662859" y="-162"/>
                  <a:pt x="2322890" y="19377"/>
                </a:cubicBezTo>
                <a:cubicBezTo>
                  <a:pt x="1982921" y="38916"/>
                  <a:pt x="1318613" y="163962"/>
                  <a:pt x="986459" y="183500"/>
                </a:cubicBezTo>
                <a:cubicBezTo>
                  <a:pt x="654305" y="203039"/>
                  <a:pt x="474551" y="152239"/>
                  <a:pt x="353413" y="160054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6"/>
          <p:cNvSpPr/>
          <p:nvPr/>
        </p:nvSpPr>
        <p:spPr>
          <a:xfrm flipV="1">
            <a:off x="0" y="4975560"/>
            <a:ext cx="12233160" cy="195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7"/>
          <p:cNvSpPr/>
          <p:nvPr/>
        </p:nvSpPr>
        <p:spPr>
          <a:xfrm flipV="1">
            <a:off x="-10800" y="-18360"/>
            <a:ext cx="3027240" cy="652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8"/>
          <p:cNvSpPr/>
          <p:nvPr/>
        </p:nvSpPr>
        <p:spPr>
          <a:xfrm>
            <a:off x="9648720" y="1517760"/>
            <a:ext cx="26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还是算了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2"/>
          <p:cNvSpPr/>
          <p:nvPr/>
        </p:nvSpPr>
        <p:spPr>
          <a:xfrm>
            <a:off x="9423360" y="1432080"/>
            <a:ext cx="2603520" cy="1711080"/>
          </a:xfrm>
          <a:custGeom>
            <a:avLst/>
            <a:gdLst>
              <a:gd name="textAreaLeft" fmla="*/ 0 w 2603520"/>
              <a:gd name="textAreaRight" fmla="*/ 2603880 w 2603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603503" h="1711912">
                <a:moveTo>
                  <a:pt x="442975" y="0"/>
                </a:moveTo>
                <a:cubicBezTo>
                  <a:pt x="323790" y="37123"/>
                  <a:pt x="204606" y="74246"/>
                  <a:pt x="138175" y="164123"/>
                </a:cubicBezTo>
                <a:cubicBezTo>
                  <a:pt x="71744" y="254000"/>
                  <a:pt x="-72840" y="422031"/>
                  <a:pt x="44391" y="539262"/>
                </a:cubicBezTo>
                <a:cubicBezTo>
                  <a:pt x="161622" y="656493"/>
                  <a:pt x="618822" y="797170"/>
                  <a:pt x="841560" y="867508"/>
                </a:cubicBezTo>
                <a:cubicBezTo>
                  <a:pt x="1064298" y="937846"/>
                  <a:pt x="1330021" y="820615"/>
                  <a:pt x="1380821" y="961292"/>
                </a:cubicBezTo>
                <a:cubicBezTo>
                  <a:pt x="1431621" y="1101969"/>
                  <a:pt x="1103375" y="1695939"/>
                  <a:pt x="1146360" y="1711570"/>
                </a:cubicBezTo>
                <a:cubicBezTo>
                  <a:pt x="1189345" y="1727201"/>
                  <a:pt x="1423806" y="1203569"/>
                  <a:pt x="1638729" y="1055077"/>
                </a:cubicBezTo>
                <a:cubicBezTo>
                  <a:pt x="1853652" y="906585"/>
                  <a:pt x="2283498" y="973016"/>
                  <a:pt x="2435898" y="820616"/>
                </a:cubicBezTo>
                <a:cubicBezTo>
                  <a:pt x="2588298" y="668216"/>
                  <a:pt x="2658637" y="273539"/>
                  <a:pt x="2553129" y="140677"/>
                </a:cubicBezTo>
                <a:cubicBezTo>
                  <a:pt x="2447621" y="7815"/>
                  <a:pt x="2009960" y="46892"/>
                  <a:pt x="1802852" y="23446"/>
                </a:cubicBezTo>
                <a:cubicBezTo>
                  <a:pt x="1595744" y="0"/>
                  <a:pt x="1576206" y="0"/>
                  <a:pt x="1310483" y="0"/>
                </a:cubicBezTo>
                <a:cubicBezTo>
                  <a:pt x="1044760" y="0"/>
                  <a:pt x="626637" y="11723"/>
                  <a:pt x="208514" y="2344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3"/>
          <p:cNvSpPr/>
          <p:nvPr/>
        </p:nvSpPr>
        <p:spPr>
          <a:xfrm>
            <a:off x="3560760" y="1521000"/>
            <a:ext cx="520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嘴上说在听其实</a:t>
            </a:r>
            <a:r>
              <a:rPr b="0" lang="zh-CN" sz="6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心不在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会让孩子感到失落和厌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长此以往他就不愿和家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沟通也不愿意听家长说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 flipV="1">
            <a:off x="-10800" y="-18360"/>
            <a:ext cx="1852560" cy="687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"/>
          <p:cNvSpPr/>
          <p:nvPr/>
        </p:nvSpPr>
        <p:spPr>
          <a:xfrm flipV="1">
            <a:off x="10333080" y="0"/>
            <a:ext cx="18590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5"/>
          <p:cNvSpPr/>
          <p:nvPr/>
        </p:nvSpPr>
        <p:spPr>
          <a:xfrm flipV="1">
            <a:off x="0" y="5304960"/>
            <a:ext cx="12192120" cy="162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"/>
          <p:cNvSpPr/>
          <p:nvPr/>
        </p:nvSpPr>
        <p:spPr>
          <a:xfrm flipV="1">
            <a:off x="49320" y="-17640"/>
            <a:ext cx="12142800" cy="146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022640" y="0"/>
            <a:ext cx="3854520" cy="443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"/>
          <p:cNvSpPr/>
          <p:nvPr/>
        </p:nvSpPr>
        <p:spPr>
          <a:xfrm>
            <a:off x="4922280" y="3076560"/>
            <a:ext cx="20552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场景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云形标注 3"/>
          <p:cNvSpPr/>
          <p:nvPr/>
        </p:nvSpPr>
        <p:spPr>
          <a:xfrm>
            <a:off x="8010360" y="163440"/>
            <a:ext cx="2511720" cy="2352600"/>
          </a:xfrm>
          <a:prstGeom prst="cloudCallout">
            <a:avLst>
              <a:gd name="adj1" fmla="val -77615"/>
              <a:gd name="adj2" fmla="val 7662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4"/>
          <p:cNvSpPr/>
          <p:nvPr/>
        </p:nvSpPr>
        <p:spPr>
          <a:xfrm>
            <a:off x="4862520" y="1552680"/>
            <a:ext cx="1146240" cy="114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1"/>
          <p:cNvSpPr/>
          <p:nvPr/>
        </p:nvSpPr>
        <p:spPr>
          <a:xfrm rot="1368000">
            <a:off x="4330440" y="2369880"/>
            <a:ext cx="1387440" cy="184464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1147516" h="1843860">
                <a:moveTo>
                  <a:pt x="475533" y="259150"/>
                </a:moveTo>
                <a:lnTo>
                  <a:pt x="1009315" y="0"/>
                </a:lnTo>
                <a:lnTo>
                  <a:pt x="1147516" y="1843860"/>
                </a:lnTo>
                <a:lnTo>
                  <a:pt x="0" y="1729634"/>
                </a:lnTo>
                <a:lnTo>
                  <a:pt x="475533" y="259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 rot="5400000">
            <a:off x="4035600" y="3189960"/>
            <a:ext cx="633600" cy="165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7"/>
          <p:cNvSpPr/>
          <p:nvPr/>
        </p:nvSpPr>
        <p:spPr>
          <a:xfrm rot="1279200">
            <a:off x="3242880" y="3733560"/>
            <a:ext cx="552600" cy="139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8"/>
          <p:cNvSpPr/>
          <p:nvPr/>
        </p:nvSpPr>
        <p:spPr>
          <a:xfrm>
            <a:off x="4006800" y="4289400"/>
            <a:ext cx="2313000" cy="80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9"/>
          <p:cNvSpPr/>
          <p:nvPr/>
        </p:nvSpPr>
        <p:spPr>
          <a:xfrm rot="917400">
            <a:off x="5670360" y="1930320"/>
            <a:ext cx="701640" cy="284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平行四边形 10"/>
          <p:cNvSpPr/>
          <p:nvPr/>
        </p:nvSpPr>
        <p:spPr>
          <a:xfrm rot="10123800">
            <a:off x="289080" y="1742760"/>
            <a:ext cx="3060720" cy="1428840"/>
          </a:xfrm>
          <a:prstGeom prst="parallelogram">
            <a:avLst>
              <a:gd name="adj" fmla="val 208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1"/>
          <p:cNvSpPr/>
          <p:nvPr/>
        </p:nvSpPr>
        <p:spPr>
          <a:xfrm rot="20785200">
            <a:off x="6683040" y="3508200"/>
            <a:ext cx="696960" cy="833760"/>
          </a:xfrm>
          <a:custGeom>
            <a:avLst/>
            <a:gdLst>
              <a:gd name="textAreaLeft" fmla="*/ 0 w 696960"/>
              <a:gd name="textAreaRight" fmla="*/ 697320 w 696960"/>
              <a:gd name="textAreaTop" fmla="*/ 0 h 833760"/>
              <a:gd name="textAreaBottom" fmla="*/ 834120 h 833760"/>
            </a:gdLst>
            <a:ahLst/>
            <a:rect l="textAreaLeft" t="textAreaTop" r="textAreaRight" b="textAreaBottom"/>
            <a:pathLst>
              <a:path w="1147516" h="1542934">
                <a:moveTo>
                  <a:pt x="654359" y="1"/>
                </a:moveTo>
                <a:lnTo>
                  <a:pt x="1073297" y="6558"/>
                </a:lnTo>
                <a:lnTo>
                  <a:pt x="1147516" y="1542934"/>
                </a:lnTo>
                <a:lnTo>
                  <a:pt x="0" y="1428708"/>
                </a:lnTo>
                <a:lnTo>
                  <a:pt x="65435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1"/>
          <p:cNvSpPr/>
          <p:nvPr/>
        </p:nvSpPr>
        <p:spPr>
          <a:xfrm rot="477600">
            <a:off x="6918480" y="3768480"/>
            <a:ext cx="250560" cy="1287360"/>
          </a:xfrm>
          <a:custGeom>
            <a:avLst/>
            <a:gdLst>
              <a:gd name="textAreaLeft" fmla="*/ 0 w 250560"/>
              <a:gd name="textAreaRight" fmla="*/ 250920 w 25056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2"/>
          <p:cNvSpPr/>
          <p:nvPr/>
        </p:nvSpPr>
        <p:spPr>
          <a:xfrm rot="18081600">
            <a:off x="6540480" y="3145680"/>
            <a:ext cx="345960" cy="879480"/>
          </a:xfrm>
          <a:custGeom>
            <a:avLst/>
            <a:gdLst>
              <a:gd name="textAreaLeft" fmla="*/ 0 w 345960"/>
              <a:gd name="textAreaRight" fmla="*/ 346320 w 345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553073" h="1259278">
                <a:moveTo>
                  <a:pt x="67686" y="41567"/>
                </a:moveTo>
                <a:lnTo>
                  <a:pt x="257327" y="0"/>
                </a:lnTo>
                <a:lnTo>
                  <a:pt x="553073" y="1259278"/>
                </a:ln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1"/>
          <p:cNvSpPr/>
          <p:nvPr/>
        </p:nvSpPr>
        <p:spPr>
          <a:xfrm rot="21083400">
            <a:off x="7101000" y="3814920"/>
            <a:ext cx="287280" cy="1287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 rot="18104400">
            <a:off x="4476960" y="1843920"/>
            <a:ext cx="524160" cy="1604880"/>
          </a:xfrm>
          <a:custGeom>
            <a:avLst/>
            <a:gdLst>
              <a:gd name="textAreaLeft" fmla="*/ 0 w 524160"/>
              <a:gd name="textAreaRight" fmla="*/ 524520 w 52416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平行四边形 16"/>
          <p:cNvSpPr/>
          <p:nvPr/>
        </p:nvSpPr>
        <p:spPr>
          <a:xfrm rot="10123800">
            <a:off x="516960" y="1828080"/>
            <a:ext cx="2625480" cy="1203480"/>
          </a:xfrm>
          <a:prstGeom prst="parallelogram">
            <a:avLst>
              <a:gd name="adj" fmla="val 208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17"/>
          <p:cNvSpPr/>
          <p:nvPr/>
        </p:nvSpPr>
        <p:spPr>
          <a:xfrm>
            <a:off x="6724800" y="2965320"/>
            <a:ext cx="583920" cy="584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4"/>
          <p:cNvSpPr/>
          <p:nvPr/>
        </p:nvSpPr>
        <p:spPr>
          <a:xfrm rot="3529800">
            <a:off x="1122120" y="2327040"/>
            <a:ext cx="47880" cy="238320"/>
          </a:xfrm>
          <a:custGeom>
            <a:avLst/>
            <a:gdLst>
              <a:gd name="textAreaLeft" fmla="*/ 0 w 47880"/>
              <a:gd name="textAreaRight" fmla="*/ 48240 w 47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8"/>
          <p:cNvGrpSpPr/>
          <p:nvPr/>
        </p:nvGrpSpPr>
        <p:grpSpPr>
          <a:xfrm>
            <a:off x="1101600" y="2282760"/>
            <a:ext cx="135720" cy="117720"/>
            <a:chOff x="1101600" y="2282760"/>
            <a:chExt cx="135720" cy="117720"/>
          </a:xfrm>
        </p:grpSpPr>
        <p:sp>
          <p:nvSpPr>
            <p:cNvPr id="320" name="矩形 34"/>
            <p:cNvSpPr/>
            <p:nvPr/>
          </p:nvSpPr>
          <p:spPr>
            <a:xfrm rot="18494400">
              <a:off x="1167120" y="2298600"/>
              <a:ext cx="33480" cy="109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553073" h="1756774">
                  <a:moveTo>
                    <a:pt x="29371" y="25730"/>
                  </a:moveTo>
                  <a:lnTo>
                    <a:pt x="393791" y="0"/>
                  </a:lnTo>
                  <a:lnTo>
                    <a:pt x="553073" y="1756774"/>
                  </a:lnTo>
                  <a:lnTo>
                    <a:pt x="0" y="1756774"/>
                  </a:lnTo>
                  <a:lnTo>
                    <a:pt x="29371" y="257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21"/>
            <p:cNvSpPr/>
            <p:nvPr/>
          </p:nvSpPr>
          <p:spPr>
            <a:xfrm>
              <a:off x="1101600" y="2282760"/>
              <a:ext cx="58320" cy="58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文本框 22"/>
          <p:cNvSpPr/>
          <p:nvPr/>
        </p:nvSpPr>
        <p:spPr>
          <a:xfrm rot="20913600">
            <a:off x="1607760" y="2028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国好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3"/>
          <p:cNvSpPr/>
          <p:nvPr/>
        </p:nvSpPr>
        <p:spPr>
          <a:xfrm>
            <a:off x="682560" y="2278080"/>
            <a:ext cx="569880" cy="979560"/>
          </a:xfrm>
          <a:custGeom>
            <a:avLst/>
            <a:gdLst>
              <a:gd name="textAreaLeft" fmla="*/ 0 w 569880"/>
              <a:gd name="textAreaRight" fmla="*/ 570240 w 56988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90220" h="1703727">
                <a:moveTo>
                  <a:pt x="101765" y="1616693"/>
                </a:moveTo>
                <a:cubicBezTo>
                  <a:pt x="86597" y="1637639"/>
                  <a:pt x="53372" y="1688920"/>
                  <a:pt x="36760" y="1699032"/>
                </a:cubicBezTo>
                <a:cubicBezTo>
                  <a:pt x="20148" y="1709144"/>
                  <a:pt x="4980" y="1703366"/>
                  <a:pt x="2091" y="1677364"/>
                </a:cubicBezTo>
                <a:cubicBezTo>
                  <a:pt x="-798" y="1651362"/>
                  <a:pt x="-4409" y="1626082"/>
                  <a:pt x="19426" y="1543020"/>
                </a:cubicBezTo>
                <a:cubicBezTo>
                  <a:pt x="43261" y="1459958"/>
                  <a:pt x="106099" y="1276501"/>
                  <a:pt x="145102" y="1178994"/>
                </a:cubicBezTo>
                <a:cubicBezTo>
                  <a:pt x="184105" y="1081487"/>
                  <a:pt x="222385" y="1033095"/>
                  <a:pt x="253443" y="957978"/>
                </a:cubicBezTo>
                <a:cubicBezTo>
                  <a:pt x="284501" y="882861"/>
                  <a:pt x="322060" y="767297"/>
                  <a:pt x="331449" y="728294"/>
                </a:cubicBezTo>
                <a:cubicBezTo>
                  <a:pt x="340838" y="689291"/>
                  <a:pt x="306891" y="756463"/>
                  <a:pt x="309780" y="723961"/>
                </a:cubicBezTo>
                <a:cubicBezTo>
                  <a:pt x="312669" y="691459"/>
                  <a:pt x="347338" y="586728"/>
                  <a:pt x="348783" y="533280"/>
                </a:cubicBezTo>
                <a:cubicBezTo>
                  <a:pt x="350228" y="479832"/>
                  <a:pt x="330004" y="445163"/>
                  <a:pt x="318448" y="403271"/>
                </a:cubicBezTo>
                <a:cubicBezTo>
                  <a:pt x="306892" y="361379"/>
                  <a:pt x="288835" y="332488"/>
                  <a:pt x="279445" y="281929"/>
                </a:cubicBezTo>
                <a:cubicBezTo>
                  <a:pt x="270055" y="231370"/>
                  <a:pt x="260666" y="141807"/>
                  <a:pt x="262110" y="99915"/>
                </a:cubicBezTo>
                <a:cubicBezTo>
                  <a:pt x="263554" y="58023"/>
                  <a:pt x="266444" y="42856"/>
                  <a:pt x="288112" y="30577"/>
                </a:cubicBezTo>
                <a:cubicBezTo>
                  <a:pt x="309780" y="18298"/>
                  <a:pt x="368285" y="31299"/>
                  <a:pt x="392120" y="26243"/>
                </a:cubicBezTo>
                <a:cubicBezTo>
                  <a:pt x="415955" y="21187"/>
                  <a:pt x="403676" y="-2648"/>
                  <a:pt x="431122" y="241"/>
                </a:cubicBezTo>
                <a:cubicBezTo>
                  <a:pt x="458568" y="3130"/>
                  <a:pt x="534407" y="24799"/>
                  <a:pt x="556798" y="43578"/>
                </a:cubicBezTo>
                <a:cubicBezTo>
                  <a:pt x="579189" y="62357"/>
                  <a:pt x="562577" y="104971"/>
                  <a:pt x="565466" y="112916"/>
                </a:cubicBezTo>
                <a:cubicBezTo>
                  <a:pt x="568355" y="120861"/>
                  <a:pt x="565466" y="99915"/>
                  <a:pt x="574133" y="91248"/>
                </a:cubicBezTo>
                <a:cubicBezTo>
                  <a:pt x="582800" y="82581"/>
                  <a:pt x="605913" y="52967"/>
                  <a:pt x="617469" y="60912"/>
                </a:cubicBezTo>
                <a:cubicBezTo>
                  <a:pt x="629025" y="68857"/>
                  <a:pt x="632637" y="93415"/>
                  <a:pt x="643471" y="138918"/>
                </a:cubicBezTo>
                <a:cubicBezTo>
                  <a:pt x="654305" y="184421"/>
                  <a:pt x="675251" y="292040"/>
                  <a:pt x="682474" y="333932"/>
                </a:cubicBezTo>
                <a:cubicBezTo>
                  <a:pt x="689697" y="375824"/>
                  <a:pt x="691864" y="372935"/>
                  <a:pt x="686808" y="390270"/>
                </a:cubicBezTo>
                <a:cubicBezTo>
                  <a:pt x="681752" y="407605"/>
                  <a:pt x="664418" y="434329"/>
                  <a:pt x="652139" y="437940"/>
                </a:cubicBezTo>
                <a:cubicBezTo>
                  <a:pt x="639860" y="441551"/>
                  <a:pt x="623970" y="429995"/>
                  <a:pt x="613136" y="411938"/>
                </a:cubicBezTo>
                <a:cubicBezTo>
                  <a:pt x="602302" y="393881"/>
                  <a:pt x="592912" y="332488"/>
                  <a:pt x="587134" y="329599"/>
                </a:cubicBezTo>
                <a:cubicBezTo>
                  <a:pt x="581356" y="326710"/>
                  <a:pt x="569800" y="369324"/>
                  <a:pt x="578467" y="394603"/>
                </a:cubicBezTo>
                <a:cubicBezTo>
                  <a:pt x="587134" y="419882"/>
                  <a:pt x="621081" y="451663"/>
                  <a:pt x="639138" y="481276"/>
                </a:cubicBezTo>
                <a:cubicBezTo>
                  <a:pt x="657195" y="510889"/>
                  <a:pt x="665140" y="543392"/>
                  <a:pt x="686808" y="572283"/>
                </a:cubicBezTo>
                <a:cubicBezTo>
                  <a:pt x="708476" y="601174"/>
                  <a:pt x="762647" y="637288"/>
                  <a:pt x="769147" y="654622"/>
                </a:cubicBezTo>
                <a:cubicBezTo>
                  <a:pt x="775647" y="671956"/>
                  <a:pt x="723644" y="642344"/>
                  <a:pt x="725811" y="676291"/>
                </a:cubicBezTo>
                <a:cubicBezTo>
                  <a:pt x="727978" y="710238"/>
                  <a:pt x="768425" y="810634"/>
                  <a:pt x="782148" y="858304"/>
                </a:cubicBezTo>
                <a:cubicBezTo>
                  <a:pt x="795871" y="905974"/>
                  <a:pt x="798038" y="930531"/>
                  <a:pt x="808150" y="962311"/>
                </a:cubicBezTo>
                <a:cubicBezTo>
                  <a:pt x="818262" y="994091"/>
                  <a:pt x="831263" y="1013593"/>
                  <a:pt x="842819" y="1048984"/>
                </a:cubicBezTo>
                <a:cubicBezTo>
                  <a:pt x="854375" y="1084375"/>
                  <a:pt x="860153" y="1105322"/>
                  <a:pt x="877488" y="1174660"/>
                </a:cubicBezTo>
                <a:cubicBezTo>
                  <a:pt x="894823" y="1243998"/>
                  <a:pt x="928048" y="1391343"/>
                  <a:pt x="946827" y="1465015"/>
                </a:cubicBezTo>
                <a:cubicBezTo>
                  <a:pt x="965606" y="1538687"/>
                  <a:pt x="991608" y="1587080"/>
                  <a:pt x="990163" y="1616693"/>
                </a:cubicBezTo>
                <a:cubicBezTo>
                  <a:pt x="988718" y="1646306"/>
                  <a:pt x="957660" y="1652084"/>
                  <a:pt x="938159" y="1642694"/>
                </a:cubicBezTo>
                <a:cubicBezTo>
                  <a:pt x="918658" y="1633304"/>
                  <a:pt x="886156" y="1574078"/>
                  <a:pt x="873155" y="1560355"/>
                </a:cubicBezTo>
                <a:cubicBezTo>
                  <a:pt x="860154" y="1546632"/>
                  <a:pt x="863043" y="1571189"/>
                  <a:pt x="860154" y="1560355"/>
                </a:cubicBezTo>
                <a:cubicBezTo>
                  <a:pt x="857265" y="1549521"/>
                  <a:pt x="855098" y="1523519"/>
                  <a:pt x="855820" y="1495350"/>
                </a:cubicBezTo>
                <a:cubicBezTo>
                  <a:pt x="856542" y="1467181"/>
                  <a:pt x="873876" y="1434679"/>
                  <a:pt x="864487" y="1391343"/>
                </a:cubicBezTo>
                <a:cubicBezTo>
                  <a:pt x="855098" y="1348007"/>
                  <a:pt x="818984" y="1287335"/>
                  <a:pt x="799483" y="1235331"/>
                </a:cubicBezTo>
                <a:cubicBezTo>
                  <a:pt x="779982" y="1183327"/>
                  <a:pt x="767703" y="1127712"/>
                  <a:pt x="747479" y="1079320"/>
                </a:cubicBezTo>
                <a:cubicBezTo>
                  <a:pt x="727255" y="1030928"/>
                  <a:pt x="678140" y="944977"/>
                  <a:pt x="678140" y="944977"/>
                </a:cubicBezTo>
                <a:cubicBezTo>
                  <a:pt x="651416" y="892973"/>
                  <a:pt x="620358" y="794743"/>
                  <a:pt x="587134" y="767297"/>
                </a:cubicBezTo>
                <a:cubicBezTo>
                  <a:pt x="553910" y="739851"/>
                  <a:pt x="507684" y="752851"/>
                  <a:pt x="478793" y="780298"/>
                </a:cubicBezTo>
                <a:cubicBezTo>
                  <a:pt x="449902" y="807744"/>
                  <a:pt x="431845" y="896585"/>
                  <a:pt x="413788" y="931976"/>
                </a:cubicBezTo>
                <a:cubicBezTo>
                  <a:pt x="395731" y="967367"/>
                  <a:pt x="384174" y="965201"/>
                  <a:pt x="370451" y="992647"/>
                </a:cubicBezTo>
                <a:cubicBezTo>
                  <a:pt x="356728" y="1020093"/>
                  <a:pt x="350228" y="1061986"/>
                  <a:pt x="331449" y="1096655"/>
                </a:cubicBezTo>
                <a:cubicBezTo>
                  <a:pt x="312670" y="1131324"/>
                  <a:pt x="292445" y="1148658"/>
                  <a:pt x="257776" y="1200662"/>
                </a:cubicBezTo>
                <a:cubicBezTo>
                  <a:pt x="223107" y="1252666"/>
                  <a:pt x="147990" y="1366063"/>
                  <a:pt x="123433" y="1408677"/>
                </a:cubicBezTo>
                <a:cubicBezTo>
                  <a:pt x="98876" y="1451291"/>
                  <a:pt x="110432" y="1439012"/>
                  <a:pt x="110432" y="1456347"/>
                </a:cubicBezTo>
                <a:cubicBezTo>
                  <a:pt x="110432" y="1473682"/>
                  <a:pt x="120544" y="1493183"/>
                  <a:pt x="123433" y="1512685"/>
                </a:cubicBezTo>
                <a:cubicBezTo>
                  <a:pt x="126322" y="1532186"/>
                  <a:pt x="127767" y="1555299"/>
                  <a:pt x="127767" y="1573356"/>
                </a:cubicBezTo>
                <a:cubicBezTo>
                  <a:pt x="127767" y="1591413"/>
                  <a:pt x="116933" y="1595747"/>
                  <a:pt x="101765" y="161669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24"/>
          <p:cNvSpPr/>
          <p:nvPr/>
        </p:nvSpPr>
        <p:spPr>
          <a:xfrm>
            <a:off x="858960" y="2127240"/>
            <a:ext cx="271440" cy="171360"/>
          </a:xfrm>
          <a:custGeom>
            <a:avLst/>
            <a:gdLst/>
            <a:ahLst/>
            <a:rect l="l" t="t" r="r" b="b"/>
            <a:pathLst>
              <a:path w="2173130" h="1376569">
                <a:moveTo>
                  <a:pt x="108930" y="969100"/>
                </a:moveTo>
                <a:cubicBezTo>
                  <a:pt x="111948" y="949484"/>
                  <a:pt x="54609" y="957029"/>
                  <a:pt x="36502" y="869512"/>
                </a:cubicBezTo>
                <a:cubicBezTo>
                  <a:pt x="18395" y="781995"/>
                  <a:pt x="-2729" y="471160"/>
                  <a:pt x="289" y="443999"/>
                </a:cubicBezTo>
                <a:cubicBezTo>
                  <a:pt x="3307" y="416838"/>
                  <a:pt x="36502" y="656755"/>
                  <a:pt x="54609" y="706549"/>
                </a:cubicBezTo>
                <a:cubicBezTo>
                  <a:pt x="72716" y="756343"/>
                  <a:pt x="98368" y="759361"/>
                  <a:pt x="108930" y="742763"/>
                </a:cubicBezTo>
                <a:cubicBezTo>
                  <a:pt x="119492" y="726165"/>
                  <a:pt x="114966" y="659773"/>
                  <a:pt x="117984" y="606961"/>
                </a:cubicBezTo>
                <a:cubicBezTo>
                  <a:pt x="121002" y="554149"/>
                  <a:pt x="110439" y="489266"/>
                  <a:pt x="127037" y="425892"/>
                </a:cubicBezTo>
                <a:cubicBezTo>
                  <a:pt x="143635" y="362518"/>
                  <a:pt x="152689" y="279528"/>
                  <a:pt x="217572" y="226716"/>
                </a:cubicBezTo>
                <a:cubicBezTo>
                  <a:pt x="282455" y="173904"/>
                  <a:pt x="427310" y="127128"/>
                  <a:pt x="516336" y="109021"/>
                </a:cubicBezTo>
                <a:cubicBezTo>
                  <a:pt x="605362" y="90914"/>
                  <a:pt x="686843" y="136181"/>
                  <a:pt x="751726" y="118074"/>
                </a:cubicBezTo>
                <a:cubicBezTo>
                  <a:pt x="816609" y="99967"/>
                  <a:pt x="884510" y="-7166"/>
                  <a:pt x="905635" y="379"/>
                </a:cubicBezTo>
                <a:cubicBezTo>
                  <a:pt x="926760" y="7924"/>
                  <a:pt x="867913" y="139199"/>
                  <a:pt x="878475" y="163342"/>
                </a:cubicBezTo>
                <a:cubicBezTo>
                  <a:pt x="889037" y="187485"/>
                  <a:pt x="969009" y="145235"/>
                  <a:pt x="969009" y="145235"/>
                </a:cubicBezTo>
                <a:cubicBezTo>
                  <a:pt x="991643" y="140708"/>
                  <a:pt x="1009750" y="110529"/>
                  <a:pt x="1014277" y="136181"/>
                </a:cubicBezTo>
                <a:cubicBezTo>
                  <a:pt x="1018804" y="161833"/>
                  <a:pt x="978063" y="293108"/>
                  <a:pt x="996170" y="299144"/>
                </a:cubicBezTo>
                <a:cubicBezTo>
                  <a:pt x="1014277" y="305180"/>
                  <a:pt x="1098776" y="163342"/>
                  <a:pt x="1122918" y="172395"/>
                </a:cubicBezTo>
                <a:cubicBezTo>
                  <a:pt x="1147061" y="181448"/>
                  <a:pt x="1085195" y="311215"/>
                  <a:pt x="1141025" y="353464"/>
                </a:cubicBezTo>
                <a:cubicBezTo>
                  <a:pt x="1196855" y="395713"/>
                  <a:pt x="1374906" y="354973"/>
                  <a:pt x="1457896" y="425892"/>
                </a:cubicBezTo>
                <a:cubicBezTo>
                  <a:pt x="1540886" y="496811"/>
                  <a:pt x="1587663" y="711076"/>
                  <a:pt x="1638966" y="778977"/>
                </a:cubicBezTo>
                <a:cubicBezTo>
                  <a:pt x="1690269" y="846878"/>
                  <a:pt x="1711393" y="827262"/>
                  <a:pt x="1765714" y="833298"/>
                </a:cubicBezTo>
                <a:cubicBezTo>
                  <a:pt x="1820035" y="839334"/>
                  <a:pt x="1942256" y="794066"/>
                  <a:pt x="1964890" y="815191"/>
                </a:cubicBezTo>
                <a:cubicBezTo>
                  <a:pt x="1987524" y="836316"/>
                  <a:pt x="1866811" y="935903"/>
                  <a:pt x="1901516" y="960046"/>
                </a:cubicBezTo>
                <a:cubicBezTo>
                  <a:pt x="1936221" y="984189"/>
                  <a:pt x="2171611" y="929868"/>
                  <a:pt x="2173120" y="960046"/>
                </a:cubicBezTo>
                <a:cubicBezTo>
                  <a:pt x="2174629" y="990224"/>
                  <a:pt x="2017703" y="1103393"/>
                  <a:pt x="1910570" y="1141116"/>
                </a:cubicBezTo>
                <a:cubicBezTo>
                  <a:pt x="1803437" y="1178839"/>
                  <a:pt x="1619350" y="1177330"/>
                  <a:pt x="1530324" y="1186383"/>
                </a:cubicBezTo>
                <a:cubicBezTo>
                  <a:pt x="1441298" y="1195437"/>
                  <a:pt x="1414138" y="1180348"/>
                  <a:pt x="1376415" y="1195437"/>
                </a:cubicBezTo>
                <a:cubicBezTo>
                  <a:pt x="1338692" y="1210526"/>
                  <a:pt x="1340202" y="1255793"/>
                  <a:pt x="1303988" y="1276918"/>
                </a:cubicBezTo>
                <a:cubicBezTo>
                  <a:pt x="1267774" y="1298043"/>
                  <a:pt x="1216471" y="1305587"/>
                  <a:pt x="1159132" y="1322185"/>
                </a:cubicBezTo>
                <a:cubicBezTo>
                  <a:pt x="1101793" y="1338783"/>
                  <a:pt x="1050491" y="1374997"/>
                  <a:pt x="959956" y="1376506"/>
                </a:cubicBezTo>
                <a:cubicBezTo>
                  <a:pt x="869421" y="1378015"/>
                  <a:pt x="710985" y="1352364"/>
                  <a:pt x="615924" y="1331239"/>
                </a:cubicBezTo>
                <a:cubicBezTo>
                  <a:pt x="520863" y="1310114"/>
                  <a:pt x="489176" y="1307096"/>
                  <a:pt x="389588" y="1249757"/>
                </a:cubicBezTo>
                <a:cubicBezTo>
                  <a:pt x="290000" y="1192418"/>
                  <a:pt x="59136" y="1035492"/>
                  <a:pt x="18395" y="987207"/>
                </a:cubicBezTo>
                <a:cubicBezTo>
                  <a:pt x="-22346" y="938922"/>
                  <a:pt x="105912" y="988716"/>
                  <a:pt x="108930" y="9691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梯形 25"/>
          <p:cNvSpPr/>
          <p:nvPr/>
        </p:nvSpPr>
        <p:spPr>
          <a:xfrm flipV="1" rot="20637000">
            <a:off x="1310760" y="2359800"/>
            <a:ext cx="46080" cy="806400"/>
          </a:xfrm>
          <a:custGeom>
            <a:avLst/>
            <a:gdLst>
              <a:gd name="textAreaLeft" fmla="*/ 9360 w 46080"/>
              <a:gd name="textAreaRight" fmla="*/ 36720 w 46080"/>
              <a:gd name="textAreaTop" fmla="*/ 167760 h 806400"/>
              <a:gd name="textAreaBottom" fmla="*/ 63864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25"/>
          <p:cNvGrpSpPr/>
          <p:nvPr/>
        </p:nvGrpSpPr>
        <p:grpSpPr>
          <a:xfrm>
            <a:off x="8390520" y="457200"/>
            <a:ext cx="1419840" cy="1685520"/>
            <a:chOff x="8390520" y="457200"/>
            <a:chExt cx="1419840" cy="1685520"/>
          </a:xfrm>
        </p:grpSpPr>
        <p:sp>
          <p:nvSpPr>
            <p:cNvPr id="327" name="椭圆 27"/>
            <p:cNvSpPr/>
            <p:nvPr/>
          </p:nvSpPr>
          <p:spPr>
            <a:xfrm>
              <a:off x="8599680" y="648000"/>
              <a:ext cx="426960" cy="42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21"/>
            <p:cNvSpPr/>
            <p:nvPr/>
          </p:nvSpPr>
          <p:spPr>
            <a:xfrm rot="20785200">
              <a:off x="8454960" y="965880"/>
              <a:ext cx="510120" cy="60984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147516" h="1542934">
                  <a:moveTo>
                    <a:pt x="654359" y="1"/>
                  </a:moveTo>
                  <a:lnTo>
                    <a:pt x="1073297" y="6558"/>
                  </a:lnTo>
                  <a:lnTo>
                    <a:pt x="1147516" y="1542934"/>
                  </a:lnTo>
                  <a:lnTo>
                    <a:pt x="0" y="1428708"/>
                  </a:lnTo>
                  <a:lnTo>
                    <a:pt x="65435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31"/>
            <p:cNvSpPr/>
            <p:nvPr/>
          </p:nvSpPr>
          <p:spPr>
            <a:xfrm rot="477600">
              <a:off x="8629920" y="1156320"/>
              <a:ext cx="177480" cy="8974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553073" h="1287148">
                  <a:moveTo>
                    <a:pt x="0" y="0"/>
                  </a:moveTo>
                  <a:lnTo>
                    <a:pt x="553073" y="0"/>
                  </a:lnTo>
                  <a:lnTo>
                    <a:pt x="553073" y="1287148"/>
                  </a:lnTo>
                  <a:lnTo>
                    <a:pt x="134471" y="12602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32"/>
            <p:cNvSpPr/>
            <p:nvPr/>
          </p:nvSpPr>
          <p:spPr>
            <a:xfrm rot="3891600">
              <a:off x="8976240" y="767160"/>
              <a:ext cx="187920" cy="6012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553073" h="1259278">
                  <a:moveTo>
                    <a:pt x="67686" y="41567"/>
                  </a:moveTo>
                  <a:lnTo>
                    <a:pt x="257327" y="0"/>
                  </a:lnTo>
                  <a:lnTo>
                    <a:pt x="553073" y="1259278"/>
                  </a:lnTo>
                  <a:lnTo>
                    <a:pt x="0" y="1259278"/>
                  </a:lnTo>
                  <a:lnTo>
                    <a:pt x="67686" y="415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1"/>
            <p:cNvSpPr/>
            <p:nvPr/>
          </p:nvSpPr>
          <p:spPr>
            <a:xfrm rot="21083400">
              <a:off x="8756280" y="1192320"/>
              <a:ext cx="175680" cy="8870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87040"/>
                <a:gd name="textAreaBottom" fmla="*/ 887400 h 887040"/>
              </a:gdLst>
              <a:ahLst/>
              <a:rect l="textAreaLeft" t="textAreaTop" r="textAreaRight" b="textAreaBottom"/>
              <a:pathLst>
                <a:path w="553073" h="1287148">
                  <a:moveTo>
                    <a:pt x="0" y="0"/>
                  </a:moveTo>
                  <a:lnTo>
                    <a:pt x="553073" y="0"/>
                  </a:lnTo>
                  <a:lnTo>
                    <a:pt x="553073" y="1287148"/>
                  </a:lnTo>
                  <a:lnTo>
                    <a:pt x="134471" y="12602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32"/>
            <p:cNvSpPr/>
            <p:nvPr/>
          </p:nvSpPr>
          <p:spPr>
            <a:xfrm>
              <a:off x="9212400" y="457200"/>
              <a:ext cx="525960" cy="52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21"/>
            <p:cNvSpPr/>
            <p:nvPr/>
          </p:nvSpPr>
          <p:spPr>
            <a:xfrm rot="20785200">
              <a:off x="9138240" y="914040"/>
              <a:ext cx="596520" cy="713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1147516" h="1542934">
                  <a:moveTo>
                    <a:pt x="654359" y="1"/>
                  </a:moveTo>
                  <a:lnTo>
                    <a:pt x="1073297" y="6558"/>
                  </a:lnTo>
                  <a:lnTo>
                    <a:pt x="1147516" y="1542934"/>
                  </a:lnTo>
                  <a:lnTo>
                    <a:pt x="0" y="1428708"/>
                  </a:lnTo>
                  <a:lnTo>
                    <a:pt x="65435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31"/>
            <p:cNvSpPr/>
            <p:nvPr/>
          </p:nvSpPr>
          <p:spPr>
            <a:xfrm rot="477600">
              <a:off x="9325440" y="1160280"/>
              <a:ext cx="245520" cy="9428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553073" h="1287148">
                  <a:moveTo>
                    <a:pt x="0" y="0"/>
                  </a:moveTo>
                  <a:lnTo>
                    <a:pt x="553073" y="0"/>
                  </a:lnTo>
                  <a:lnTo>
                    <a:pt x="553073" y="1287148"/>
                  </a:lnTo>
                  <a:lnTo>
                    <a:pt x="134471" y="12602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32"/>
            <p:cNvSpPr/>
            <p:nvPr/>
          </p:nvSpPr>
          <p:spPr>
            <a:xfrm rot="17292600">
              <a:off x="9002160" y="807480"/>
              <a:ext cx="253080" cy="6433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553073" h="1259278">
                  <a:moveTo>
                    <a:pt x="67686" y="41567"/>
                  </a:moveTo>
                  <a:lnTo>
                    <a:pt x="257327" y="0"/>
                  </a:lnTo>
                  <a:lnTo>
                    <a:pt x="553073" y="1259278"/>
                  </a:lnTo>
                  <a:lnTo>
                    <a:pt x="0" y="1259278"/>
                  </a:lnTo>
                  <a:lnTo>
                    <a:pt x="67686" y="415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31"/>
            <p:cNvSpPr/>
            <p:nvPr/>
          </p:nvSpPr>
          <p:spPr>
            <a:xfrm rot="21083400">
              <a:off x="9458280" y="1184040"/>
              <a:ext cx="280800" cy="942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553073" h="1287148">
                  <a:moveTo>
                    <a:pt x="0" y="0"/>
                  </a:moveTo>
                  <a:lnTo>
                    <a:pt x="553073" y="0"/>
                  </a:lnTo>
                  <a:lnTo>
                    <a:pt x="553073" y="1287148"/>
                  </a:lnTo>
                  <a:lnTo>
                    <a:pt x="134471" y="12602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32"/>
            <p:cNvSpPr/>
            <p:nvPr/>
          </p:nvSpPr>
          <p:spPr>
            <a:xfrm rot="17292600">
              <a:off x="9070200" y="638640"/>
              <a:ext cx="253080" cy="6433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553073" h="1259278">
                  <a:moveTo>
                    <a:pt x="67686" y="41567"/>
                  </a:moveTo>
                  <a:lnTo>
                    <a:pt x="257327" y="0"/>
                  </a:lnTo>
                  <a:lnTo>
                    <a:pt x="553073" y="1259278"/>
                  </a:lnTo>
                  <a:lnTo>
                    <a:pt x="0" y="1259278"/>
                  </a:lnTo>
                  <a:lnTo>
                    <a:pt x="67686" y="415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矩形 38"/>
          <p:cNvSpPr/>
          <p:nvPr/>
        </p:nvSpPr>
        <p:spPr>
          <a:xfrm flipV="1">
            <a:off x="10756800" y="0"/>
            <a:ext cx="1435320" cy="653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39"/>
          <p:cNvSpPr/>
          <p:nvPr/>
        </p:nvSpPr>
        <p:spPr>
          <a:xfrm flipV="1">
            <a:off x="0" y="4974840"/>
            <a:ext cx="12192120" cy="18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0"/>
          <p:cNvSpPr/>
          <p:nvPr/>
        </p:nvSpPr>
        <p:spPr>
          <a:xfrm rot="751800">
            <a:off x="4093200" y="603360"/>
            <a:ext cx="43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胖子今天打我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爸爸，你在听我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41"/>
          <p:cNvSpPr/>
          <p:nvPr/>
        </p:nvSpPr>
        <p:spPr>
          <a:xfrm>
            <a:off x="3963960" y="139680"/>
            <a:ext cx="4046400" cy="2671920"/>
          </a:xfrm>
          <a:custGeom>
            <a:avLst/>
            <a:gdLst>
              <a:gd name="textAreaLeft" fmla="*/ 0 w 4046400"/>
              <a:gd name="textAreaRight" fmla="*/ 4046760 w 4046400"/>
              <a:gd name="textAreaTop" fmla="*/ 0 h 2671920"/>
              <a:gd name="textAreaBottom" fmla="*/ 2672280 h 2671920"/>
            </a:gdLst>
            <a:ahLst/>
            <a:rect l="textAreaLeft" t="textAreaTop" r="textAreaRight" b="textAreaBottom"/>
            <a:pathLst>
              <a:path w="4045998" h="2672168">
                <a:moveTo>
                  <a:pt x="41530" y="311988"/>
                </a:moveTo>
                <a:cubicBezTo>
                  <a:pt x="-12132" y="369943"/>
                  <a:pt x="-5693" y="266912"/>
                  <a:pt x="15772" y="402140"/>
                </a:cubicBezTo>
                <a:cubicBezTo>
                  <a:pt x="37237" y="537368"/>
                  <a:pt x="41529" y="981690"/>
                  <a:pt x="170318" y="1123357"/>
                </a:cubicBezTo>
                <a:cubicBezTo>
                  <a:pt x="299107" y="1265024"/>
                  <a:pt x="498729" y="1198483"/>
                  <a:pt x="788504" y="1252145"/>
                </a:cubicBezTo>
                <a:cubicBezTo>
                  <a:pt x="1078279" y="1305807"/>
                  <a:pt x="1908966" y="1445328"/>
                  <a:pt x="1908966" y="1445328"/>
                </a:cubicBezTo>
                <a:cubicBezTo>
                  <a:pt x="2209473" y="1496843"/>
                  <a:pt x="2411242" y="1496843"/>
                  <a:pt x="2591546" y="1561238"/>
                </a:cubicBezTo>
                <a:cubicBezTo>
                  <a:pt x="2771850" y="1625633"/>
                  <a:pt x="2904933" y="1647098"/>
                  <a:pt x="2990792" y="1831695"/>
                </a:cubicBezTo>
                <a:cubicBezTo>
                  <a:pt x="3076651" y="2016292"/>
                  <a:pt x="3068065" y="2621599"/>
                  <a:pt x="3106701" y="2668821"/>
                </a:cubicBezTo>
                <a:cubicBezTo>
                  <a:pt x="3145338" y="2716044"/>
                  <a:pt x="3151777" y="2250258"/>
                  <a:pt x="3222611" y="2115030"/>
                </a:cubicBezTo>
                <a:cubicBezTo>
                  <a:pt x="3293445" y="1979802"/>
                  <a:pt x="3405062" y="1904674"/>
                  <a:pt x="3531704" y="1857452"/>
                </a:cubicBezTo>
                <a:cubicBezTo>
                  <a:pt x="3658346" y="1810230"/>
                  <a:pt x="3900899" y="1908968"/>
                  <a:pt x="3982465" y="1831695"/>
                </a:cubicBezTo>
                <a:cubicBezTo>
                  <a:pt x="4064031" y="1754422"/>
                  <a:pt x="4055445" y="1507576"/>
                  <a:pt x="4021101" y="1393813"/>
                </a:cubicBezTo>
                <a:cubicBezTo>
                  <a:pt x="3986757" y="1280050"/>
                  <a:pt x="3776403" y="1149114"/>
                  <a:pt x="3776403" y="1149114"/>
                </a:cubicBezTo>
                <a:cubicBezTo>
                  <a:pt x="3651907" y="1026765"/>
                  <a:pt x="3503800" y="807824"/>
                  <a:pt x="3274127" y="659717"/>
                </a:cubicBezTo>
                <a:cubicBezTo>
                  <a:pt x="3044454" y="511610"/>
                  <a:pt x="2763264" y="367796"/>
                  <a:pt x="2398363" y="260472"/>
                </a:cubicBezTo>
                <a:cubicBezTo>
                  <a:pt x="2033462" y="153148"/>
                  <a:pt x="1428155" y="50117"/>
                  <a:pt x="1084718" y="15773"/>
                </a:cubicBezTo>
                <a:cubicBezTo>
                  <a:pt x="741282" y="-18571"/>
                  <a:pt x="518048" y="7187"/>
                  <a:pt x="337744" y="54410"/>
                </a:cubicBezTo>
                <a:cubicBezTo>
                  <a:pt x="157440" y="101633"/>
                  <a:pt x="95192" y="254033"/>
                  <a:pt x="41530" y="31198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平行四边形 26"/>
          <p:cNvSpPr/>
          <p:nvPr/>
        </p:nvSpPr>
        <p:spPr>
          <a:xfrm rot="10123800">
            <a:off x="3908160" y="1590840"/>
            <a:ext cx="3060720" cy="1427040"/>
          </a:xfrm>
          <a:prstGeom prst="parallelogram">
            <a:avLst>
              <a:gd name="adj" fmla="val 20922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21"/>
          <p:cNvSpPr/>
          <p:nvPr/>
        </p:nvSpPr>
        <p:spPr>
          <a:xfrm rot="20785200">
            <a:off x="11236320" y="3467160"/>
            <a:ext cx="696960" cy="831960"/>
          </a:xfrm>
          <a:custGeom>
            <a:avLst/>
            <a:gdLst>
              <a:gd name="textAreaLeft" fmla="*/ 0 w 696960"/>
              <a:gd name="textAreaRight" fmla="*/ 697320 w 69696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1147516" h="1542934">
                <a:moveTo>
                  <a:pt x="654359" y="1"/>
                </a:moveTo>
                <a:lnTo>
                  <a:pt x="1073297" y="6558"/>
                </a:lnTo>
                <a:lnTo>
                  <a:pt x="1147516" y="1542934"/>
                </a:lnTo>
                <a:lnTo>
                  <a:pt x="0" y="1428708"/>
                </a:lnTo>
                <a:lnTo>
                  <a:pt x="65435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1"/>
          <p:cNvSpPr/>
          <p:nvPr/>
        </p:nvSpPr>
        <p:spPr>
          <a:xfrm rot="477600">
            <a:off x="11458440" y="3689280"/>
            <a:ext cx="250920" cy="1287360"/>
          </a:xfrm>
          <a:custGeom>
            <a:avLst/>
            <a:gdLst>
              <a:gd name="textAreaLeft" fmla="*/ 0 w 250920"/>
              <a:gd name="textAreaRight" fmla="*/ 251280 w 25092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2"/>
          <p:cNvSpPr/>
          <p:nvPr/>
        </p:nvSpPr>
        <p:spPr>
          <a:xfrm rot="17458200">
            <a:off x="11478960" y="3343320"/>
            <a:ext cx="233280" cy="776160"/>
          </a:xfrm>
          <a:custGeom>
            <a:avLst/>
            <a:gdLst>
              <a:gd name="textAreaLeft" fmla="*/ 0 w 233280"/>
              <a:gd name="textAreaRight" fmla="*/ 233640 w 233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259318" h="1259278">
                <a:moveTo>
                  <a:pt x="67686" y="41567"/>
                </a:moveTo>
                <a:lnTo>
                  <a:pt x="257327" y="0"/>
                </a:lnTo>
                <a:cubicBezTo>
                  <a:pt x="257991" y="348012"/>
                  <a:pt x="258654" y="696025"/>
                  <a:pt x="259318" y="1044037"/>
                </a:cubicBez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31"/>
          <p:cNvSpPr/>
          <p:nvPr/>
        </p:nvSpPr>
        <p:spPr>
          <a:xfrm rot="21083400">
            <a:off x="11606040" y="3700440"/>
            <a:ext cx="287640" cy="1287360"/>
          </a:xfrm>
          <a:custGeom>
            <a:avLst/>
            <a:gdLst>
              <a:gd name="textAreaLeft" fmla="*/ 0 w 287640"/>
              <a:gd name="textAreaRight" fmla="*/ 288000 w 28764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3"/>
          <p:cNvSpPr/>
          <p:nvPr/>
        </p:nvSpPr>
        <p:spPr>
          <a:xfrm flipH="1">
            <a:off x="9381960" y="1754280"/>
            <a:ext cx="1146240" cy="114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1"/>
          <p:cNvSpPr/>
          <p:nvPr/>
        </p:nvSpPr>
        <p:spPr>
          <a:xfrm flipH="1" rot="1939800">
            <a:off x="9008280" y="2758680"/>
            <a:ext cx="1228680" cy="1785960"/>
          </a:xfrm>
          <a:custGeom>
            <a:avLst/>
            <a:gdLst>
              <a:gd name="textAreaLeft" fmla="*/ -360 w 1228680"/>
              <a:gd name="textAreaRight" fmla="*/ 1228680 w 122868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991192" h="1960750">
                <a:moveTo>
                  <a:pt x="587939" y="117935"/>
                </a:moveTo>
                <a:lnTo>
                  <a:pt x="954435" y="0"/>
                </a:lnTo>
                <a:lnTo>
                  <a:pt x="991192" y="1960750"/>
                </a:lnTo>
                <a:lnTo>
                  <a:pt x="0" y="1736257"/>
                </a:lnTo>
                <a:lnTo>
                  <a:pt x="587939" y="1179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2"/>
          <p:cNvSpPr/>
          <p:nvPr/>
        </p:nvSpPr>
        <p:spPr>
          <a:xfrm flipH="1" rot="16200000">
            <a:off x="9339120" y="2957400"/>
            <a:ext cx="663480" cy="1898640"/>
          </a:xfrm>
          <a:custGeom>
            <a:avLst/>
            <a:gdLst>
              <a:gd name="textAreaLeft" fmla="*/ 0 w 663480"/>
              <a:gd name="textAreaRight" fmla="*/ 663480 w 66348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710540" h="1897682">
                <a:moveTo>
                  <a:pt x="0" y="241300"/>
                </a:moveTo>
                <a:lnTo>
                  <a:pt x="710540" y="0"/>
                </a:lnTo>
                <a:lnTo>
                  <a:pt x="710540" y="1897682"/>
                </a:lnTo>
                <a:lnTo>
                  <a:pt x="76200" y="1897682"/>
                </a:lnTo>
                <a:lnTo>
                  <a:pt x="0" y="2413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3"/>
          <p:cNvSpPr/>
          <p:nvPr/>
        </p:nvSpPr>
        <p:spPr>
          <a:xfrm flipH="1" rot="21059400">
            <a:off x="10181160" y="3686040"/>
            <a:ext cx="552600" cy="139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24"/>
          <p:cNvSpPr/>
          <p:nvPr/>
        </p:nvSpPr>
        <p:spPr>
          <a:xfrm flipH="1">
            <a:off x="7773120" y="4194000"/>
            <a:ext cx="2313000" cy="80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5"/>
          <p:cNvSpPr/>
          <p:nvPr/>
        </p:nvSpPr>
        <p:spPr>
          <a:xfrm flipH="1" rot="20682600">
            <a:off x="7722000" y="1835280"/>
            <a:ext cx="701640" cy="284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平行四边形 40"/>
          <p:cNvSpPr/>
          <p:nvPr/>
        </p:nvSpPr>
        <p:spPr>
          <a:xfrm rot="10123800">
            <a:off x="4123800" y="1703520"/>
            <a:ext cx="2627640" cy="1201680"/>
          </a:xfrm>
          <a:prstGeom prst="parallelogram">
            <a:avLst>
              <a:gd name="adj" fmla="val 20935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44"/>
          <p:cNvSpPr/>
          <p:nvPr/>
        </p:nvSpPr>
        <p:spPr>
          <a:xfrm>
            <a:off x="11410920" y="2951280"/>
            <a:ext cx="584280" cy="582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4"/>
          <p:cNvSpPr/>
          <p:nvPr/>
        </p:nvSpPr>
        <p:spPr>
          <a:xfrm flipH="1" rot="1036800">
            <a:off x="10132560" y="2819520"/>
            <a:ext cx="392040" cy="6778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553073" h="1731044">
                <a:moveTo>
                  <a:pt x="29371" y="0"/>
                </a:moveTo>
                <a:lnTo>
                  <a:pt x="502387" y="203100"/>
                </a:lnTo>
                <a:lnTo>
                  <a:pt x="553073" y="1731044"/>
                </a:lnTo>
                <a:lnTo>
                  <a:pt x="0" y="1731044"/>
                </a:lnTo>
                <a:lnTo>
                  <a:pt x="2937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2"/>
          <p:cNvSpPr/>
          <p:nvPr/>
        </p:nvSpPr>
        <p:spPr>
          <a:xfrm rot="19128600">
            <a:off x="11079000" y="3219120"/>
            <a:ext cx="150840" cy="436680"/>
          </a:xfrm>
          <a:custGeom>
            <a:avLst/>
            <a:gdLst>
              <a:gd name="textAreaLeft" fmla="*/ 0 w 150840"/>
              <a:gd name="textAreaRight" fmla="*/ 151200 w 1508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59318" h="1259278">
                <a:moveTo>
                  <a:pt x="67686" y="41567"/>
                </a:moveTo>
                <a:lnTo>
                  <a:pt x="257327" y="0"/>
                </a:lnTo>
                <a:cubicBezTo>
                  <a:pt x="257991" y="348012"/>
                  <a:pt x="258654" y="696025"/>
                  <a:pt x="259318" y="1044037"/>
                </a:cubicBez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2"/>
          <p:cNvSpPr/>
          <p:nvPr/>
        </p:nvSpPr>
        <p:spPr>
          <a:xfrm rot="8496600">
            <a:off x="11828160" y="3411000"/>
            <a:ext cx="156960" cy="776520"/>
          </a:xfrm>
          <a:custGeom>
            <a:avLst/>
            <a:gdLst>
              <a:gd name="textAreaLeft" fmla="*/ 0 w 156960"/>
              <a:gd name="textAreaRight" fmla="*/ 157320 w 15696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w="259318" h="1259278">
                <a:moveTo>
                  <a:pt x="67686" y="41567"/>
                </a:moveTo>
                <a:lnTo>
                  <a:pt x="257327" y="0"/>
                </a:lnTo>
                <a:cubicBezTo>
                  <a:pt x="257991" y="348012"/>
                  <a:pt x="258654" y="696025"/>
                  <a:pt x="259318" y="1044037"/>
                </a:cubicBez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4"/>
          <p:cNvSpPr/>
          <p:nvPr/>
        </p:nvSpPr>
        <p:spPr>
          <a:xfrm flipH="1" rot="6660000">
            <a:off x="9916560" y="2954520"/>
            <a:ext cx="387720" cy="716040"/>
          </a:xfrm>
          <a:custGeom>
            <a:avLst/>
            <a:gdLst>
              <a:gd name="textAreaLeft" fmla="*/ -360 w 387720"/>
              <a:gd name="textAreaRight" fmla="*/ 387720 w 387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553073" h="1593571">
                <a:moveTo>
                  <a:pt x="91809" y="1"/>
                </a:moveTo>
                <a:lnTo>
                  <a:pt x="502387" y="65627"/>
                </a:lnTo>
                <a:lnTo>
                  <a:pt x="553073" y="1593571"/>
                </a:lnTo>
                <a:lnTo>
                  <a:pt x="0" y="1593571"/>
                </a:lnTo>
                <a:lnTo>
                  <a:pt x="9180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8"/>
          <p:cNvSpPr/>
          <p:nvPr/>
        </p:nvSpPr>
        <p:spPr>
          <a:xfrm flipV="1">
            <a:off x="-10800" y="-18360"/>
            <a:ext cx="3854520" cy="652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9"/>
          <p:cNvSpPr/>
          <p:nvPr/>
        </p:nvSpPr>
        <p:spPr>
          <a:xfrm flipV="1">
            <a:off x="0" y="4974840"/>
            <a:ext cx="12192120" cy="18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0"/>
          <p:cNvSpPr/>
          <p:nvPr/>
        </p:nvSpPr>
        <p:spPr>
          <a:xfrm>
            <a:off x="7831080" y="142920"/>
            <a:ext cx="407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所以我也打了他，他又打了我，而且很使劲，他真讨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1"/>
          <p:cNvSpPr/>
          <p:nvPr/>
        </p:nvSpPr>
        <p:spPr>
          <a:xfrm>
            <a:off x="7605720" y="69840"/>
            <a:ext cx="4257720" cy="2400480"/>
          </a:xfrm>
          <a:custGeom>
            <a:avLst/>
            <a:gdLst>
              <a:gd name="textAreaLeft" fmla="*/ 0 w 4257720"/>
              <a:gd name="textAreaRight" fmla="*/ 4258080 w 425772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4258571" h="2401058">
                <a:moveTo>
                  <a:pt x="460294" y="117420"/>
                </a:moveTo>
                <a:cubicBezTo>
                  <a:pt x="307893" y="189712"/>
                  <a:pt x="155493" y="262005"/>
                  <a:pt x="85155" y="422220"/>
                </a:cubicBezTo>
                <a:cubicBezTo>
                  <a:pt x="14816" y="582436"/>
                  <a:pt x="-39891" y="883328"/>
                  <a:pt x="38263" y="1078713"/>
                </a:cubicBezTo>
                <a:cubicBezTo>
                  <a:pt x="116417" y="1274098"/>
                  <a:pt x="343064" y="1500743"/>
                  <a:pt x="554079" y="1594528"/>
                </a:cubicBezTo>
                <a:cubicBezTo>
                  <a:pt x="765094" y="1688313"/>
                  <a:pt x="995647" y="1641420"/>
                  <a:pt x="1304355" y="1641420"/>
                </a:cubicBezTo>
                <a:cubicBezTo>
                  <a:pt x="1613063" y="1641420"/>
                  <a:pt x="2105433" y="1578897"/>
                  <a:pt x="2406325" y="1594528"/>
                </a:cubicBezTo>
                <a:cubicBezTo>
                  <a:pt x="2707217" y="1610159"/>
                  <a:pt x="2886971" y="1602344"/>
                  <a:pt x="3109709" y="1735205"/>
                </a:cubicBezTo>
                <a:cubicBezTo>
                  <a:pt x="3332447" y="1868067"/>
                  <a:pt x="3645063" y="2333082"/>
                  <a:pt x="3742755" y="2391697"/>
                </a:cubicBezTo>
                <a:cubicBezTo>
                  <a:pt x="3840447" y="2450312"/>
                  <a:pt x="3707586" y="2219758"/>
                  <a:pt x="3695863" y="2086897"/>
                </a:cubicBezTo>
                <a:cubicBezTo>
                  <a:pt x="3684140" y="1954036"/>
                  <a:pt x="3641156" y="1727389"/>
                  <a:pt x="3672417" y="1594528"/>
                </a:cubicBezTo>
                <a:cubicBezTo>
                  <a:pt x="3703678" y="1461667"/>
                  <a:pt x="3785740" y="1461667"/>
                  <a:pt x="3883432" y="1289728"/>
                </a:cubicBezTo>
                <a:cubicBezTo>
                  <a:pt x="3981124" y="1117790"/>
                  <a:pt x="4258571" y="770005"/>
                  <a:pt x="4258571" y="562897"/>
                </a:cubicBezTo>
                <a:cubicBezTo>
                  <a:pt x="4258571" y="355789"/>
                  <a:pt x="4121801" y="136959"/>
                  <a:pt x="3883432" y="47082"/>
                </a:cubicBezTo>
                <a:cubicBezTo>
                  <a:pt x="3645063" y="-42795"/>
                  <a:pt x="2828355" y="23636"/>
                  <a:pt x="2828355" y="23636"/>
                </a:cubicBezTo>
                <a:cubicBezTo>
                  <a:pt x="2421955" y="19728"/>
                  <a:pt x="1851432" y="8005"/>
                  <a:pt x="1445032" y="23636"/>
                </a:cubicBezTo>
                <a:cubicBezTo>
                  <a:pt x="1038632" y="39267"/>
                  <a:pt x="573617" y="93974"/>
                  <a:pt x="389955" y="117420"/>
                </a:cubicBezTo>
                <a:cubicBezTo>
                  <a:pt x="206293" y="140866"/>
                  <a:pt x="274678" y="152589"/>
                  <a:pt x="343063" y="16431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平行四边形 26"/>
          <p:cNvSpPr/>
          <p:nvPr/>
        </p:nvSpPr>
        <p:spPr>
          <a:xfrm rot="10123800">
            <a:off x="289080" y="1742760"/>
            <a:ext cx="3060720" cy="1428840"/>
          </a:xfrm>
          <a:prstGeom prst="parallelogram">
            <a:avLst>
              <a:gd name="adj" fmla="val 208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1"/>
          <p:cNvSpPr/>
          <p:nvPr/>
        </p:nvSpPr>
        <p:spPr>
          <a:xfrm rot="20785200">
            <a:off x="7953120" y="3479760"/>
            <a:ext cx="696960" cy="833400"/>
          </a:xfrm>
          <a:custGeom>
            <a:avLst/>
            <a:gdLst>
              <a:gd name="textAreaLeft" fmla="*/ 0 w 696960"/>
              <a:gd name="textAreaRight" fmla="*/ 697320 w 69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147516" h="1542934">
                <a:moveTo>
                  <a:pt x="654359" y="1"/>
                </a:moveTo>
                <a:lnTo>
                  <a:pt x="1073297" y="6558"/>
                </a:lnTo>
                <a:lnTo>
                  <a:pt x="1147516" y="1542934"/>
                </a:lnTo>
                <a:lnTo>
                  <a:pt x="0" y="1428708"/>
                </a:lnTo>
                <a:lnTo>
                  <a:pt x="65435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31"/>
          <p:cNvSpPr/>
          <p:nvPr/>
        </p:nvSpPr>
        <p:spPr>
          <a:xfrm rot="477600">
            <a:off x="8175600" y="3703680"/>
            <a:ext cx="250920" cy="1287360"/>
          </a:xfrm>
          <a:custGeom>
            <a:avLst/>
            <a:gdLst>
              <a:gd name="textAreaLeft" fmla="*/ 0 w 250920"/>
              <a:gd name="textAreaRight" fmla="*/ 251280 w 25092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31"/>
          <p:cNvSpPr/>
          <p:nvPr/>
        </p:nvSpPr>
        <p:spPr>
          <a:xfrm rot="21083400">
            <a:off x="8321760" y="3713040"/>
            <a:ext cx="287280" cy="12877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87720"/>
              <a:gd name="textAreaBottom" fmla="*/ 1288080 h 128772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3"/>
          <p:cNvSpPr/>
          <p:nvPr/>
        </p:nvSpPr>
        <p:spPr>
          <a:xfrm flipH="1">
            <a:off x="5648400" y="1709640"/>
            <a:ext cx="1146240" cy="114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1"/>
          <p:cNvSpPr/>
          <p:nvPr/>
        </p:nvSpPr>
        <p:spPr>
          <a:xfrm flipH="1" rot="1449600">
            <a:off x="5404680" y="2692080"/>
            <a:ext cx="1216080" cy="1952640"/>
          </a:xfrm>
          <a:custGeom>
            <a:avLst/>
            <a:gdLst>
              <a:gd name="textAreaLeft" fmla="*/ 360 w 1216080"/>
              <a:gd name="textAreaRight" fmla="*/ 1216800 w 1216080"/>
              <a:gd name="textAreaTop" fmla="*/ 0 h 1952640"/>
              <a:gd name="textAreaBottom" fmla="*/ 1953000 h 1952640"/>
            </a:gdLst>
            <a:ahLst/>
            <a:rect l="textAreaLeft" t="textAreaTop" r="textAreaRight" b="textAreaBottom"/>
            <a:pathLst>
              <a:path w="1009315" h="1954127">
                <a:moveTo>
                  <a:pt x="587939" y="111312"/>
                </a:moveTo>
                <a:lnTo>
                  <a:pt x="1009315" y="0"/>
                </a:lnTo>
                <a:lnTo>
                  <a:pt x="991192" y="1954127"/>
                </a:lnTo>
                <a:lnTo>
                  <a:pt x="0" y="1729634"/>
                </a:lnTo>
                <a:lnTo>
                  <a:pt x="587939" y="1113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2"/>
          <p:cNvSpPr/>
          <p:nvPr/>
        </p:nvSpPr>
        <p:spPr>
          <a:xfrm flipH="1" rot="16200000">
            <a:off x="5731560" y="3083400"/>
            <a:ext cx="663480" cy="1897200"/>
          </a:xfrm>
          <a:custGeom>
            <a:avLst/>
            <a:gdLst>
              <a:gd name="textAreaLeft" fmla="*/ 0 w 663480"/>
              <a:gd name="textAreaRight" fmla="*/ 663480 w 663480"/>
              <a:gd name="textAreaTop" fmla="*/ 0 h 1897200"/>
              <a:gd name="textAreaBottom" fmla="*/ 1897560 h 1897200"/>
            </a:gdLst>
            <a:ahLst/>
            <a:rect l="textAreaLeft" t="textAreaTop" r="textAreaRight" b="textAreaBottom"/>
            <a:pathLst>
              <a:path w="710540" h="1897682">
                <a:moveTo>
                  <a:pt x="0" y="241300"/>
                </a:moveTo>
                <a:lnTo>
                  <a:pt x="710540" y="0"/>
                </a:lnTo>
                <a:lnTo>
                  <a:pt x="710540" y="1897682"/>
                </a:lnTo>
                <a:lnTo>
                  <a:pt x="76200" y="1897682"/>
                </a:lnTo>
                <a:lnTo>
                  <a:pt x="0" y="2413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3"/>
          <p:cNvSpPr/>
          <p:nvPr/>
        </p:nvSpPr>
        <p:spPr>
          <a:xfrm flipH="1" rot="21059400">
            <a:off x="6573240" y="3811680"/>
            <a:ext cx="552240" cy="139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4"/>
          <p:cNvSpPr/>
          <p:nvPr/>
        </p:nvSpPr>
        <p:spPr>
          <a:xfrm flipH="1">
            <a:off x="4164840" y="4319640"/>
            <a:ext cx="2313000" cy="80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5"/>
          <p:cNvSpPr/>
          <p:nvPr/>
        </p:nvSpPr>
        <p:spPr>
          <a:xfrm flipH="1" rot="20682600">
            <a:off x="4113720" y="1960560"/>
            <a:ext cx="701640" cy="284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34"/>
          <p:cNvSpPr/>
          <p:nvPr/>
        </p:nvSpPr>
        <p:spPr>
          <a:xfrm flipH="1" rot="7822800">
            <a:off x="6065280" y="2916720"/>
            <a:ext cx="541080" cy="755640"/>
          </a:xfrm>
          <a:custGeom>
            <a:avLst/>
            <a:gdLst>
              <a:gd name="textAreaLeft" fmla="*/ -360 w 541080"/>
              <a:gd name="textAreaRight" fmla="*/ 541080 w 5410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平行四边形 40"/>
          <p:cNvSpPr/>
          <p:nvPr/>
        </p:nvSpPr>
        <p:spPr>
          <a:xfrm rot="10123800">
            <a:off x="516960" y="1828080"/>
            <a:ext cx="2625480" cy="1203480"/>
          </a:xfrm>
          <a:prstGeom prst="parallelogram">
            <a:avLst>
              <a:gd name="adj" fmla="val 20887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椭圆 44"/>
          <p:cNvSpPr/>
          <p:nvPr/>
        </p:nvSpPr>
        <p:spPr>
          <a:xfrm>
            <a:off x="8120160" y="2957400"/>
            <a:ext cx="584280" cy="584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4"/>
          <p:cNvSpPr/>
          <p:nvPr/>
        </p:nvSpPr>
        <p:spPr>
          <a:xfrm flipH="1" rot="5400000">
            <a:off x="6599880" y="3182760"/>
            <a:ext cx="387360" cy="672840"/>
          </a:xfrm>
          <a:custGeom>
            <a:avLst/>
            <a:gdLst>
              <a:gd name="textAreaLeft" fmla="*/ 360 w 387360"/>
              <a:gd name="textAreaRight" fmla="*/ 388080 w 387360"/>
              <a:gd name="textAreaTop" fmla="*/ 0 h 672840"/>
              <a:gd name="textAreaBottom" fmla="*/ 672840 h 672840"/>
            </a:gdLst>
            <a:ahLst/>
            <a:rect l="textAreaLeft" t="textAreaTop" r="textAreaRight" b="textAreaBottom"/>
            <a:pathLst>
              <a:path w="553073" h="1731044">
                <a:moveTo>
                  <a:pt x="29371" y="0"/>
                </a:moveTo>
                <a:lnTo>
                  <a:pt x="502387" y="203100"/>
                </a:lnTo>
                <a:lnTo>
                  <a:pt x="553073" y="1731044"/>
                </a:lnTo>
                <a:lnTo>
                  <a:pt x="0" y="1731044"/>
                </a:lnTo>
                <a:lnTo>
                  <a:pt x="2937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32"/>
          <p:cNvSpPr/>
          <p:nvPr/>
        </p:nvSpPr>
        <p:spPr>
          <a:xfrm rot="16894800">
            <a:off x="7924680" y="3309480"/>
            <a:ext cx="236520" cy="655560"/>
          </a:xfrm>
          <a:custGeom>
            <a:avLst/>
            <a:gdLst>
              <a:gd name="textAreaLeft" fmla="*/ 0 w 236520"/>
              <a:gd name="textAreaRight" fmla="*/ 236880 w 23652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259318" h="1259278">
                <a:moveTo>
                  <a:pt x="67686" y="41567"/>
                </a:moveTo>
                <a:lnTo>
                  <a:pt x="257327" y="0"/>
                </a:lnTo>
                <a:cubicBezTo>
                  <a:pt x="257991" y="348012"/>
                  <a:pt x="258654" y="696025"/>
                  <a:pt x="259318" y="1044037"/>
                </a:cubicBez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32"/>
          <p:cNvSpPr/>
          <p:nvPr/>
        </p:nvSpPr>
        <p:spPr>
          <a:xfrm rot="8496600">
            <a:off x="8530920" y="3422520"/>
            <a:ext cx="156960" cy="774720"/>
          </a:xfrm>
          <a:custGeom>
            <a:avLst/>
            <a:gdLst>
              <a:gd name="textAreaLeft" fmla="*/ 0 w 156960"/>
              <a:gd name="textAreaRight" fmla="*/ 157320 w 1569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59318" h="1259278">
                <a:moveTo>
                  <a:pt x="67686" y="41567"/>
                </a:moveTo>
                <a:lnTo>
                  <a:pt x="257327" y="0"/>
                </a:lnTo>
                <a:cubicBezTo>
                  <a:pt x="257991" y="348012"/>
                  <a:pt x="258654" y="696025"/>
                  <a:pt x="259318" y="1044037"/>
                </a:cubicBez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8"/>
          <p:cNvSpPr/>
          <p:nvPr/>
        </p:nvSpPr>
        <p:spPr>
          <a:xfrm flipV="1">
            <a:off x="9433080" y="0"/>
            <a:ext cx="2759040" cy="653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9"/>
          <p:cNvSpPr/>
          <p:nvPr/>
        </p:nvSpPr>
        <p:spPr>
          <a:xfrm flipV="1">
            <a:off x="-145800" y="4974840"/>
            <a:ext cx="12338280" cy="18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5194440" y="631800"/>
            <a:ext cx="40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任意多边形 1"/>
          <p:cNvSpPr/>
          <p:nvPr/>
        </p:nvSpPr>
        <p:spPr>
          <a:xfrm>
            <a:off x="4683240" y="378000"/>
            <a:ext cx="4375080" cy="2344680"/>
          </a:xfrm>
          <a:custGeom>
            <a:avLst/>
            <a:gdLst>
              <a:gd name="textAreaLeft" fmla="*/ 0 w 4375080"/>
              <a:gd name="textAreaRight" fmla="*/ 4375440 w 4375080"/>
              <a:gd name="textAreaTop" fmla="*/ 0 h 2344680"/>
              <a:gd name="textAreaBottom" fmla="*/ 2345040 h 2344680"/>
            </a:gdLst>
            <a:ahLst/>
            <a:rect l="textAreaLeft" t="textAreaTop" r="textAreaRight" b="textAreaBottom"/>
            <a:pathLst>
              <a:path w="4375173" h="2344949">
                <a:moveTo>
                  <a:pt x="522139" y="21203"/>
                </a:moveTo>
                <a:cubicBezTo>
                  <a:pt x="186078" y="21203"/>
                  <a:pt x="361924" y="-33505"/>
                  <a:pt x="287678" y="91541"/>
                </a:cubicBezTo>
                <a:cubicBezTo>
                  <a:pt x="213432" y="216587"/>
                  <a:pt x="-157799" y="615172"/>
                  <a:pt x="76662" y="771480"/>
                </a:cubicBezTo>
                <a:cubicBezTo>
                  <a:pt x="311123" y="927788"/>
                  <a:pt x="1260693" y="998126"/>
                  <a:pt x="1694447" y="1029387"/>
                </a:cubicBezTo>
                <a:cubicBezTo>
                  <a:pt x="2128201" y="1060648"/>
                  <a:pt x="2444724" y="959049"/>
                  <a:pt x="2679185" y="959049"/>
                </a:cubicBezTo>
                <a:cubicBezTo>
                  <a:pt x="2913646" y="959049"/>
                  <a:pt x="2995708" y="923879"/>
                  <a:pt x="3101216" y="1029387"/>
                </a:cubicBezTo>
                <a:cubicBezTo>
                  <a:pt x="3206724" y="1134895"/>
                  <a:pt x="3245800" y="1373264"/>
                  <a:pt x="3312231" y="1592095"/>
                </a:cubicBezTo>
                <a:cubicBezTo>
                  <a:pt x="3378662" y="1810926"/>
                  <a:pt x="3441185" y="2307203"/>
                  <a:pt x="3499801" y="2342372"/>
                </a:cubicBezTo>
                <a:cubicBezTo>
                  <a:pt x="3558417" y="2377541"/>
                  <a:pt x="3605309" y="2045387"/>
                  <a:pt x="3663924" y="1803110"/>
                </a:cubicBezTo>
                <a:cubicBezTo>
                  <a:pt x="3722539" y="1560833"/>
                  <a:pt x="3734262" y="1099725"/>
                  <a:pt x="3851493" y="888710"/>
                </a:cubicBezTo>
                <a:cubicBezTo>
                  <a:pt x="3968724" y="677695"/>
                  <a:pt x="4441554" y="681602"/>
                  <a:pt x="4367308" y="537018"/>
                </a:cubicBezTo>
                <a:cubicBezTo>
                  <a:pt x="4293062" y="392434"/>
                  <a:pt x="3749893" y="95449"/>
                  <a:pt x="3406016" y="21203"/>
                </a:cubicBezTo>
                <a:cubicBezTo>
                  <a:pt x="3062139" y="-53043"/>
                  <a:pt x="2792508" y="91541"/>
                  <a:pt x="2304047" y="91541"/>
                </a:cubicBezTo>
                <a:cubicBezTo>
                  <a:pt x="1815586" y="91541"/>
                  <a:pt x="858200" y="21203"/>
                  <a:pt x="522139" y="21203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平行四边形 26"/>
          <p:cNvSpPr/>
          <p:nvPr/>
        </p:nvSpPr>
        <p:spPr>
          <a:xfrm rot="10123800">
            <a:off x="2914200" y="1720800"/>
            <a:ext cx="3060720" cy="1427040"/>
          </a:xfrm>
          <a:prstGeom prst="parallelogram">
            <a:avLst>
              <a:gd name="adj" fmla="val 20922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21"/>
          <p:cNvSpPr/>
          <p:nvPr/>
        </p:nvSpPr>
        <p:spPr>
          <a:xfrm rot="20785200">
            <a:off x="10578600" y="3456000"/>
            <a:ext cx="696960" cy="833400"/>
          </a:xfrm>
          <a:custGeom>
            <a:avLst/>
            <a:gdLst>
              <a:gd name="textAreaLeft" fmla="*/ 0 w 696960"/>
              <a:gd name="textAreaRight" fmla="*/ 697320 w 69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147516" h="1542934">
                <a:moveTo>
                  <a:pt x="654359" y="1"/>
                </a:moveTo>
                <a:lnTo>
                  <a:pt x="1073297" y="6558"/>
                </a:lnTo>
                <a:lnTo>
                  <a:pt x="1147516" y="1542934"/>
                </a:lnTo>
                <a:lnTo>
                  <a:pt x="0" y="1428708"/>
                </a:lnTo>
                <a:lnTo>
                  <a:pt x="65435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31"/>
          <p:cNvSpPr/>
          <p:nvPr/>
        </p:nvSpPr>
        <p:spPr>
          <a:xfrm rot="477600">
            <a:off x="10801440" y="3679560"/>
            <a:ext cx="250560" cy="1287360"/>
          </a:xfrm>
          <a:custGeom>
            <a:avLst/>
            <a:gdLst>
              <a:gd name="textAreaLeft" fmla="*/ 0 w 250560"/>
              <a:gd name="textAreaRight" fmla="*/ 250920 w 25056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1"/>
          <p:cNvSpPr/>
          <p:nvPr/>
        </p:nvSpPr>
        <p:spPr>
          <a:xfrm rot="21083400">
            <a:off x="10947240" y="3689280"/>
            <a:ext cx="287640" cy="1287360"/>
          </a:xfrm>
          <a:custGeom>
            <a:avLst/>
            <a:gdLst>
              <a:gd name="textAreaLeft" fmla="*/ 0 w 287640"/>
              <a:gd name="textAreaRight" fmla="*/ 288000 w 28764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3"/>
          <p:cNvSpPr/>
          <p:nvPr/>
        </p:nvSpPr>
        <p:spPr>
          <a:xfrm flipH="1">
            <a:off x="8273880" y="1685880"/>
            <a:ext cx="1146240" cy="114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1"/>
          <p:cNvSpPr/>
          <p:nvPr/>
        </p:nvSpPr>
        <p:spPr>
          <a:xfrm flipH="1" rot="1449600">
            <a:off x="8030520" y="2668320"/>
            <a:ext cx="1216080" cy="1954440"/>
          </a:xfrm>
          <a:custGeom>
            <a:avLst/>
            <a:gdLst>
              <a:gd name="textAreaLeft" fmla="*/ 360 w 1216080"/>
              <a:gd name="textAreaRight" fmla="*/ 1216800 w 1216080"/>
              <a:gd name="textAreaTop" fmla="*/ 0 h 1954440"/>
              <a:gd name="textAreaBottom" fmla="*/ 1954800 h 1954440"/>
            </a:gdLst>
            <a:ahLst/>
            <a:rect l="textAreaLeft" t="textAreaTop" r="textAreaRight" b="textAreaBottom"/>
            <a:pathLst>
              <a:path w="1009315" h="1954127">
                <a:moveTo>
                  <a:pt x="587939" y="111312"/>
                </a:moveTo>
                <a:lnTo>
                  <a:pt x="1009315" y="0"/>
                </a:lnTo>
                <a:lnTo>
                  <a:pt x="991192" y="1954127"/>
                </a:lnTo>
                <a:lnTo>
                  <a:pt x="0" y="1729634"/>
                </a:lnTo>
                <a:lnTo>
                  <a:pt x="587939" y="1113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2"/>
          <p:cNvSpPr/>
          <p:nvPr/>
        </p:nvSpPr>
        <p:spPr>
          <a:xfrm flipH="1" rot="16200000">
            <a:off x="8356320" y="3060000"/>
            <a:ext cx="663480" cy="1896840"/>
          </a:xfrm>
          <a:custGeom>
            <a:avLst/>
            <a:gdLst>
              <a:gd name="textAreaLeft" fmla="*/ 0 w 663480"/>
              <a:gd name="textAreaRight" fmla="*/ 663480 w 663480"/>
              <a:gd name="textAreaTop" fmla="*/ 0 h 1896840"/>
              <a:gd name="textAreaBottom" fmla="*/ 1897200 h 1896840"/>
            </a:gdLst>
            <a:ahLst/>
            <a:rect l="textAreaLeft" t="textAreaTop" r="textAreaRight" b="textAreaBottom"/>
            <a:pathLst>
              <a:path w="710540" h="1897682">
                <a:moveTo>
                  <a:pt x="0" y="241300"/>
                </a:moveTo>
                <a:lnTo>
                  <a:pt x="710540" y="0"/>
                </a:lnTo>
                <a:lnTo>
                  <a:pt x="710540" y="1897682"/>
                </a:lnTo>
                <a:lnTo>
                  <a:pt x="76200" y="1897682"/>
                </a:lnTo>
                <a:lnTo>
                  <a:pt x="0" y="2413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23"/>
          <p:cNvSpPr/>
          <p:nvPr/>
        </p:nvSpPr>
        <p:spPr>
          <a:xfrm flipH="1" rot="21059400">
            <a:off x="9198720" y="3787920"/>
            <a:ext cx="552600" cy="139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4"/>
          <p:cNvSpPr/>
          <p:nvPr/>
        </p:nvSpPr>
        <p:spPr>
          <a:xfrm flipH="1">
            <a:off x="6790680" y="4295880"/>
            <a:ext cx="2313000" cy="80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5"/>
          <p:cNvSpPr/>
          <p:nvPr/>
        </p:nvSpPr>
        <p:spPr>
          <a:xfrm flipH="1" rot="20682600">
            <a:off x="6739560" y="1936800"/>
            <a:ext cx="701640" cy="284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34"/>
          <p:cNvSpPr/>
          <p:nvPr/>
        </p:nvSpPr>
        <p:spPr>
          <a:xfrm flipH="1" rot="7822800">
            <a:off x="8691480" y="2892600"/>
            <a:ext cx="541440" cy="755640"/>
          </a:xfrm>
          <a:custGeom>
            <a:avLst/>
            <a:gdLst>
              <a:gd name="textAreaLeft" fmla="*/ 360 w 541440"/>
              <a:gd name="textAreaRight" fmla="*/ 542160 w 5414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平行四边形 40"/>
          <p:cNvSpPr/>
          <p:nvPr/>
        </p:nvSpPr>
        <p:spPr>
          <a:xfrm rot="10123800">
            <a:off x="3142800" y="1804680"/>
            <a:ext cx="2625840" cy="1203120"/>
          </a:xfrm>
          <a:prstGeom prst="parallelogram">
            <a:avLst>
              <a:gd name="adj" fmla="val 20896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44"/>
          <p:cNvSpPr/>
          <p:nvPr/>
        </p:nvSpPr>
        <p:spPr>
          <a:xfrm>
            <a:off x="10675800" y="2948040"/>
            <a:ext cx="582840" cy="582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34"/>
          <p:cNvSpPr/>
          <p:nvPr/>
        </p:nvSpPr>
        <p:spPr>
          <a:xfrm flipH="1" rot="5400000">
            <a:off x="9226440" y="3159000"/>
            <a:ext cx="387360" cy="673200"/>
          </a:xfrm>
          <a:custGeom>
            <a:avLst/>
            <a:gdLst>
              <a:gd name="textAreaLeft" fmla="*/ 360 w 387360"/>
              <a:gd name="textAreaRight" fmla="*/ 388080 w 38736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553073" h="1731044">
                <a:moveTo>
                  <a:pt x="29371" y="0"/>
                </a:moveTo>
                <a:lnTo>
                  <a:pt x="502387" y="203100"/>
                </a:lnTo>
                <a:lnTo>
                  <a:pt x="553073" y="1731044"/>
                </a:lnTo>
                <a:lnTo>
                  <a:pt x="0" y="1731044"/>
                </a:lnTo>
                <a:lnTo>
                  <a:pt x="2937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32"/>
          <p:cNvSpPr/>
          <p:nvPr/>
        </p:nvSpPr>
        <p:spPr>
          <a:xfrm rot="17937600">
            <a:off x="10503000" y="3093120"/>
            <a:ext cx="236520" cy="909720"/>
          </a:xfrm>
          <a:custGeom>
            <a:avLst/>
            <a:gdLst>
              <a:gd name="textAreaLeft" fmla="*/ 0 w 236520"/>
              <a:gd name="textAreaRight" fmla="*/ 236880 w 2365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59318" h="1259278">
                <a:moveTo>
                  <a:pt x="67686" y="41567"/>
                </a:moveTo>
                <a:lnTo>
                  <a:pt x="257327" y="0"/>
                </a:lnTo>
                <a:cubicBezTo>
                  <a:pt x="257991" y="348012"/>
                  <a:pt x="258654" y="696025"/>
                  <a:pt x="259318" y="1044037"/>
                </a:cubicBez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2"/>
          <p:cNvSpPr/>
          <p:nvPr/>
        </p:nvSpPr>
        <p:spPr>
          <a:xfrm rot="2911800">
            <a:off x="11181960" y="2935080"/>
            <a:ext cx="204840" cy="1122120"/>
          </a:xfrm>
          <a:custGeom>
            <a:avLst/>
            <a:gdLst>
              <a:gd name="textAreaLeft" fmla="*/ 0 w 204840"/>
              <a:gd name="textAreaRight" fmla="*/ 205200 w 204840"/>
              <a:gd name="textAreaTop" fmla="*/ 0 h 1122120"/>
              <a:gd name="textAreaBottom" fmla="*/ 1122480 h 1122120"/>
            </a:gdLst>
            <a:ahLst/>
            <a:rect l="textAreaLeft" t="textAreaTop" r="textAreaRight" b="textAreaBottom"/>
            <a:pathLst>
              <a:path w="259318" h="1259278">
                <a:moveTo>
                  <a:pt x="67686" y="41567"/>
                </a:moveTo>
                <a:lnTo>
                  <a:pt x="257327" y="0"/>
                </a:lnTo>
                <a:cubicBezTo>
                  <a:pt x="257991" y="348012"/>
                  <a:pt x="258654" y="696025"/>
                  <a:pt x="259318" y="1044037"/>
                </a:cubicBez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8"/>
          <p:cNvSpPr/>
          <p:nvPr/>
        </p:nvSpPr>
        <p:spPr>
          <a:xfrm flipV="1">
            <a:off x="-10800" y="-18360"/>
            <a:ext cx="2782800" cy="652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9"/>
          <p:cNvSpPr/>
          <p:nvPr/>
        </p:nvSpPr>
        <p:spPr>
          <a:xfrm flipV="1">
            <a:off x="0" y="4974840"/>
            <a:ext cx="12192120" cy="18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20"/>
          <p:cNvSpPr/>
          <p:nvPr/>
        </p:nvSpPr>
        <p:spPr>
          <a:xfrm>
            <a:off x="7831080" y="142920"/>
            <a:ext cx="407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你猜怎么着？我和胖子和好了，他其实挺好的！哈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任意多边形 1"/>
          <p:cNvSpPr/>
          <p:nvPr/>
        </p:nvSpPr>
        <p:spPr>
          <a:xfrm>
            <a:off x="7429680" y="54000"/>
            <a:ext cx="4387680" cy="2397240"/>
          </a:xfrm>
          <a:custGeom>
            <a:avLst/>
            <a:gdLst>
              <a:gd name="textAreaLeft" fmla="*/ 0 w 4387680"/>
              <a:gd name="textAreaRight" fmla="*/ 4388040 w 4387680"/>
              <a:gd name="textAreaTop" fmla="*/ 0 h 2397240"/>
              <a:gd name="textAreaBottom" fmla="*/ 2397600 h 2397240"/>
            </a:gdLst>
            <a:ahLst/>
            <a:rect l="textAreaLeft" t="textAreaTop" r="textAreaRight" b="textAreaBottom"/>
            <a:pathLst>
              <a:path w="4387270" h="2396620">
                <a:moveTo>
                  <a:pt x="401356" y="63011"/>
                </a:moveTo>
                <a:cubicBezTo>
                  <a:pt x="288033" y="63011"/>
                  <a:pt x="374003" y="8303"/>
                  <a:pt x="307572" y="86457"/>
                </a:cubicBezTo>
                <a:cubicBezTo>
                  <a:pt x="241141" y="164611"/>
                  <a:pt x="22310" y="309196"/>
                  <a:pt x="2772" y="531934"/>
                </a:cubicBezTo>
                <a:cubicBezTo>
                  <a:pt x="-16766" y="754672"/>
                  <a:pt x="69203" y="1235319"/>
                  <a:pt x="190341" y="1422888"/>
                </a:cubicBezTo>
                <a:cubicBezTo>
                  <a:pt x="311479" y="1610457"/>
                  <a:pt x="499049" y="1633903"/>
                  <a:pt x="729603" y="1657349"/>
                </a:cubicBezTo>
                <a:cubicBezTo>
                  <a:pt x="960157" y="1680795"/>
                  <a:pt x="1292310" y="1567473"/>
                  <a:pt x="1573664" y="1563565"/>
                </a:cubicBezTo>
                <a:cubicBezTo>
                  <a:pt x="1855018" y="1559657"/>
                  <a:pt x="2417726" y="1633903"/>
                  <a:pt x="2417726" y="1633903"/>
                </a:cubicBezTo>
                <a:cubicBezTo>
                  <a:pt x="2656095" y="1653441"/>
                  <a:pt x="2843664" y="1555749"/>
                  <a:pt x="3003879" y="1680795"/>
                </a:cubicBezTo>
                <a:cubicBezTo>
                  <a:pt x="3164094" y="1805841"/>
                  <a:pt x="3308680" y="2313842"/>
                  <a:pt x="3379018" y="2384180"/>
                </a:cubicBezTo>
                <a:cubicBezTo>
                  <a:pt x="3449356" y="2454518"/>
                  <a:pt x="3406371" y="2208334"/>
                  <a:pt x="3425910" y="2102826"/>
                </a:cubicBezTo>
                <a:cubicBezTo>
                  <a:pt x="3445449" y="1997318"/>
                  <a:pt x="3425911" y="1844919"/>
                  <a:pt x="3496249" y="1751134"/>
                </a:cubicBezTo>
                <a:cubicBezTo>
                  <a:pt x="3566587" y="1657349"/>
                  <a:pt x="3715080" y="1653441"/>
                  <a:pt x="3847941" y="1540118"/>
                </a:cubicBezTo>
                <a:cubicBezTo>
                  <a:pt x="3980802" y="1426795"/>
                  <a:pt x="4207449" y="1274395"/>
                  <a:pt x="4293418" y="1071195"/>
                </a:cubicBezTo>
                <a:cubicBezTo>
                  <a:pt x="4379387" y="867995"/>
                  <a:pt x="4414556" y="496764"/>
                  <a:pt x="4363756" y="320918"/>
                </a:cubicBezTo>
                <a:cubicBezTo>
                  <a:pt x="4312956" y="145072"/>
                  <a:pt x="4273879" y="63010"/>
                  <a:pt x="3988618" y="16118"/>
                </a:cubicBezTo>
                <a:cubicBezTo>
                  <a:pt x="3703357" y="-30774"/>
                  <a:pt x="2652187" y="39565"/>
                  <a:pt x="2652187" y="39565"/>
                </a:cubicBezTo>
                <a:lnTo>
                  <a:pt x="987510" y="86457"/>
                </a:lnTo>
                <a:cubicBezTo>
                  <a:pt x="604556" y="90365"/>
                  <a:pt x="514679" y="63011"/>
                  <a:pt x="401356" y="63011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3"/>
          <p:cNvSpPr/>
          <p:nvPr/>
        </p:nvSpPr>
        <p:spPr>
          <a:xfrm>
            <a:off x="2854440" y="1449360"/>
            <a:ext cx="658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如果家长能真正倾听孩子的叙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孩子就愿意和家长诉说听家长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有时候可能我们甚至什么都没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孩子需要的</a:t>
            </a:r>
            <a:r>
              <a:rPr b="0" lang="zh-CN" sz="6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仅仅是一个倾诉对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"/>
          <p:cNvSpPr/>
          <p:nvPr/>
        </p:nvSpPr>
        <p:spPr>
          <a:xfrm flipV="1">
            <a:off x="-10800" y="-18360"/>
            <a:ext cx="679320" cy="687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"/>
          <p:cNvSpPr/>
          <p:nvPr/>
        </p:nvSpPr>
        <p:spPr>
          <a:xfrm flipV="1">
            <a:off x="11507760" y="0"/>
            <a:ext cx="684360" cy="688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5"/>
          <p:cNvSpPr/>
          <p:nvPr/>
        </p:nvSpPr>
        <p:spPr>
          <a:xfrm flipV="1">
            <a:off x="609480" y="-720"/>
            <a:ext cx="11014200" cy="12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6"/>
          <p:cNvSpPr/>
          <p:nvPr/>
        </p:nvSpPr>
        <p:spPr>
          <a:xfrm flipV="1">
            <a:off x="666720" y="5258160"/>
            <a:ext cx="11015640" cy="162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本框 3"/>
          <p:cNvSpPr/>
          <p:nvPr/>
        </p:nvSpPr>
        <p:spPr>
          <a:xfrm>
            <a:off x="3025080" y="3081240"/>
            <a:ext cx="61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你怎么做</a:t>
            </a: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孩子就跟着你怎么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你怎么对孩子</a:t>
            </a:r>
            <a:r>
              <a:rPr b="0" lang="zh-CN" sz="6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孩子就怎么对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"/>
          <p:cNvSpPr/>
          <p:nvPr/>
        </p:nvSpPr>
        <p:spPr>
          <a:xfrm flipV="1">
            <a:off x="-10800" y="-18360"/>
            <a:ext cx="679320" cy="687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5"/>
          <p:cNvSpPr/>
          <p:nvPr/>
        </p:nvSpPr>
        <p:spPr>
          <a:xfrm flipV="1">
            <a:off x="11507760" y="0"/>
            <a:ext cx="684360" cy="688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6"/>
          <p:cNvSpPr/>
          <p:nvPr/>
        </p:nvSpPr>
        <p:spPr>
          <a:xfrm flipV="1">
            <a:off x="609480" y="-720"/>
            <a:ext cx="11014200" cy="12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7"/>
          <p:cNvSpPr/>
          <p:nvPr/>
        </p:nvSpPr>
        <p:spPr>
          <a:xfrm flipV="1">
            <a:off x="666720" y="5258160"/>
            <a:ext cx="11015640" cy="162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8"/>
          <p:cNvSpPr/>
          <p:nvPr/>
        </p:nvSpPr>
        <p:spPr>
          <a:xfrm>
            <a:off x="5265360" y="1359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切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9"/>
          <p:cNvSpPr/>
          <p:nvPr/>
        </p:nvSpPr>
        <p:spPr>
          <a:xfrm flipV="1">
            <a:off x="4950000" y="2628360"/>
            <a:ext cx="2339640" cy="10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10"/>
          <p:cNvSpPr/>
          <p:nvPr/>
        </p:nvSpPr>
        <p:spPr>
          <a:xfrm flipV="1">
            <a:off x="5524560" y="2698200"/>
            <a:ext cx="1125360" cy="277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8D4-A76E-4751-BF16-1A96A309D8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5"/>
          <p:cNvSpPr/>
          <p:nvPr/>
        </p:nvSpPr>
        <p:spPr>
          <a:xfrm>
            <a:off x="507960" y="330120"/>
            <a:ext cx="5524560" cy="259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6"/>
          <p:cNvSpPr/>
          <p:nvPr/>
        </p:nvSpPr>
        <p:spPr>
          <a:xfrm flipV="1">
            <a:off x="1816200" y="2824200"/>
            <a:ext cx="1236600" cy="341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6662520" y="1949400"/>
            <a:ext cx="3170160" cy="4735440"/>
            <a:chOff x="6662520" y="1949400"/>
            <a:chExt cx="3170160" cy="4735440"/>
          </a:xfrm>
        </p:grpSpPr>
        <p:sp>
          <p:nvSpPr>
            <p:cNvPr id="69" name="椭圆 4"/>
            <p:cNvSpPr/>
            <p:nvPr/>
          </p:nvSpPr>
          <p:spPr>
            <a:xfrm>
              <a:off x="7093080" y="1949400"/>
              <a:ext cx="1049760" cy="1049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5"/>
            <p:cNvSpPr/>
            <p:nvPr/>
          </p:nvSpPr>
          <p:spPr>
            <a:xfrm flipH="1">
              <a:off x="6863400" y="2494800"/>
              <a:ext cx="2968920" cy="4190040"/>
            </a:xfrm>
            <a:custGeom>
              <a:avLst/>
              <a:gdLst>
                <a:gd name="textAreaLeft" fmla="*/ -360 w 2968920"/>
                <a:gd name="textAreaRight" fmla="*/ 2968920 w 2968920"/>
                <a:gd name="textAreaTop" fmla="*/ 0 h 4190040"/>
                <a:gd name="textAreaBottom" fmla="*/ 4190400 h 4190040"/>
              </a:gdLst>
              <a:ahLst/>
              <a:rect l="textAreaLeft" t="textAreaTop" r="textAreaRight" b="textAreaBottom"/>
              <a:pathLst>
                <a:path w="2714817" h="3831682">
                  <a:moveTo>
                    <a:pt x="4559" y="3806190"/>
                  </a:moveTo>
                  <a:cubicBezTo>
                    <a:pt x="-22111" y="3779520"/>
                    <a:pt x="75044" y="3688080"/>
                    <a:pt x="118859" y="3669030"/>
                  </a:cubicBezTo>
                  <a:cubicBezTo>
                    <a:pt x="162674" y="3649980"/>
                    <a:pt x="206489" y="3701415"/>
                    <a:pt x="267449" y="3691890"/>
                  </a:cubicBezTo>
                  <a:cubicBezTo>
                    <a:pt x="328409" y="3682365"/>
                    <a:pt x="400799" y="3638550"/>
                    <a:pt x="484619" y="3611880"/>
                  </a:cubicBezTo>
                  <a:cubicBezTo>
                    <a:pt x="568439" y="3585210"/>
                    <a:pt x="675119" y="3568065"/>
                    <a:pt x="770369" y="3531870"/>
                  </a:cubicBezTo>
                  <a:cubicBezTo>
                    <a:pt x="865619" y="3495675"/>
                    <a:pt x="1012304" y="3438525"/>
                    <a:pt x="1056119" y="3394710"/>
                  </a:cubicBezTo>
                  <a:cubicBezTo>
                    <a:pt x="1099934" y="3350895"/>
                    <a:pt x="1018019" y="3308985"/>
                    <a:pt x="1033259" y="3268980"/>
                  </a:cubicBezTo>
                  <a:cubicBezTo>
                    <a:pt x="1048499" y="3228975"/>
                    <a:pt x="1118984" y="3230880"/>
                    <a:pt x="1147559" y="3154680"/>
                  </a:cubicBezTo>
                  <a:cubicBezTo>
                    <a:pt x="1176134" y="3078480"/>
                    <a:pt x="1187564" y="2945130"/>
                    <a:pt x="1204709" y="2811780"/>
                  </a:cubicBezTo>
                  <a:cubicBezTo>
                    <a:pt x="1221854" y="2678430"/>
                    <a:pt x="1252334" y="2522220"/>
                    <a:pt x="1250429" y="2354580"/>
                  </a:cubicBezTo>
                  <a:cubicBezTo>
                    <a:pt x="1248524" y="2186940"/>
                    <a:pt x="1202804" y="1958340"/>
                    <a:pt x="1193279" y="1805940"/>
                  </a:cubicBezTo>
                  <a:cubicBezTo>
                    <a:pt x="1183754" y="1653540"/>
                    <a:pt x="1193279" y="1440180"/>
                    <a:pt x="1193279" y="1440180"/>
                  </a:cubicBezTo>
                  <a:cubicBezTo>
                    <a:pt x="1193279" y="1299210"/>
                    <a:pt x="1189469" y="1089660"/>
                    <a:pt x="1193279" y="960120"/>
                  </a:cubicBezTo>
                  <a:cubicBezTo>
                    <a:pt x="1197089" y="830580"/>
                    <a:pt x="1212329" y="763905"/>
                    <a:pt x="1216139" y="662940"/>
                  </a:cubicBezTo>
                  <a:cubicBezTo>
                    <a:pt x="1219949" y="561975"/>
                    <a:pt x="1189469" y="434340"/>
                    <a:pt x="1216139" y="354330"/>
                  </a:cubicBezTo>
                  <a:cubicBezTo>
                    <a:pt x="1242809" y="274320"/>
                    <a:pt x="1319009" y="230505"/>
                    <a:pt x="1376159" y="182880"/>
                  </a:cubicBezTo>
                  <a:cubicBezTo>
                    <a:pt x="1433309" y="135255"/>
                    <a:pt x="1511414" y="99060"/>
                    <a:pt x="1559039" y="68580"/>
                  </a:cubicBezTo>
                  <a:cubicBezTo>
                    <a:pt x="1606664" y="38100"/>
                    <a:pt x="1621904" y="0"/>
                    <a:pt x="1661909" y="0"/>
                  </a:cubicBezTo>
                  <a:cubicBezTo>
                    <a:pt x="1701914" y="0"/>
                    <a:pt x="1757159" y="15240"/>
                    <a:pt x="1799069" y="68580"/>
                  </a:cubicBezTo>
                  <a:cubicBezTo>
                    <a:pt x="1840979" y="121920"/>
                    <a:pt x="1860029" y="251460"/>
                    <a:pt x="1913369" y="320040"/>
                  </a:cubicBezTo>
                  <a:cubicBezTo>
                    <a:pt x="1966709" y="388620"/>
                    <a:pt x="2061959" y="424815"/>
                    <a:pt x="2119109" y="480060"/>
                  </a:cubicBezTo>
                  <a:cubicBezTo>
                    <a:pt x="2176259" y="535305"/>
                    <a:pt x="2231504" y="615315"/>
                    <a:pt x="2256269" y="651510"/>
                  </a:cubicBezTo>
                  <a:cubicBezTo>
                    <a:pt x="2281034" y="687705"/>
                    <a:pt x="2267699" y="697230"/>
                    <a:pt x="2267699" y="697230"/>
                  </a:cubicBezTo>
                  <a:lnTo>
                    <a:pt x="2267699" y="697230"/>
                  </a:lnTo>
                  <a:cubicBezTo>
                    <a:pt x="2292464" y="741045"/>
                    <a:pt x="2362949" y="878205"/>
                    <a:pt x="2416289" y="960120"/>
                  </a:cubicBezTo>
                  <a:cubicBezTo>
                    <a:pt x="2469629" y="1042035"/>
                    <a:pt x="2545829" y="1116330"/>
                    <a:pt x="2587739" y="1188720"/>
                  </a:cubicBezTo>
                  <a:cubicBezTo>
                    <a:pt x="2629649" y="1261110"/>
                    <a:pt x="2650604" y="1327785"/>
                    <a:pt x="2667749" y="1394460"/>
                  </a:cubicBezTo>
                  <a:cubicBezTo>
                    <a:pt x="2684894" y="1461135"/>
                    <a:pt x="2686799" y="1514475"/>
                    <a:pt x="2690609" y="1588770"/>
                  </a:cubicBezTo>
                  <a:cubicBezTo>
                    <a:pt x="2694419" y="1663065"/>
                    <a:pt x="2690609" y="1840230"/>
                    <a:pt x="2690609" y="1840230"/>
                  </a:cubicBezTo>
                  <a:cubicBezTo>
                    <a:pt x="2690609" y="1916430"/>
                    <a:pt x="2692514" y="1973580"/>
                    <a:pt x="2690609" y="2045970"/>
                  </a:cubicBezTo>
                  <a:cubicBezTo>
                    <a:pt x="2688704" y="2118360"/>
                    <a:pt x="2677274" y="2196465"/>
                    <a:pt x="2679179" y="2274570"/>
                  </a:cubicBezTo>
                  <a:cubicBezTo>
                    <a:pt x="2681084" y="2352675"/>
                    <a:pt x="2740139" y="2491740"/>
                    <a:pt x="2702039" y="2514600"/>
                  </a:cubicBezTo>
                  <a:cubicBezTo>
                    <a:pt x="2663939" y="2537460"/>
                    <a:pt x="2494394" y="2366010"/>
                    <a:pt x="2450579" y="2411730"/>
                  </a:cubicBezTo>
                  <a:cubicBezTo>
                    <a:pt x="2406764" y="2457450"/>
                    <a:pt x="2454389" y="2678430"/>
                    <a:pt x="2439149" y="2788920"/>
                  </a:cubicBezTo>
                  <a:cubicBezTo>
                    <a:pt x="2423909" y="2899410"/>
                    <a:pt x="2412479" y="3027045"/>
                    <a:pt x="2359139" y="3074670"/>
                  </a:cubicBezTo>
                  <a:cubicBezTo>
                    <a:pt x="2305799" y="3122295"/>
                    <a:pt x="2159114" y="3036570"/>
                    <a:pt x="2119109" y="3074670"/>
                  </a:cubicBezTo>
                  <a:cubicBezTo>
                    <a:pt x="2079104" y="3112770"/>
                    <a:pt x="2081009" y="3202305"/>
                    <a:pt x="2119109" y="3303270"/>
                  </a:cubicBezTo>
                  <a:cubicBezTo>
                    <a:pt x="2157209" y="3404235"/>
                    <a:pt x="2301989" y="3608070"/>
                    <a:pt x="2347709" y="3680460"/>
                  </a:cubicBezTo>
                  <a:cubicBezTo>
                    <a:pt x="2393429" y="3752850"/>
                    <a:pt x="2402954" y="3718560"/>
                    <a:pt x="2393429" y="3737610"/>
                  </a:cubicBezTo>
                  <a:cubicBezTo>
                    <a:pt x="2383904" y="3756660"/>
                    <a:pt x="2372474" y="3781425"/>
                    <a:pt x="2290559" y="3794760"/>
                  </a:cubicBezTo>
                  <a:cubicBezTo>
                    <a:pt x="2208644" y="3808095"/>
                    <a:pt x="2008619" y="3813810"/>
                    <a:pt x="1901939" y="3817620"/>
                  </a:cubicBezTo>
                  <a:cubicBezTo>
                    <a:pt x="1795259" y="3821430"/>
                    <a:pt x="1650479" y="3817620"/>
                    <a:pt x="1650479" y="3817620"/>
                  </a:cubicBezTo>
                  <a:lnTo>
                    <a:pt x="1273289" y="3817620"/>
                  </a:lnTo>
                  <a:lnTo>
                    <a:pt x="873239" y="3817620"/>
                  </a:lnTo>
                  <a:cubicBezTo>
                    <a:pt x="745604" y="3815715"/>
                    <a:pt x="606539" y="3804285"/>
                    <a:pt x="507479" y="3806190"/>
                  </a:cubicBezTo>
                  <a:cubicBezTo>
                    <a:pt x="408419" y="3808095"/>
                    <a:pt x="366509" y="3823335"/>
                    <a:pt x="278879" y="3829050"/>
                  </a:cubicBezTo>
                  <a:cubicBezTo>
                    <a:pt x="191249" y="3834765"/>
                    <a:pt x="31229" y="3832860"/>
                    <a:pt x="4559" y="38061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6"/>
            <p:cNvSpPr/>
            <p:nvPr/>
          </p:nvSpPr>
          <p:spPr>
            <a:xfrm>
              <a:off x="6732720" y="3282480"/>
              <a:ext cx="646920" cy="160956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591715" h="1471923">
                  <a:moveTo>
                    <a:pt x="591715" y="74637"/>
                  </a:moveTo>
                  <a:cubicBezTo>
                    <a:pt x="517227" y="60082"/>
                    <a:pt x="442740" y="45527"/>
                    <a:pt x="396506" y="33541"/>
                  </a:cubicBezTo>
                  <a:cubicBezTo>
                    <a:pt x="350272" y="21555"/>
                    <a:pt x="348560" y="-9268"/>
                    <a:pt x="314313" y="2718"/>
                  </a:cubicBezTo>
                  <a:cubicBezTo>
                    <a:pt x="280066" y="14704"/>
                    <a:pt x="228695" y="50664"/>
                    <a:pt x="191023" y="105460"/>
                  </a:cubicBezTo>
                  <a:cubicBezTo>
                    <a:pt x="153351" y="160256"/>
                    <a:pt x="107118" y="269846"/>
                    <a:pt x="88282" y="331491"/>
                  </a:cubicBezTo>
                  <a:cubicBezTo>
                    <a:pt x="69446" y="393136"/>
                    <a:pt x="79720" y="422246"/>
                    <a:pt x="78008" y="475329"/>
                  </a:cubicBezTo>
                  <a:cubicBezTo>
                    <a:pt x="76296" y="528412"/>
                    <a:pt x="81433" y="603756"/>
                    <a:pt x="78008" y="649990"/>
                  </a:cubicBezTo>
                  <a:cubicBezTo>
                    <a:pt x="74583" y="696224"/>
                    <a:pt x="69446" y="697937"/>
                    <a:pt x="57459" y="752732"/>
                  </a:cubicBezTo>
                  <a:cubicBezTo>
                    <a:pt x="45472" y="807527"/>
                    <a:pt x="14650" y="899995"/>
                    <a:pt x="6088" y="978763"/>
                  </a:cubicBezTo>
                  <a:cubicBezTo>
                    <a:pt x="-2474" y="1057531"/>
                    <a:pt x="6088" y="1225343"/>
                    <a:pt x="6088" y="1225343"/>
                  </a:cubicBezTo>
                  <a:cubicBezTo>
                    <a:pt x="6088" y="1292125"/>
                    <a:pt x="-7611" y="1338358"/>
                    <a:pt x="6088" y="1379455"/>
                  </a:cubicBezTo>
                  <a:cubicBezTo>
                    <a:pt x="19787" y="1420552"/>
                    <a:pt x="69446" y="1471923"/>
                    <a:pt x="88282" y="1471923"/>
                  </a:cubicBezTo>
                  <a:cubicBezTo>
                    <a:pt x="107118" y="1471923"/>
                    <a:pt x="113111" y="1425689"/>
                    <a:pt x="119104" y="137945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8"/>
            <p:cNvGrpSpPr/>
            <p:nvPr/>
          </p:nvGrpSpPr>
          <p:grpSpPr>
            <a:xfrm>
              <a:off x="6662520" y="2953440"/>
              <a:ext cx="568440" cy="770040"/>
              <a:chOff x="6662520" y="2953440"/>
              <a:chExt cx="568440" cy="770040"/>
            </a:xfrm>
          </p:grpSpPr>
          <p:sp>
            <p:nvSpPr>
              <p:cNvPr id="73" name="圆角矩形 8"/>
              <p:cNvSpPr/>
              <p:nvPr/>
            </p:nvSpPr>
            <p:spPr>
              <a:xfrm rot="19099800">
                <a:off x="6850080" y="3193920"/>
                <a:ext cx="118440" cy="560880"/>
              </a:xfrm>
              <a:custGeom>
                <a:avLst/>
                <a:gdLst>
                  <a:gd name="textAreaLeft" fmla="*/ 17280 w 118440"/>
                  <a:gd name="textAreaRight" fmla="*/ 101160 w 118440"/>
                  <a:gd name="textAreaTop" fmla="*/ 17280 h 560880"/>
                  <a:gd name="textAreaBottom" fmla="*/ 543600 h 560880"/>
                </a:gdLst>
                <a:ahLst/>
                <a:rect l="textAreaLeft" t="textAreaTop" r="textAreaRight" b="textAreaBottom"/>
                <a:pathLst>
                  <a:path w="21600" h="102044">
                    <a:moveTo>
                      <a:pt x="10800" y="0"/>
                    </a:moveTo>
                    <a:arcTo wR="10800" hR="10800" stAng="16200000" swAng="-5400000"/>
                    <a:lnTo>
                      <a:pt x="0" y="91244"/>
                    </a:lnTo>
                    <a:arcTo wR="10800" hR="10800" stAng="10800000" swAng="-5400000"/>
                    <a:lnTo>
                      <a:pt x="10800" y="10204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圆角矩形 9"/>
              <p:cNvSpPr/>
              <p:nvPr/>
            </p:nvSpPr>
            <p:spPr>
              <a:xfrm>
                <a:off x="7004520" y="3022200"/>
                <a:ext cx="147960" cy="306000"/>
              </a:xfrm>
              <a:custGeom>
                <a:avLst/>
                <a:gdLst>
                  <a:gd name="textAreaLeft" fmla="*/ 21600 w 147960"/>
                  <a:gd name="textAreaRight" fmla="*/ 126360 w 147960"/>
                  <a:gd name="textAreaTop" fmla="*/ 21600 h 306000"/>
                  <a:gd name="textAreaBottom" fmla="*/ 284400 h 306000"/>
                </a:gdLst>
                <a:ahLst/>
                <a:rect l="textAreaLeft" t="textAreaTop" r="textAreaRight" b="textAreaBottom"/>
                <a:pathLst>
                  <a:path w="21600" h="44616">
                    <a:moveTo>
                      <a:pt x="10800" y="0"/>
                    </a:moveTo>
                    <a:arcTo wR="10800" hR="10800" stAng="16200000" swAng="-5400000"/>
                    <a:lnTo>
                      <a:pt x="0" y="33816"/>
                    </a:lnTo>
                    <a:arcTo wR="10800" hR="10800" stAng="10800000" swAng="-5400000"/>
                    <a:lnTo>
                      <a:pt x="10800" y="4461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圆角矩形 10"/>
              <p:cNvSpPr/>
              <p:nvPr/>
            </p:nvSpPr>
            <p:spPr>
              <a:xfrm rot="19099800">
                <a:off x="6833880" y="3076200"/>
                <a:ext cx="118440" cy="560880"/>
              </a:xfrm>
              <a:custGeom>
                <a:avLst/>
                <a:gdLst>
                  <a:gd name="textAreaLeft" fmla="*/ 17280 w 118440"/>
                  <a:gd name="textAreaRight" fmla="*/ 101160 w 118440"/>
                  <a:gd name="textAreaTop" fmla="*/ 17280 h 560880"/>
                  <a:gd name="textAreaBottom" fmla="*/ 543600 h 560880"/>
                </a:gdLst>
                <a:ahLst/>
                <a:rect l="textAreaLeft" t="textAreaTop" r="textAreaRight" b="textAreaBottom"/>
                <a:pathLst>
                  <a:path w="21600" h="102044">
                    <a:moveTo>
                      <a:pt x="10800" y="0"/>
                    </a:moveTo>
                    <a:arcTo wR="10800" hR="10800" stAng="16200000" swAng="-5400000"/>
                    <a:lnTo>
                      <a:pt x="0" y="91244"/>
                    </a:lnTo>
                    <a:arcTo wR="10800" hR="10800" stAng="10800000" swAng="-5400000"/>
                    <a:lnTo>
                      <a:pt x="10800" y="10204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圆角矩形 11"/>
              <p:cNvSpPr/>
              <p:nvPr/>
            </p:nvSpPr>
            <p:spPr>
              <a:xfrm rot="19099800">
                <a:off x="6842160" y="2966040"/>
                <a:ext cx="118440" cy="560880"/>
              </a:xfrm>
              <a:custGeom>
                <a:avLst/>
                <a:gdLst>
                  <a:gd name="textAreaLeft" fmla="*/ 17280 w 118440"/>
                  <a:gd name="textAreaRight" fmla="*/ 101160 w 118440"/>
                  <a:gd name="textAreaTop" fmla="*/ 17280 h 560880"/>
                  <a:gd name="textAreaBottom" fmla="*/ 543600 h 560880"/>
                </a:gdLst>
                <a:ahLst/>
                <a:rect l="textAreaLeft" t="textAreaTop" r="textAreaRight" b="textAreaBottom"/>
                <a:pathLst>
                  <a:path w="21600" h="102044">
                    <a:moveTo>
                      <a:pt x="10800" y="0"/>
                    </a:moveTo>
                    <a:arcTo wR="10800" hR="10800" stAng="16200000" swAng="-5400000"/>
                    <a:lnTo>
                      <a:pt x="0" y="91244"/>
                    </a:lnTo>
                    <a:arcTo wR="10800" hR="10800" stAng="10800000" swAng="-5400000"/>
                    <a:lnTo>
                      <a:pt x="10800" y="10204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圆角矩形 12"/>
              <p:cNvSpPr/>
              <p:nvPr/>
            </p:nvSpPr>
            <p:spPr>
              <a:xfrm rot="19203000">
                <a:off x="6945840" y="2925720"/>
                <a:ext cx="118440" cy="560880"/>
              </a:xfrm>
              <a:custGeom>
                <a:avLst/>
                <a:gdLst>
                  <a:gd name="textAreaLeft" fmla="*/ 17280 w 118440"/>
                  <a:gd name="textAreaRight" fmla="*/ 101160 w 118440"/>
                  <a:gd name="textAreaTop" fmla="*/ 17280 h 560880"/>
                  <a:gd name="textAreaBottom" fmla="*/ 543600 h 560880"/>
                </a:gdLst>
                <a:ahLst/>
                <a:rect l="textAreaLeft" t="textAreaTop" r="textAreaRight" b="textAreaBottom"/>
                <a:pathLst>
                  <a:path w="21600" h="102044">
                    <a:moveTo>
                      <a:pt x="10800" y="0"/>
                    </a:moveTo>
                    <a:arcTo wR="10800" hR="10800" stAng="16200000" swAng="-5400000"/>
                    <a:lnTo>
                      <a:pt x="0" y="91244"/>
                    </a:lnTo>
                    <a:arcTo wR="10800" hR="10800" stAng="10800000" swAng="-5400000"/>
                    <a:lnTo>
                      <a:pt x="10800" y="10204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圆角矩形 13"/>
              <p:cNvSpPr/>
              <p:nvPr/>
            </p:nvSpPr>
            <p:spPr>
              <a:xfrm>
                <a:off x="6958080" y="3304800"/>
                <a:ext cx="161640" cy="178920"/>
              </a:xfrm>
              <a:custGeom>
                <a:avLst/>
                <a:gdLst>
                  <a:gd name="textAreaLeft" fmla="*/ 23400 w 161640"/>
                  <a:gd name="textAreaRight" fmla="*/ 138240 w 161640"/>
                  <a:gd name="textAreaTop" fmla="*/ 23400 h 178920"/>
                  <a:gd name="textAreaBottom" fmla="*/ 155520 h 178920"/>
                </a:gdLst>
                <a:ahLst/>
                <a:rect l="textAreaLeft" t="textAreaTop" r="textAreaRight" b="textAreaBottom"/>
                <a:pathLst>
                  <a:path w="21600" h="23904">
                    <a:moveTo>
                      <a:pt x="10800" y="0"/>
                    </a:moveTo>
                    <a:arcTo wR="10800" hR="10800" stAng="16200000" swAng="-5400000"/>
                    <a:lnTo>
                      <a:pt x="0" y="13104"/>
                    </a:lnTo>
                    <a:arcTo wR="10800" hR="10800" stAng="10800000" swAng="-5400000"/>
                    <a:lnTo>
                      <a:pt x="10800" y="239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14"/>
              <p:cNvSpPr/>
              <p:nvPr/>
            </p:nvSpPr>
            <p:spPr>
              <a:xfrm>
                <a:off x="7059240" y="3341160"/>
                <a:ext cx="161640" cy="178920"/>
              </a:xfrm>
              <a:custGeom>
                <a:avLst/>
                <a:gdLst>
                  <a:gd name="textAreaLeft" fmla="*/ 23400 w 161640"/>
                  <a:gd name="textAreaRight" fmla="*/ 138240 w 161640"/>
                  <a:gd name="textAreaTop" fmla="*/ 23400 h 178920"/>
                  <a:gd name="textAreaBottom" fmla="*/ 155520 h 178920"/>
                </a:gdLst>
                <a:ahLst/>
                <a:rect l="textAreaLeft" t="textAreaTop" r="textAreaRight" b="textAreaBottom"/>
                <a:pathLst>
                  <a:path w="21600" h="23904">
                    <a:moveTo>
                      <a:pt x="10800" y="0"/>
                    </a:moveTo>
                    <a:arcTo wR="10800" hR="10800" stAng="16200000" swAng="-5400000"/>
                    <a:lnTo>
                      <a:pt x="0" y="13104"/>
                    </a:lnTo>
                    <a:arcTo wR="10800" hR="10800" stAng="10800000" swAng="-5400000"/>
                    <a:lnTo>
                      <a:pt x="10800" y="239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16"/>
          <p:cNvGrpSpPr/>
          <p:nvPr/>
        </p:nvGrpSpPr>
        <p:grpSpPr>
          <a:xfrm>
            <a:off x="2035080" y="3206880"/>
            <a:ext cx="1559520" cy="3504960"/>
            <a:chOff x="2035080" y="3206880"/>
            <a:chExt cx="1559520" cy="3504960"/>
          </a:xfrm>
        </p:grpSpPr>
        <p:sp>
          <p:nvSpPr>
            <p:cNvPr id="81" name="椭圆 16"/>
            <p:cNvSpPr/>
            <p:nvPr/>
          </p:nvSpPr>
          <p:spPr>
            <a:xfrm>
              <a:off x="2035080" y="3206880"/>
              <a:ext cx="798120" cy="797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17"/>
            <p:cNvSpPr/>
            <p:nvPr/>
          </p:nvSpPr>
          <p:spPr>
            <a:xfrm>
              <a:off x="2050920" y="3824640"/>
              <a:ext cx="846360" cy="156492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1564920"/>
                <a:gd name="textAreaBottom" fmla="*/ 1565280 h 1564920"/>
              </a:gdLst>
              <a:ahLst/>
              <a:rect l="textAreaLeft" t="textAreaTop" r="textAreaRight" b="textAreaBottom"/>
              <a:pathLst>
                <a:path w="994410" h="1840230">
                  <a:moveTo>
                    <a:pt x="171450" y="0"/>
                  </a:moveTo>
                  <a:lnTo>
                    <a:pt x="0" y="1840230"/>
                  </a:lnTo>
                  <a:lnTo>
                    <a:pt x="994410" y="1794510"/>
                  </a:lnTo>
                  <a:lnTo>
                    <a:pt x="708660" y="400050"/>
                  </a:lnTo>
                  <a:lnTo>
                    <a:pt x="708660" y="205740"/>
                  </a:lnTo>
                  <a:lnTo>
                    <a:pt x="400050" y="457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梯形 18"/>
            <p:cNvSpPr/>
            <p:nvPr/>
          </p:nvSpPr>
          <p:spPr>
            <a:xfrm>
              <a:off x="2148480" y="5342400"/>
              <a:ext cx="622440" cy="1369440"/>
            </a:xfrm>
            <a:custGeom>
              <a:avLst/>
              <a:gdLst>
                <a:gd name="textAreaLeft" fmla="*/ 129600 w 622440"/>
                <a:gd name="textAreaRight" fmla="*/ 492840 w 622440"/>
                <a:gd name="textAreaTop" fmla="*/ 285120 h 1369440"/>
                <a:gd name="textAreaBottom" fmla="*/ 1084320 h 136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48"/>
            <p:cNvSpPr/>
            <p:nvPr/>
          </p:nvSpPr>
          <p:spPr>
            <a:xfrm>
              <a:off x="2318760" y="6595200"/>
              <a:ext cx="515880" cy="1166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606189" h="137159">
                  <a:moveTo>
                    <a:pt x="0" y="0"/>
                  </a:moveTo>
                  <a:lnTo>
                    <a:pt x="606189" y="57150"/>
                  </a:lnTo>
                  <a:lnTo>
                    <a:pt x="583329" y="137159"/>
                  </a:lnTo>
                  <a:lnTo>
                    <a:pt x="0" y="137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梯形 13"/>
            <p:cNvSpPr/>
            <p:nvPr/>
          </p:nvSpPr>
          <p:spPr>
            <a:xfrm rot="6483600">
              <a:off x="2706840" y="3983760"/>
              <a:ext cx="325080" cy="736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20729" h="645841">
                  <a:moveTo>
                    <a:pt x="0" y="644666"/>
                  </a:moveTo>
                  <a:lnTo>
                    <a:pt x="44833" y="0"/>
                  </a:lnTo>
                  <a:lnTo>
                    <a:pt x="108573" y="6586"/>
                  </a:lnTo>
                  <a:cubicBezTo>
                    <a:pt x="107330" y="229653"/>
                    <a:pt x="121897" y="422774"/>
                    <a:pt x="120654" y="645841"/>
                  </a:cubicBezTo>
                  <a:lnTo>
                    <a:pt x="0" y="6446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梯形 13"/>
            <p:cNvSpPr/>
            <p:nvPr/>
          </p:nvSpPr>
          <p:spPr>
            <a:xfrm rot="1734600">
              <a:off x="3125520" y="3740400"/>
              <a:ext cx="282960" cy="8424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120729" h="645841">
                  <a:moveTo>
                    <a:pt x="0" y="644666"/>
                  </a:moveTo>
                  <a:lnTo>
                    <a:pt x="44833" y="0"/>
                  </a:lnTo>
                  <a:lnTo>
                    <a:pt x="108573" y="6586"/>
                  </a:lnTo>
                  <a:cubicBezTo>
                    <a:pt x="107330" y="229653"/>
                    <a:pt x="121897" y="422774"/>
                    <a:pt x="120654" y="645841"/>
                  </a:cubicBezTo>
                  <a:lnTo>
                    <a:pt x="0" y="6446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矩形 23"/>
          <p:cNvSpPr/>
          <p:nvPr/>
        </p:nvSpPr>
        <p:spPr>
          <a:xfrm>
            <a:off x="0" y="6532560"/>
            <a:ext cx="12192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4"/>
          <p:cNvSpPr/>
          <p:nvPr/>
        </p:nvSpPr>
        <p:spPr>
          <a:xfrm>
            <a:off x="1739520" y="368280"/>
            <a:ext cx="30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请问法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我的小孩不听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不爱学习怎么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7"/>
          <p:cNvSpPr/>
          <p:nvPr/>
        </p:nvSpPr>
        <p:spPr>
          <a:xfrm flipV="1">
            <a:off x="9441000" y="0"/>
            <a:ext cx="2751120" cy="653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9"/>
          <p:cNvSpPr/>
          <p:nvPr/>
        </p:nvSpPr>
        <p:spPr>
          <a:xfrm flipV="1">
            <a:off x="0" y="-720"/>
            <a:ext cx="444600" cy="668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0"/>
          <p:cNvSpPr/>
          <p:nvPr/>
        </p:nvSpPr>
        <p:spPr>
          <a:xfrm>
            <a:off x="2468520" y="5178600"/>
            <a:ext cx="2211480" cy="9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8"/>
          <p:cNvSpPr/>
          <p:nvPr/>
        </p:nvSpPr>
        <p:spPr>
          <a:xfrm>
            <a:off x="3681360" y="3987720"/>
            <a:ext cx="5213520" cy="97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9165600" y="2201760"/>
            <a:ext cx="2899080" cy="4330800"/>
            <a:chOff x="9165600" y="2201760"/>
            <a:chExt cx="2899080" cy="4330800"/>
          </a:xfrm>
        </p:grpSpPr>
        <p:sp>
          <p:nvSpPr>
            <p:cNvPr id="94" name="椭圆 4"/>
            <p:cNvSpPr/>
            <p:nvPr/>
          </p:nvSpPr>
          <p:spPr>
            <a:xfrm>
              <a:off x="9559440" y="2201760"/>
              <a:ext cx="960120" cy="9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"/>
            <p:cNvSpPr/>
            <p:nvPr/>
          </p:nvSpPr>
          <p:spPr>
            <a:xfrm flipH="1">
              <a:off x="9348840" y="2700360"/>
              <a:ext cx="2715480" cy="3832200"/>
            </a:xfrm>
            <a:custGeom>
              <a:avLst/>
              <a:gdLst>
                <a:gd name="textAreaLeft" fmla="*/ -360 w 2715480"/>
                <a:gd name="textAreaRight" fmla="*/ 2715480 w 2715480"/>
                <a:gd name="textAreaTop" fmla="*/ 0 h 3832200"/>
                <a:gd name="textAreaBottom" fmla="*/ 3832560 h 3832200"/>
              </a:gdLst>
              <a:ahLst/>
              <a:rect l="textAreaLeft" t="textAreaTop" r="textAreaRight" b="textAreaBottom"/>
              <a:pathLst>
                <a:path w="2714817" h="3831682">
                  <a:moveTo>
                    <a:pt x="4559" y="3806190"/>
                  </a:moveTo>
                  <a:cubicBezTo>
                    <a:pt x="-22111" y="3779520"/>
                    <a:pt x="75044" y="3688080"/>
                    <a:pt x="118859" y="3669030"/>
                  </a:cubicBezTo>
                  <a:cubicBezTo>
                    <a:pt x="162674" y="3649980"/>
                    <a:pt x="206489" y="3701415"/>
                    <a:pt x="267449" y="3691890"/>
                  </a:cubicBezTo>
                  <a:cubicBezTo>
                    <a:pt x="328409" y="3682365"/>
                    <a:pt x="400799" y="3638550"/>
                    <a:pt x="484619" y="3611880"/>
                  </a:cubicBezTo>
                  <a:cubicBezTo>
                    <a:pt x="568439" y="3585210"/>
                    <a:pt x="675119" y="3568065"/>
                    <a:pt x="770369" y="3531870"/>
                  </a:cubicBezTo>
                  <a:cubicBezTo>
                    <a:pt x="865619" y="3495675"/>
                    <a:pt x="1012304" y="3438525"/>
                    <a:pt x="1056119" y="3394710"/>
                  </a:cubicBezTo>
                  <a:cubicBezTo>
                    <a:pt x="1099934" y="3350895"/>
                    <a:pt x="1018019" y="3308985"/>
                    <a:pt x="1033259" y="3268980"/>
                  </a:cubicBezTo>
                  <a:cubicBezTo>
                    <a:pt x="1048499" y="3228975"/>
                    <a:pt x="1118984" y="3230880"/>
                    <a:pt x="1147559" y="3154680"/>
                  </a:cubicBezTo>
                  <a:cubicBezTo>
                    <a:pt x="1176134" y="3078480"/>
                    <a:pt x="1187564" y="2945130"/>
                    <a:pt x="1204709" y="2811780"/>
                  </a:cubicBezTo>
                  <a:cubicBezTo>
                    <a:pt x="1221854" y="2678430"/>
                    <a:pt x="1252334" y="2522220"/>
                    <a:pt x="1250429" y="2354580"/>
                  </a:cubicBezTo>
                  <a:cubicBezTo>
                    <a:pt x="1248524" y="2186940"/>
                    <a:pt x="1202804" y="1958340"/>
                    <a:pt x="1193279" y="1805940"/>
                  </a:cubicBezTo>
                  <a:cubicBezTo>
                    <a:pt x="1183754" y="1653540"/>
                    <a:pt x="1193279" y="1440180"/>
                    <a:pt x="1193279" y="1440180"/>
                  </a:cubicBezTo>
                  <a:cubicBezTo>
                    <a:pt x="1193279" y="1299210"/>
                    <a:pt x="1189469" y="1089660"/>
                    <a:pt x="1193279" y="960120"/>
                  </a:cubicBezTo>
                  <a:cubicBezTo>
                    <a:pt x="1197089" y="830580"/>
                    <a:pt x="1212329" y="763905"/>
                    <a:pt x="1216139" y="662940"/>
                  </a:cubicBezTo>
                  <a:cubicBezTo>
                    <a:pt x="1219949" y="561975"/>
                    <a:pt x="1189469" y="434340"/>
                    <a:pt x="1216139" y="354330"/>
                  </a:cubicBezTo>
                  <a:cubicBezTo>
                    <a:pt x="1242809" y="274320"/>
                    <a:pt x="1319009" y="230505"/>
                    <a:pt x="1376159" y="182880"/>
                  </a:cubicBezTo>
                  <a:cubicBezTo>
                    <a:pt x="1433309" y="135255"/>
                    <a:pt x="1511414" y="99060"/>
                    <a:pt x="1559039" y="68580"/>
                  </a:cubicBezTo>
                  <a:cubicBezTo>
                    <a:pt x="1606664" y="38100"/>
                    <a:pt x="1621904" y="0"/>
                    <a:pt x="1661909" y="0"/>
                  </a:cubicBezTo>
                  <a:cubicBezTo>
                    <a:pt x="1701914" y="0"/>
                    <a:pt x="1757159" y="15240"/>
                    <a:pt x="1799069" y="68580"/>
                  </a:cubicBezTo>
                  <a:cubicBezTo>
                    <a:pt x="1840979" y="121920"/>
                    <a:pt x="1860029" y="251460"/>
                    <a:pt x="1913369" y="320040"/>
                  </a:cubicBezTo>
                  <a:cubicBezTo>
                    <a:pt x="1966709" y="388620"/>
                    <a:pt x="2061959" y="424815"/>
                    <a:pt x="2119109" y="480060"/>
                  </a:cubicBezTo>
                  <a:cubicBezTo>
                    <a:pt x="2176259" y="535305"/>
                    <a:pt x="2231504" y="615315"/>
                    <a:pt x="2256269" y="651510"/>
                  </a:cubicBezTo>
                  <a:cubicBezTo>
                    <a:pt x="2281034" y="687705"/>
                    <a:pt x="2267699" y="697230"/>
                    <a:pt x="2267699" y="697230"/>
                  </a:cubicBezTo>
                  <a:lnTo>
                    <a:pt x="2267699" y="697230"/>
                  </a:lnTo>
                  <a:cubicBezTo>
                    <a:pt x="2292464" y="741045"/>
                    <a:pt x="2362949" y="878205"/>
                    <a:pt x="2416289" y="960120"/>
                  </a:cubicBezTo>
                  <a:cubicBezTo>
                    <a:pt x="2469629" y="1042035"/>
                    <a:pt x="2545829" y="1116330"/>
                    <a:pt x="2587739" y="1188720"/>
                  </a:cubicBezTo>
                  <a:cubicBezTo>
                    <a:pt x="2629649" y="1261110"/>
                    <a:pt x="2650604" y="1327785"/>
                    <a:pt x="2667749" y="1394460"/>
                  </a:cubicBezTo>
                  <a:cubicBezTo>
                    <a:pt x="2684894" y="1461135"/>
                    <a:pt x="2686799" y="1514475"/>
                    <a:pt x="2690609" y="1588770"/>
                  </a:cubicBezTo>
                  <a:cubicBezTo>
                    <a:pt x="2694419" y="1663065"/>
                    <a:pt x="2690609" y="1840230"/>
                    <a:pt x="2690609" y="1840230"/>
                  </a:cubicBezTo>
                  <a:cubicBezTo>
                    <a:pt x="2690609" y="1916430"/>
                    <a:pt x="2692514" y="1973580"/>
                    <a:pt x="2690609" y="2045970"/>
                  </a:cubicBezTo>
                  <a:cubicBezTo>
                    <a:pt x="2688704" y="2118360"/>
                    <a:pt x="2677274" y="2196465"/>
                    <a:pt x="2679179" y="2274570"/>
                  </a:cubicBezTo>
                  <a:cubicBezTo>
                    <a:pt x="2681084" y="2352675"/>
                    <a:pt x="2740139" y="2491740"/>
                    <a:pt x="2702039" y="2514600"/>
                  </a:cubicBezTo>
                  <a:cubicBezTo>
                    <a:pt x="2663939" y="2537460"/>
                    <a:pt x="2494394" y="2366010"/>
                    <a:pt x="2450579" y="2411730"/>
                  </a:cubicBezTo>
                  <a:cubicBezTo>
                    <a:pt x="2406764" y="2457450"/>
                    <a:pt x="2454389" y="2678430"/>
                    <a:pt x="2439149" y="2788920"/>
                  </a:cubicBezTo>
                  <a:cubicBezTo>
                    <a:pt x="2423909" y="2899410"/>
                    <a:pt x="2412479" y="3027045"/>
                    <a:pt x="2359139" y="3074670"/>
                  </a:cubicBezTo>
                  <a:cubicBezTo>
                    <a:pt x="2305799" y="3122295"/>
                    <a:pt x="2159114" y="3036570"/>
                    <a:pt x="2119109" y="3074670"/>
                  </a:cubicBezTo>
                  <a:cubicBezTo>
                    <a:pt x="2079104" y="3112770"/>
                    <a:pt x="2081009" y="3202305"/>
                    <a:pt x="2119109" y="3303270"/>
                  </a:cubicBezTo>
                  <a:cubicBezTo>
                    <a:pt x="2157209" y="3404235"/>
                    <a:pt x="2301989" y="3608070"/>
                    <a:pt x="2347709" y="3680460"/>
                  </a:cubicBezTo>
                  <a:cubicBezTo>
                    <a:pt x="2393429" y="3752850"/>
                    <a:pt x="2402954" y="3718560"/>
                    <a:pt x="2393429" y="3737610"/>
                  </a:cubicBezTo>
                  <a:cubicBezTo>
                    <a:pt x="2383904" y="3756660"/>
                    <a:pt x="2372474" y="3781425"/>
                    <a:pt x="2290559" y="3794760"/>
                  </a:cubicBezTo>
                  <a:cubicBezTo>
                    <a:pt x="2208644" y="3808095"/>
                    <a:pt x="2008619" y="3813810"/>
                    <a:pt x="1901939" y="3817620"/>
                  </a:cubicBezTo>
                  <a:cubicBezTo>
                    <a:pt x="1795259" y="3821430"/>
                    <a:pt x="1650479" y="3817620"/>
                    <a:pt x="1650479" y="3817620"/>
                  </a:cubicBezTo>
                  <a:lnTo>
                    <a:pt x="1273289" y="3817620"/>
                  </a:lnTo>
                  <a:lnTo>
                    <a:pt x="873239" y="3817620"/>
                  </a:lnTo>
                  <a:cubicBezTo>
                    <a:pt x="745604" y="3815715"/>
                    <a:pt x="606539" y="3804285"/>
                    <a:pt x="507479" y="3806190"/>
                  </a:cubicBezTo>
                  <a:cubicBezTo>
                    <a:pt x="408419" y="3808095"/>
                    <a:pt x="366509" y="3823335"/>
                    <a:pt x="278879" y="3829050"/>
                  </a:cubicBezTo>
                  <a:cubicBezTo>
                    <a:pt x="191249" y="3834765"/>
                    <a:pt x="31229" y="3832860"/>
                    <a:pt x="4559" y="38061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6"/>
            <p:cNvSpPr/>
            <p:nvPr/>
          </p:nvSpPr>
          <p:spPr>
            <a:xfrm>
              <a:off x="9229680" y="3421080"/>
              <a:ext cx="591840" cy="147204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1472040"/>
                <a:gd name="textAreaBottom" fmla="*/ 1472400 h 1472040"/>
              </a:gdLst>
              <a:ahLst/>
              <a:rect l="textAreaLeft" t="textAreaTop" r="textAreaRight" b="textAreaBottom"/>
              <a:pathLst>
                <a:path w="591715" h="1471923">
                  <a:moveTo>
                    <a:pt x="591715" y="74637"/>
                  </a:moveTo>
                  <a:cubicBezTo>
                    <a:pt x="517227" y="60082"/>
                    <a:pt x="442740" y="45527"/>
                    <a:pt x="396506" y="33541"/>
                  </a:cubicBezTo>
                  <a:cubicBezTo>
                    <a:pt x="350272" y="21555"/>
                    <a:pt x="348560" y="-9268"/>
                    <a:pt x="314313" y="2718"/>
                  </a:cubicBezTo>
                  <a:cubicBezTo>
                    <a:pt x="280066" y="14704"/>
                    <a:pt x="228695" y="50664"/>
                    <a:pt x="191023" y="105460"/>
                  </a:cubicBezTo>
                  <a:cubicBezTo>
                    <a:pt x="153351" y="160256"/>
                    <a:pt x="107118" y="269846"/>
                    <a:pt x="88282" y="331491"/>
                  </a:cubicBezTo>
                  <a:cubicBezTo>
                    <a:pt x="69446" y="393136"/>
                    <a:pt x="79720" y="422246"/>
                    <a:pt x="78008" y="475329"/>
                  </a:cubicBezTo>
                  <a:cubicBezTo>
                    <a:pt x="76296" y="528412"/>
                    <a:pt x="81433" y="603756"/>
                    <a:pt x="78008" y="649990"/>
                  </a:cubicBezTo>
                  <a:cubicBezTo>
                    <a:pt x="74583" y="696224"/>
                    <a:pt x="69446" y="697937"/>
                    <a:pt x="57459" y="752732"/>
                  </a:cubicBezTo>
                  <a:cubicBezTo>
                    <a:pt x="45472" y="807527"/>
                    <a:pt x="14650" y="899995"/>
                    <a:pt x="6088" y="978763"/>
                  </a:cubicBezTo>
                  <a:cubicBezTo>
                    <a:pt x="-2474" y="1057531"/>
                    <a:pt x="6088" y="1225343"/>
                    <a:pt x="6088" y="1225343"/>
                  </a:cubicBezTo>
                  <a:cubicBezTo>
                    <a:pt x="6088" y="1292125"/>
                    <a:pt x="-7611" y="1338358"/>
                    <a:pt x="6088" y="1379455"/>
                  </a:cubicBezTo>
                  <a:cubicBezTo>
                    <a:pt x="19787" y="1420552"/>
                    <a:pt x="69446" y="1471923"/>
                    <a:pt x="88282" y="1471923"/>
                  </a:cubicBezTo>
                  <a:cubicBezTo>
                    <a:pt x="107118" y="1471923"/>
                    <a:pt x="113111" y="1425689"/>
                    <a:pt x="119104" y="137945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8"/>
            <p:cNvGrpSpPr/>
            <p:nvPr/>
          </p:nvGrpSpPr>
          <p:grpSpPr>
            <a:xfrm>
              <a:off x="9165600" y="3119760"/>
              <a:ext cx="519480" cy="704520"/>
              <a:chOff x="9165600" y="3119760"/>
              <a:chExt cx="519480" cy="704520"/>
            </a:xfrm>
          </p:grpSpPr>
          <p:sp>
            <p:nvSpPr>
              <p:cNvPr id="98" name="圆角矩形 8"/>
              <p:cNvSpPr/>
              <p:nvPr/>
            </p:nvSpPr>
            <p:spPr>
              <a:xfrm rot="19099800">
                <a:off x="9336960" y="3340080"/>
                <a:ext cx="108360" cy="512640"/>
              </a:xfrm>
              <a:custGeom>
                <a:avLst/>
                <a:gdLst>
                  <a:gd name="textAreaLeft" fmla="*/ 15840 w 108360"/>
                  <a:gd name="textAreaRight" fmla="*/ 92520 w 108360"/>
                  <a:gd name="textAreaTop" fmla="*/ 15840 h 512640"/>
                  <a:gd name="textAreaBottom" fmla="*/ 496800 h 512640"/>
                </a:gdLst>
                <a:ahLst/>
                <a:rect l="textAreaLeft" t="textAreaTop" r="textAreaRight" b="textAreaBottom"/>
                <a:pathLst>
                  <a:path w="21600" h="101921">
                    <a:moveTo>
                      <a:pt x="10800" y="0"/>
                    </a:moveTo>
                    <a:arcTo wR="10800" hR="10800" stAng="16200000" swAng="-5400000"/>
                    <a:lnTo>
                      <a:pt x="0" y="91121"/>
                    </a:lnTo>
                    <a:arcTo wR="10800" hR="10800" stAng="10800000" swAng="-5400000"/>
                    <a:lnTo>
                      <a:pt x="10800" y="10192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圆角矩形 9"/>
              <p:cNvSpPr/>
              <p:nvPr/>
            </p:nvSpPr>
            <p:spPr>
              <a:xfrm>
                <a:off x="9478440" y="3182760"/>
                <a:ext cx="135360" cy="279720"/>
              </a:xfrm>
              <a:custGeom>
                <a:avLst/>
                <a:gdLst>
                  <a:gd name="textAreaLeft" fmla="*/ 19800 w 135360"/>
                  <a:gd name="textAreaRight" fmla="*/ 115560 w 135360"/>
                  <a:gd name="textAreaTop" fmla="*/ 19800 h 279720"/>
                  <a:gd name="textAreaBottom" fmla="*/ 259920 h 279720"/>
                </a:gdLst>
                <a:ahLst/>
                <a:rect l="textAreaLeft" t="textAreaTop" r="textAreaRight" b="textAreaBottom"/>
                <a:pathLst>
                  <a:path w="21600" h="44575">
                    <a:moveTo>
                      <a:pt x="10800" y="0"/>
                    </a:moveTo>
                    <a:arcTo wR="10800" hR="10800" stAng="16200000" swAng="-5400000"/>
                    <a:lnTo>
                      <a:pt x="0" y="33775"/>
                    </a:lnTo>
                    <a:arcTo wR="10800" hR="10800" stAng="10800000" swAng="-5400000"/>
                    <a:lnTo>
                      <a:pt x="10800" y="4457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圆角矩形 10"/>
              <p:cNvSpPr/>
              <p:nvPr/>
            </p:nvSpPr>
            <p:spPr>
              <a:xfrm rot="19099800">
                <a:off x="9322200" y="3232080"/>
                <a:ext cx="108360" cy="512640"/>
              </a:xfrm>
              <a:custGeom>
                <a:avLst/>
                <a:gdLst>
                  <a:gd name="textAreaLeft" fmla="*/ 15840 w 108360"/>
                  <a:gd name="textAreaRight" fmla="*/ 92520 w 108360"/>
                  <a:gd name="textAreaTop" fmla="*/ 15840 h 512640"/>
                  <a:gd name="textAreaBottom" fmla="*/ 496800 h 512640"/>
                </a:gdLst>
                <a:ahLst/>
                <a:rect l="textAreaLeft" t="textAreaTop" r="textAreaRight" b="textAreaBottom"/>
                <a:pathLst>
                  <a:path w="21600" h="101921">
                    <a:moveTo>
                      <a:pt x="10800" y="0"/>
                    </a:moveTo>
                    <a:arcTo wR="10800" hR="10800" stAng="16200000" swAng="-5400000"/>
                    <a:lnTo>
                      <a:pt x="0" y="91121"/>
                    </a:lnTo>
                    <a:arcTo wR="10800" hR="10800" stAng="10800000" swAng="-5400000"/>
                    <a:lnTo>
                      <a:pt x="10800" y="10192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圆角矩形 11"/>
              <p:cNvSpPr/>
              <p:nvPr/>
            </p:nvSpPr>
            <p:spPr>
              <a:xfrm rot="19099800">
                <a:off x="9329760" y="3131640"/>
                <a:ext cx="108360" cy="512640"/>
              </a:xfrm>
              <a:custGeom>
                <a:avLst/>
                <a:gdLst>
                  <a:gd name="textAreaLeft" fmla="*/ 15840 w 108360"/>
                  <a:gd name="textAreaRight" fmla="*/ 92520 w 108360"/>
                  <a:gd name="textAreaTop" fmla="*/ 15840 h 512640"/>
                  <a:gd name="textAreaBottom" fmla="*/ 496800 h 512640"/>
                </a:gdLst>
                <a:ahLst/>
                <a:rect l="textAreaLeft" t="textAreaTop" r="textAreaRight" b="textAreaBottom"/>
                <a:pathLst>
                  <a:path w="21600" h="101921">
                    <a:moveTo>
                      <a:pt x="10800" y="0"/>
                    </a:moveTo>
                    <a:arcTo wR="10800" hR="10800" stAng="16200000" swAng="-5400000"/>
                    <a:lnTo>
                      <a:pt x="0" y="91121"/>
                    </a:lnTo>
                    <a:arcTo wR="10800" hR="10800" stAng="10800000" swAng="-5400000"/>
                    <a:lnTo>
                      <a:pt x="10800" y="10192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圆角矩形 12"/>
              <p:cNvSpPr/>
              <p:nvPr/>
            </p:nvSpPr>
            <p:spPr>
              <a:xfrm rot="19203000">
                <a:off x="9424800" y="3094560"/>
                <a:ext cx="108360" cy="512640"/>
              </a:xfrm>
              <a:custGeom>
                <a:avLst/>
                <a:gdLst>
                  <a:gd name="textAreaLeft" fmla="*/ 15840 w 108360"/>
                  <a:gd name="textAreaRight" fmla="*/ 92520 w 108360"/>
                  <a:gd name="textAreaTop" fmla="*/ 15840 h 512640"/>
                  <a:gd name="textAreaBottom" fmla="*/ 496800 h 512640"/>
                </a:gdLst>
                <a:ahLst/>
                <a:rect l="textAreaLeft" t="textAreaTop" r="textAreaRight" b="textAreaBottom"/>
                <a:pathLst>
                  <a:path w="21600" h="101921">
                    <a:moveTo>
                      <a:pt x="10800" y="0"/>
                    </a:moveTo>
                    <a:arcTo wR="10800" hR="10800" stAng="16200000" swAng="-5400000"/>
                    <a:lnTo>
                      <a:pt x="0" y="91121"/>
                    </a:lnTo>
                    <a:arcTo wR="10800" hR="10800" stAng="10800000" swAng="-5400000"/>
                    <a:lnTo>
                      <a:pt x="10800" y="10192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圆角矩形 13"/>
              <p:cNvSpPr/>
              <p:nvPr/>
            </p:nvSpPr>
            <p:spPr>
              <a:xfrm>
                <a:off x="9435600" y="3441240"/>
                <a:ext cx="147960" cy="163440"/>
              </a:xfrm>
              <a:custGeom>
                <a:avLst/>
                <a:gdLst>
                  <a:gd name="textAreaLeft" fmla="*/ 21600 w 147960"/>
                  <a:gd name="textAreaRight" fmla="*/ 126360 w 147960"/>
                  <a:gd name="textAreaTop" fmla="*/ 21600 h 163440"/>
                  <a:gd name="textAreaBottom" fmla="*/ 141840 h 163440"/>
                </a:gdLst>
                <a:ahLst/>
                <a:rect l="textAreaLeft" t="textAreaTop" r="textAreaRight" b="textAreaBottom"/>
                <a:pathLst>
                  <a:path w="21600" h="23854">
                    <a:moveTo>
                      <a:pt x="10800" y="0"/>
                    </a:moveTo>
                    <a:arcTo wR="10800" hR="10800" stAng="16200000" swAng="-5400000"/>
                    <a:lnTo>
                      <a:pt x="0" y="13054"/>
                    </a:lnTo>
                    <a:arcTo wR="10800" hR="10800" stAng="10800000" swAng="-5400000"/>
                    <a:lnTo>
                      <a:pt x="10800" y="2385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圆角矩形 14"/>
              <p:cNvSpPr/>
              <p:nvPr/>
            </p:nvSpPr>
            <p:spPr>
              <a:xfrm>
                <a:off x="9528120" y="3474360"/>
                <a:ext cx="147960" cy="163440"/>
              </a:xfrm>
              <a:custGeom>
                <a:avLst/>
                <a:gdLst>
                  <a:gd name="textAreaLeft" fmla="*/ 21600 w 147960"/>
                  <a:gd name="textAreaRight" fmla="*/ 126360 w 147960"/>
                  <a:gd name="textAreaTop" fmla="*/ 21600 h 163440"/>
                  <a:gd name="textAreaBottom" fmla="*/ 141840 h 163440"/>
                </a:gdLst>
                <a:ahLst/>
                <a:rect l="textAreaLeft" t="textAreaTop" r="textAreaRight" b="textAreaBottom"/>
                <a:pathLst>
                  <a:path w="21600" h="23854">
                    <a:moveTo>
                      <a:pt x="10800" y="0"/>
                    </a:moveTo>
                    <a:arcTo wR="10800" hR="10800" stAng="16200000" swAng="-5400000"/>
                    <a:lnTo>
                      <a:pt x="0" y="13054"/>
                    </a:lnTo>
                    <a:arcTo wR="10800" hR="10800" stAng="10800000" swAng="-5400000"/>
                    <a:lnTo>
                      <a:pt x="10800" y="2385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椭圆 16"/>
          <p:cNvSpPr/>
          <p:nvPr/>
        </p:nvSpPr>
        <p:spPr>
          <a:xfrm>
            <a:off x="1233360" y="2654280"/>
            <a:ext cx="938520" cy="938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17"/>
          <p:cNvSpPr/>
          <p:nvPr/>
        </p:nvSpPr>
        <p:spPr>
          <a:xfrm>
            <a:off x="1244520" y="3273480"/>
            <a:ext cx="995400" cy="1793880"/>
          </a:xfrm>
          <a:custGeom>
            <a:avLst/>
            <a:gdLst>
              <a:gd name="textAreaLeft" fmla="*/ 0 w 995400"/>
              <a:gd name="textAreaRight" fmla="*/ 995760 w 99540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994410" h="1794510">
                <a:moveTo>
                  <a:pt x="322057" y="29583"/>
                </a:moveTo>
                <a:lnTo>
                  <a:pt x="0" y="1794510"/>
                </a:lnTo>
                <a:lnTo>
                  <a:pt x="994410" y="1748790"/>
                </a:lnTo>
                <a:lnTo>
                  <a:pt x="708660" y="354330"/>
                </a:lnTo>
                <a:lnTo>
                  <a:pt x="708660" y="160020"/>
                </a:lnTo>
                <a:lnTo>
                  <a:pt x="40005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梯形 18"/>
          <p:cNvSpPr/>
          <p:nvPr/>
        </p:nvSpPr>
        <p:spPr>
          <a:xfrm>
            <a:off x="1360440" y="5011560"/>
            <a:ext cx="731880" cy="1611360"/>
          </a:xfrm>
          <a:custGeom>
            <a:avLst/>
            <a:gdLst>
              <a:gd name="textAreaLeft" fmla="*/ 152280 w 731880"/>
              <a:gd name="textAreaRight" fmla="*/ 579600 w 731880"/>
              <a:gd name="textAreaTop" fmla="*/ 335520 h 1611360"/>
              <a:gd name="textAreaBottom" fmla="*/ 127584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8"/>
          <p:cNvSpPr/>
          <p:nvPr/>
        </p:nvSpPr>
        <p:spPr>
          <a:xfrm>
            <a:off x="1560600" y="6485040"/>
            <a:ext cx="606240" cy="137880"/>
          </a:xfrm>
          <a:custGeom>
            <a:avLst/>
            <a:gdLst>
              <a:gd name="textAreaLeft" fmla="*/ 0 w 606240"/>
              <a:gd name="textAreaRight" fmla="*/ 606600 w 6062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606189" h="137159">
                <a:moveTo>
                  <a:pt x="0" y="0"/>
                </a:moveTo>
                <a:lnTo>
                  <a:pt x="606189" y="57150"/>
                </a:lnTo>
                <a:lnTo>
                  <a:pt x="583329" y="137159"/>
                </a:lnTo>
                <a:lnTo>
                  <a:pt x="0" y="137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梯形 13"/>
          <p:cNvSpPr/>
          <p:nvPr/>
        </p:nvSpPr>
        <p:spPr>
          <a:xfrm rot="8646600">
            <a:off x="1934640" y="3390840"/>
            <a:ext cx="382680" cy="1330560"/>
          </a:xfrm>
          <a:custGeom>
            <a:avLst/>
            <a:gdLst>
              <a:gd name="textAreaLeft" fmla="*/ 0 w 382680"/>
              <a:gd name="textAreaRight" fmla="*/ 383040 w 38268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120729" h="645841">
                <a:moveTo>
                  <a:pt x="0" y="644666"/>
                </a:moveTo>
                <a:lnTo>
                  <a:pt x="44833" y="0"/>
                </a:lnTo>
                <a:lnTo>
                  <a:pt x="108573" y="6586"/>
                </a:lnTo>
                <a:cubicBezTo>
                  <a:pt x="107330" y="229653"/>
                  <a:pt x="121897" y="422774"/>
                  <a:pt x="120654" y="645841"/>
                </a:cubicBezTo>
                <a:lnTo>
                  <a:pt x="0" y="6446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3"/>
          <p:cNvSpPr/>
          <p:nvPr/>
        </p:nvSpPr>
        <p:spPr>
          <a:xfrm>
            <a:off x="0" y="6394320"/>
            <a:ext cx="12192120" cy="46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4"/>
          <p:cNvSpPr/>
          <p:nvPr/>
        </p:nvSpPr>
        <p:spPr>
          <a:xfrm>
            <a:off x="4759200" y="40798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你复印过文件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5159520" y="1463760"/>
            <a:ext cx="2170080" cy="230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5"/>
          <p:cNvSpPr/>
          <p:nvPr/>
        </p:nvSpPr>
        <p:spPr>
          <a:xfrm rot="1692000">
            <a:off x="5343120" y="682560"/>
            <a:ext cx="216864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6"/>
          <p:cNvSpPr/>
          <p:nvPr/>
        </p:nvSpPr>
        <p:spPr>
          <a:xfrm rot="1225800">
            <a:off x="4568760" y="1781280"/>
            <a:ext cx="1228680" cy="3952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227470" h="395463">
                <a:moveTo>
                  <a:pt x="0" y="0"/>
                </a:moveTo>
                <a:lnTo>
                  <a:pt x="1227470" y="0"/>
                </a:lnTo>
                <a:lnTo>
                  <a:pt x="1216188" y="395463"/>
                </a:lnTo>
                <a:lnTo>
                  <a:pt x="0" y="1264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7"/>
          <p:cNvSpPr/>
          <p:nvPr/>
        </p:nvSpPr>
        <p:spPr>
          <a:xfrm rot="1225800">
            <a:off x="4986000" y="2126880"/>
            <a:ext cx="1227240" cy="30960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09600"/>
              <a:gd name="textAreaBottom" fmla="*/ 309600 h 309600"/>
            </a:gdLst>
            <a:ahLst/>
            <a:rect l="textAreaLeft" t="textAreaTop" r="textAreaRight" b="textAreaBottom"/>
            <a:pathLst>
              <a:path w="1227470" h="308336">
                <a:moveTo>
                  <a:pt x="0" y="0"/>
                </a:moveTo>
                <a:lnTo>
                  <a:pt x="1227470" y="0"/>
                </a:lnTo>
                <a:cubicBezTo>
                  <a:pt x="1226830" y="102779"/>
                  <a:pt x="1226189" y="205557"/>
                  <a:pt x="1225549" y="308336"/>
                </a:cubicBezTo>
                <a:lnTo>
                  <a:pt x="0" y="1264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6"/>
          <p:cNvSpPr/>
          <p:nvPr/>
        </p:nvSpPr>
        <p:spPr>
          <a:xfrm rot="1225800">
            <a:off x="4836960" y="1508040"/>
            <a:ext cx="1227240" cy="2383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27470" h="395463">
                <a:moveTo>
                  <a:pt x="0" y="0"/>
                </a:moveTo>
                <a:lnTo>
                  <a:pt x="1227470" y="0"/>
                </a:lnTo>
                <a:lnTo>
                  <a:pt x="1216188" y="395463"/>
                </a:lnTo>
                <a:lnTo>
                  <a:pt x="0" y="1264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0"/>
          <p:cNvSpPr/>
          <p:nvPr/>
        </p:nvSpPr>
        <p:spPr>
          <a:xfrm>
            <a:off x="5032440" y="3400560"/>
            <a:ext cx="2508120" cy="4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1"/>
          <p:cNvSpPr/>
          <p:nvPr/>
        </p:nvSpPr>
        <p:spPr>
          <a:xfrm rot="1692000">
            <a:off x="5553000" y="644400"/>
            <a:ext cx="2051280" cy="98640"/>
          </a:xfrm>
          <a:custGeom>
            <a:avLst/>
            <a:gdLst>
              <a:gd name="textAreaLeft" fmla="*/ 0 w 2051280"/>
              <a:gd name="textAreaRight" fmla="*/ 2051640 w 20512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169724" h="337583">
                <a:moveTo>
                  <a:pt x="145154" y="0"/>
                </a:moveTo>
                <a:lnTo>
                  <a:pt x="2169724" y="33366"/>
                </a:lnTo>
                <a:lnTo>
                  <a:pt x="2169724" y="337583"/>
                </a:lnTo>
                <a:lnTo>
                  <a:pt x="0" y="337583"/>
                </a:lnTo>
                <a:lnTo>
                  <a:pt x="1451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2"/>
          <p:cNvSpPr/>
          <p:nvPr/>
        </p:nvSpPr>
        <p:spPr>
          <a:xfrm>
            <a:off x="6269040" y="1722600"/>
            <a:ext cx="1187280" cy="1922400"/>
          </a:xfrm>
          <a:custGeom>
            <a:avLst/>
            <a:gdLst>
              <a:gd name="textAreaLeft" fmla="*/ 0 w 1187280"/>
              <a:gd name="textAreaRight" fmla="*/ 1187640 w 118728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w="1187433" h="1921448">
                <a:moveTo>
                  <a:pt x="0" y="0"/>
                </a:moveTo>
                <a:lnTo>
                  <a:pt x="1148244" y="352697"/>
                </a:lnTo>
                <a:lnTo>
                  <a:pt x="1187433" y="1921448"/>
                </a:lnTo>
                <a:lnTo>
                  <a:pt x="0" y="19214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5"/>
          <p:cNvSpPr/>
          <p:nvPr/>
        </p:nvSpPr>
        <p:spPr>
          <a:xfrm flipV="1">
            <a:off x="5591160" y="1416960"/>
            <a:ext cx="12715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梯形 13"/>
          <p:cNvSpPr/>
          <p:nvPr/>
        </p:nvSpPr>
        <p:spPr>
          <a:xfrm rot="12096000">
            <a:off x="1277640" y="3521880"/>
            <a:ext cx="382680" cy="1328760"/>
          </a:xfrm>
          <a:custGeom>
            <a:avLst/>
            <a:gdLst>
              <a:gd name="textAreaLeft" fmla="*/ 0 w 382680"/>
              <a:gd name="textAreaRight" fmla="*/ 383040 w 38268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120729" h="645841">
                <a:moveTo>
                  <a:pt x="0" y="644666"/>
                </a:moveTo>
                <a:lnTo>
                  <a:pt x="44833" y="0"/>
                </a:lnTo>
                <a:lnTo>
                  <a:pt x="108573" y="6586"/>
                </a:lnTo>
                <a:cubicBezTo>
                  <a:pt x="107330" y="229653"/>
                  <a:pt x="121897" y="422774"/>
                  <a:pt x="120654" y="645841"/>
                </a:cubicBezTo>
                <a:lnTo>
                  <a:pt x="0" y="6446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9"/>
          <p:cNvSpPr/>
          <p:nvPr/>
        </p:nvSpPr>
        <p:spPr>
          <a:xfrm flipV="1" rot="5400000">
            <a:off x="2120760" y="5449680"/>
            <a:ext cx="563760" cy="468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6"/>
          <p:cNvSpPr/>
          <p:nvPr/>
        </p:nvSpPr>
        <p:spPr>
          <a:xfrm>
            <a:off x="2880720" y="52671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复印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41"/>
          <p:cNvSpPr/>
          <p:nvPr/>
        </p:nvSpPr>
        <p:spPr>
          <a:xfrm rot="5400000">
            <a:off x="8739360" y="4259880"/>
            <a:ext cx="563760" cy="431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2"/>
          <p:cNvSpPr/>
          <p:nvPr/>
        </p:nvSpPr>
        <p:spPr>
          <a:xfrm flipV="1">
            <a:off x="11214000" y="0"/>
            <a:ext cx="978120" cy="653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3"/>
          <p:cNvSpPr/>
          <p:nvPr/>
        </p:nvSpPr>
        <p:spPr>
          <a:xfrm flipV="1">
            <a:off x="0" y="0"/>
            <a:ext cx="977760" cy="684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3"/>
          <p:cNvSpPr/>
          <p:nvPr/>
        </p:nvSpPr>
        <p:spPr>
          <a:xfrm>
            <a:off x="2540160" y="3879720"/>
            <a:ext cx="6421320" cy="249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9038520" y="2206800"/>
            <a:ext cx="2899080" cy="4330440"/>
            <a:chOff x="9038520" y="2206800"/>
            <a:chExt cx="2899080" cy="4330440"/>
          </a:xfrm>
        </p:grpSpPr>
        <p:sp>
          <p:nvSpPr>
            <p:cNvPr id="129" name="椭圆 4"/>
            <p:cNvSpPr/>
            <p:nvPr/>
          </p:nvSpPr>
          <p:spPr>
            <a:xfrm>
              <a:off x="9432360" y="2206800"/>
              <a:ext cx="960120" cy="9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5"/>
            <p:cNvSpPr/>
            <p:nvPr/>
          </p:nvSpPr>
          <p:spPr>
            <a:xfrm flipH="1">
              <a:off x="9221760" y="2705400"/>
              <a:ext cx="2715480" cy="3831840"/>
            </a:xfrm>
            <a:custGeom>
              <a:avLst/>
              <a:gdLst>
                <a:gd name="textAreaLeft" fmla="*/ -360 w 2715480"/>
                <a:gd name="textAreaRight" fmla="*/ 2715480 w 2715480"/>
                <a:gd name="textAreaTop" fmla="*/ 0 h 3831840"/>
                <a:gd name="textAreaBottom" fmla="*/ 3832200 h 3831840"/>
              </a:gdLst>
              <a:ahLst/>
              <a:rect l="textAreaLeft" t="textAreaTop" r="textAreaRight" b="textAreaBottom"/>
              <a:pathLst>
                <a:path w="2714817" h="3831682">
                  <a:moveTo>
                    <a:pt x="4559" y="3806190"/>
                  </a:moveTo>
                  <a:cubicBezTo>
                    <a:pt x="-22111" y="3779520"/>
                    <a:pt x="75044" y="3688080"/>
                    <a:pt x="118859" y="3669030"/>
                  </a:cubicBezTo>
                  <a:cubicBezTo>
                    <a:pt x="162674" y="3649980"/>
                    <a:pt x="206489" y="3701415"/>
                    <a:pt x="267449" y="3691890"/>
                  </a:cubicBezTo>
                  <a:cubicBezTo>
                    <a:pt x="328409" y="3682365"/>
                    <a:pt x="400799" y="3638550"/>
                    <a:pt x="484619" y="3611880"/>
                  </a:cubicBezTo>
                  <a:cubicBezTo>
                    <a:pt x="568439" y="3585210"/>
                    <a:pt x="675119" y="3568065"/>
                    <a:pt x="770369" y="3531870"/>
                  </a:cubicBezTo>
                  <a:cubicBezTo>
                    <a:pt x="865619" y="3495675"/>
                    <a:pt x="1012304" y="3438525"/>
                    <a:pt x="1056119" y="3394710"/>
                  </a:cubicBezTo>
                  <a:cubicBezTo>
                    <a:pt x="1099934" y="3350895"/>
                    <a:pt x="1018019" y="3308985"/>
                    <a:pt x="1033259" y="3268980"/>
                  </a:cubicBezTo>
                  <a:cubicBezTo>
                    <a:pt x="1048499" y="3228975"/>
                    <a:pt x="1118984" y="3230880"/>
                    <a:pt x="1147559" y="3154680"/>
                  </a:cubicBezTo>
                  <a:cubicBezTo>
                    <a:pt x="1176134" y="3078480"/>
                    <a:pt x="1187564" y="2945130"/>
                    <a:pt x="1204709" y="2811780"/>
                  </a:cubicBezTo>
                  <a:cubicBezTo>
                    <a:pt x="1221854" y="2678430"/>
                    <a:pt x="1252334" y="2522220"/>
                    <a:pt x="1250429" y="2354580"/>
                  </a:cubicBezTo>
                  <a:cubicBezTo>
                    <a:pt x="1248524" y="2186940"/>
                    <a:pt x="1202804" y="1958340"/>
                    <a:pt x="1193279" y="1805940"/>
                  </a:cubicBezTo>
                  <a:cubicBezTo>
                    <a:pt x="1183754" y="1653540"/>
                    <a:pt x="1193279" y="1440180"/>
                    <a:pt x="1193279" y="1440180"/>
                  </a:cubicBezTo>
                  <a:cubicBezTo>
                    <a:pt x="1193279" y="1299210"/>
                    <a:pt x="1189469" y="1089660"/>
                    <a:pt x="1193279" y="960120"/>
                  </a:cubicBezTo>
                  <a:cubicBezTo>
                    <a:pt x="1197089" y="830580"/>
                    <a:pt x="1212329" y="763905"/>
                    <a:pt x="1216139" y="662940"/>
                  </a:cubicBezTo>
                  <a:cubicBezTo>
                    <a:pt x="1219949" y="561975"/>
                    <a:pt x="1189469" y="434340"/>
                    <a:pt x="1216139" y="354330"/>
                  </a:cubicBezTo>
                  <a:cubicBezTo>
                    <a:pt x="1242809" y="274320"/>
                    <a:pt x="1319009" y="230505"/>
                    <a:pt x="1376159" y="182880"/>
                  </a:cubicBezTo>
                  <a:cubicBezTo>
                    <a:pt x="1433309" y="135255"/>
                    <a:pt x="1511414" y="99060"/>
                    <a:pt x="1559039" y="68580"/>
                  </a:cubicBezTo>
                  <a:cubicBezTo>
                    <a:pt x="1606664" y="38100"/>
                    <a:pt x="1621904" y="0"/>
                    <a:pt x="1661909" y="0"/>
                  </a:cubicBezTo>
                  <a:cubicBezTo>
                    <a:pt x="1701914" y="0"/>
                    <a:pt x="1757159" y="15240"/>
                    <a:pt x="1799069" y="68580"/>
                  </a:cubicBezTo>
                  <a:cubicBezTo>
                    <a:pt x="1840979" y="121920"/>
                    <a:pt x="1860029" y="251460"/>
                    <a:pt x="1913369" y="320040"/>
                  </a:cubicBezTo>
                  <a:cubicBezTo>
                    <a:pt x="1966709" y="388620"/>
                    <a:pt x="2061959" y="424815"/>
                    <a:pt x="2119109" y="480060"/>
                  </a:cubicBezTo>
                  <a:cubicBezTo>
                    <a:pt x="2176259" y="535305"/>
                    <a:pt x="2231504" y="615315"/>
                    <a:pt x="2256269" y="651510"/>
                  </a:cubicBezTo>
                  <a:cubicBezTo>
                    <a:pt x="2281034" y="687705"/>
                    <a:pt x="2267699" y="697230"/>
                    <a:pt x="2267699" y="697230"/>
                  </a:cubicBezTo>
                  <a:lnTo>
                    <a:pt x="2267699" y="697230"/>
                  </a:lnTo>
                  <a:cubicBezTo>
                    <a:pt x="2292464" y="741045"/>
                    <a:pt x="2362949" y="878205"/>
                    <a:pt x="2416289" y="960120"/>
                  </a:cubicBezTo>
                  <a:cubicBezTo>
                    <a:pt x="2469629" y="1042035"/>
                    <a:pt x="2545829" y="1116330"/>
                    <a:pt x="2587739" y="1188720"/>
                  </a:cubicBezTo>
                  <a:cubicBezTo>
                    <a:pt x="2629649" y="1261110"/>
                    <a:pt x="2650604" y="1327785"/>
                    <a:pt x="2667749" y="1394460"/>
                  </a:cubicBezTo>
                  <a:cubicBezTo>
                    <a:pt x="2684894" y="1461135"/>
                    <a:pt x="2686799" y="1514475"/>
                    <a:pt x="2690609" y="1588770"/>
                  </a:cubicBezTo>
                  <a:cubicBezTo>
                    <a:pt x="2694419" y="1663065"/>
                    <a:pt x="2690609" y="1840230"/>
                    <a:pt x="2690609" y="1840230"/>
                  </a:cubicBezTo>
                  <a:cubicBezTo>
                    <a:pt x="2690609" y="1916430"/>
                    <a:pt x="2692514" y="1973580"/>
                    <a:pt x="2690609" y="2045970"/>
                  </a:cubicBezTo>
                  <a:cubicBezTo>
                    <a:pt x="2688704" y="2118360"/>
                    <a:pt x="2677274" y="2196465"/>
                    <a:pt x="2679179" y="2274570"/>
                  </a:cubicBezTo>
                  <a:cubicBezTo>
                    <a:pt x="2681084" y="2352675"/>
                    <a:pt x="2740139" y="2491740"/>
                    <a:pt x="2702039" y="2514600"/>
                  </a:cubicBezTo>
                  <a:cubicBezTo>
                    <a:pt x="2663939" y="2537460"/>
                    <a:pt x="2494394" y="2366010"/>
                    <a:pt x="2450579" y="2411730"/>
                  </a:cubicBezTo>
                  <a:cubicBezTo>
                    <a:pt x="2406764" y="2457450"/>
                    <a:pt x="2454389" y="2678430"/>
                    <a:pt x="2439149" y="2788920"/>
                  </a:cubicBezTo>
                  <a:cubicBezTo>
                    <a:pt x="2423909" y="2899410"/>
                    <a:pt x="2412479" y="3027045"/>
                    <a:pt x="2359139" y="3074670"/>
                  </a:cubicBezTo>
                  <a:cubicBezTo>
                    <a:pt x="2305799" y="3122295"/>
                    <a:pt x="2159114" y="3036570"/>
                    <a:pt x="2119109" y="3074670"/>
                  </a:cubicBezTo>
                  <a:cubicBezTo>
                    <a:pt x="2079104" y="3112770"/>
                    <a:pt x="2081009" y="3202305"/>
                    <a:pt x="2119109" y="3303270"/>
                  </a:cubicBezTo>
                  <a:cubicBezTo>
                    <a:pt x="2157209" y="3404235"/>
                    <a:pt x="2301989" y="3608070"/>
                    <a:pt x="2347709" y="3680460"/>
                  </a:cubicBezTo>
                  <a:cubicBezTo>
                    <a:pt x="2393429" y="3752850"/>
                    <a:pt x="2402954" y="3718560"/>
                    <a:pt x="2393429" y="3737610"/>
                  </a:cubicBezTo>
                  <a:cubicBezTo>
                    <a:pt x="2383904" y="3756660"/>
                    <a:pt x="2372474" y="3781425"/>
                    <a:pt x="2290559" y="3794760"/>
                  </a:cubicBezTo>
                  <a:cubicBezTo>
                    <a:pt x="2208644" y="3808095"/>
                    <a:pt x="2008619" y="3813810"/>
                    <a:pt x="1901939" y="3817620"/>
                  </a:cubicBezTo>
                  <a:cubicBezTo>
                    <a:pt x="1795259" y="3821430"/>
                    <a:pt x="1650479" y="3817620"/>
                    <a:pt x="1650479" y="3817620"/>
                  </a:cubicBezTo>
                  <a:lnTo>
                    <a:pt x="1273289" y="3817620"/>
                  </a:lnTo>
                  <a:lnTo>
                    <a:pt x="873239" y="3817620"/>
                  </a:lnTo>
                  <a:cubicBezTo>
                    <a:pt x="745604" y="3815715"/>
                    <a:pt x="606539" y="3804285"/>
                    <a:pt x="507479" y="3806190"/>
                  </a:cubicBezTo>
                  <a:cubicBezTo>
                    <a:pt x="408419" y="3808095"/>
                    <a:pt x="366509" y="3823335"/>
                    <a:pt x="278879" y="3829050"/>
                  </a:cubicBezTo>
                  <a:cubicBezTo>
                    <a:pt x="191249" y="3834765"/>
                    <a:pt x="31229" y="3832860"/>
                    <a:pt x="4559" y="38061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6"/>
            <p:cNvSpPr/>
            <p:nvPr/>
          </p:nvSpPr>
          <p:spPr>
            <a:xfrm>
              <a:off x="9102600" y="3426120"/>
              <a:ext cx="591840" cy="147168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591715" h="1471923">
                  <a:moveTo>
                    <a:pt x="591715" y="74637"/>
                  </a:moveTo>
                  <a:cubicBezTo>
                    <a:pt x="517227" y="60082"/>
                    <a:pt x="442740" y="45527"/>
                    <a:pt x="396506" y="33541"/>
                  </a:cubicBezTo>
                  <a:cubicBezTo>
                    <a:pt x="350272" y="21555"/>
                    <a:pt x="348560" y="-9268"/>
                    <a:pt x="314313" y="2718"/>
                  </a:cubicBezTo>
                  <a:cubicBezTo>
                    <a:pt x="280066" y="14704"/>
                    <a:pt x="228695" y="50664"/>
                    <a:pt x="191023" y="105460"/>
                  </a:cubicBezTo>
                  <a:cubicBezTo>
                    <a:pt x="153351" y="160256"/>
                    <a:pt x="107118" y="269846"/>
                    <a:pt x="88282" y="331491"/>
                  </a:cubicBezTo>
                  <a:cubicBezTo>
                    <a:pt x="69446" y="393136"/>
                    <a:pt x="79720" y="422246"/>
                    <a:pt x="78008" y="475329"/>
                  </a:cubicBezTo>
                  <a:cubicBezTo>
                    <a:pt x="76296" y="528412"/>
                    <a:pt x="81433" y="603756"/>
                    <a:pt x="78008" y="649990"/>
                  </a:cubicBezTo>
                  <a:cubicBezTo>
                    <a:pt x="74583" y="696224"/>
                    <a:pt x="69446" y="697937"/>
                    <a:pt x="57459" y="752732"/>
                  </a:cubicBezTo>
                  <a:cubicBezTo>
                    <a:pt x="45472" y="807527"/>
                    <a:pt x="14650" y="899995"/>
                    <a:pt x="6088" y="978763"/>
                  </a:cubicBezTo>
                  <a:cubicBezTo>
                    <a:pt x="-2474" y="1057531"/>
                    <a:pt x="6088" y="1225343"/>
                    <a:pt x="6088" y="1225343"/>
                  </a:cubicBezTo>
                  <a:cubicBezTo>
                    <a:pt x="6088" y="1292125"/>
                    <a:pt x="-7611" y="1338358"/>
                    <a:pt x="6088" y="1379455"/>
                  </a:cubicBezTo>
                  <a:cubicBezTo>
                    <a:pt x="19787" y="1420552"/>
                    <a:pt x="69446" y="1471923"/>
                    <a:pt x="88282" y="1471923"/>
                  </a:cubicBezTo>
                  <a:cubicBezTo>
                    <a:pt x="107118" y="1471923"/>
                    <a:pt x="113111" y="1425689"/>
                    <a:pt x="119104" y="137945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7"/>
            <p:cNvGrpSpPr/>
            <p:nvPr/>
          </p:nvGrpSpPr>
          <p:grpSpPr>
            <a:xfrm>
              <a:off x="9038520" y="3124800"/>
              <a:ext cx="519480" cy="704520"/>
              <a:chOff x="9038520" y="3124800"/>
              <a:chExt cx="519480" cy="704520"/>
            </a:xfrm>
          </p:grpSpPr>
          <p:sp>
            <p:nvSpPr>
              <p:cNvPr id="133" name="圆角矩形 8"/>
              <p:cNvSpPr/>
              <p:nvPr/>
            </p:nvSpPr>
            <p:spPr>
              <a:xfrm rot="19099800">
                <a:off x="9209880" y="3345120"/>
                <a:ext cx="108360" cy="512640"/>
              </a:xfrm>
              <a:custGeom>
                <a:avLst/>
                <a:gdLst>
                  <a:gd name="textAreaLeft" fmla="*/ 15840 w 108360"/>
                  <a:gd name="textAreaRight" fmla="*/ 92520 w 108360"/>
                  <a:gd name="textAreaTop" fmla="*/ 15840 h 512640"/>
                  <a:gd name="textAreaBottom" fmla="*/ 496800 h 512640"/>
                </a:gdLst>
                <a:ahLst/>
                <a:rect l="textAreaLeft" t="textAreaTop" r="textAreaRight" b="textAreaBottom"/>
                <a:pathLst>
                  <a:path w="21600" h="101921">
                    <a:moveTo>
                      <a:pt x="10800" y="0"/>
                    </a:moveTo>
                    <a:arcTo wR="10800" hR="10800" stAng="16200000" swAng="-5400000"/>
                    <a:lnTo>
                      <a:pt x="0" y="91121"/>
                    </a:lnTo>
                    <a:arcTo wR="10800" hR="10800" stAng="10800000" swAng="-5400000"/>
                    <a:lnTo>
                      <a:pt x="10800" y="10192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圆角矩形 9"/>
              <p:cNvSpPr/>
              <p:nvPr/>
            </p:nvSpPr>
            <p:spPr>
              <a:xfrm>
                <a:off x="9351360" y="3187800"/>
                <a:ext cx="135360" cy="279720"/>
              </a:xfrm>
              <a:custGeom>
                <a:avLst/>
                <a:gdLst>
                  <a:gd name="textAreaLeft" fmla="*/ 19800 w 135360"/>
                  <a:gd name="textAreaRight" fmla="*/ 115560 w 135360"/>
                  <a:gd name="textAreaTop" fmla="*/ 19800 h 279720"/>
                  <a:gd name="textAreaBottom" fmla="*/ 259920 h 279720"/>
                </a:gdLst>
                <a:ahLst/>
                <a:rect l="textAreaLeft" t="textAreaTop" r="textAreaRight" b="textAreaBottom"/>
                <a:pathLst>
                  <a:path w="21600" h="44575">
                    <a:moveTo>
                      <a:pt x="10800" y="0"/>
                    </a:moveTo>
                    <a:arcTo wR="10800" hR="10800" stAng="16200000" swAng="-5400000"/>
                    <a:lnTo>
                      <a:pt x="0" y="33775"/>
                    </a:lnTo>
                    <a:arcTo wR="10800" hR="10800" stAng="10800000" swAng="-5400000"/>
                    <a:lnTo>
                      <a:pt x="10800" y="4457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圆角矩形 10"/>
              <p:cNvSpPr/>
              <p:nvPr/>
            </p:nvSpPr>
            <p:spPr>
              <a:xfrm rot="19099800">
                <a:off x="9195120" y="3237120"/>
                <a:ext cx="108360" cy="512640"/>
              </a:xfrm>
              <a:custGeom>
                <a:avLst/>
                <a:gdLst>
                  <a:gd name="textAreaLeft" fmla="*/ 15840 w 108360"/>
                  <a:gd name="textAreaRight" fmla="*/ 92520 w 108360"/>
                  <a:gd name="textAreaTop" fmla="*/ 15840 h 512640"/>
                  <a:gd name="textAreaBottom" fmla="*/ 496800 h 512640"/>
                </a:gdLst>
                <a:ahLst/>
                <a:rect l="textAreaLeft" t="textAreaTop" r="textAreaRight" b="textAreaBottom"/>
                <a:pathLst>
                  <a:path w="21600" h="101921">
                    <a:moveTo>
                      <a:pt x="10800" y="0"/>
                    </a:moveTo>
                    <a:arcTo wR="10800" hR="10800" stAng="16200000" swAng="-5400000"/>
                    <a:lnTo>
                      <a:pt x="0" y="91121"/>
                    </a:lnTo>
                    <a:arcTo wR="10800" hR="10800" stAng="10800000" swAng="-5400000"/>
                    <a:lnTo>
                      <a:pt x="10800" y="10192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圆角矩形 11"/>
              <p:cNvSpPr/>
              <p:nvPr/>
            </p:nvSpPr>
            <p:spPr>
              <a:xfrm rot="19099800">
                <a:off x="9202680" y="3136680"/>
                <a:ext cx="108360" cy="512640"/>
              </a:xfrm>
              <a:custGeom>
                <a:avLst/>
                <a:gdLst>
                  <a:gd name="textAreaLeft" fmla="*/ 15840 w 108360"/>
                  <a:gd name="textAreaRight" fmla="*/ 92520 w 108360"/>
                  <a:gd name="textAreaTop" fmla="*/ 15840 h 512640"/>
                  <a:gd name="textAreaBottom" fmla="*/ 496800 h 512640"/>
                </a:gdLst>
                <a:ahLst/>
                <a:rect l="textAreaLeft" t="textAreaTop" r="textAreaRight" b="textAreaBottom"/>
                <a:pathLst>
                  <a:path w="21600" h="101921">
                    <a:moveTo>
                      <a:pt x="10800" y="0"/>
                    </a:moveTo>
                    <a:arcTo wR="10800" hR="10800" stAng="16200000" swAng="-5400000"/>
                    <a:lnTo>
                      <a:pt x="0" y="91121"/>
                    </a:lnTo>
                    <a:arcTo wR="10800" hR="10800" stAng="10800000" swAng="-5400000"/>
                    <a:lnTo>
                      <a:pt x="10800" y="10192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圆角矩形 12"/>
              <p:cNvSpPr/>
              <p:nvPr/>
            </p:nvSpPr>
            <p:spPr>
              <a:xfrm rot="19203000">
                <a:off x="9297720" y="3099600"/>
                <a:ext cx="108360" cy="512640"/>
              </a:xfrm>
              <a:custGeom>
                <a:avLst/>
                <a:gdLst>
                  <a:gd name="textAreaLeft" fmla="*/ 15840 w 108360"/>
                  <a:gd name="textAreaRight" fmla="*/ 92520 w 108360"/>
                  <a:gd name="textAreaTop" fmla="*/ 15840 h 512640"/>
                  <a:gd name="textAreaBottom" fmla="*/ 496800 h 512640"/>
                </a:gdLst>
                <a:ahLst/>
                <a:rect l="textAreaLeft" t="textAreaTop" r="textAreaRight" b="textAreaBottom"/>
                <a:pathLst>
                  <a:path w="21600" h="101921">
                    <a:moveTo>
                      <a:pt x="10800" y="0"/>
                    </a:moveTo>
                    <a:arcTo wR="10800" hR="10800" stAng="16200000" swAng="-5400000"/>
                    <a:lnTo>
                      <a:pt x="0" y="91121"/>
                    </a:lnTo>
                    <a:arcTo wR="10800" hR="10800" stAng="10800000" swAng="-5400000"/>
                    <a:lnTo>
                      <a:pt x="10800" y="10192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圆角矩形 13"/>
              <p:cNvSpPr/>
              <p:nvPr/>
            </p:nvSpPr>
            <p:spPr>
              <a:xfrm>
                <a:off x="9308520" y="3446280"/>
                <a:ext cx="147960" cy="163440"/>
              </a:xfrm>
              <a:custGeom>
                <a:avLst/>
                <a:gdLst>
                  <a:gd name="textAreaLeft" fmla="*/ 21600 w 147960"/>
                  <a:gd name="textAreaRight" fmla="*/ 126360 w 147960"/>
                  <a:gd name="textAreaTop" fmla="*/ 21600 h 163440"/>
                  <a:gd name="textAreaBottom" fmla="*/ 141840 h 163440"/>
                </a:gdLst>
                <a:ahLst/>
                <a:rect l="textAreaLeft" t="textAreaTop" r="textAreaRight" b="textAreaBottom"/>
                <a:pathLst>
                  <a:path w="21600" h="23854">
                    <a:moveTo>
                      <a:pt x="10800" y="0"/>
                    </a:moveTo>
                    <a:arcTo wR="10800" hR="10800" stAng="16200000" swAng="-5400000"/>
                    <a:lnTo>
                      <a:pt x="0" y="13054"/>
                    </a:lnTo>
                    <a:arcTo wR="10800" hR="10800" stAng="10800000" swAng="-5400000"/>
                    <a:lnTo>
                      <a:pt x="10800" y="2385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角矩形 14"/>
              <p:cNvSpPr/>
              <p:nvPr/>
            </p:nvSpPr>
            <p:spPr>
              <a:xfrm>
                <a:off x="9401040" y="3479400"/>
                <a:ext cx="147960" cy="163440"/>
              </a:xfrm>
              <a:custGeom>
                <a:avLst/>
                <a:gdLst>
                  <a:gd name="textAreaLeft" fmla="*/ 21600 w 147960"/>
                  <a:gd name="textAreaRight" fmla="*/ 126360 w 147960"/>
                  <a:gd name="textAreaTop" fmla="*/ 21600 h 163440"/>
                  <a:gd name="textAreaBottom" fmla="*/ 141840 h 163440"/>
                </a:gdLst>
                <a:ahLst/>
                <a:rect l="textAreaLeft" t="textAreaTop" r="textAreaRight" b="textAreaBottom"/>
                <a:pathLst>
                  <a:path w="21600" h="23854">
                    <a:moveTo>
                      <a:pt x="10800" y="0"/>
                    </a:moveTo>
                    <a:arcTo wR="10800" hR="10800" stAng="16200000" swAng="-5400000"/>
                    <a:lnTo>
                      <a:pt x="0" y="13054"/>
                    </a:lnTo>
                    <a:arcTo wR="10800" hR="10800" stAng="10800000" swAng="-5400000"/>
                    <a:lnTo>
                      <a:pt x="10800" y="2385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椭圆 16"/>
          <p:cNvSpPr/>
          <p:nvPr/>
        </p:nvSpPr>
        <p:spPr>
          <a:xfrm>
            <a:off x="1065240" y="2435400"/>
            <a:ext cx="938160" cy="93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17"/>
          <p:cNvSpPr/>
          <p:nvPr/>
        </p:nvSpPr>
        <p:spPr>
          <a:xfrm>
            <a:off x="1082520" y="3160800"/>
            <a:ext cx="995400" cy="1839960"/>
          </a:xfrm>
          <a:custGeom>
            <a:avLst/>
            <a:gdLst>
              <a:gd name="textAreaLeft" fmla="*/ 0 w 995400"/>
              <a:gd name="textAreaRight" fmla="*/ 995760 w 99540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994410" h="1840230">
                <a:moveTo>
                  <a:pt x="171450" y="0"/>
                </a:moveTo>
                <a:lnTo>
                  <a:pt x="0" y="1840230"/>
                </a:lnTo>
                <a:lnTo>
                  <a:pt x="994410" y="1794510"/>
                </a:lnTo>
                <a:lnTo>
                  <a:pt x="708660" y="400050"/>
                </a:lnTo>
                <a:lnTo>
                  <a:pt x="708660" y="205740"/>
                </a:lnTo>
                <a:lnTo>
                  <a:pt x="400050" y="4572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梯形 18"/>
          <p:cNvSpPr/>
          <p:nvPr/>
        </p:nvSpPr>
        <p:spPr>
          <a:xfrm>
            <a:off x="1198440" y="4944960"/>
            <a:ext cx="731880" cy="1611360"/>
          </a:xfrm>
          <a:custGeom>
            <a:avLst/>
            <a:gdLst>
              <a:gd name="textAreaLeft" fmla="*/ 152280 w 731880"/>
              <a:gd name="textAreaRight" fmla="*/ 579600 w 731880"/>
              <a:gd name="textAreaTop" fmla="*/ 335520 h 1611360"/>
              <a:gd name="textAreaBottom" fmla="*/ 127584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8"/>
          <p:cNvSpPr/>
          <p:nvPr/>
        </p:nvSpPr>
        <p:spPr>
          <a:xfrm>
            <a:off x="1398600" y="6418440"/>
            <a:ext cx="606240" cy="137880"/>
          </a:xfrm>
          <a:custGeom>
            <a:avLst/>
            <a:gdLst>
              <a:gd name="textAreaLeft" fmla="*/ 0 w 606240"/>
              <a:gd name="textAreaRight" fmla="*/ 606600 w 6062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606189" h="137159">
                <a:moveTo>
                  <a:pt x="0" y="0"/>
                </a:moveTo>
                <a:lnTo>
                  <a:pt x="606189" y="57150"/>
                </a:lnTo>
                <a:lnTo>
                  <a:pt x="583329" y="137159"/>
                </a:lnTo>
                <a:lnTo>
                  <a:pt x="0" y="137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梯形 13"/>
          <p:cNvSpPr/>
          <p:nvPr/>
        </p:nvSpPr>
        <p:spPr>
          <a:xfrm rot="4980000">
            <a:off x="1582920" y="3344400"/>
            <a:ext cx="380880" cy="866880"/>
          </a:xfrm>
          <a:custGeom>
            <a:avLst/>
            <a:gdLst>
              <a:gd name="textAreaLeft" fmla="*/ 0 w 380880"/>
              <a:gd name="textAreaRight" fmla="*/ 381240 w 3808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20729" h="645841">
                <a:moveTo>
                  <a:pt x="0" y="644666"/>
                </a:moveTo>
                <a:lnTo>
                  <a:pt x="44833" y="0"/>
                </a:lnTo>
                <a:lnTo>
                  <a:pt x="108573" y="6586"/>
                </a:lnTo>
                <a:cubicBezTo>
                  <a:pt x="107330" y="229653"/>
                  <a:pt x="121897" y="422774"/>
                  <a:pt x="120654" y="645841"/>
                </a:cubicBezTo>
                <a:lnTo>
                  <a:pt x="0" y="6446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梯形 13"/>
          <p:cNvSpPr/>
          <p:nvPr/>
        </p:nvSpPr>
        <p:spPr>
          <a:xfrm rot="20045400">
            <a:off x="1834920" y="2896920"/>
            <a:ext cx="331560" cy="990360"/>
          </a:xfrm>
          <a:custGeom>
            <a:avLst/>
            <a:gdLst>
              <a:gd name="textAreaLeft" fmla="*/ 0 w 331560"/>
              <a:gd name="textAreaRight" fmla="*/ 331920 w 331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20729" h="645841">
                <a:moveTo>
                  <a:pt x="0" y="644666"/>
                </a:moveTo>
                <a:lnTo>
                  <a:pt x="44833" y="0"/>
                </a:lnTo>
                <a:lnTo>
                  <a:pt x="108573" y="6586"/>
                </a:lnTo>
                <a:cubicBezTo>
                  <a:pt x="107330" y="229653"/>
                  <a:pt x="121897" y="422774"/>
                  <a:pt x="120654" y="645841"/>
                </a:cubicBezTo>
                <a:lnTo>
                  <a:pt x="0" y="6446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3"/>
          <p:cNvSpPr/>
          <p:nvPr/>
        </p:nvSpPr>
        <p:spPr>
          <a:xfrm>
            <a:off x="0" y="6512040"/>
            <a:ext cx="12192120" cy="34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4"/>
          <p:cNvSpPr/>
          <p:nvPr/>
        </p:nvSpPr>
        <p:spPr>
          <a:xfrm>
            <a:off x="3831480" y="3882960"/>
            <a:ext cx="3884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如果复印件上有</a:t>
            </a:r>
            <a:r>
              <a:rPr b="0" lang="zh-CN" sz="54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错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是复印件有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还是原件有问题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"/>
          <p:cNvSpPr/>
          <p:nvPr/>
        </p:nvSpPr>
        <p:spPr>
          <a:xfrm>
            <a:off x="3503520" y="830160"/>
            <a:ext cx="2040120" cy="2757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3"/>
          <p:cNvSpPr/>
          <p:nvPr/>
        </p:nvSpPr>
        <p:spPr>
          <a:xfrm>
            <a:off x="5826240" y="830160"/>
            <a:ext cx="2039760" cy="2757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2"/>
          <p:cNvSpPr/>
          <p:nvPr/>
        </p:nvSpPr>
        <p:spPr>
          <a:xfrm>
            <a:off x="3952800" y="118908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北京太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买了</a:t>
            </a:r>
            <a:r>
              <a:rPr b="0" lang="zh-CN" sz="36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框</a:t>
            </a:r>
            <a:r>
              <a:rPr b="0" lang="zh-CN" sz="3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蛋回家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成小鸡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9"/>
          <p:cNvSpPr/>
          <p:nvPr/>
        </p:nvSpPr>
        <p:spPr>
          <a:xfrm>
            <a:off x="3150360" y="77472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41"/>
          <p:cNvSpPr/>
          <p:nvPr/>
        </p:nvSpPr>
        <p:spPr>
          <a:xfrm>
            <a:off x="7858800" y="795240"/>
            <a:ext cx="3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方正正中黑简体"/>
                <a:ea typeface="方正正中黑简体"/>
              </a:rPr>
              <a:t>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方正正中黑简体"/>
                <a:ea typeface="方正正中黑简体"/>
              </a:rPr>
              <a:t>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方正正中黑简体"/>
                <a:ea typeface="方正正中黑简体"/>
              </a:rPr>
              <a:t>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2"/>
          <p:cNvSpPr/>
          <p:nvPr/>
        </p:nvSpPr>
        <p:spPr>
          <a:xfrm>
            <a:off x="6184800" y="118440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d8d8"/>
                </a:solidFill>
                <a:latin typeface="方正正大黑简体"/>
                <a:ea typeface="方正正大黑简体"/>
              </a:rPr>
              <a:t>北京太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d8d8"/>
                </a:solidFill>
                <a:latin typeface="方正正大黑简体"/>
                <a:ea typeface="方正正大黑简体"/>
              </a:rPr>
              <a:t>买了</a:t>
            </a:r>
            <a:r>
              <a:rPr b="0" lang="zh-CN" sz="36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框</a:t>
            </a:r>
            <a:r>
              <a:rPr b="0" lang="zh-CN" sz="3600" spc="-1" strike="noStrike">
                <a:solidFill>
                  <a:srgbClr val="d8d8d8"/>
                </a:solidFill>
                <a:latin typeface="方正正大黑简体"/>
                <a:ea typeface="方正正大黑简体"/>
              </a:rPr>
              <a:t>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d8d8"/>
                </a:solidFill>
                <a:latin typeface="方正正大黑简体"/>
                <a:ea typeface="方正正大黑简体"/>
              </a:rPr>
              <a:t>蛋回家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d8d8"/>
                </a:solidFill>
                <a:latin typeface="方正正大黑简体"/>
                <a:ea typeface="方正正大黑简体"/>
              </a:rPr>
              <a:t>成小鸡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等腰三角形 44"/>
          <p:cNvSpPr/>
          <p:nvPr/>
        </p:nvSpPr>
        <p:spPr>
          <a:xfrm rot="5400000">
            <a:off x="8852040" y="5367960"/>
            <a:ext cx="563760" cy="431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8"/>
          <p:cNvSpPr/>
          <p:nvPr/>
        </p:nvSpPr>
        <p:spPr>
          <a:xfrm rot="20027400">
            <a:off x="576720" y="1569960"/>
            <a:ext cx="5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45"/>
          <p:cNvSpPr/>
          <p:nvPr/>
        </p:nvSpPr>
        <p:spPr>
          <a:xfrm rot="656400">
            <a:off x="1252800" y="1365120"/>
            <a:ext cx="5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6"/>
          <p:cNvSpPr/>
          <p:nvPr/>
        </p:nvSpPr>
        <p:spPr>
          <a:xfrm rot="2535000">
            <a:off x="1890360" y="1582200"/>
            <a:ext cx="5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47"/>
          <p:cNvSpPr/>
          <p:nvPr/>
        </p:nvSpPr>
        <p:spPr>
          <a:xfrm flipV="1">
            <a:off x="0" y="0"/>
            <a:ext cx="316080" cy="684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8"/>
          <p:cNvSpPr/>
          <p:nvPr/>
        </p:nvSpPr>
        <p:spPr>
          <a:xfrm flipV="1">
            <a:off x="11544480" y="0"/>
            <a:ext cx="6634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7"/>
          <p:cNvSpPr/>
          <p:nvPr/>
        </p:nvSpPr>
        <p:spPr>
          <a:xfrm>
            <a:off x="3517920" y="1790640"/>
            <a:ext cx="4583160" cy="251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"/>
          <p:cNvSpPr/>
          <p:nvPr/>
        </p:nvSpPr>
        <p:spPr>
          <a:xfrm>
            <a:off x="4500360" y="1836720"/>
            <a:ext cx="26802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举个实例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3606840" y="3003480"/>
            <a:ext cx="42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假设你在看电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3606840" y="3619440"/>
            <a:ext cx="42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孩子想和你说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3517920" y="2963880"/>
            <a:ext cx="45831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"/>
          <p:cNvSpPr/>
          <p:nvPr/>
        </p:nvSpPr>
        <p:spPr>
          <a:xfrm>
            <a:off x="0" y="0"/>
            <a:ext cx="12192120" cy="168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0"/>
          <p:cNvSpPr/>
          <p:nvPr/>
        </p:nvSpPr>
        <p:spPr>
          <a:xfrm>
            <a:off x="0" y="4403880"/>
            <a:ext cx="12192120" cy="245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1"/>
          <p:cNvSpPr/>
          <p:nvPr/>
        </p:nvSpPr>
        <p:spPr>
          <a:xfrm>
            <a:off x="0" y="1233360"/>
            <a:ext cx="3352680" cy="352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8265960" y="1042920"/>
            <a:ext cx="3926160" cy="352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"/>
          <p:cNvSpPr/>
          <p:nvPr/>
        </p:nvSpPr>
        <p:spPr>
          <a:xfrm>
            <a:off x="3606840" y="987480"/>
            <a:ext cx="42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为了让你更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7"/>
          <p:cNvSpPr/>
          <p:nvPr/>
        </p:nvSpPr>
        <p:spPr>
          <a:xfrm>
            <a:off x="4022640" y="0"/>
            <a:ext cx="3854520" cy="443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"/>
          <p:cNvSpPr/>
          <p:nvPr/>
        </p:nvSpPr>
        <p:spPr>
          <a:xfrm>
            <a:off x="5339160" y="3076560"/>
            <a:ext cx="12214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场景一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云形标注 7"/>
          <p:cNvSpPr/>
          <p:nvPr/>
        </p:nvSpPr>
        <p:spPr>
          <a:xfrm>
            <a:off x="8010360" y="163440"/>
            <a:ext cx="2511720" cy="2352600"/>
          </a:xfrm>
          <a:prstGeom prst="cloudCallout">
            <a:avLst>
              <a:gd name="adj1" fmla="val -77615"/>
              <a:gd name="adj2" fmla="val 7662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3"/>
          <p:cNvSpPr/>
          <p:nvPr/>
        </p:nvSpPr>
        <p:spPr>
          <a:xfrm>
            <a:off x="4862520" y="1552680"/>
            <a:ext cx="1146240" cy="114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1"/>
          <p:cNvSpPr/>
          <p:nvPr/>
        </p:nvSpPr>
        <p:spPr>
          <a:xfrm rot="1368000">
            <a:off x="4330440" y="2369880"/>
            <a:ext cx="1387440" cy="184464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1147516" h="1843860">
                <a:moveTo>
                  <a:pt x="475533" y="259150"/>
                </a:moveTo>
                <a:lnTo>
                  <a:pt x="1009315" y="0"/>
                </a:lnTo>
                <a:lnTo>
                  <a:pt x="1147516" y="1843860"/>
                </a:lnTo>
                <a:lnTo>
                  <a:pt x="0" y="1729634"/>
                </a:lnTo>
                <a:lnTo>
                  <a:pt x="475533" y="259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2"/>
          <p:cNvSpPr/>
          <p:nvPr/>
        </p:nvSpPr>
        <p:spPr>
          <a:xfrm rot="5400000">
            <a:off x="4035600" y="3189960"/>
            <a:ext cx="633600" cy="165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3"/>
          <p:cNvSpPr/>
          <p:nvPr/>
        </p:nvSpPr>
        <p:spPr>
          <a:xfrm rot="1279200">
            <a:off x="3242880" y="3733560"/>
            <a:ext cx="552600" cy="139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4"/>
          <p:cNvSpPr/>
          <p:nvPr/>
        </p:nvSpPr>
        <p:spPr>
          <a:xfrm>
            <a:off x="4006800" y="4289400"/>
            <a:ext cx="2313000" cy="80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5"/>
          <p:cNvSpPr/>
          <p:nvPr/>
        </p:nvSpPr>
        <p:spPr>
          <a:xfrm rot="917400">
            <a:off x="5670360" y="1930320"/>
            <a:ext cx="701640" cy="284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平行四边形 26"/>
          <p:cNvSpPr/>
          <p:nvPr/>
        </p:nvSpPr>
        <p:spPr>
          <a:xfrm rot="10123800">
            <a:off x="289080" y="1742760"/>
            <a:ext cx="3060720" cy="1428840"/>
          </a:xfrm>
          <a:prstGeom prst="parallelogram">
            <a:avLst>
              <a:gd name="adj" fmla="val 208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 rot="20785200">
            <a:off x="6683040" y="3508200"/>
            <a:ext cx="696960" cy="833760"/>
          </a:xfrm>
          <a:custGeom>
            <a:avLst/>
            <a:gdLst>
              <a:gd name="textAreaLeft" fmla="*/ 0 w 696960"/>
              <a:gd name="textAreaRight" fmla="*/ 697320 w 696960"/>
              <a:gd name="textAreaTop" fmla="*/ 0 h 833760"/>
              <a:gd name="textAreaBottom" fmla="*/ 834120 h 833760"/>
            </a:gdLst>
            <a:ahLst/>
            <a:rect l="textAreaLeft" t="textAreaTop" r="textAreaRight" b="textAreaBottom"/>
            <a:pathLst>
              <a:path w="1147516" h="1542934">
                <a:moveTo>
                  <a:pt x="654359" y="1"/>
                </a:moveTo>
                <a:lnTo>
                  <a:pt x="1073297" y="6558"/>
                </a:lnTo>
                <a:lnTo>
                  <a:pt x="1147516" y="1542934"/>
                </a:lnTo>
                <a:lnTo>
                  <a:pt x="0" y="1428708"/>
                </a:lnTo>
                <a:lnTo>
                  <a:pt x="65435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1"/>
          <p:cNvSpPr/>
          <p:nvPr/>
        </p:nvSpPr>
        <p:spPr>
          <a:xfrm rot="477600">
            <a:off x="6918480" y="3768480"/>
            <a:ext cx="250560" cy="1287360"/>
          </a:xfrm>
          <a:custGeom>
            <a:avLst/>
            <a:gdLst>
              <a:gd name="textAreaLeft" fmla="*/ 0 w 250560"/>
              <a:gd name="textAreaRight" fmla="*/ 250920 w 25056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2"/>
          <p:cNvSpPr/>
          <p:nvPr/>
        </p:nvSpPr>
        <p:spPr>
          <a:xfrm rot="18081600">
            <a:off x="6540480" y="3145680"/>
            <a:ext cx="345960" cy="879480"/>
          </a:xfrm>
          <a:custGeom>
            <a:avLst/>
            <a:gdLst>
              <a:gd name="textAreaLeft" fmla="*/ 0 w 345960"/>
              <a:gd name="textAreaRight" fmla="*/ 346320 w 345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553073" h="1259278">
                <a:moveTo>
                  <a:pt x="67686" y="41567"/>
                </a:moveTo>
                <a:lnTo>
                  <a:pt x="257327" y="0"/>
                </a:lnTo>
                <a:lnTo>
                  <a:pt x="553073" y="1259278"/>
                </a:ln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1"/>
          <p:cNvSpPr/>
          <p:nvPr/>
        </p:nvSpPr>
        <p:spPr>
          <a:xfrm rot="21083400">
            <a:off x="7101000" y="3814920"/>
            <a:ext cx="287280" cy="1287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4"/>
          <p:cNvSpPr/>
          <p:nvPr/>
        </p:nvSpPr>
        <p:spPr>
          <a:xfrm rot="18104400">
            <a:off x="4476960" y="1843920"/>
            <a:ext cx="524160" cy="1604880"/>
          </a:xfrm>
          <a:custGeom>
            <a:avLst/>
            <a:gdLst>
              <a:gd name="textAreaLeft" fmla="*/ 0 w 524160"/>
              <a:gd name="textAreaRight" fmla="*/ 524520 w 52416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平行四边形 40"/>
          <p:cNvSpPr/>
          <p:nvPr/>
        </p:nvSpPr>
        <p:spPr>
          <a:xfrm rot="10123800">
            <a:off x="516960" y="1828080"/>
            <a:ext cx="2625480" cy="1203480"/>
          </a:xfrm>
          <a:prstGeom prst="parallelogram">
            <a:avLst>
              <a:gd name="adj" fmla="val 208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44"/>
          <p:cNvSpPr/>
          <p:nvPr/>
        </p:nvSpPr>
        <p:spPr>
          <a:xfrm>
            <a:off x="6724800" y="2965320"/>
            <a:ext cx="583920" cy="584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4"/>
          <p:cNvSpPr/>
          <p:nvPr/>
        </p:nvSpPr>
        <p:spPr>
          <a:xfrm rot="3529800">
            <a:off x="1122120" y="2327040"/>
            <a:ext cx="47880" cy="238320"/>
          </a:xfrm>
          <a:custGeom>
            <a:avLst/>
            <a:gdLst>
              <a:gd name="textAreaLeft" fmla="*/ 0 w 47880"/>
              <a:gd name="textAreaRight" fmla="*/ 48240 w 47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8"/>
          <p:cNvGrpSpPr/>
          <p:nvPr/>
        </p:nvGrpSpPr>
        <p:grpSpPr>
          <a:xfrm>
            <a:off x="1101600" y="2282760"/>
            <a:ext cx="135720" cy="117720"/>
            <a:chOff x="1101600" y="2282760"/>
            <a:chExt cx="135720" cy="117720"/>
          </a:xfrm>
        </p:grpSpPr>
        <p:sp>
          <p:nvSpPr>
            <p:cNvPr id="189" name="矩形 34"/>
            <p:cNvSpPr/>
            <p:nvPr/>
          </p:nvSpPr>
          <p:spPr>
            <a:xfrm rot="18494400">
              <a:off x="1167120" y="2298600"/>
              <a:ext cx="33480" cy="109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553073" h="1756774">
                  <a:moveTo>
                    <a:pt x="29371" y="25730"/>
                  </a:moveTo>
                  <a:lnTo>
                    <a:pt x="393791" y="0"/>
                  </a:lnTo>
                  <a:lnTo>
                    <a:pt x="553073" y="1756774"/>
                  </a:lnTo>
                  <a:lnTo>
                    <a:pt x="0" y="1756774"/>
                  </a:lnTo>
                  <a:lnTo>
                    <a:pt x="29371" y="257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47"/>
            <p:cNvSpPr/>
            <p:nvPr/>
          </p:nvSpPr>
          <p:spPr>
            <a:xfrm>
              <a:off x="1101600" y="2282760"/>
              <a:ext cx="58320" cy="58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58"/>
          <p:cNvSpPr/>
          <p:nvPr/>
        </p:nvSpPr>
        <p:spPr>
          <a:xfrm rot="20913600">
            <a:off x="1607760" y="2028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国好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60"/>
          <p:cNvSpPr/>
          <p:nvPr/>
        </p:nvSpPr>
        <p:spPr>
          <a:xfrm>
            <a:off x="682560" y="2278080"/>
            <a:ext cx="569880" cy="979560"/>
          </a:xfrm>
          <a:custGeom>
            <a:avLst/>
            <a:gdLst>
              <a:gd name="textAreaLeft" fmla="*/ 0 w 569880"/>
              <a:gd name="textAreaRight" fmla="*/ 570240 w 56988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90220" h="1703727">
                <a:moveTo>
                  <a:pt x="101765" y="1616693"/>
                </a:moveTo>
                <a:cubicBezTo>
                  <a:pt x="86597" y="1637639"/>
                  <a:pt x="53372" y="1688920"/>
                  <a:pt x="36760" y="1699032"/>
                </a:cubicBezTo>
                <a:cubicBezTo>
                  <a:pt x="20148" y="1709144"/>
                  <a:pt x="4980" y="1703366"/>
                  <a:pt x="2091" y="1677364"/>
                </a:cubicBezTo>
                <a:cubicBezTo>
                  <a:pt x="-798" y="1651362"/>
                  <a:pt x="-4409" y="1626082"/>
                  <a:pt x="19426" y="1543020"/>
                </a:cubicBezTo>
                <a:cubicBezTo>
                  <a:pt x="43261" y="1459958"/>
                  <a:pt x="106099" y="1276501"/>
                  <a:pt x="145102" y="1178994"/>
                </a:cubicBezTo>
                <a:cubicBezTo>
                  <a:pt x="184105" y="1081487"/>
                  <a:pt x="222385" y="1033095"/>
                  <a:pt x="253443" y="957978"/>
                </a:cubicBezTo>
                <a:cubicBezTo>
                  <a:pt x="284501" y="882861"/>
                  <a:pt x="322060" y="767297"/>
                  <a:pt x="331449" y="728294"/>
                </a:cubicBezTo>
                <a:cubicBezTo>
                  <a:pt x="340838" y="689291"/>
                  <a:pt x="306891" y="756463"/>
                  <a:pt x="309780" y="723961"/>
                </a:cubicBezTo>
                <a:cubicBezTo>
                  <a:pt x="312669" y="691459"/>
                  <a:pt x="347338" y="586728"/>
                  <a:pt x="348783" y="533280"/>
                </a:cubicBezTo>
                <a:cubicBezTo>
                  <a:pt x="350228" y="479832"/>
                  <a:pt x="330004" y="445163"/>
                  <a:pt x="318448" y="403271"/>
                </a:cubicBezTo>
                <a:cubicBezTo>
                  <a:pt x="306892" y="361379"/>
                  <a:pt x="288835" y="332488"/>
                  <a:pt x="279445" y="281929"/>
                </a:cubicBezTo>
                <a:cubicBezTo>
                  <a:pt x="270055" y="231370"/>
                  <a:pt x="260666" y="141807"/>
                  <a:pt x="262110" y="99915"/>
                </a:cubicBezTo>
                <a:cubicBezTo>
                  <a:pt x="263554" y="58023"/>
                  <a:pt x="266444" y="42856"/>
                  <a:pt x="288112" y="30577"/>
                </a:cubicBezTo>
                <a:cubicBezTo>
                  <a:pt x="309780" y="18298"/>
                  <a:pt x="368285" y="31299"/>
                  <a:pt x="392120" y="26243"/>
                </a:cubicBezTo>
                <a:cubicBezTo>
                  <a:pt x="415955" y="21187"/>
                  <a:pt x="403676" y="-2648"/>
                  <a:pt x="431122" y="241"/>
                </a:cubicBezTo>
                <a:cubicBezTo>
                  <a:pt x="458568" y="3130"/>
                  <a:pt x="534407" y="24799"/>
                  <a:pt x="556798" y="43578"/>
                </a:cubicBezTo>
                <a:cubicBezTo>
                  <a:pt x="579189" y="62357"/>
                  <a:pt x="562577" y="104971"/>
                  <a:pt x="565466" y="112916"/>
                </a:cubicBezTo>
                <a:cubicBezTo>
                  <a:pt x="568355" y="120861"/>
                  <a:pt x="565466" y="99915"/>
                  <a:pt x="574133" y="91248"/>
                </a:cubicBezTo>
                <a:cubicBezTo>
                  <a:pt x="582800" y="82581"/>
                  <a:pt x="605913" y="52967"/>
                  <a:pt x="617469" y="60912"/>
                </a:cubicBezTo>
                <a:cubicBezTo>
                  <a:pt x="629025" y="68857"/>
                  <a:pt x="632637" y="93415"/>
                  <a:pt x="643471" y="138918"/>
                </a:cubicBezTo>
                <a:cubicBezTo>
                  <a:pt x="654305" y="184421"/>
                  <a:pt x="675251" y="292040"/>
                  <a:pt x="682474" y="333932"/>
                </a:cubicBezTo>
                <a:cubicBezTo>
                  <a:pt x="689697" y="375824"/>
                  <a:pt x="691864" y="372935"/>
                  <a:pt x="686808" y="390270"/>
                </a:cubicBezTo>
                <a:cubicBezTo>
                  <a:pt x="681752" y="407605"/>
                  <a:pt x="664418" y="434329"/>
                  <a:pt x="652139" y="437940"/>
                </a:cubicBezTo>
                <a:cubicBezTo>
                  <a:pt x="639860" y="441551"/>
                  <a:pt x="623970" y="429995"/>
                  <a:pt x="613136" y="411938"/>
                </a:cubicBezTo>
                <a:cubicBezTo>
                  <a:pt x="602302" y="393881"/>
                  <a:pt x="592912" y="332488"/>
                  <a:pt x="587134" y="329599"/>
                </a:cubicBezTo>
                <a:cubicBezTo>
                  <a:pt x="581356" y="326710"/>
                  <a:pt x="569800" y="369324"/>
                  <a:pt x="578467" y="394603"/>
                </a:cubicBezTo>
                <a:cubicBezTo>
                  <a:pt x="587134" y="419882"/>
                  <a:pt x="621081" y="451663"/>
                  <a:pt x="639138" y="481276"/>
                </a:cubicBezTo>
                <a:cubicBezTo>
                  <a:pt x="657195" y="510889"/>
                  <a:pt x="665140" y="543392"/>
                  <a:pt x="686808" y="572283"/>
                </a:cubicBezTo>
                <a:cubicBezTo>
                  <a:pt x="708476" y="601174"/>
                  <a:pt x="762647" y="637288"/>
                  <a:pt x="769147" y="654622"/>
                </a:cubicBezTo>
                <a:cubicBezTo>
                  <a:pt x="775647" y="671956"/>
                  <a:pt x="723644" y="642344"/>
                  <a:pt x="725811" y="676291"/>
                </a:cubicBezTo>
                <a:cubicBezTo>
                  <a:pt x="727978" y="710238"/>
                  <a:pt x="768425" y="810634"/>
                  <a:pt x="782148" y="858304"/>
                </a:cubicBezTo>
                <a:cubicBezTo>
                  <a:pt x="795871" y="905974"/>
                  <a:pt x="798038" y="930531"/>
                  <a:pt x="808150" y="962311"/>
                </a:cubicBezTo>
                <a:cubicBezTo>
                  <a:pt x="818262" y="994091"/>
                  <a:pt x="831263" y="1013593"/>
                  <a:pt x="842819" y="1048984"/>
                </a:cubicBezTo>
                <a:cubicBezTo>
                  <a:pt x="854375" y="1084375"/>
                  <a:pt x="860153" y="1105322"/>
                  <a:pt x="877488" y="1174660"/>
                </a:cubicBezTo>
                <a:cubicBezTo>
                  <a:pt x="894823" y="1243998"/>
                  <a:pt x="928048" y="1391343"/>
                  <a:pt x="946827" y="1465015"/>
                </a:cubicBezTo>
                <a:cubicBezTo>
                  <a:pt x="965606" y="1538687"/>
                  <a:pt x="991608" y="1587080"/>
                  <a:pt x="990163" y="1616693"/>
                </a:cubicBezTo>
                <a:cubicBezTo>
                  <a:pt x="988718" y="1646306"/>
                  <a:pt x="957660" y="1652084"/>
                  <a:pt x="938159" y="1642694"/>
                </a:cubicBezTo>
                <a:cubicBezTo>
                  <a:pt x="918658" y="1633304"/>
                  <a:pt x="886156" y="1574078"/>
                  <a:pt x="873155" y="1560355"/>
                </a:cubicBezTo>
                <a:cubicBezTo>
                  <a:pt x="860154" y="1546632"/>
                  <a:pt x="863043" y="1571189"/>
                  <a:pt x="860154" y="1560355"/>
                </a:cubicBezTo>
                <a:cubicBezTo>
                  <a:pt x="857265" y="1549521"/>
                  <a:pt x="855098" y="1523519"/>
                  <a:pt x="855820" y="1495350"/>
                </a:cubicBezTo>
                <a:cubicBezTo>
                  <a:pt x="856542" y="1467181"/>
                  <a:pt x="873876" y="1434679"/>
                  <a:pt x="864487" y="1391343"/>
                </a:cubicBezTo>
                <a:cubicBezTo>
                  <a:pt x="855098" y="1348007"/>
                  <a:pt x="818984" y="1287335"/>
                  <a:pt x="799483" y="1235331"/>
                </a:cubicBezTo>
                <a:cubicBezTo>
                  <a:pt x="779982" y="1183327"/>
                  <a:pt x="767703" y="1127712"/>
                  <a:pt x="747479" y="1079320"/>
                </a:cubicBezTo>
                <a:cubicBezTo>
                  <a:pt x="727255" y="1030928"/>
                  <a:pt x="678140" y="944977"/>
                  <a:pt x="678140" y="944977"/>
                </a:cubicBezTo>
                <a:cubicBezTo>
                  <a:pt x="651416" y="892973"/>
                  <a:pt x="620358" y="794743"/>
                  <a:pt x="587134" y="767297"/>
                </a:cubicBezTo>
                <a:cubicBezTo>
                  <a:pt x="553910" y="739851"/>
                  <a:pt x="507684" y="752851"/>
                  <a:pt x="478793" y="780298"/>
                </a:cubicBezTo>
                <a:cubicBezTo>
                  <a:pt x="449902" y="807744"/>
                  <a:pt x="431845" y="896585"/>
                  <a:pt x="413788" y="931976"/>
                </a:cubicBezTo>
                <a:cubicBezTo>
                  <a:pt x="395731" y="967367"/>
                  <a:pt x="384174" y="965201"/>
                  <a:pt x="370451" y="992647"/>
                </a:cubicBezTo>
                <a:cubicBezTo>
                  <a:pt x="356728" y="1020093"/>
                  <a:pt x="350228" y="1061986"/>
                  <a:pt x="331449" y="1096655"/>
                </a:cubicBezTo>
                <a:cubicBezTo>
                  <a:pt x="312670" y="1131324"/>
                  <a:pt x="292445" y="1148658"/>
                  <a:pt x="257776" y="1200662"/>
                </a:cubicBezTo>
                <a:cubicBezTo>
                  <a:pt x="223107" y="1252666"/>
                  <a:pt x="147990" y="1366063"/>
                  <a:pt x="123433" y="1408677"/>
                </a:cubicBezTo>
                <a:cubicBezTo>
                  <a:pt x="98876" y="1451291"/>
                  <a:pt x="110432" y="1439012"/>
                  <a:pt x="110432" y="1456347"/>
                </a:cubicBezTo>
                <a:cubicBezTo>
                  <a:pt x="110432" y="1473682"/>
                  <a:pt x="120544" y="1493183"/>
                  <a:pt x="123433" y="1512685"/>
                </a:cubicBezTo>
                <a:cubicBezTo>
                  <a:pt x="126322" y="1532186"/>
                  <a:pt x="127767" y="1555299"/>
                  <a:pt x="127767" y="1573356"/>
                </a:cubicBezTo>
                <a:cubicBezTo>
                  <a:pt x="127767" y="1591413"/>
                  <a:pt x="116933" y="1595747"/>
                  <a:pt x="101765" y="161669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62"/>
          <p:cNvSpPr/>
          <p:nvPr/>
        </p:nvSpPr>
        <p:spPr>
          <a:xfrm>
            <a:off x="858960" y="2127240"/>
            <a:ext cx="271440" cy="171360"/>
          </a:xfrm>
          <a:custGeom>
            <a:avLst/>
            <a:gdLst/>
            <a:ahLst/>
            <a:rect l="l" t="t" r="r" b="b"/>
            <a:pathLst>
              <a:path w="2173130" h="1376569">
                <a:moveTo>
                  <a:pt x="108930" y="969100"/>
                </a:moveTo>
                <a:cubicBezTo>
                  <a:pt x="111948" y="949484"/>
                  <a:pt x="54609" y="957029"/>
                  <a:pt x="36502" y="869512"/>
                </a:cubicBezTo>
                <a:cubicBezTo>
                  <a:pt x="18395" y="781995"/>
                  <a:pt x="-2729" y="471160"/>
                  <a:pt x="289" y="443999"/>
                </a:cubicBezTo>
                <a:cubicBezTo>
                  <a:pt x="3307" y="416838"/>
                  <a:pt x="36502" y="656755"/>
                  <a:pt x="54609" y="706549"/>
                </a:cubicBezTo>
                <a:cubicBezTo>
                  <a:pt x="72716" y="756343"/>
                  <a:pt x="98368" y="759361"/>
                  <a:pt x="108930" y="742763"/>
                </a:cubicBezTo>
                <a:cubicBezTo>
                  <a:pt x="119492" y="726165"/>
                  <a:pt x="114966" y="659773"/>
                  <a:pt x="117984" y="606961"/>
                </a:cubicBezTo>
                <a:cubicBezTo>
                  <a:pt x="121002" y="554149"/>
                  <a:pt x="110439" y="489266"/>
                  <a:pt x="127037" y="425892"/>
                </a:cubicBezTo>
                <a:cubicBezTo>
                  <a:pt x="143635" y="362518"/>
                  <a:pt x="152689" y="279528"/>
                  <a:pt x="217572" y="226716"/>
                </a:cubicBezTo>
                <a:cubicBezTo>
                  <a:pt x="282455" y="173904"/>
                  <a:pt x="427310" y="127128"/>
                  <a:pt x="516336" y="109021"/>
                </a:cubicBezTo>
                <a:cubicBezTo>
                  <a:pt x="605362" y="90914"/>
                  <a:pt x="686843" y="136181"/>
                  <a:pt x="751726" y="118074"/>
                </a:cubicBezTo>
                <a:cubicBezTo>
                  <a:pt x="816609" y="99967"/>
                  <a:pt x="884510" y="-7166"/>
                  <a:pt x="905635" y="379"/>
                </a:cubicBezTo>
                <a:cubicBezTo>
                  <a:pt x="926760" y="7924"/>
                  <a:pt x="867913" y="139199"/>
                  <a:pt x="878475" y="163342"/>
                </a:cubicBezTo>
                <a:cubicBezTo>
                  <a:pt x="889037" y="187485"/>
                  <a:pt x="969009" y="145235"/>
                  <a:pt x="969009" y="145235"/>
                </a:cubicBezTo>
                <a:cubicBezTo>
                  <a:pt x="991643" y="140708"/>
                  <a:pt x="1009750" y="110529"/>
                  <a:pt x="1014277" y="136181"/>
                </a:cubicBezTo>
                <a:cubicBezTo>
                  <a:pt x="1018804" y="161833"/>
                  <a:pt x="978063" y="293108"/>
                  <a:pt x="996170" y="299144"/>
                </a:cubicBezTo>
                <a:cubicBezTo>
                  <a:pt x="1014277" y="305180"/>
                  <a:pt x="1098776" y="163342"/>
                  <a:pt x="1122918" y="172395"/>
                </a:cubicBezTo>
                <a:cubicBezTo>
                  <a:pt x="1147061" y="181448"/>
                  <a:pt x="1085195" y="311215"/>
                  <a:pt x="1141025" y="353464"/>
                </a:cubicBezTo>
                <a:cubicBezTo>
                  <a:pt x="1196855" y="395713"/>
                  <a:pt x="1374906" y="354973"/>
                  <a:pt x="1457896" y="425892"/>
                </a:cubicBezTo>
                <a:cubicBezTo>
                  <a:pt x="1540886" y="496811"/>
                  <a:pt x="1587663" y="711076"/>
                  <a:pt x="1638966" y="778977"/>
                </a:cubicBezTo>
                <a:cubicBezTo>
                  <a:pt x="1690269" y="846878"/>
                  <a:pt x="1711393" y="827262"/>
                  <a:pt x="1765714" y="833298"/>
                </a:cubicBezTo>
                <a:cubicBezTo>
                  <a:pt x="1820035" y="839334"/>
                  <a:pt x="1942256" y="794066"/>
                  <a:pt x="1964890" y="815191"/>
                </a:cubicBezTo>
                <a:cubicBezTo>
                  <a:pt x="1987524" y="836316"/>
                  <a:pt x="1866811" y="935903"/>
                  <a:pt x="1901516" y="960046"/>
                </a:cubicBezTo>
                <a:cubicBezTo>
                  <a:pt x="1936221" y="984189"/>
                  <a:pt x="2171611" y="929868"/>
                  <a:pt x="2173120" y="960046"/>
                </a:cubicBezTo>
                <a:cubicBezTo>
                  <a:pt x="2174629" y="990224"/>
                  <a:pt x="2017703" y="1103393"/>
                  <a:pt x="1910570" y="1141116"/>
                </a:cubicBezTo>
                <a:cubicBezTo>
                  <a:pt x="1803437" y="1178839"/>
                  <a:pt x="1619350" y="1177330"/>
                  <a:pt x="1530324" y="1186383"/>
                </a:cubicBezTo>
                <a:cubicBezTo>
                  <a:pt x="1441298" y="1195437"/>
                  <a:pt x="1414138" y="1180348"/>
                  <a:pt x="1376415" y="1195437"/>
                </a:cubicBezTo>
                <a:cubicBezTo>
                  <a:pt x="1338692" y="1210526"/>
                  <a:pt x="1340202" y="1255793"/>
                  <a:pt x="1303988" y="1276918"/>
                </a:cubicBezTo>
                <a:cubicBezTo>
                  <a:pt x="1267774" y="1298043"/>
                  <a:pt x="1216471" y="1305587"/>
                  <a:pt x="1159132" y="1322185"/>
                </a:cubicBezTo>
                <a:cubicBezTo>
                  <a:pt x="1101793" y="1338783"/>
                  <a:pt x="1050491" y="1374997"/>
                  <a:pt x="959956" y="1376506"/>
                </a:cubicBezTo>
                <a:cubicBezTo>
                  <a:pt x="869421" y="1378015"/>
                  <a:pt x="710985" y="1352364"/>
                  <a:pt x="615924" y="1331239"/>
                </a:cubicBezTo>
                <a:cubicBezTo>
                  <a:pt x="520863" y="1310114"/>
                  <a:pt x="489176" y="1307096"/>
                  <a:pt x="389588" y="1249757"/>
                </a:cubicBezTo>
                <a:cubicBezTo>
                  <a:pt x="290000" y="1192418"/>
                  <a:pt x="59136" y="1035492"/>
                  <a:pt x="18395" y="987207"/>
                </a:cubicBezTo>
                <a:cubicBezTo>
                  <a:pt x="-22346" y="938922"/>
                  <a:pt x="105912" y="988716"/>
                  <a:pt x="108930" y="9691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梯形 63"/>
          <p:cNvSpPr/>
          <p:nvPr/>
        </p:nvSpPr>
        <p:spPr>
          <a:xfrm flipV="1" rot="20637000">
            <a:off x="1310760" y="2359800"/>
            <a:ext cx="46080" cy="806400"/>
          </a:xfrm>
          <a:custGeom>
            <a:avLst/>
            <a:gdLst>
              <a:gd name="textAreaLeft" fmla="*/ 9360 w 46080"/>
              <a:gd name="textAreaRight" fmla="*/ 36720 w 46080"/>
              <a:gd name="textAreaTop" fmla="*/ 167760 h 806400"/>
              <a:gd name="textAreaBottom" fmla="*/ 63864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8390520" y="457200"/>
            <a:ext cx="1419840" cy="1685520"/>
            <a:chOff x="8390520" y="457200"/>
            <a:chExt cx="1419840" cy="1685520"/>
          </a:xfrm>
        </p:grpSpPr>
        <p:sp>
          <p:nvSpPr>
            <p:cNvPr id="196" name="椭圆 37"/>
            <p:cNvSpPr/>
            <p:nvPr/>
          </p:nvSpPr>
          <p:spPr>
            <a:xfrm>
              <a:off x="8599680" y="648000"/>
              <a:ext cx="426960" cy="42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1"/>
            <p:cNvSpPr/>
            <p:nvPr/>
          </p:nvSpPr>
          <p:spPr>
            <a:xfrm rot="20785200">
              <a:off x="8454960" y="965880"/>
              <a:ext cx="510120" cy="60984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1147516" h="1542934">
                  <a:moveTo>
                    <a:pt x="654359" y="1"/>
                  </a:moveTo>
                  <a:lnTo>
                    <a:pt x="1073297" y="6558"/>
                  </a:lnTo>
                  <a:lnTo>
                    <a:pt x="1147516" y="1542934"/>
                  </a:lnTo>
                  <a:lnTo>
                    <a:pt x="0" y="1428708"/>
                  </a:lnTo>
                  <a:lnTo>
                    <a:pt x="65435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31"/>
            <p:cNvSpPr/>
            <p:nvPr/>
          </p:nvSpPr>
          <p:spPr>
            <a:xfrm rot="477600">
              <a:off x="8629920" y="1156320"/>
              <a:ext cx="177480" cy="8974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553073" h="1287148">
                  <a:moveTo>
                    <a:pt x="0" y="0"/>
                  </a:moveTo>
                  <a:lnTo>
                    <a:pt x="553073" y="0"/>
                  </a:lnTo>
                  <a:lnTo>
                    <a:pt x="553073" y="1287148"/>
                  </a:lnTo>
                  <a:lnTo>
                    <a:pt x="134471" y="12602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2"/>
            <p:cNvSpPr/>
            <p:nvPr/>
          </p:nvSpPr>
          <p:spPr>
            <a:xfrm rot="3891600">
              <a:off x="8976240" y="767160"/>
              <a:ext cx="187920" cy="6012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553073" h="1259278">
                  <a:moveTo>
                    <a:pt x="67686" y="41567"/>
                  </a:moveTo>
                  <a:lnTo>
                    <a:pt x="257327" y="0"/>
                  </a:lnTo>
                  <a:lnTo>
                    <a:pt x="553073" y="1259278"/>
                  </a:lnTo>
                  <a:lnTo>
                    <a:pt x="0" y="1259278"/>
                  </a:lnTo>
                  <a:lnTo>
                    <a:pt x="67686" y="415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31"/>
            <p:cNvSpPr/>
            <p:nvPr/>
          </p:nvSpPr>
          <p:spPr>
            <a:xfrm rot="21083400">
              <a:off x="8756280" y="1192320"/>
              <a:ext cx="175680" cy="8870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87040"/>
                <a:gd name="textAreaBottom" fmla="*/ 887400 h 887040"/>
              </a:gdLst>
              <a:ahLst/>
              <a:rect l="textAreaLeft" t="textAreaTop" r="textAreaRight" b="textAreaBottom"/>
              <a:pathLst>
                <a:path w="553073" h="1287148">
                  <a:moveTo>
                    <a:pt x="0" y="0"/>
                  </a:moveTo>
                  <a:lnTo>
                    <a:pt x="553073" y="0"/>
                  </a:lnTo>
                  <a:lnTo>
                    <a:pt x="553073" y="1287148"/>
                  </a:lnTo>
                  <a:lnTo>
                    <a:pt x="134471" y="12602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50"/>
            <p:cNvSpPr/>
            <p:nvPr/>
          </p:nvSpPr>
          <p:spPr>
            <a:xfrm>
              <a:off x="9212400" y="457200"/>
              <a:ext cx="525960" cy="52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21"/>
            <p:cNvSpPr/>
            <p:nvPr/>
          </p:nvSpPr>
          <p:spPr>
            <a:xfrm rot="20785200">
              <a:off x="9138240" y="914040"/>
              <a:ext cx="596520" cy="713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1147516" h="1542934">
                  <a:moveTo>
                    <a:pt x="654359" y="1"/>
                  </a:moveTo>
                  <a:lnTo>
                    <a:pt x="1073297" y="6558"/>
                  </a:lnTo>
                  <a:lnTo>
                    <a:pt x="1147516" y="1542934"/>
                  </a:lnTo>
                  <a:lnTo>
                    <a:pt x="0" y="1428708"/>
                  </a:lnTo>
                  <a:lnTo>
                    <a:pt x="65435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31"/>
            <p:cNvSpPr/>
            <p:nvPr/>
          </p:nvSpPr>
          <p:spPr>
            <a:xfrm rot="477600">
              <a:off x="9325440" y="1160280"/>
              <a:ext cx="245520" cy="9428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553073" h="1287148">
                  <a:moveTo>
                    <a:pt x="0" y="0"/>
                  </a:moveTo>
                  <a:lnTo>
                    <a:pt x="553073" y="0"/>
                  </a:lnTo>
                  <a:lnTo>
                    <a:pt x="553073" y="1287148"/>
                  </a:lnTo>
                  <a:lnTo>
                    <a:pt x="134471" y="12602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32"/>
            <p:cNvSpPr/>
            <p:nvPr/>
          </p:nvSpPr>
          <p:spPr>
            <a:xfrm rot="17292600">
              <a:off x="9002160" y="807480"/>
              <a:ext cx="253080" cy="6433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553073" h="1259278">
                  <a:moveTo>
                    <a:pt x="67686" y="41567"/>
                  </a:moveTo>
                  <a:lnTo>
                    <a:pt x="257327" y="0"/>
                  </a:lnTo>
                  <a:lnTo>
                    <a:pt x="553073" y="1259278"/>
                  </a:lnTo>
                  <a:lnTo>
                    <a:pt x="0" y="1259278"/>
                  </a:lnTo>
                  <a:lnTo>
                    <a:pt x="67686" y="415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31"/>
            <p:cNvSpPr/>
            <p:nvPr/>
          </p:nvSpPr>
          <p:spPr>
            <a:xfrm rot="21083400">
              <a:off x="9458280" y="1184040"/>
              <a:ext cx="280800" cy="942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553073" h="1287148">
                  <a:moveTo>
                    <a:pt x="0" y="0"/>
                  </a:moveTo>
                  <a:lnTo>
                    <a:pt x="553073" y="0"/>
                  </a:lnTo>
                  <a:lnTo>
                    <a:pt x="553073" y="1287148"/>
                  </a:lnTo>
                  <a:lnTo>
                    <a:pt x="134471" y="12602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32"/>
            <p:cNvSpPr/>
            <p:nvPr/>
          </p:nvSpPr>
          <p:spPr>
            <a:xfrm rot="17292600">
              <a:off x="9070200" y="638640"/>
              <a:ext cx="253080" cy="6433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553073" h="1259278">
                  <a:moveTo>
                    <a:pt x="67686" y="41567"/>
                  </a:moveTo>
                  <a:lnTo>
                    <a:pt x="257327" y="0"/>
                  </a:lnTo>
                  <a:lnTo>
                    <a:pt x="553073" y="1259278"/>
                  </a:lnTo>
                  <a:lnTo>
                    <a:pt x="0" y="1259278"/>
                  </a:lnTo>
                  <a:lnTo>
                    <a:pt x="67686" y="415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57"/>
          <p:cNvSpPr/>
          <p:nvPr/>
        </p:nvSpPr>
        <p:spPr>
          <a:xfrm flipV="1">
            <a:off x="10756800" y="0"/>
            <a:ext cx="1435320" cy="653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59"/>
          <p:cNvSpPr/>
          <p:nvPr/>
        </p:nvSpPr>
        <p:spPr>
          <a:xfrm flipV="1">
            <a:off x="0" y="4974840"/>
            <a:ext cx="12192120" cy="18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8"/>
          <p:cNvSpPr/>
          <p:nvPr/>
        </p:nvSpPr>
        <p:spPr>
          <a:xfrm rot="751800">
            <a:off x="4093200" y="603360"/>
            <a:ext cx="43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胖子今天打我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爸爸，你在听我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"/>
          <p:cNvSpPr/>
          <p:nvPr/>
        </p:nvSpPr>
        <p:spPr>
          <a:xfrm>
            <a:off x="3963960" y="139680"/>
            <a:ext cx="4046400" cy="2671920"/>
          </a:xfrm>
          <a:custGeom>
            <a:avLst/>
            <a:gdLst>
              <a:gd name="textAreaLeft" fmla="*/ 0 w 4046400"/>
              <a:gd name="textAreaRight" fmla="*/ 4046760 w 4046400"/>
              <a:gd name="textAreaTop" fmla="*/ 0 h 2671920"/>
              <a:gd name="textAreaBottom" fmla="*/ 2672280 h 2671920"/>
            </a:gdLst>
            <a:ahLst/>
            <a:rect l="textAreaLeft" t="textAreaTop" r="textAreaRight" b="textAreaBottom"/>
            <a:pathLst>
              <a:path w="4045998" h="2672168">
                <a:moveTo>
                  <a:pt x="41530" y="311988"/>
                </a:moveTo>
                <a:cubicBezTo>
                  <a:pt x="-12132" y="369943"/>
                  <a:pt x="-5693" y="266912"/>
                  <a:pt x="15772" y="402140"/>
                </a:cubicBezTo>
                <a:cubicBezTo>
                  <a:pt x="37237" y="537368"/>
                  <a:pt x="41529" y="981690"/>
                  <a:pt x="170318" y="1123357"/>
                </a:cubicBezTo>
                <a:cubicBezTo>
                  <a:pt x="299107" y="1265024"/>
                  <a:pt x="498729" y="1198483"/>
                  <a:pt x="788504" y="1252145"/>
                </a:cubicBezTo>
                <a:cubicBezTo>
                  <a:pt x="1078279" y="1305807"/>
                  <a:pt x="1908966" y="1445328"/>
                  <a:pt x="1908966" y="1445328"/>
                </a:cubicBezTo>
                <a:cubicBezTo>
                  <a:pt x="2209473" y="1496843"/>
                  <a:pt x="2411242" y="1496843"/>
                  <a:pt x="2591546" y="1561238"/>
                </a:cubicBezTo>
                <a:cubicBezTo>
                  <a:pt x="2771850" y="1625633"/>
                  <a:pt x="2904933" y="1647098"/>
                  <a:pt x="2990792" y="1831695"/>
                </a:cubicBezTo>
                <a:cubicBezTo>
                  <a:pt x="3076651" y="2016292"/>
                  <a:pt x="3068065" y="2621599"/>
                  <a:pt x="3106701" y="2668821"/>
                </a:cubicBezTo>
                <a:cubicBezTo>
                  <a:pt x="3145338" y="2716044"/>
                  <a:pt x="3151777" y="2250258"/>
                  <a:pt x="3222611" y="2115030"/>
                </a:cubicBezTo>
                <a:cubicBezTo>
                  <a:pt x="3293445" y="1979802"/>
                  <a:pt x="3405062" y="1904674"/>
                  <a:pt x="3531704" y="1857452"/>
                </a:cubicBezTo>
                <a:cubicBezTo>
                  <a:pt x="3658346" y="1810230"/>
                  <a:pt x="3900899" y="1908968"/>
                  <a:pt x="3982465" y="1831695"/>
                </a:cubicBezTo>
                <a:cubicBezTo>
                  <a:pt x="4064031" y="1754422"/>
                  <a:pt x="4055445" y="1507576"/>
                  <a:pt x="4021101" y="1393813"/>
                </a:cubicBezTo>
                <a:cubicBezTo>
                  <a:pt x="3986757" y="1280050"/>
                  <a:pt x="3776403" y="1149114"/>
                  <a:pt x="3776403" y="1149114"/>
                </a:cubicBezTo>
                <a:cubicBezTo>
                  <a:pt x="3651907" y="1026765"/>
                  <a:pt x="3503800" y="807824"/>
                  <a:pt x="3274127" y="659717"/>
                </a:cubicBezTo>
                <a:cubicBezTo>
                  <a:pt x="3044454" y="511610"/>
                  <a:pt x="2763264" y="367796"/>
                  <a:pt x="2398363" y="260472"/>
                </a:cubicBezTo>
                <a:cubicBezTo>
                  <a:pt x="2033462" y="153148"/>
                  <a:pt x="1428155" y="50117"/>
                  <a:pt x="1084718" y="15773"/>
                </a:cubicBezTo>
                <a:cubicBezTo>
                  <a:pt x="741282" y="-18571"/>
                  <a:pt x="518048" y="7187"/>
                  <a:pt x="337744" y="54410"/>
                </a:cubicBezTo>
                <a:cubicBezTo>
                  <a:pt x="157440" y="101633"/>
                  <a:pt x="95192" y="254033"/>
                  <a:pt x="41530" y="31198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56"/>
          <p:cNvSpPr/>
          <p:nvPr/>
        </p:nvSpPr>
        <p:spPr>
          <a:xfrm rot="20871600">
            <a:off x="360000" y="3152880"/>
            <a:ext cx="43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我听着呢，接着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5"/>
          <p:cNvSpPr/>
          <p:nvPr/>
        </p:nvSpPr>
        <p:spPr>
          <a:xfrm>
            <a:off x="139680" y="2709720"/>
            <a:ext cx="3994200" cy="1748160"/>
          </a:xfrm>
          <a:custGeom>
            <a:avLst/>
            <a:gdLst>
              <a:gd name="textAreaLeft" fmla="*/ 0 w 3994200"/>
              <a:gd name="textAreaRight" fmla="*/ 3994560 w 3994200"/>
              <a:gd name="textAreaTop" fmla="*/ 0 h 1748160"/>
              <a:gd name="textAreaBottom" fmla="*/ 1748520 h 1748160"/>
            </a:gdLst>
            <a:ahLst/>
            <a:rect l="textAreaLeft" t="textAreaTop" r="textAreaRight" b="textAreaBottom"/>
            <a:pathLst>
              <a:path w="3994665" h="1748356">
                <a:moveTo>
                  <a:pt x="568859" y="818915"/>
                </a:moveTo>
                <a:cubicBezTo>
                  <a:pt x="354211" y="859698"/>
                  <a:pt x="609643" y="735202"/>
                  <a:pt x="517344" y="831794"/>
                </a:cubicBezTo>
                <a:cubicBezTo>
                  <a:pt x="425045" y="928386"/>
                  <a:pt x="68729" y="1248212"/>
                  <a:pt x="15067" y="1398465"/>
                </a:cubicBezTo>
                <a:cubicBezTo>
                  <a:pt x="-38595" y="1548718"/>
                  <a:pt x="57997" y="1688239"/>
                  <a:pt x="195372" y="1733315"/>
                </a:cubicBezTo>
                <a:cubicBezTo>
                  <a:pt x="332747" y="1778391"/>
                  <a:pt x="650425" y="1711850"/>
                  <a:pt x="839315" y="1668921"/>
                </a:cubicBezTo>
                <a:cubicBezTo>
                  <a:pt x="1028205" y="1625992"/>
                  <a:pt x="1152702" y="1533693"/>
                  <a:pt x="1328713" y="1475738"/>
                </a:cubicBezTo>
                <a:cubicBezTo>
                  <a:pt x="1504724" y="1417783"/>
                  <a:pt x="1693614" y="1370560"/>
                  <a:pt x="1895383" y="1321191"/>
                </a:cubicBezTo>
                <a:cubicBezTo>
                  <a:pt x="2097152" y="1271822"/>
                  <a:pt x="2305361" y="1243918"/>
                  <a:pt x="2539327" y="1179524"/>
                </a:cubicBezTo>
                <a:cubicBezTo>
                  <a:pt x="2773293" y="1115130"/>
                  <a:pt x="3097411" y="997073"/>
                  <a:pt x="3299180" y="934825"/>
                </a:cubicBezTo>
                <a:cubicBezTo>
                  <a:pt x="3500949" y="872577"/>
                  <a:pt x="3672668" y="921946"/>
                  <a:pt x="3749941" y="806036"/>
                </a:cubicBezTo>
                <a:cubicBezTo>
                  <a:pt x="3827214" y="690126"/>
                  <a:pt x="3722037" y="372448"/>
                  <a:pt x="3762820" y="239366"/>
                </a:cubicBezTo>
                <a:cubicBezTo>
                  <a:pt x="3803603" y="106284"/>
                  <a:pt x="3992493" y="35450"/>
                  <a:pt x="3994639" y="7546"/>
                </a:cubicBezTo>
                <a:cubicBezTo>
                  <a:pt x="3996785" y="-20358"/>
                  <a:pt x="3867996" y="35451"/>
                  <a:pt x="3775698" y="71941"/>
                </a:cubicBezTo>
                <a:cubicBezTo>
                  <a:pt x="3683400" y="108431"/>
                  <a:pt x="3591101" y="187851"/>
                  <a:pt x="3440848" y="226487"/>
                </a:cubicBezTo>
                <a:cubicBezTo>
                  <a:pt x="3290595" y="265123"/>
                  <a:pt x="3146780" y="243659"/>
                  <a:pt x="2874177" y="303760"/>
                </a:cubicBezTo>
                <a:cubicBezTo>
                  <a:pt x="2601574" y="363861"/>
                  <a:pt x="2191597" y="503383"/>
                  <a:pt x="1805231" y="587096"/>
                </a:cubicBezTo>
                <a:cubicBezTo>
                  <a:pt x="1418865" y="670809"/>
                  <a:pt x="783507" y="778132"/>
                  <a:pt x="568859" y="8189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椭圆 1"/>
          <p:cNvSpPr/>
          <p:nvPr/>
        </p:nvSpPr>
        <p:spPr>
          <a:xfrm>
            <a:off x="9839160" y="1523880"/>
            <a:ext cx="1146240" cy="114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1"/>
          <p:cNvSpPr/>
          <p:nvPr/>
        </p:nvSpPr>
        <p:spPr>
          <a:xfrm rot="1368000">
            <a:off x="9510840" y="2273400"/>
            <a:ext cx="1387440" cy="193968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939680"/>
              <a:gd name="textAreaBottom" fmla="*/ 1940040 h 1939680"/>
            </a:gdLst>
            <a:ahLst/>
            <a:rect l="textAreaLeft" t="textAreaTop" r="textAreaRight" b="textAreaBottom"/>
            <a:pathLst>
              <a:path w="1147516" h="1938947">
                <a:moveTo>
                  <a:pt x="303911" y="525320"/>
                </a:moveTo>
                <a:lnTo>
                  <a:pt x="756658" y="0"/>
                </a:lnTo>
                <a:lnTo>
                  <a:pt x="1147516" y="1938947"/>
                </a:lnTo>
                <a:lnTo>
                  <a:pt x="0" y="1824721"/>
                </a:lnTo>
                <a:lnTo>
                  <a:pt x="303911" y="5253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 rot="5400000">
            <a:off x="9198360" y="3185280"/>
            <a:ext cx="633240" cy="165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 rot="1279200">
            <a:off x="8489520" y="3722400"/>
            <a:ext cx="554040" cy="14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9169560" y="4284720"/>
            <a:ext cx="2313000" cy="80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 rot="917400">
            <a:off x="10833120" y="1924200"/>
            <a:ext cx="701640" cy="28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平行四边形 7"/>
          <p:cNvSpPr/>
          <p:nvPr/>
        </p:nvSpPr>
        <p:spPr>
          <a:xfrm rot="10123800">
            <a:off x="5451480" y="1738440"/>
            <a:ext cx="3060720" cy="1428480"/>
          </a:xfrm>
          <a:prstGeom prst="parallelogram">
            <a:avLst>
              <a:gd name="adj" fmla="val 20901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34"/>
          <p:cNvSpPr/>
          <p:nvPr/>
        </p:nvSpPr>
        <p:spPr>
          <a:xfrm rot="15100800">
            <a:off x="9388800" y="2064600"/>
            <a:ext cx="524160" cy="1992240"/>
          </a:xfrm>
          <a:custGeom>
            <a:avLst/>
            <a:gdLst>
              <a:gd name="textAreaLeft" fmla="*/ 0 w 524160"/>
              <a:gd name="textAreaRight" fmla="*/ 524520 w 52416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平行四边形 14"/>
          <p:cNvSpPr/>
          <p:nvPr/>
        </p:nvSpPr>
        <p:spPr>
          <a:xfrm rot="10123800">
            <a:off x="5680080" y="1823760"/>
            <a:ext cx="2625840" cy="1201680"/>
          </a:xfrm>
          <a:prstGeom prst="parallelogram">
            <a:avLst>
              <a:gd name="adj" fmla="val 209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1"/>
          <p:cNvSpPr/>
          <p:nvPr/>
        </p:nvSpPr>
        <p:spPr>
          <a:xfrm flipH="1" rot="21328800">
            <a:off x="7698960" y="3760560"/>
            <a:ext cx="695520" cy="833400"/>
          </a:xfrm>
          <a:custGeom>
            <a:avLst/>
            <a:gdLst>
              <a:gd name="textAreaLeft" fmla="*/ 360 w 695520"/>
              <a:gd name="textAreaRight" fmla="*/ 696240 w 69552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147516" h="1542934">
                <a:moveTo>
                  <a:pt x="654359" y="1"/>
                </a:moveTo>
                <a:lnTo>
                  <a:pt x="1073297" y="6558"/>
                </a:lnTo>
                <a:lnTo>
                  <a:pt x="1147516" y="1542934"/>
                </a:lnTo>
                <a:lnTo>
                  <a:pt x="0" y="1428708"/>
                </a:lnTo>
                <a:lnTo>
                  <a:pt x="65435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1"/>
          <p:cNvSpPr/>
          <p:nvPr/>
        </p:nvSpPr>
        <p:spPr>
          <a:xfrm flipH="1" rot="21122400">
            <a:off x="8022600" y="3987360"/>
            <a:ext cx="250560" cy="1287720"/>
          </a:xfrm>
          <a:custGeom>
            <a:avLst/>
            <a:gdLst>
              <a:gd name="textAreaLeft" fmla="*/ 360 w 250560"/>
              <a:gd name="textAreaRight" fmla="*/ 251280 w 250560"/>
              <a:gd name="textAreaTop" fmla="*/ 0 h 1287720"/>
              <a:gd name="textAreaBottom" fmla="*/ 1288080 h 128772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2"/>
          <p:cNvSpPr/>
          <p:nvPr/>
        </p:nvSpPr>
        <p:spPr>
          <a:xfrm flipH="1" rot="3518400">
            <a:off x="8241840" y="3387960"/>
            <a:ext cx="346320" cy="879480"/>
          </a:xfrm>
          <a:custGeom>
            <a:avLst/>
            <a:gdLst>
              <a:gd name="textAreaLeft" fmla="*/ 360 w 346320"/>
              <a:gd name="textAreaRight" fmla="*/ 347040 w 34632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553073" h="1259278">
                <a:moveTo>
                  <a:pt x="67686" y="41567"/>
                </a:moveTo>
                <a:lnTo>
                  <a:pt x="257327" y="0"/>
                </a:lnTo>
                <a:lnTo>
                  <a:pt x="553073" y="1259278"/>
                </a:ln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1"/>
          <p:cNvSpPr/>
          <p:nvPr/>
        </p:nvSpPr>
        <p:spPr>
          <a:xfrm flipH="1" rot="516600">
            <a:off x="7844760" y="4017960"/>
            <a:ext cx="285840" cy="1287360"/>
          </a:xfrm>
          <a:custGeom>
            <a:avLst/>
            <a:gdLst>
              <a:gd name="textAreaLeft" fmla="*/ 360 w 285840"/>
              <a:gd name="textAreaRight" fmla="*/ 286560 w 28584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5"/>
          <p:cNvSpPr/>
          <p:nvPr/>
        </p:nvSpPr>
        <p:spPr>
          <a:xfrm flipH="1">
            <a:off x="7426440" y="3317760"/>
            <a:ext cx="582480" cy="582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4"/>
          <p:cNvSpPr/>
          <p:nvPr/>
        </p:nvSpPr>
        <p:spPr>
          <a:xfrm rot="3529800">
            <a:off x="6284520" y="2322720"/>
            <a:ext cx="47520" cy="237960"/>
          </a:xfrm>
          <a:custGeom>
            <a:avLst/>
            <a:gdLst>
              <a:gd name="textAreaLeft" fmla="*/ 0 w 47520"/>
              <a:gd name="textAreaRight" fmla="*/ 47880 w 475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7"/>
          <p:cNvGrpSpPr/>
          <p:nvPr/>
        </p:nvGrpSpPr>
        <p:grpSpPr>
          <a:xfrm>
            <a:off x="6264360" y="2276640"/>
            <a:ext cx="135000" cy="118440"/>
            <a:chOff x="6264360" y="2276640"/>
            <a:chExt cx="135000" cy="118440"/>
          </a:xfrm>
        </p:grpSpPr>
        <p:sp>
          <p:nvSpPr>
            <p:cNvPr id="229" name="矩形 34"/>
            <p:cNvSpPr/>
            <p:nvPr/>
          </p:nvSpPr>
          <p:spPr>
            <a:xfrm rot="18494400">
              <a:off x="6329160" y="2293560"/>
              <a:ext cx="33840" cy="108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553073" h="1756774">
                  <a:moveTo>
                    <a:pt x="29371" y="25730"/>
                  </a:moveTo>
                  <a:lnTo>
                    <a:pt x="393791" y="0"/>
                  </a:lnTo>
                  <a:lnTo>
                    <a:pt x="553073" y="1756774"/>
                  </a:lnTo>
                  <a:lnTo>
                    <a:pt x="0" y="1756774"/>
                  </a:lnTo>
                  <a:lnTo>
                    <a:pt x="29371" y="257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9"/>
            <p:cNvSpPr/>
            <p:nvPr/>
          </p:nvSpPr>
          <p:spPr>
            <a:xfrm>
              <a:off x="6264360" y="2276640"/>
              <a:ext cx="57960" cy="59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文本框 20"/>
          <p:cNvSpPr/>
          <p:nvPr/>
        </p:nvSpPr>
        <p:spPr>
          <a:xfrm rot="20913600">
            <a:off x="6771240" y="2023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国好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21"/>
          <p:cNvSpPr/>
          <p:nvPr/>
        </p:nvSpPr>
        <p:spPr>
          <a:xfrm>
            <a:off x="5845320" y="2273400"/>
            <a:ext cx="569880" cy="979560"/>
          </a:xfrm>
          <a:custGeom>
            <a:avLst/>
            <a:gdLst>
              <a:gd name="textAreaLeft" fmla="*/ 0 w 569880"/>
              <a:gd name="textAreaRight" fmla="*/ 570240 w 56988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90220" h="1703727">
                <a:moveTo>
                  <a:pt x="101765" y="1616693"/>
                </a:moveTo>
                <a:cubicBezTo>
                  <a:pt x="86597" y="1637639"/>
                  <a:pt x="53372" y="1688920"/>
                  <a:pt x="36760" y="1699032"/>
                </a:cubicBezTo>
                <a:cubicBezTo>
                  <a:pt x="20148" y="1709144"/>
                  <a:pt x="4980" y="1703366"/>
                  <a:pt x="2091" y="1677364"/>
                </a:cubicBezTo>
                <a:cubicBezTo>
                  <a:pt x="-798" y="1651362"/>
                  <a:pt x="-4409" y="1626082"/>
                  <a:pt x="19426" y="1543020"/>
                </a:cubicBezTo>
                <a:cubicBezTo>
                  <a:pt x="43261" y="1459958"/>
                  <a:pt x="106099" y="1276501"/>
                  <a:pt x="145102" y="1178994"/>
                </a:cubicBezTo>
                <a:cubicBezTo>
                  <a:pt x="184105" y="1081487"/>
                  <a:pt x="222385" y="1033095"/>
                  <a:pt x="253443" y="957978"/>
                </a:cubicBezTo>
                <a:cubicBezTo>
                  <a:pt x="284501" y="882861"/>
                  <a:pt x="322060" y="767297"/>
                  <a:pt x="331449" y="728294"/>
                </a:cubicBezTo>
                <a:cubicBezTo>
                  <a:pt x="340838" y="689291"/>
                  <a:pt x="306891" y="756463"/>
                  <a:pt x="309780" y="723961"/>
                </a:cubicBezTo>
                <a:cubicBezTo>
                  <a:pt x="312669" y="691459"/>
                  <a:pt x="347338" y="586728"/>
                  <a:pt x="348783" y="533280"/>
                </a:cubicBezTo>
                <a:cubicBezTo>
                  <a:pt x="350228" y="479832"/>
                  <a:pt x="330004" y="445163"/>
                  <a:pt x="318448" y="403271"/>
                </a:cubicBezTo>
                <a:cubicBezTo>
                  <a:pt x="306892" y="361379"/>
                  <a:pt x="288835" y="332488"/>
                  <a:pt x="279445" y="281929"/>
                </a:cubicBezTo>
                <a:cubicBezTo>
                  <a:pt x="270055" y="231370"/>
                  <a:pt x="260666" y="141807"/>
                  <a:pt x="262110" y="99915"/>
                </a:cubicBezTo>
                <a:cubicBezTo>
                  <a:pt x="263554" y="58023"/>
                  <a:pt x="266444" y="42856"/>
                  <a:pt x="288112" y="30577"/>
                </a:cubicBezTo>
                <a:cubicBezTo>
                  <a:pt x="309780" y="18298"/>
                  <a:pt x="368285" y="31299"/>
                  <a:pt x="392120" y="26243"/>
                </a:cubicBezTo>
                <a:cubicBezTo>
                  <a:pt x="415955" y="21187"/>
                  <a:pt x="403676" y="-2648"/>
                  <a:pt x="431122" y="241"/>
                </a:cubicBezTo>
                <a:cubicBezTo>
                  <a:pt x="458568" y="3130"/>
                  <a:pt x="534407" y="24799"/>
                  <a:pt x="556798" y="43578"/>
                </a:cubicBezTo>
                <a:cubicBezTo>
                  <a:pt x="579189" y="62357"/>
                  <a:pt x="562577" y="104971"/>
                  <a:pt x="565466" y="112916"/>
                </a:cubicBezTo>
                <a:cubicBezTo>
                  <a:pt x="568355" y="120861"/>
                  <a:pt x="565466" y="99915"/>
                  <a:pt x="574133" y="91248"/>
                </a:cubicBezTo>
                <a:cubicBezTo>
                  <a:pt x="582800" y="82581"/>
                  <a:pt x="605913" y="52967"/>
                  <a:pt x="617469" y="60912"/>
                </a:cubicBezTo>
                <a:cubicBezTo>
                  <a:pt x="629025" y="68857"/>
                  <a:pt x="632637" y="93415"/>
                  <a:pt x="643471" y="138918"/>
                </a:cubicBezTo>
                <a:cubicBezTo>
                  <a:pt x="654305" y="184421"/>
                  <a:pt x="675251" y="292040"/>
                  <a:pt x="682474" y="333932"/>
                </a:cubicBezTo>
                <a:cubicBezTo>
                  <a:pt x="689697" y="375824"/>
                  <a:pt x="691864" y="372935"/>
                  <a:pt x="686808" y="390270"/>
                </a:cubicBezTo>
                <a:cubicBezTo>
                  <a:pt x="681752" y="407605"/>
                  <a:pt x="664418" y="434329"/>
                  <a:pt x="652139" y="437940"/>
                </a:cubicBezTo>
                <a:cubicBezTo>
                  <a:pt x="639860" y="441551"/>
                  <a:pt x="623970" y="429995"/>
                  <a:pt x="613136" y="411938"/>
                </a:cubicBezTo>
                <a:cubicBezTo>
                  <a:pt x="602302" y="393881"/>
                  <a:pt x="592912" y="332488"/>
                  <a:pt x="587134" y="329599"/>
                </a:cubicBezTo>
                <a:cubicBezTo>
                  <a:pt x="581356" y="326710"/>
                  <a:pt x="569800" y="369324"/>
                  <a:pt x="578467" y="394603"/>
                </a:cubicBezTo>
                <a:cubicBezTo>
                  <a:pt x="587134" y="419882"/>
                  <a:pt x="621081" y="451663"/>
                  <a:pt x="639138" y="481276"/>
                </a:cubicBezTo>
                <a:cubicBezTo>
                  <a:pt x="657195" y="510889"/>
                  <a:pt x="665140" y="543392"/>
                  <a:pt x="686808" y="572283"/>
                </a:cubicBezTo>
                <a:cubicBezTo>
                  <a:pt x="708476" y="601174"/>
                  <a:pt x="762647" y="637288"/>
                  <a:pt x="769147" y="654622"/>
                </a:cubicBezTo>
                <a:cubicBezTo>
                  <a:pt x="775647" y="671956"/>
                  <a:pt x="723644" y="642344"/>
                  <a:pt x="725811" y="676291"/>
                </a:cubicBezTo>
                <a:cubicBezTo>
                  <a:pt x="727978" y="710238"/>
                  <a:pt x="768425" y="810634"/>
                  <a:pt x="782148" y="858304"/>
                </a:cubicBezTo>
                <a:cubicBezTo>
                  <a:pt x="795871" y="905974"/>
                  <a:pt x="798038" y="930531"/>
                  <a:pt x="808150" y="962311"/>
                </a:cubicBezTo>
                <a:cubicBezTo>
                  <a:pt x="818262" y="994091"/>
                  <a:pt x="831263" y="1013593"/>
                  <a:pt x="842819" y="1048984"/>
                </a:cubicBezTo>
                <a:cubicBezTo>
                  <a:pt x="854375" y="1084375"/>
                  <a:pt x="860153" y="1105322"/>
                  <a:pt x="877488" y="1174660"/>
                </a:cubicBezTo>
                <a:cubicBezTo>
                  <a:pt x="894823" y="1243998"/>
                  <a:pt x="928048" y="1391343"/>
                  <a:pt x="946827" y="1465015"/>
                </a:cubicBezTo>
                <a:cubicBezTo>
                  <a:pt x="965606" y="1538687"/>
                  <a:pt x="991608" y="1587080"/>
                  <a:pt x="990163" y="1616693"/>
                </a:cubicBezTo>
                <a:cubicBezTo>
                  <a:pt x="988718" y="1646306"/>
                  <a:pt x="957660" y="1652084"/>
                  <a:pt x="938159" y="1642694"/>
                </a:cubicBezTo>
                <a:cubicBezTo>
                  <a:pt x="918658" y="1633304"/>
                  <a:pt x="886156" y="1574078"/>
                  <a:pt x="873155" y="1560355"/>
                </a:cubicBezTo>
                <a:cubicBezTo>
                  <a:pt x="860154" y="1546632"/>
                  <a:pt x="863043" y="1571189"/>
                  <a:pt x="860154" y="1560355"/>
                </a:cubicBezTo>
                <a:cubicBezTo>
                  <a:pt x="857265" y="1549521"/>
                  <a:pt x="855098" y="1523519"/>
                  <a:pt x="855820" y="1495350"/>
                </a:cubicBezTo>
                <a:cubicBezTo>
                  <a:pt x="856542" y="1467181"/>
                  <a:pt x="873876" y="1434679"/>
                  <a:pt x="864487" y="1391343"/>
                </a:cubicBezTo>
                <a:cubicBezTo>
                  <a:pt x="855098" y="1348007"/>
                  <a:pt x="818984" y="1287335"/>
                  <a:pt x="799483" y="1235331"/>
                </a:cubicBezTo>
                <a:cubicBezTo>
                  <a:pt x="779982" y="1183327"/>
                  <a:pt x="767703" y="1127712"/>
                  <a:pt x="747479" y="1079320"/>
                </a:cubicBezTo>
                <a:cubicBezTo>
                  <a:pt x="727255" y="1030928"/>
                  <a:pt x="678140" y="944977"/>
                  <a:pt x="678140" y="944977"/>
                </a:cubicBezTo>
                <a:cubicBezTo>
                  <a:pt x="651416" y="892973"/>
                  <a:pt x="620358" y="794743"/>
                  <a:pt x="587134" y="767297"/>
                </a:cubicBezTo>
                <a:cubicBezTo>
                  <a:pt x="553910" y="739851"/>
                  <a:pt x="507684" y="752851"/>
                  <a:pt x="478793" y="780298"/>
                </a:cubicBezTo>
                <a:cubicBezTo>
                  <a:pt x="449902" y="807744"/>
                  <a:pt x="431845" y="896585"/>
                  <a:pt x="413788" y="931976"/>
                </a:cubicBezTo>
                <a:cubicBezTo>
                  <a:pt x="395731" y="967367"/>
                  <a:pt x="384174" y="965201"/>
                  <a:pt x="370451" y="992647"/>
                </a:cubicBezTo>
                <a:cubicBezTo>
                  <a:pt x="356728" y="1020093"/>
                  <a:pt x="350228" y="1061986"/>
                  <a:pt x="331449" y="1096655"/>
                </a:cubicBezTo>
                <a:cubicBezTo>
                  <a:pt x="312670" y="1131324"/>
                  <a:pt x="292445" y="1148658"/>
                  <a:pt x="257776" y="1200662"/>
                </a:cubicBezTo>
                <a:cubicBezTo>
                  <a:pt x="223107" y="1252666"/>
                  <a:pt x="147990" y="1366063"/>
                  <a:pt x="123433" y="1408677"/>
                </a:cubicBezTo>
                <a:cubicBezTo>
                  <a:pt x="98876" y="1451291"/>
                  <a:pt x="110432" y="1439012"/>
                  <a:pt x="110432" y="1456347"/>
                </a:cubicBezTo>
                <a:cubicBezTo>
                  <a:pt x="110432" y="1473682"/>
                  <a:pt x="120544" y="1493183"/>
                  <a:pt x="123433" y="1512685"/>
                </a:cubicBezTo>
                <a:cubicBezTo>
                  <a:pt x="126322" y="1532186"/>
                  <a:pt x="127767" y="1555299"/>
                  <a:pt x="127767" y="1573356"/>
                </a:cubicBezTo>
                <a:cubicBezTo>
                  <a:pt x="127767" y="1591413"/>
                  <a:pt x="116933" y="1595747"/>
                  <a:pt x="101765" y="161669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22"/>
          <p:cNvSpPr/>
          <p:nvPr/>
        </p:nvSpPr>
        <p:spPr>
          <a:xfrm>
            <a:off x="6021360" y="2120760"/>
            <a:ext cx="271440" cy="173160"/>
          </a:xfrm>
          <a:custGeom>
            <a:avLst/>
            <a:gdLst>
              <a:gd name="textAreaLeft" fmla="*/ 0 w 271440"/>
              <a:gd name="textAreaRight" fmla="*/ 271440 w 27144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2173130" h="1376569">
                <a:moveTo>
                  <a:pt x="108930" y="969100"/>
                </a:moveTo>
                <a:cubicBezTo>
                  <a:pt x="111948" y="949484"/>
                  <a:pt x="54609" y="957029"/>
                  <a:pt x="36502" y="869512"/>
                </a:cubicBezTo>
                <a:cubicBezTo>
                  <a:pt x="18395" y="781995"/>
                  <a:pt x="-2729" y="471160"/>
                  <a:pt x="289" y="443999"/>
                </a:cubicBezTo>
                <a:cubicBezTo>
                  <a:pt x="3307" y="416838"/>
                  <a:pt x="36502" y="656755"/>
                  <a:pt x="54609" y="706549"/>
                </a:cubicBezTo>
                <a:cubicBezTo>
                  <a:pt x="72716" y="756343"/>
                  <a:pt x="98368" y="759361"/>
                  <a:pt x="108930" y="742763"/>
                </a:cubicBezTo>
                <a:cubicBezTo>
                  <a:pt x="119492" y="726165"/>
                  <a:pt x="114966" y="659773"/>
                  <a:pt x="117984" y="606961"/>
                </a:cubicBezTo>
                <a:cubicBezTo>
                  <a:pt x="121002" y="554149"/>
                  <a:pt x="110439" y="489266"/>
                  <a:pt x="127037" y="425892"/>
                </a:cubicBezTo>
                <a:cubicBezTo>
                  <a:pt x="143635" y="362518"/>
                  <a:pt x="152689" y="279528"/>
                  <a:pt x="217572" y="226716"/>
                </a:cubicBezTo>
                <a:cubicBezTo>
                  <a:pt x="282455" y="173904"/>
                  <a:pt x="427310" y="127128"/>
                  <a:pt x="516336" y="109021"/>
                </a:cubicBezTo>
                <a:cubicBezTo>
                  <a:pt x="605362" y="90914"/>
                  <a:pt x="686843" y="136181"/>
                  <a:pt x="751726" y="118074"/>
                </a:cubicBezTo>
                <a:cubicBezTo>
                  <a:pt x="816609" y="99967"/>
                  <a:pt x="884510" y="-7166"/>
                  <a:pt x="905635" y="379"/>
                </a:cubicBezTo>
                <a:cubicBezTo>
                  <a:pt x="926760" y="7924"/>
                  <a:pt x="867913" y="139199"/>
                  <a:pt x="878475" y="163342"/>
                </a:cubicBezTo>
                <a:cubicBezTo>
                  <a:pt x="889037" y="187485"/>
                  <a:pt x="969009" y="145235"/>
                  <a:pt x="969009" y="145235"/>
                </a:cubicBezTo>
                <a:cubicBezTo>
                  <a:pt x="991643" y="140708"/>
                  <a:pt x="1009750" y="110529"/>
                  <a:pt x="1014277" y="136181"/>
                </a:cubicBezTo>
                <a:cubicBezTo>
                  <a:pt x="1018804" y="161833"/>
                  <a:pt x="978063" y="293108"/>
                  <a:pt x="996170" y="299144"/>
                </a:cubicBezTo>
                <a:cubicBezTo>
                  <a:pt x="1014277" y="305180"/>
                  <a:pt x="1098776" y="163342"/>
                  <a:pt x="1122918" y="172395"/>
                </a:cubicBezTo>
                <a:cubicBezTo>
                  <a:pt x="1147061" y="181448"/>
                  <a:pt x="1085195" y="311215"/>
                  <a:pt x="1141025" y="353464"/>
                </a:cubicBezTo>
                <a:cubicBezTo>
                  <a:pt x="1196855" y="395713"/>
                  <a:pt x="1374906" y="354973"/>
                  <a:pt x="1457896" y="425892"/>
                </a:cubicBezTo>
                <a:cubicBezTo>
                  <a:pt x="1540886" y="496811"/>
                  <a:pt x="1587663" y="711076"/>
                  <a:pt x="1638966" y="778977"/>
                </a:cubicBezTo>
                <a:cubicBezTo>
                  <a:pt x="1690269" y="846878"/>
                  <a:pt x="1711393" y="827262"/>
                  <a:pt x="1765714" y="833298"/>
                </a:cubicBezTo>
                <a:cubicBezTo>
                  <a:pt x="1820035" y="839334"/>
                  <a:pt x="1942256" y="794066"/>
                  <a:pt x="1964890" y="815191"/>
                </a:cubicBezTo>
                <a:cubicBezTo>
                  <a:pt x="1987524" y="836316"/>
                  <a:pt x="1866811" y="935903"/>
                  <a:pt x="1901516" y="960046"/>
                </a:cubicBezTo>
                <a:cubicBezTo>
                  <a:pt x="1936221" y="984189"/>
                  <a:pt x="2171611" y="929868"/>
                  <a:pt x="2173120" y="960046"/>
                </a:cubicBezTo>
                <a:cubicBezTo>
                  <a:pt x="2174629" y="990224"/>
                  <a:pt x="2017703" y="1103393"/>
                  <a:pt x="1910570" y="1141116"/>
                </a:cubicBezTo>
                <a:cubicBezTo>
                  <a:pt x="1803437" y="1178839"/>
                  <a:pt x="1619350" y="1177330"/>
                  <a:pt x="1530324" y="1186383"/>
                </a:cubicBezTo>
                <a:cubicBezTo>
                  <a:pt x="1441298" y="1195437"/>
                  <a:pt x="1414138" y="1180348"/>
                  <a:pt x="1376415" y="1195437"/>
                </a:cubicBezTo>
                <a:cubicBezTo>
                  <a:pt x="1338692" y="1210526"/>
                  <a:pt x="1340202" y="1255793"/>
                  <a:pt x="1303988" y="1276918"/>
                </a:cubicBezTo>
                <a:cubicBezTo>
                  <a:pt x="1267774" y="1298043"/>
                  <a:pt x="1216471" y="1305587"/>
                  <a:pt x="1159132" y="1322185"/>
                </a:cubicBezTo>
                <a:cubicBezTo>
                  <a:pt x="1101793" y="1338783"/>
                  <a:pt x="1050491" y="1374997"/>
                  <a:pt x="959956" y="1376506"/>
                </a:cubicBezTo>
                <a:cubicBezTo>
                  <a:pt x="869421" y="1378015"/>
                  <a:pt x="710985" y="1352364"/>
                  <a:pt x="615924" y="1331239"/>
                </a:cubicBezTo>
                <a:cubicBezTo>
                  <a:pt x="520863" y="1310114"/>
                  <a:pt x="489176" y="1307096"/>
                  <a:pt x="389588" y="1249757"/>
                </a:cubicBezTo>
                <a:cubicBezTo>
                  <a:pt x="290000" y="1192418"/>
                  <a:pt x="59136" y="1035492"/>
                  <a:pt x="18395" y="987207"/>
                </a:cubicBezTo>
                <a:cubicBezTo>
                  <a:pt x="-22346" y="938922"/>
                  <a:pt x="105912" y="988716"/>
                  <a:pt x="108930" y="9691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梯形 23"/>
          <p:cNvSpPr/>
          <p:nvPr/>
        </p:nvSpPr>
        <p:spPr>
          <a:xfrm flipV="1" rot="20637000">
            <a:off x="6473160" y="2355120"/>
            <a:ext cx="46080" cy="806400"/>
          </a:xfrm>
          <a:custGeom>
            <a:avLst/>
            <a:gdLst>
              <a:gd name="textAreaLeft" fmla="*/ 9360 w 46080"/>
              <a:gd name="textAreaRight" fmla="*/ 36720 w 46080"/>
              <a:gd name="textAreaTop" fmla="*/ 167760 h 806400"/>
              <a:gd name="textAreaBottom" fmla="*/ 63864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2"/>
          <p:cNvSpPr/>
          <p:nvPr/>
        </p:nvSpPr>
        <p:spPr>
          <a:xfrm flipH="1" rot="4723200">
            <a:off x="8266320" y="3589920"/>
            <a:ext cx="346320" cy="878040"/>
          </a:xfrm>
          <a:custGeom>
            <a:avLst/>
            <a:gdLst>
              <a:gd name="textAreaLeft" fmla="*/ 360 w 346320"/>
              <a:gd name="textAreaRight" fmla="*/ 347040 w 34632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553073" h="1259278">
                <a:moveTo>
                  <a:pt x="67686" y="41567"/>
                </a:moveTo>
                <a:lnTo>
                  <a:pt x="257327" y="0"/>
                </a:lnTo>
                <a:lnTo>
                  <a:pt x="553073" y="1259278"/>
                </a:ln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4"/>
          <p:cNvSpPr/>
          <p:nvPr/>
        </p:nvSpPr>
        <p:spPr>
          <a:xfrm flipV="1">
            <a:off x="-10800" y="-18360"/>
            <a:ext cx="5299200" cy="652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5"/>
          <p:cNvSpPr/>
          <p:nvPr/>
        </p:nvSpPr>
        <p:spPr>
          <a:xfrm flipV="1">
            <a:off x="0" y="4974840"/>
            <a:ext cx="12192120" cy="18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7"/>
          <p:cNvSpPr/>
          <p:nvPr/>
        </p:nvSpPr>
        <p:spPr>
          <a:xfrm>
            <a:off x="6816600" y="352440"/>
            <a:ext cx="351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所以我也打了他，爸爸，你在听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28"/>
          <p:cNvSpPr/>
          <p:nvPr/>
        </p:nvSpPr>
        <p:spPr>
          <a:xfrm>
            <a:off x="6458040" y="325440"/>
            <a:ext cx="3819600" cy="3059280"/>
          </a:xfrm>
          <a:custGeom>
            <a:avLst/>
            <a:gdLst>
              <a:gd name="textAreaLeft" fmla="*/ 0 w 3819600"/>
              <a:gd name="textAreaRight" fmla="*/ 3819960 w 3819600"/>
              <a:gd name="textAreaTop" fmla="*/ 0 h 3059280"/>
              <a:gd name="textAreaBottom" fmla="*/ 3059640 h 3059280"/>
            </a:gdLst>
            <a:ahLst/>
            <a:rect l="textAreaLeft" t="textAreaTop" r="textAreaRight" b="textAreaBottom"/>
            <a:pathLst>
              <a:path w="3669366" h="3671857">
                <a:moveTo>
                  <a:pt x="1145416" y="1316892"/>
                </a:moveTo>
                <a:cubicBezTo>
                  <a:pt x="928622" y="1325478"/>
                  <a:pt x="859935" y="1374847"/>
                  <a:pt x="681777" y="1329771"/>
                </a:cubicBezTo>
                <a:cubicBezTo>
                  <a:pt x="503619" y="1284695"/>
                  <a:pt x="175208" y="1220301"/>
                  <a:pt x="76470" y="1046436"/>
                </a:cubicBezTo>
                <a:cubicBezTo>
                  <a:pt x="-22268" y="872571"/>
                  <a:pt x="-33001" y="456154"/>
                  <a:pt x="89348" y="286582"/>
                </a:cubicBezTo>
                <a:cubicBezTo>
                  <a:pt x="211697" y="117010"/>
                  <a:pt x="512204" y="74081"/>
                  <a:pt x="810565" y="29005"/>
                </a:cubicBezTo>
                <a:cubicBezTo>
                  <a:pt x="1108926" y="-16071"/>
                  <a:pt x="1469535" y="1101"/>
                  <a:pt x="1879512" y="16126"/>
                </a:cubicBezTo>
                <a:cubicBezTo>
                  <a:pt x="2289489" y="31151"/>
                  <a:pt x="2974216" y="24712"/>
                  <a:pt x="3270430" y="119157"/>
                </a:cubicBezTo>
                <a:cubicBezTo>
                  <a:pt x="3566644" y="213602"/>
                  <a:pt x="3613866" y="400345"/>
                  <a:pt x="3656796" y="582796"/>
                </a:cubicBezTo>
                <a:cubicBezTo>
                  <a:pt x="3699726" y="765247"/>
                  <a:pt x="3626746" y="1065754"/>
                  <a:pt x="3528008" y="1213861"/>
                </a:cubicBezTo>
                <a:cubicBezTo>
                  <a:pt x="3429270" y="1361968"/>
                  <a:pt x="3199596" y="1361969"/>
                  <a:pt x="3064368" y="1471439"/>
                </a:cubicBezTo>
                <a:cubicBezTo>
                  <a:pt x="2929140" y="1580909"/>
                  <a:pt x="2905529" y="1553005"/>
                  <a:pt x="2716639" y="1870684"/>
                </a:cubicBezTo>
                <a:cubicBezTo>
                  <a:pt x="2527749" y="2188363"/>
                  <a:pt x="2085573" y="3092030"/>
                  <a:pt x="1931027" y="3377512"/>
                </a:cubicBezTo>
                <a:cubicBezTo>
                  <a:pt x="1776481" y="3662994"/>
                  <a:pt x="1737845" y="3759585"/>
                  <a:pt x="1789360" y="3583574"/>
                </a:cubicBezTo>
                <a:cubicBezTo>
                  <a:pt x="1840875" y="3407563"/>
                  <a:pt x="2139236" y="2602633"/>
                  <a:pt x="2240120" y="2321444"/>
                </a:cubicBezTo>
                <a:cubicBezTo>
                  <a:pt x="2341004" y="2040255"/>
                  <a:pt x="2381788" y="2046695"/>
                  <a:pt x="2394667" y="1896441"/>
                </a:cubicBezTo>
                <a:cubicBezTo>
                  <a:pt x="2407546" y="1746188"/>
                  <a:pt x="2386081" y="1522954"/>
                  <a:pt x="2317394" y="1419923"/>
                </a:cubicBezTo>
                <a:cubicBezTo>
                  <a:pt x="2248707" y="1316892"/>
                  <a:pt x="2184312" y="1293280"/>
                  <a:pt x="1982543" y="1278255"/>
                </a:cubicBezTo>
                <a:cubicBezTo>
                  <a:pt x="1780774" y="1263230"/>
                  <a:pt x="1362210" y="1308306"/>
                  <a:pt x="1145416" y="1316892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32"/>
          <p:cNvSpPr/>
          <p:nvPr/>
        </p:nvSpPr>
        <p:spPr>
          <a:xfrm flipV="1">
            <a:off x="6927840" y="-3960"/>
            <a:ext cx="5305320" cy="652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3"/>
          <p:cNvSpPr/>
          <p:nvPr/>
        </p:nvSpPr>
        <p:spPr>
          <a:xfrm flipV="1">
            <a:off x="0" y="4975560"/>
            <a:ext cx="12233160" cy="195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1"/>
          <p:cNvSpPr/>
          <p:nvPr/>
        </p:nvSpPr>
        <p:spPr>
          <a:xfrm>
            <a:off x="4861080" y="1552680"/>
            <a:ext cx="1145880" cy="1146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1"/>
          <p:cNvSpPr/>
          <p:nvPr/>
        </p:nvSpPr>
        <p:spPr>
          <a:xfrm rot="1368000">
            <a:off x="4425840" y="2289240"/>
            <a:ext cx="1387440" cy="193824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938240"/>
              <a:gd name="textAreaBottom" fmla="*/ 1938600 h 1938240"/>
            </a:gdLst>
            <a:ahLst/>
            <a:rect l="textAreaLeft" t="textAreaTop" r="textAreaRight" b="textAreaBottom"/>
            <a:pathLst>
              <a:path w="1147516" h="1938947">
                <a:moveTo>
                  <a:pt x="303911" y="525320"/>
                </a:moveTo>
                <a:lnTo>
                  <a:pt x="756658" y="0"/>
                </a:lnTo>
                <a:lnTo>
                  <a:pt x="1147516" y="1938947"/>
                </a:lnTo>
                <a:lnTo>
                  <a:pt x="0" y="1824721"/>
                </a:lnTo>
                <a:lnTo>
                  <a:pt x="303911" y="5253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 rot="5400000">
            <a:off x="4035600" y="3189960"/>
            <a:ext cx="633600" cy="165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"/>
          <p:cNvSpPr/>
          <p:nvPr/>
        </p:nvSpPr>
        <p:spPr>
          <a:xfrm rot="1279200">
            <a:off x="3277800" y="3752640"/>
            <a:ext cx="554040" cy="140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5"/>
          <p:cNvSpPr/>
          <p:nvPr/>
        </p:nvSpPr>
        <p:spPr>
          <a:xfrm>
            <a:off x="4006800" y="4289400"/>
            <a:ext cx="2313000" cy="80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"/>
          <p:cNvSpPr/>
          <p:nvPr/>
        </p:nvSpPr>
        <p:spPr>
          <a:xfrm rot="917400">
            <a:off x="5670360" y="1930320"/>
            <a:ext cx="701640" cy="284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平行四边形 7"/>
          <p:cNvSpPr/>
          <p:nvPr/>
        </p:nvSpPr>
        <p:spPr>
          <a:xfrm rot="10123800">
            <a:off x="289080" y="1742760"/>
            <a:ext cx="3060720" cy="1428840"/>
          </a:xfrm>
          <a:prstGeom prst="parallelogram">
            <a:avLst>
              <a:gd name="adj" fmla="val 208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平行四边形 14"/>
          <p:cNvSpPr/>
          <p:nvPr/>
        </p:nvSpPr>
        <p:spPr>
          <a:xfrm rot="10123800">
            <a:off x="516960" y="1828080"/>
            <a:ext cx="2625480" cy="1203480"/>
          </a:xfrm>
          <a:prstGeom prst="parallelogram">
            <a:avLst>
              <a:gd name="adj" fmla="val 208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"/>
          <p:cNvSpPr/>
          <p:nvPr/>
        </p:nvSpPr>
        <p:spPr>
          <a:xfrm flipH="1" rot="814800">
            <a:off x="2405160" y="3860640"/>
            <a:ext cx="696960" cy="834120"/>
          </a:xfrm>
          <a:custGeom>
            <a:avLst/>
            <a:gdLst>
              <a:gd name="textAreaLeft" fmla="*/ 360 w 696960"/>
              <a:gd name="textAreaRight" fmla="*/ 697680 w 696960"/>
              <a:gd name="textAreaTop" fmla="*/ 0 h 834120"/>
              <a:gd name="textAreaBottom" fmla="*/ 834480 h 834120"/>
            </a:gdLst>
            <a:ahLst/>
            <a:rect l="textAreaLeft" t="textAreaTop" r="textAreaRight" b="textAreaBottom"/>
            <a:pathLst>
              <a:path w="1147516" h="1542934">
                <a:moveTo>
                  <a:pt x="654359" y="1"/>
                </a:moveTo>
                <a:lnTo>
                  <a:pt x="1073297" y="6558"/>
                </a:lnTo>
                <a:lnTo>
                  <a:pt x="1147516" y="1542934"/>
                </a:lnTo>
                <a:lnTo>
                  <a:pt x="0" y="1428708"/>
                </a:lnTo>
                <a:lnTo>
                  <a:pt x="65435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1"/>
          <p:cNvSpPr/>
          <p:nvPr/>
        </p:nvSpPr>
        <p:spPr>
          <a:xfrm flipH="1" rot="21122400">
            <a:off x="2616120" y="4121280"/>
            <a:ext cx="250920" cy="128700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2"/>
          <p:cNvSpPr/>
          <p:nvPr/>
        </p:nvSpPr>
        <p:spPr>
          <a:xfrm flipH="1" rot="2529600">
            <a:off x="2874240" y="3293640"/>
            <a:ext cx="345960" cy="878040"/>
          </a:xfrm>
          <a:custGeom>
            <a:avLst/>
            <a:gdLst>
              <a:gd name="textAreaLeft" fmla="*/ -360 w 345960"/>
              <a:gd name="textAreaRight" fmla="*/ 345960 w 34596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553073" h="1259278">
                <a:moveTo>
                  <a:pt x="67686" y="41567"/>
                </a:moveTo>
                <a:lnTo>
                  <a:pt x="257327" y="0"/>
                </a:lnTo>
                <a:lnTo>
                  <a:pt x="553073" y="1259278"/>
                </a:lnTo>
                <a:lnTo>
                  <a:pt x="0" y="1259278"/>
                </a:lnTo>
                <a:lnTo>
                  <a:pt x="67686" y="415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31"/>
          <p:cNvSpPr/>
          <p:nvPr/>
        </p:nvSpPr>
        <p:spPr>
          <a:xfrm flipH="1" rot="516600">
            <a:off x="2397600" y="4165560"/>
            <a:ext cx="287280" cy="1287000"/>
          </a:xfrm>
          <a:custGeom>
            <a:avLst/>
            <a:gdLst>
              <a:gd name="textAreaLeft" fmla="*/ 360 w 287280"/>
              <a:gd name="textAreaRight" fmla="*/ 288000 w 28728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553073" h="1287148">
                <a:moveTo>
                  <a:pt x="0" y="0"/>
                </a:moveTo>
                <a:lnTo>
                  <a:pt x="553073" y="0"/>
                </a:lnTo>
                <a:lnTo>
                  <a:pt x="553073" y="1287148"/>
                </a:lnTo>
                <a:lnTo>
                  <a:pt x="134471" y="12602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5"/>
          <p:cNvSpPr/>
          <p:nvPr/>
        </p:nvSpPr>
        <p:spPr>
          <a:xfrm flipH="1">
            <a:off x="2254320" y="3336840"/>
            <a:ext cx="582480" cy="584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 rot="3529800">
            <a:off x="1122120" y="2327040"/>
            <a:ext cx="47880" cy="238320"/>
          </a:xfrm>
          <a:custGeom>
            <a:avLst/>
            <a:gdLst>
              <a:gd name="textAreaLeft" fmla="*/ 0 w 47880"/>
              <a:gd name="textAreaRight" fmla="*/ 48240 w 47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1101600" y="2282760"/>
            <a:ext cx="135720" cy="117720"/>
            <a:chOff x="1101600" y="2282760"/>
            <a:chExt cx="135720" cy="117720"/>
          </a:xfrm>
        </p:grpSpPr>
        <p:sp>
          <p:nvSpPr>
            <p:cNvPr id="257" name="矩形 34"/>
            <p:cNvSpPr/>
            <p:nvPr/>
          </p:nvSpPr>
          <p:spPr>
            <a:xfrm rot="18494400">
              <a:off x="1167120" y="2298600"/>
              <a:ext cx="33480" cy="109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553073" h="1756774">
                  <a:moveTo>
                    <a:pt x="29371" y="25730"/>
                  </a:moveTo>
                  <a:lnTo>
                    <a:pt x="393791" y="0"/>
                  </a:lnTo>
                  <a:lnTo>
                    <a:pt x="553073" y="1756774"/>
                  </a:lnTo>
                  <a:lnTo>
                    <a:pt x="0" y="1756774"/>
                  </a:lnTo>
                  <a:lnTo>
                    <a:pt x="29371" y="257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19"/>
            <p:cNvSpPr/>
            <p:nvPr/>
          </p:nvSpPr>
          <p:spPr>
            <a:xfrm>
              <a:off x="1101600" y="2282760"/>
              <a:ext cx="58320" cy="58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文本框 20"/>
          <p:cNvSpPr/>
          <p:nvPr/>
        </p:nvSpPr>
        <p:spPr>
          <a:xfrm rot="20913600">
            <a:off x="1607760" y="2028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国好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682560" y="2278080"/>
            <a:ext cx="569880" cy="979560"/>
          </a:xfrm>
          <a:custGeom>
            <a:avLst/>
            <a:gdLst>
              <a:gd name="textAreaLeft" fmla="*/ 0 w 569880"/>
              <a:gd name="textAreaRight" fmla="*/ 570240 w 56988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90220" h="1703727">
                <a:moveTo>
                  <a:pt x="101765" y="1616693"/>
                </a:moveTo>
                <a:cubicBezTo>
                  <a:pt x="86597" y="1637639"/>
                  <a:pt x="53372" y="1688920"/>
                  <a:pt x="36760" y="1699032"/>
                </a:cubicBezTo>
                <a:cubicBezTo>
                  <a:pt x="20148" y="1709144"/>
                  <a:pt x="4980" y="1703366"/>
                  <a:pt x="2091" y="1677364"/>
                </a:cubicBezTo>
                <a:cubicBezTo>
                  <a:pt x="-798" y="1651362"/>
                  <a:pt x="-4409" y="1626082"/>
                  <a:pt x="19426" y="1543020"/>
                </a:cubicBezTo>
                <a:cubicBezTo>
                  <a:pt x="43261" y="1459958"/>
                  <a:pt x="106099" y="1276501"/>
                  <a:pt x="145102" y="1178994"/>
                </a:cubicBezTo>
                <a:cubicBezTo>
                  <a:pt x="184105" y="1081487"/>
                  <a:pt x="222385" y="1033095"/>
                  <a:pt x="253443" y="957978"/>
                </a:cubicBezTo>
                <a:cubicBezTo>
                  <a:pt x="284501" y="882861"/>
                  <a:pt x="322060" y="767297"/>
                  <a:pt x="331449" y="728294"/>
                </a:cubicBezTo>
                <a:cubicBezTo>
                  <a:pt x="340838" y="689291"/>
                  <a:pt x="306891" y="756463"/>
                  <a:pt x="309780" y="723961"/>
                </a:cubicBezTo>
                <a:cubicBezTo>
                  <a:pt x="312669" y="691459"/>
                  <a:pt x="347338" y="586728"/>
                  <a:pt x="348783" y="533280"/>
                </a:cubicBezTo>
                <a:cubicBezTo>
                  <a:pt x="350228" y="479832"/>
                  <a:pt x="330004" y="445163"/>
                  <a:pt x="318448" y="403271"/>
                </a:cubicBezTo>
                <a:cubicBezTo>
                  <a:pt x="306892" y="361379"/>
                  <a:pt x="288835" y="332488"/>
                  <a:pt x="279445" y="281929"/>
                </a:cubicBezTo>
                <a:cubicBezTo>
                  <a:pt x="270055" y="231370"/>
                  <a:pt x="260666" y="141807"/>
                  <a:pt x="262110" y="99915"/>
                </a:cubicBezTo>
                <a:cubicBezTo>
                  <a:pt x="263554" y="58023"/>
                  <a:pt x="266444" y="42856"/>
                  <a:pt x="288112" y="30577"/>
                </a:cubicBezTo>
                <a:cubicBezTo>
                  <a:pt x="309780" y="18298"/>
                  <a:pt x="368285" y="31299"/>
                  <a:pt x="392120" y="26243"/>
                </a:cubicBezTo>
                <a:cubicBezTo>
                  <a:pt x="415955" y="21187"/>
                  <a:pt x="403676" y="-2648"/>
                  <a:pt x="431122" y="241"/>
                </a:cubicBezTo>
                <a:cubicBezTo>
                  <a:pt x="458568" y="3130"/>
                  <a:pt x="534407" y="24799"/>
                  <a:pt x="556798" y="43578"/>
                </a:cubicBezTo>
                <a:cubicBezTo>
                  <a:pt x="579189" y="62357"/>
                  <a:pt x="562577" y="104971"/>
                  <a:pt x="565466" y="112916"/>
                </a:cubicBezTo>
                <a:cubicBezTo>
                  <a:pt x="568355" y="120861"/>
                  <a:pt x="565466" y="99915"/>
                  <a:pt x="574133" y="91248"/>
                </a:cubicBezTo>
                <a:cubicBezTo>
                  <a:pt x="582800" y="82581"/>
                  <a:pt x="605913" y="52967"/>
                  <a:pt x="617469" y="60912"/>
                </a:cubicBezTo>
                <a:cubicBezTo>
                  <a:pt x="629025" y="68857"/>
                  <a:pt x="632637" y="93415"/>
                  <a:pt x="643471" y="138918"/>
                </a:cubicBezTo>
                <a:cubicBezTo>
                  <a:pt x="654305" y="184421"/>
                  <a:pt x="675251" y="292040"/>
                  <a:pt x="682474" y="333932"/>
                </a:cubicBezTo>
                <a:cubicBezTo>
                  <a:pt x="689697" y="375824"/>
                  <a:pt x="691864" y="372935"/>
                  <a:pt x="686808" y="390270"/>
                </a:cubicBezTo>
                <a:cubicBezTo>
                  <a:pt x="681752" y="407605"/>
                  <a:pt x="664418" y="434329"/>
                  <a:pt x="652139" y="437940"/>
                </a:cubicBezTo>
                <a:cubicBezTo>
                  <a:pt x="639860" y="441551"/>
                  <a:pt x="623970" y="429995"/>
                  <a:pt x="613136" y="411938"/>
                </a:cubicBezTo>
                <a:cubicBezTo>
                  <a:pt x="602302" y="393881"/>
                  <a:pt x="592912" y="332488"/>
                  <a:pt x="587134" y="329599"/>
                </a:cubicBezTo>
                <a:cubicBezTo>
                  <a:pt x="581356" y="326710"/>
                  <a:pt x="569800" y="369324"/>
                  <a:pt x="578467" y="394603"/>
                </a:cubicBezTo>
                <a:cubicBezTo>
                  <a:pt x="587134" y="419882"/>
                  <a:pt x="621081" y="451663"/>
                  <a:pt x="639138" y="481276"/>
                </a:cubicBezTo>
                <a:cubicBezTo>
                  <a:pt x="657195" y="510889"/>
                  <a:pt x="665140" y="543392"/>
                  <a:pt x="686808" y="572283"/>
                </a:cubicBezTo>
                <a:cubicBezTo>
                  <a:pt x="708476" y="601174"/>
                  <a:pt x="762647" y="637288"/>
                  <a:pt x="769147" y="654622"/>
                </a:cubicBezTo>
                <a:cubicBezTo>
                  <a:pt x="775647" y="671956"/>
                  <a:pt x="723644" y="642344"/>
                  <a:pt x="725811" y="676291"/>
                </a:cubicBezTo>
                <a:cubicBezTo>
                  <a:pt x="727978" y="710238"/>
                  <a:pt x="768425" y="810634"/>
                  <a:pt x="782148" y="858304"/>
                </a:cubicBezTo>
                <a:cubicBezTo>
                  <a:pt x="795871" y="905974"/>
                  <a:pt x="798038" y="930531"/>
                  <a:pt x="808150" y="962311"/>
                </a:cubicBezTo>
                <a:cubicBezTo>
                  <a:pt x="818262" y="994091"/>
                  <a:pt x="831263" y="1013593"/>
                  <a:pt x="842819" y="1048984"/>
                </a:cubicBezTo>
                <a:cubicBezTo>
                  <a:pt x="854375" y="1084375"/>
                  <a:pt x="860153" y="1105322"/>
                  <a:pt x="877488" y="1174660"/>
                </a:cubicBezTo>
                <a:cubicBezTo>
                  <a:pt x="894823" y="1243998"/>
                  <a:pt x="928048" y="1391343"/>
                  <a:pt x="946827" y="1465015"/>
                </a:cubicBezTo>
                <a:cubicBezTo>
                  <a:pt x="965606" y="1538687"/>
                  <a:pt x="991608" y="1587080"/>
                  <a:pt x="990163" y="1616693"/>
                </a:cubicBezTo>
                <a:cubicBezTo>
                  <a:pt x="988718" y="1646306"/>
                  <a:pt x="957660" y="1652084"/>
                  <a:pt x="938159" y="1642694"/>
                </a:cubicBezTo>
                <a:cubicBezTo>
                  <a:pt x="918658" y="1633304"/>
                  <a:pt x="886156" y="1574078"/>
                  <a:pt x="873155" y="1560355"/>
                </a:cubicBezTo>
                <a:cubicBezTo>
                  <a:pt x="860154" y="1546632"/>
                  <a:pt x="863043" y="1571189"/>
                  <a:pt x="860154" y="1560355"/>
                </a:cubicBezTo>
                <a:cubicBezTo>
                  <a:pt x="857265" y="1549521"/>
                  <a:pt x="855098" y="1523519"/>
                  <a:pt x="855820" y="1495350"/>
                </a:cubicBezTo>
                <a:cubicBezTo>
                  <a:pt x="856542" y="1467181"/>
                  <a:pt x="873876" y="1434679"/>
                  <a:pt x="864487" y="1391343"/>
                </a:cubicBezTo>
                <a:cubicBezTo>
                  <a:pt x="855098" y="1348007"/>
                  <a:pt x="818984" y="1287335"/>
                  <a:pt x="799483" y="1235331"/>
                </a:cubicBezTo>
                <a:cubicBezTo>
                  <a:pt x="779982" y="1183327"/>
                  <a:pt x="767703" y="1127712"/>
                  <a:pt x="747479" y="1079320"/>
                </a:cubicBezTo>
                <a:cubicBezTo>
                  <a:pt x="727255" y="1030928"/>
                  <a:pt x="678140" y="944977"/>
                  <a:pt x="678140" y="944977"/>
                </a:cubicBezTo>
                <a:cubicBezTo>
                  <a:pt x="651416" y="892973"/>
                  <a:pt x="620358" y="794743"/>
                  <a:pt x="587134" y="767297"/>
                </a:cubicBezTo>
                <a:cubicBezTo>
                  <a:pt x="553910" y="739851"/>
                  <a:pt x="507684" y="752851"/>
                  <a:pt x="478793" y="780298"/>
                </a:cubicBezTo>
                <a:cubicBezTo>
                  <a:pt x="449902" y="807744"/>
                  <a:pt x="431845" y="896585"/>
                  <a:pt x="413788" y="931976"/>
                </a:cubicBezTo>
                <a:cubicBezTo>
                  <a:pt x="395731" y="967367"/>
                  <a:pt x="384174" y="965201"/>
                  <a:pt x="370451" y="992647"/>
                </a:cubicBezTo>
                <a:cubicBezTo>
                  <a:pt x="356728" y="1020093"/>
                  <a:pt x="350228" y="1061986"/>
                  <a:pt x="331449" y="1096655"/>
                </a:cubicBezTo>
                <a:cubicBezTo>
                  <a:pt x="312670" y="1131324"/>
                  <a:pt x="292445" y="1148658"/>
                  <a:pt x="257776" y="1200662"/>
                </a:cubicBezTo>
                <a:cubicBezTo>
                  <a:pt x="223107" y="1252666"/>
                  <a:pt x="147990" y="1366063"/>
                  <a:pt x="123433" y="1408677"/>
                </a:cubicBezTo>
                <a:cubicBezTo>
                  <a:pt x="98876" y="1451291"/>
                  <a:pt x="110432" y="1439012"/>
                  <a:pt x="110432" y="1456347"/>
                </a:cubicBezTo>
                <a:cubicBezTo>
                  <a:pt x="110432" y="1473682"/>
                  <a:pt x="120544" y="1493183"/>
                  <a:pt x="123433" y="1512685"/>
                </a:cubicBezTo>
                <a:cubicBezTo>
                  <a:pt x="126322" y="1532186"/>
                  <a:pt x="127767" y="1555299"/>
                  <a:pt x="127767" y="1573356"/>
                </a:cubicBezTo>
                <a:cubicBezTo>
                  <a:pt x="127767" y="1591413"/>
                  <a:pt x="116933" y="1595747"/>
                  <a:pt x="101765" y="161669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2"/>
          <p:cNvSpPr/>
          <p:nvPr/>
        </p:nvSpPr>
        <p:spPr>
          <a:xfrm>
            <a:off x="858960" y="2127240"/>
            <a:ext cx="271440" cy="171360"/>
          </a:xfrm>
          <a:custGeom>
            <a:avLst/>
            <a:gdLst/>
            <a:ahLst/>
            <a:rect l="l" t="t" r="r" b="b"/>
            <a:pathLst>
              <a:path w="2173130" h="1376569">
                <a:moveTo>
                  <a:pt x="108930" y="969100"/>
                </a:moveTo>
                <a:cubicBezTo>
                  <a:pt x="111948" y="949484"/>
                  <a:pt x="54609" y="957029"/>
                  <a:pt x="36502" y="869512"/>
                </a:cubicBezTo>
                <a:cubicBezTo>
                  <a:pt x="18395" y="781995"/>
                  <a:pt x="-2729" y="471160"/>
                  <a:pt x="289" y="443999"/>
                </a:cubicBezTo>
                <a:cubicBezTo>
                  <a:pt x="3307" y="416838"/>
                  <a:pt x="36502" y="656755"/>
                  <a:pt x="54609" y="706549"/>
                </a:cubicBezTo>
                <a:cubicBezTo>
                  <a:pt x="72716" y="756343"/>
                  <a:pt x="98368" y="759361"/>
                  <a:pt x="108930" y="742763"/>
                </a:cubicBezTo>
                <a:cubicBezTo>
                  <a:pt x="119492" y="726165"/>
                  <a:pt x="114966" y="659773"/>
                  <a:pt x="117984" y="606961"/>
                </a:cubicBezTo>
                <a:cubicBezTo>
                  <a:pt x="121002" y="554149"/>
                  <a:pt x="110439" y="489266"/>
                  <a:pt x="127037" y="425892"/>
                </a:cubicBezTo>
                <a:cubicBezTo>
                  <a:pt x="143635" y="362518"/>
                  <a:pt x="152689" y="279528"/>
                  <a:pt x="217572" y="226716"/>
                </a:cubicBezTo>
                <a:cubicBezTo>
                  <a:pt x="282455" y="173904"/>
                  <a:pt x="427310" y="127128"/>
                  <a:pt x="516336" y="109021"/>
                </a:cubicBezTo>
                <a:cubicBezTo>
                  <a:pt x="605362" y="90914"/>
                  <a:pt x="686843" y="136181"/>
                  <a:pt x="751726" y="118074"/>
                </a:cubicBezTo>
                <a:cubicBezTo>
                  <a:pt x="816609" y="99967"/>
                  <a:pt x="884510" y="-7166"/>
                  <a:pt x="905635" y="379"/>
                </a:cubicBezTo>
                <a:cubicBezTo>
                  <a:pt x="926760" y="7924"/>
                  <a:pt x="867913" y="139199"/>
                  <a:pt x="878475" y="163342"/>
                </a:cubicBezTo>
                <a:cubicBezTo>
                  <a:pt x="889037" y="187485"/>
                  <a:pt x="969009" y="145235"/>
                  <a:pt x="969009" y="145235"/>
                </a:cubicBezTo>
                <a:cubicBezTo>
                  <a:pt x="991643" y="140708"/>
                  <a:pt x="1009750" y="110529"/>
                  <a:pt x="1014277" y="136181"/>
                </a:cubicBezTo>
                <a:cubicBezTo>
                  <a:pt x="1018804" y="161833"/>
                  <a:pt x="978063" y="293108"/>
                  <a:pt x="996170" y="299144"/>
                </a:cubicBezTo>
                <a:cubicBezTo>
                  <a:pt x="1014277" y="305180"/>
                  <a:pt x="1098776" y="163342"/>
                  <a:pt x="1122918" y="172395"/>
                </a:cubicBezTo>
                <a:cubicBezTo>
                  <a:pt x="1147061" y="181448"/>
                  <a:pt x="1085195" y="311215"/>
                  <a:pt x="1141025" y="353464"/>
                </a:cubicBezTo>
                <a:cubicBezTo>
                  <a:pt x="1196855" y="395713"/>
                  <a:pt x="1374906" y="354973"/>
                  <a:pt x="1457896" y="425892"/>
                </a:cubicBezTo>
                <a:cubicBezTo>
                  <a:pt x="1540886" y="496811"/>
                  <a:pt x="1587663" y="711076"/>
                  <a:pt x="1638966" y="778977"/>
                </a:cubicBezTo>
                <a:cubicBezTo>
                  <a:pt x="1690269" y="846878"/>
                  <a:pt x="1711393" y="827262"/>
                  <a:pt x="1765714" y="833298"/>
                </a:cubicBezTo>
                <a:cubicBezTo>
                  <a:pt x="1820035" y="839334"/>
                  <a:pt x="1942256" y="794066"/>
                  <a:pt x="1964890" y="815191"/>
                </a:cubicBezTo>
                <a:cubicBezTo>
                  <a:pt x="1987524" y="836316"/>
                  <a:pt x="1866811" y="935903"/>
                  <a:pt x="1901516" y="960046"/>
                </a:cubicBezTo>
                <a:cubicBezTo>
                  <a:pt x="1936221" y="984189"/>
                  <a:pt x="2171611" y="929868"/>
                  <a:pt x="2173120" y="960046"/>
                </a:cubicBezTo>
                <a:cubicBezTo>
                  <a:pt x="2174629" y="990224"/>
                  <a:pt x="2017703" y="1103393"/>
                  <a:pt x="1910570" y="1141116"/>
                </a:cubicBezTo>
                <a:cubicBezTo>
                  <a:pt x="1803437" y="1178839"/>
                  <a:pt x="1619350" y="1177330"/>
                  <a:pt x="1530324" y="1186383"/>
                </a:cubicBezTo>
                <a:cubicBezTo>
                  <a:pt x="1441298" y="1195437"/>
                  <a:pt x="1414138" y="1180348"/>
                  <a:pt x="1376415" y="1195437"/>
                </a:cubicBezTo>
                <a:cubicBezTo>
                  <a:pt x="1338692" y="1210526"/>
                  <a:pt x="1340202" y="1255793"/>
                  <a:pt x="1303988" y="1276918"/>
                </a:cubicBezTo>
                <a:cubicBezTo>
                  <a:pt x="1267774" y="1298043"/>
                  <a:pt x="1216471" y="1305587"/>
                  <a:pt x="1159132" y="1322185"/>
                </a:cubicBezTo>
                <a:cubicBezTo>
                  <a:pt x="1101793" y="1338783"/>
                  <a:pt x="1050491" y="1374997"/>
                  <a:pt x="959956" y="1376506"/>
                </a:cubicBezTo>
                <a:cubicBezTo>
                  <a:pt x="869421" y="1378015"/>
                  <a:pt x="710985" y="1352364"/>
                  <a:pt x="615924" y="1331239"/>
                </a:cubicBezTo>
                <a:cubicBezTo>
                  <a:pt x="520863" y="1310114"/>
                  <a:pt x="489176" y="1307096"/>
                  <a:pt x="389588" y="1249757"/>
                </a:cubicBezTo>
                <a:cubicBezTo>
                  <a:pt x="290000" y="1192418"/>
                  <a:pt x="59136" y="1035492"/>
                  <a:pt x="18395" y="987207"/>
                </a:cubicBezTo>
                <a:cubicBezTo>
                  <a:pt x="-22346" y="938922"/>
                  <a:pt x="105912" y="988716"/>
                  <a:pt x="108930" y="9691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梯形 23"/>
          <p:cNvSpPr/>
          <p:nvPr/>
        </p:nvSpPr>
        <p:spPr>
          <a:xfrm flipV="1" rot="20637000">
            <a:off x="1310760" y="2359800"/>
            <a:ext cx="46080" cy="806400"/>
          </a:xfrm>
          <a:custGeom>
            <a:avLst/>
            <a:gdLst>
              <a:gd name="textAreaLeft" fmla="*/ 9360 w 46080"/>
              <a:gd name="textAreaRight" fmla="*/ 36720 w 46080"/>
              <a:gd name="textAreaTop" fmla="*/ 167760 h 806400"/>
              <a:gd name="textAreaBottom" fmla="*/ 63864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34"/>
          <p:cNvSpPr/>
          <p:nvPr/>
        </p:nvSpPr>
        <p:spPr>
          <a:xfrm rot="14634000">
            <a:off x="4439160" y="2333520"/>
            <a:ext cx="523800" cy="1605240"/>
          </a:xfrm>
          <a:custGeom>
            <a:avLst/>
            <a:gdLst>
              <a:gd name="textAreaLeft" fmla="*/ 0 w 523800"/>
              <a:gd name="textAreaRight" fmla="*/ 524160 w 523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53073" h="1756774">
                <a:moveTo>
                  <a:pt x="29371" y="25730"/>
                </a:moveTo>
                <a:lnTo>
                  <a:pt x="393791" y="0"/>
                </a:lnTo>
                <a:lnTo>
                  <a:pt x="553073" y="1756774"/>
                </a:lnTo>
                <a:lnTo>
                  <a:pt x="0" y="1756774"/>
                </a:lnTo>
                <a:lnTo>
                  <a:pt x="29371" y="257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"/>
          <p:cNvSpPr/>
          <p:nvPr/>
        </p:nvSpPr>
        <p:spPr>
          <a:xfrm>
            <a:off x="2625840" y="5673600"/>
            <a:ext cx="39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没有，你根本没在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7"/>
          <p:cNvSpPr/>
          <p:nvPr/>
        </p:nvSpPr>
        <p:spPr>
          <a:xfrm rot="21142800">
            <a:off x="3075120" y="219240"/>
            <a:ext cx="25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我在听你说的每一个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28"/>
          <p:cNvSpPr/>
          <p:nvPr/>
        </p:nvSpPr>
        <p:spPr>
          <a:xfrm>
            <a:off x="3017880" y="33480"/>
            <a:ext cx="2671560" cy="1536480"/>
          </a:xfrm>
          <a:custGeom>
            <a:avLst/>
            <a:gdLst>
              <a:gd name="textAreaLeft" fmla="*/ 0 w 2671560"/>
              <a:gd name="textAreaRight" fmla="*/ 2671920 w 2671560"/>
              <a:gd name="textAreaTop" fmla="*/ 0 h 1536480"/>
              <a:gd name="textAreaBottom" fmla="*/ 1536840 h 1536480"/>
            </a:gdLst>
            <a:ahLst/>
            <a:rect l="textAreaLeft" t="textAreaTop" r="textAreaRight" b="textAreaBottom"/>
            <a:pathLst>
              <a:path w="2670763" h="1537227">
                <a:moveTo>
                  <a:pt x="33007" y="403239"/>
                </a:moveTo>
                <a:cubicBezTo>
                  <a:pt x="-16362" y="454755"/>
                  <a:pt x="-1336" y="358163"/>
                  <a:pt x="20129" y="519149"/>
                </a:cubicBezTo>
                <a:cubicBezTo>
                  <a:pt x="41594" y="680135"/>
                  <a:pt x="28714" y="1221047"/>
                  <a:pt x="161796" y="1369154"/>
                </a:cubicBezTo>
                <a:cubicBezTo>
                  <a:pt x="294878" y="1517261"/>
                  <a:pt x="569627" y="1422816"/>
                  <a:pt x="818619" y="1407791"/>
                </a:cubicBezTo>
                <a:cubicBezTo>
                  <a:pt x="1067611" y="1392766"/>
                  <a:pt x="1464710" y="1257537"/>
                  <a:pt x="1655746" y="1279002"/>
                </a:cubicBezTo>
                <a:cubicBezTo>
                  <a:pt x="1846782" y="1300467"/>
                  <a:pt x="1898297" y="1551605"/>
                  <a:pt x="1964838" y="1536580"/>
                </a:cubicBezTo>
                <a:cubicBezTo>
                  <a:pt x="2031379" y="1521555"/>
                  <a:pt x="1949814" y="1270416"/>
                  <a:pt x="2054991" y="1188850"/>
                </a:cubicBezTo>
                <a:cubicBezTo>
                  <a:pt x="2160168" y="1107284"/>
                  <a:pt x="2514337" y="1218900"/>
                  <a:pt x="2595903" y="1047182"/>
                </a:cubicBezTo>
                <a:cubicBezTo>
                  <a:pt x="2677469" y="875464"/>
                  <a:pt x="2731132" y="332405"/>
                  <a:pt x="2544388" y="158540"/>
                </a:cubicBezTo>
                <a:cubicBezTo>
                  <a:pt x="2357644" y="-15325"/>
                  <a:pt x="1846782" y="-4592"/>
                  <a:pt x="1475441" y="3994"/>
                </a:cubicBezTo>
                <a:cubicBezTo>
                  <a:pt x="1104100" y="12580"/>
                  <a:pt x="554602" y="143515"/>
                  <a:pt x="316343" y="210056"/>
                </a:cubicBezTo>
                <a:cubicBezTo>
                  <a:pt x="78084" y="276597"/>
                  <a:pt x="82376" y="351723"/>
                  <a:pt x="33007" y="403239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31"/>
          <p:cNvSpPr/>
          <p:nvPr/>
        </p:nvSpPr>
        <p:spPr>
          <a:xfrm>
            <a:off x="2573280" y="5433840"/>
            <a:ext cx="4384800" cy="1006560"/>
          </a:xfrm>
          <a:custGeom>
            <a:avLst/>
            <a:gdLst>
              <a:gd name="textAreaLeft" fmla="*/ 0 w 4384800"/>
              <a:gd name="textAreaRight" fmla="*/ 4384800 w 4384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384985" h="1006051">
                <a:moveTo>
                  <a:pt x="130970" y="373935"/>
                </a:moveTo>
                <a:cubicBezTo>
                  <a:pt x="111652" y="193631"/>
                  <a:pt x="92334" y="13327"/>
                  <a:pt x="118092" y="448"/>
                </a:cubicBezTo>
                <a:cubicBezTo>
                  <a:pt x="143850" y="-12431"/>
                  <a:pt x="49404" y="255879"/>
                  <a:pt x="285517" y="296662"/>
                </a:cubicBezTo>
                <a:cubicBezTo>
                  <a:pt x="521630" y="337445"/>
                  <a:pt x="1534768" y="245146"/>
                  <a:pt x="1534768" y="245146"/>
                </a:cubicBezTo>
                <a:cubicBezTo>
                  <a:pt x="2094999" y="238706"/>
                  <a:pt x="3172531" y="195777"/>
                  <a:pt x="3646903" y="258025"/>
                </a:cubicBezTo>
                <a:cubicBezTo>
                  <a:pt x="4121275" y="320273"/>
                  <a:pt x="4338070" y="498430"/>
                  <a:pt x="4380999" y="618633"/>
                </a:cubicBezTo>
                <a:cubicBezTo>
                  <a:pt x="4423928" y="738836"/>
                  <a:pt x="4110542" y="927726"/>
                  <a:pt x="3904480" y="979242"/>
                </a:cubicBezTo>
                <a:cubicBezTo>
                  <a:pt x="3698418" y="1030758"/>
                  <a:pt x="3537433" y="927726"/>
                  <a:pt x="3144627" y="927726"/>
                </a:cubicBezTo>
                <a:cubicBezTo>
                  <a:pt x="2751821" y="927726"/>
                  <a:pt x="2045629" y="977096"/>
                  <a:pt x="1547646" y="979242"/>
                </a:cubicBezTo>
                <a:cubicBezTo>
                  <a:pt x="1049663" y="981389"/>
                  <a:pt x="399280" y="1058661"/>
                  <a:pt x="156728" y="940605"/>
                </a:cubicBezTo>
                <a:cubicBezTo>
                  <a:pt x="-85824" y="822549"/>
                  <a:pt x="3255" y="546726"/>
                  <a:pt x="92334" y="270904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22:3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4Z</dcterms:modified>
  <cp:revision>5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