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FB4-6075-4AEE-AC3C-D212387E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315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7315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EFF-FDF3-47D3-84D9-D993820D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5880" y="370944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8B0-737A-4AF1-9211-006070F3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0400" y="106668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03600" y="106668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0400" y="370944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03600" y="370944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8C8-60D0-4C55-AB3D-5A3BD697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0E6-9BEA-4492-8FE0-29315556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DAC-1200-4C46-8DCC-1C4B356B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0F0-C695-4196-8525-86D74FBD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9D2-0CBE-42C0-AEA5-8FD01B95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05E-751B-4D01-8586-916D5DB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52F-7893-4A2E-8FD0-257177C6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5880" y="370944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C7C-BC5D-407A-B755-E7EF9EB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7315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E67-061B-49C4-944A-852BFC7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•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Click to edit the outline text format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–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•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–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»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A02B-82C2-431B-B6EC-8738CC9259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7760" y="22856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  <a:ea typeface="宋体"/>
              </a:rPr>
              <a:t>Piece Of Mind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7760" y="29714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itle Goes Here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840" y="645480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9880" y="119700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金融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•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  <a:ea typeface="宋体"/>
              </a:rPr>
              <a:t>Your Subtopics Go Here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4221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303f11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i="1" lang="en-US" sz="15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4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i="1" lang="en-US" sz="14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7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i="1" lang="en-US" sz="15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4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i="1" lang="en-US" sz="14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7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7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7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i="1" lang="en-US" sz="15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i="1" lang="en-US" sz="15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i="1" lang="en-US" sz="12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233-9E82-484E-B55C-6BB5DF8BA3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095880" y="4808520"/>
            <a:ext cx="19814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6:3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3:0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