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A0E-7259-45CF-962C-A1664DE0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BBC-CB85-49D2-B1D3-7A91419E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24657-9551-4404-8F8D-E67C05B2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F4480-3C4A-430E-95A6-5BC502FD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A1875-063A-424F-9FE5-3B42D638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9ED3C-6743-4A4F-9E9E-C0C7464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E1F38-EAE5-454F-84C5-4C6B527E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E5F15-49E8-4AB3-AFEA-E3A0C972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98BEE-A93F-47CF-A26D-F1BB089E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3002B-19ED-4836-95BB-E41844B0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71FBD-A60E-450A-A69A-D294B80D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911C0-56CA-4029-BB4B-3FC311BB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93E-C652-4B1E-9BC5-0E0AE32B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F1D63-E4A1-44E7-B034-B3EFE3B2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67C6E-6F26-4DAB-9D5D-FB3906D0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B15E0-0BAE-4A08-A66C-093FD021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494A8-78C1-4D75-8278-E4E16C6E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75DE0-CE25-4A41-8959-AA5127DA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3DCCA-F014-47C3-B10A-C98EF3E7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F1B18-CBCB-4FA4-B450-43E8559A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91F05-7357-4BE7-A2FA-BB8FA9EF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73BE1-3DC8-4D3F-9A3C-13656FF4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32E6C-8A7B-4966-A5AA-823652F9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FE8-9031-498B-8811-F1242FA4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3AFE1-A4CF-4142-BDDE-C66E83DC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B337C-B118-415D-965D-30412878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A3CAF-6CB9-4A52-B5D3-EDA73940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B26E8-13CA-40B5-BD2F-B00D1304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F0294-5CD7-4C37-BF20-DBD5EC57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8FCD3-B407-4AD6-B228-DAF7CF3E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FBC5D-173A-43F7-9648-743D303B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1396D-CCFF-4B0D-973C-AD5F7A08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CA6E3-A9C8-4681-9DFE-6C9DDF23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A359E-50D7-465A-B20C-0DE18B07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1D31-A79D-4C8C-8049-DC370EFA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4569D-EB0F-4210-A461-DF1D9DD6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10684-8F9E-46F7-AFC6-215E67BC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75525-B4D0-449F-BC2D-E67BAE38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6F9BD-E2B6-45DF-A575-30BE2185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BC50F-AEB8-4C25-BF8D-EFCB94CA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F43D8-8D4C-4633-B538-64C76814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8EE9F-5A6F-4094-812B-3DF7C560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B17C8-A7E6-44F7-A795-EA7F17AA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A5A9F-7BF6-490E-AF13-8F15B116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5DB3E-6EA5-4FD5-A623-B8C34C68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68F9-EEB7-45BA-A08C-8367DA7B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8D6EA-0803-40A1-B01C-327BB055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EA249-335A-4D70-B0DB-7E639015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454CD-EAF0-4E4B-A189-2194A1C5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B4E29-EBB7-42BE-80E1-72B88FB4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91F8E-8F16-4FD5-B1AE-4C87821E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E1CB6-E881-4CAC-B138-E1204059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27436-A5A8-4355-A5B7-D33A6244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0AECD-AA0C-4E03-A660-8F504840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DECBA-E31F-4324-816D-0338C2C5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A75D4-615B-409E-8E62-91432D22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1A1-9DD2-4905-897C-43819CC6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81392-5E0B-4466-A078-D4A1F1E2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A1080-832B-484F-B3EB-776BA8D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1E513-F160-4ECE-B60F-82EF08F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C5431-4DB3-45BF-9986-8E222DA1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D1428-E00F-48BD-ACB2-3F70CB95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93B57-A1C0-4C25-8B4D-56226B97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16BEC-CBFE-4DDF-9904-98517556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6AF3-454C-46FC-8DA9-46220984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A8A5-2BCF-4DEA-80BF-A95D6CEC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FFE0-012A-4403-8F26-8522F85C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D43D-F741-46AF-AFE5-C0A9B21B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137-8D57-45C0-B22D-51928136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E03A-99CB-4599-8C9C-739C642B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1BDC-B2E1-42F5-BD2A-9ABCD89E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FA8C-30E2-4C86-98DD-437283A0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0557-F3D4-43D9-9B5E-1B98DFFF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1C97-ACF8-4026-80C4-D5091864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4D0BE-191D-4707-9DA8-1EE85447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5E94-C5E5-43CC-BA42-A990CBFE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6E013-2823-4F63-BA28-F8460988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8044-B69B-4FA2-B048-DCAF05D3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B11B-7E03-44BC-B76A-DE191F4C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58B-4225-4F16-A3ED-7310968C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D2ED-4DEF-45C9-ADE1-BB72F883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709F8-0F9E-4C51-A864-45EE0C67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3E21-0F36-47AF-A327-AC4547A0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01EF-78DE-488C-BAFC-A7ED9DD4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A945-C64B-4808-9AAF-F5BC7E10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9B646-F69D-45AF-8EBA-55402746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E8864-9F79-4A25-BD1D-E2D089EE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8F65-2C38-4089-9DDB-A62012B5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19861-0017-4571-A59E-CC07CE1C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61A5-81F7-4490-B992-D6D8B3B7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625-813F-46D0-A8DA-FD83A35A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5BAC1-1398-4CF4-B12D-534EC1BF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C3D02-CC47-4854-BB84-CFB0BE17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8989B-5052-4F8F-9E92-54661AAD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CF00B-BFBA-4F6B-A237-552237CA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9E2B0-62E7-4D22-9891-683BC4EF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27CAE-0C7A-4769-8413-71CE031C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C380-F7D6-429D-BA51-AD0D58E2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21AD8-2C16-43BF-B5C8-7105022D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EE867-DA28-4AB2-9DC4-F6E7E712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71D1F-F5DE-40A8-A212-EBFB684B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5C4-BA5A-4379-9103-36CA2FFC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00099-F156-4E7F-9B6C-2A33AE9B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DC9F3-E6F8-4B0B-A5D4-A5E275E4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A7F75-114C-446E-8929-C0EE4FD2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0AD4B-44B9-4933-AA17-4AA445E5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3725B-C14D-457B-8CFD-4989438F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FF7F0-8700-40E2-A98A-D04BEDF5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6E6E8-A679-4E1A-9F79-3D0258BE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57E75-5276-48E8-AC27-3ACD5FFE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ABCA0-D46E-422D-88D9-72140E63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73447-BC38-4225-8FB3-63BFB936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FB4-684D-4F69-8A8F-90F3AFDF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149E6-0645-4116-82D1-0C1E9000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80D08-3211-434A-A784-AA717436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775EB-695E-4911-A444-723F5016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2D8C8-7D9D-4D2B-AFF4-A8947810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19A66-7209-4D40-BF2A-6285B1BB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5EB14-D5AE-44D1-BDDC-4FA5EB5F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C7CC5-66BE-4585-8D93-2B0C5AED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6026C-B850-40B8-90D7-AA114302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3CEAD-20E7-41AF-966F-2919AC5D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5A1F8-9CA2-4E01-BDA9-606BF703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C54-3573-405B-B4A7-19897B67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F46EF-6AE0-4538-B80B-F11CC22B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467A0-2B94-4DF1-B61E-B2974EE1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16F34-0D4C-42AB-A5C0-445EF8F3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38FFB-9F78-49DA-812C-F86D3365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26B72-6DF1-4C6D-8BB9-16CE5F56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163CB-9B5A-4534-92CA-7F061915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D9DBE-4FFE-4EC1-B776-95032FC0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B41C5-782F-4460-B0B8-18BED30A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1BBCA-35AF-45BF-B530-8E967AD9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92323-8189-41BF-85C5-597562A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9DB-B244-4DCE-B00C-C8C7ABBD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10EC4-6BC8-428C-B580-A207BA2D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21570-B880-4622-BF81-CBF39444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DD68C-FAB3-4470-80AA-B15376FB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5D7B1-52A6-4130-B611-FBAC8D79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AAF7C-8158-41B7-A9FD-5B082AFE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DF7D9-CE6D-44ED-B5B3-A22E819A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C3ED4-867D-41FB-BC4B-DF00B29B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C88A4-5B3F-4DCD-9FCE-4CD5D9E3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5DF4B-E248-49EB-AD9B-9C6D91B6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4FCD5-34F5-41D0-9D01-0738A15F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1DE-EEB7-412F-B92B-FD557FB3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5E6B7-4937-4606-8A46-02BF9814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F6985-1FD9-4CAD-9C54-46491373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58BED-ACFA-4647-A4FE-3DDB7975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9AAB7-68F6-469D-B1CE-DA5CBBA9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ED053-D448-4425-AA8F-9B85A3FF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27509-F3C0-4AFB-B110-FEDF5C2C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F3DD7-E723-4FE1-9FF9-5B2053CB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A81E9-C466-4DD9-B000-CFF63D38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A3C97-942A-4F52-87B4-100317FD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1F322-A60D-4CCC-8F46-D9EDC897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2A52-8F43-4D6C-A754-EC9AA472D7B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56FA-A0E2-4065-B02F-9F30BD6BA3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4337-F2A8-4B2E-A339-2A118275384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D6F1-AEE4-4B63-B0AD-49C0D20D02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CD1F-ED00-4073-8353-C6E250B299D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EFE5-25BA-4D68-9C0F-F3F0787A3E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C18B-964B-4DBD-AA3E-D8806D0EC4A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4405-52C4-403D-B35D-618DCAA3A0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6A44-25A3-4AD2-8957-11D364C14B8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ACE1-9BC1-43D0-99B0-06253CAD6F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5CC4-5375-487A-9F60-8EBC49D62AD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4749-1038-4E47-B745-C426460B6B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BC2E-16AF-4D0C-8AED-54ED8C429F1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127C-D46A-4E2E-B7B9-7FE6577D45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EA8C-F26C-435E-B44F-7929F05D9F2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376B-490A-4E4E-A9E6-5AE5BF614B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51F7-62FD-4596-8EA7-560ECD87925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2278-1009-4A0D-8DFB-9D63B74CC1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F03F-012E-4EE1-A8FD-77BED7498E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10BE-0453-47CD-A099-235EAED50F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90B1-9083-4291-99C4-E2246EDDAA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88EE-A832-4E1A-A620-25176CD5B0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4EBA-61BE-416C-BE5D-24F67DDB850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2788-0050-4778-A3F1-BFE656758F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A5DC-0087-4270-8421-8838BEE5DC5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648E-AAA8-42AD-8280-34F61FB313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矩形 4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sucai/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10"/>
          <p:cNvSpPr/>
          <p:nvPr/>
        </p:nvSpPr>
        <p:spPr>
          <a:xfrm>
            <a:off x="317520" y="4389480"/>
            <a:ext cx="6116760" cy="1085760"/>
          </a:xfrm>
          <a:prstGeom prst="ellipse">
            <a:avLst/>
          </a:prstGeom>
          <a:gradFill rotWithShape="0">
            <a:gsLst>
              <a:gs pos="0">
                <a:srgbClr val="1111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5"/>
          <p:cNvSpPr/>
          <p:nvPr/>
        </p:nvSpPr>
        <p:spPr>
          <a:xfrm>
            <a:off x="2541600" y="1965240"/>
            <a:ext cx="1668600" cy="314028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3140280"/>
              <a:gd name="textAreaBottom" fmla="*/ 3140640 h 3140280"/>
            </a:gdLst>
            <a:ahLst/>
            <a:rect l="textAreaLeft" t="textAreaTop" r="textAreaRight" b="textAreaBottom"/>
            <a:pathLst>
              <a:path w="1814252" h="3416004">
                <a:moveTo>
                  <a:pt x="0" y="0"/>
                </a:moveTo>
                <a:lnTo>
                  <a:pt x="1814252" y="321276"/>
                </a:lnTo>
                <a:cubicBezTo>
                  <a:pt x="1814252" y="1204571"/>
                  <a:pt x="1814250" y="2124935"/>
                  <a:pt x="1814250" y="3008230"/>
                </a:cubicBezTo>
                <a:lnTo>
                  <a:pt x="0" y="341600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41"/>
          <p:cNvSpPr/>
          <p:nvPr/>
        </p:nvSpPr>
        <p:spPr>
          <a:xfrm>
            <a:off x="3375000" y="3598920"/>
            <a:ext cx="309600" cy="10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右箭头 1"/>
          <p:cNvSpPr/>
          <p:nvPr/>
        </p:nvSpPr>
        <p:spPr>
          <a:xfrm rot="20832600">
            <a:off x="917280" y="2534760"/>
            <a:ext cx="5221080" cy="2125800"/>
          </a:xfrm>
          <a:custGeom>
            <a:avLst/>
            <a:gdLst>
              <a:gd name="textAreaLeft" fmla="*/ 0 w 5221080"/>
              <a:gd name="textAreaRight" fmla="*/ 5221440 w 522108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5680224" h="2312897">
                <a:moveTo>
                  <a:pt x="1493657" y="1010955"/>
                </a:moveTo>
                <a:lnTo>
                  <a:pt x="1434086" y="1273463"/>
                </a:lnTo>
                <a:lnTo>
                  <a:pt x="0" y="1156300"/>
                </a:lnTo>
                <a:lnTo>
                  <a:pt x="12204" y="1156596"/>
                </a:lnTo>
                <a:lnTo>
                  <a:pt x="1493657" y="1010955"/>
                </a:lnTo>
                <a:close/>
                <a:moveTo>
                  <a:pt x="3924196" y="0"/>
                </a:moveTo>
                <a:lnTo>
                  <a:pt x="5680224" y="1120299"/>
                </a:lnTo>
                <a:lnTo>
                  <a:pt x="3924196" y="2312897"/>
                </a:lnTo>
                <a:lnTo>
                  <a:pt x="4424565" y="1517782"/>
                </a:lnTo>
                <a:lnTo>
                  <a:pt x="2852765" y="1389368"/>
                </a:lnTo>
                <a:cubicBezTo>
                  <a:pt x="2845727" y="1390995"/>
                  <a:pt x="2838572" y="1390760"/>
                  <a:pt x="2831389" y="1389906"/>
                </a:cubicBezTo>
                <a:lnTo>
                  <a:pt x="2819121" y="1386619"/>
                </a:lnTo>
                <a:lnTo>
                  <a:pt x="2788448" y="1384113"/>
                </a:lnTo>
                <a:lnTo>
                  <a:pt x="2790082" y="1376914"/>
                </a:lnTo>
                <a:cubicBezTo>
                  <a:pt x="2714731" y="1340933"/>
                  <a:pt x="2668650" y="1232861"/>
                  <a:pt x="2682986" y="1112243"/>
                </a:cubicBezTo>
                <a:cubicBezTo>
                  <a:pt x="2699818" y="970636"/>
                  <a:pt x="2793549" y="865360"/>
                  <a:pt x="2892341" y="877102"/>
                </a:cubicBezTo>
                <a:lnTo>
                  <a:pt x="2902864" y="879922"/>
                </a:lnTo>
                <a:lnTo>
                  <a:pt x="2904606" y="872245"/>
                </a:lnTo>
                <a:lnTo>
                  <a:pt x="4424565" y="722818"/>
                </a:lnTo>
                <a:lnTo>
                  <a:pt x="3924196" y="0"/>
                </a:lnTo>
                <a:close/>
              </a:path>
            </a:pathLst>
          </a:cu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43"/>
          <p:cNvSpPr/>
          <p:nvPr/>
        </p:nvSpPr>
        <p:spPr>
          <a:xfrm rot="20832600">
            <a:off x="4343040" y="2119320"/>
            <a:ext cx="1838160" cy="1063440"/>
          </a:xfrm>
          <a:custGeom>
            <a:avLst/>
            <a:gdLst>
              <a:gd name="textAreaLeft" fmla="*/ 0 w 1838160"/>
              <a:gd name="textAreaRight" fmla="*/ 1838520 w 1838160"/>
              <a:gd name="textAreaTop" fmla="*/ 0 h 1063440"/>
              <a:gd name="textAreaBottom" fmla="*/ 1063440 h 1063440"/>
            </a:gdLst>
            <a:ahLst/>
            <a:rect l="textAreaLeft" t="textAreaTop" r="textAreaRight" b="textAreaBottom"/>
            <a:pathLst>
              <a:path w="2305318" h="1242812">
                <a:moveTo>
                  <a:pt x="0" y="0"/>
                </a:moveTo>
                <a:lnTo>
                  <a:pt x="2028422" y="1223493"/>
                </a:lnTo>
                <a:lnTo>
                  <a:pt x="2305318" y="1242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f0000"/>
              </a:gs>
              <a:gs pos="100000">
                <a:srgbClr val="c00000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任意多边形 44"/>
          <p:cNvSpPr/>
          <p:nvPr/>
        </p:nvSpPr>
        <p:spPr>
          <a:xfrm rot="20832600">
            <a:off x="4614840" y="3129120"/>
            <a:ext cx="1787400" cy="1076040"/>
          </a:xfrm>
          <a:custGeom>
            <a:avLst/>
            <a:gdLst>
              <a:gd name="textAreaLeft" fmla="*/ 0 w 1787400"/>
              <a:gd name="textAreaRight" fmla="*/ 1787760 w 1787400"/>
              <a:gd name="textAreaTop" fmla="*/ 0 h 1076040"/>
              <a:gd name="textAreaBottom" fmla="*/ 1076040 h 1076040"/>
            </a:gdLst>
            <a:ahLst/>
            <a:rect l="textAreaLeft" t="textAreaTop" r="textAreaRight" b="textAreaBottom"/>
            <a:pathLst>
              <a:path w="2240924" h="1249251">
                <a:moveTo>
                  <a:pt x="1964028" y="0"/>
                </a:moveTo>
                <a:lnTo>
                  <a:pt x="2240924" y="25758"/>
                </a:lnTo>
                <a:lnTo>
                  <a:pt x="0" y="1249251"/>
                </a:lnTo>
                <a:lnTo>
                  <a:pt x="1964028" y="0"/>
                </a:ln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946f00"/>
              </a:gs>
            </a:gsLst>
            <a:lin ang="88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45"/>
          <p:cNvSpPr/>
          <p:nvPr/>
        </p:nvSpPr>
        <p:spPr>
          <a:xfrm>
            <a:off x="2306520" y="1965240"/>
            <a:ext cx="258840" cy="3146400"/>
          </a:xfrm>
          <a:custGeom>
            <a:avLst/>
            <a:gdLst>
              <a:gd name="textAreaLeft" fmla="*/ 0 w 258840"/>
              <a:gd name="textAreaRight" fmla="*/ 259200 w 258840"/>
              <a:gd name="textAreaTop" fmla="*/ 0 h 3146400"/>
              <a:gd name="textAreaBottom" fmla="*/ 3146760 h 3146400"/>
            </a:gdLst>
            <a:ahLst/>
            <a:rect l="textAreaLeft" t="textAreaTop" r="textAreaRight" b="textAreaBottom"/>
            <a:pathLst>
              <a:path w="284206" h="3422822">
                <a:moveTo>
                  <a:pt x="284206" y="0"/>
                </a:moveTo>
                <a:lnTo>
                  <a:pt x="0" y="74140"/>
                </a:lnTo>
                <a:lnTo>
                  <a:pt x="0" y="3311611"/>
                </a:lnTo>
                <a:lnTo>
                  <a:pt x="271849" y="3422822"/>
                </a:lnTo>
                <a:lnTo>
                  <a:pt x="284206" y="0"/>
                </a:ln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1"/>
          <p:cNvSpPr/>
          <p:nvPr/>
        </p:nvSpPr>
        <p:spPr>
          <a:xfrm flipH="1" rot="20856000">
            <a:off x="4136400" y="30636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7"/>
          <p:cNvSpPr/>
          <p:nvPr/>
        </p:nvSpPr>
        <p:spPr>
          <a:xfrm flipH="1">
            <a:off x="2585880" y="2092320"/>
            <a:ext cx="4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组合 44"/>
          <p:cNvGrpSpPr/>
          <p:nvPr/>
        </p:nvGrpSpPr>
        <p:grpSpPr>
          <a:xfrm>
            <a:off x="5987880" y="4251240"/>
            <a:ext cx="2184480" cy="459000"/>
            <a:chOff x="5987880" y="4251240"/>
            <a:chExt cx="2184480" cy="459000"/>
          </a:xfrm>
        </p:grpSpPr>
        <p:sp>
          <p:nvSpPr>
            <p:cNvPr id="545" name="TextBox 11"/>
            <p:cNvSpPr/>
            <p:nvPr/>
          </p:nvSpPr>
          <p:spPr>
            <a:xfrm flipH="1">
              <a:off x="5987880" y="42512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11"/>
            <p:cNvSpPr/>
            <p:nvPr/>
          </p:nvSpPr>
          <p:spPr>
            <a:xfrm flipH="1">
              <a:off x="7026120" y="42512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TextBox 11"/>
          <p:cNvSpPr/>
          <p:nvPr/>
        </p:nvSpPr>
        <p:spPr>
          <a:xfrm flipH="1">
            <a:off x="6010200" y="38336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58680" y="626580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"/>
          <p:cNvSpPr/>
          <p:nvPr/>
        </p:nvSpPr>
        <p:spPr>
          <a:xfrm>
            <a:off x="1015920" y="44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箭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57:03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