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113C-C9D3-453A-BD44-34F56E034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8C35-2C24-4265-B927-07AF6C644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1D93-8935-4E3B-A988-054D027E8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4AA8-EBCA-40BD-B12B-6A772D065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1389-ED71-40C0-8FBF-5A6AF8266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06B0-D651-43AE-A61B-BE706079B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58CF-E40D-4737-9FEE-DBF2F8FD9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A97F-7ED6-4D10-BFA1-57D2AA031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D5E4-96B8-46AE-BCDC-8C5A534EC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DCCB-2BAB-44CA-91F6-121104140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EDD1-7F2D-4131-A0EA-CDEA7574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B51C-4A3E-4E70-8E9D-E53510924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5DB3B-4B5D-4DAB-9EDD-5E188F522D7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2987640" y="260280"/>
            <a:ext cx="31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-36360" y="6526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85600" y="18900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简约清新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2560" y="1339920"/>
            <a:ext cx="5645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0A14-6AEA-43CF-A18A-55B8F9859C3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8:28:09Z</dcterms:modified>
  <cp:revision>55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