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1996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272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1996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38272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183-805E-4866-97AE-E5CCD745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71B-8A38-439E-8BBB-9156B310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190-BAD1-4285-BB7D-7225E5D7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299-96D6-4FAE-96E7-F3CA41FD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15A-1311-4010-9659-722E1DFB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BAC0-DAE7-405B-98EE-454CA134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7C6-AD0F-40F2-9A43-F53D0816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4E7-C0A4-40AF-9077-45219028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2F0-44B2-4DE2-918C-990DDDC5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575-6FFD-4466-9F34-BEC2353D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088-1FD8-45BB-9B7D-749E0739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96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8272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96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8272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CE1-4300-42D7-A471-FD9BF95E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ridgeinside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7" descr="bridgetitle"/>
          <p:cNvPicPr/>
          <p:nvPr/>
        </p:nvPicPr>
        <p:blipFill>
          <a:blip r:embed="rId2"/>
          <a:stretch/>
        </p:blipFill>
        <p:spPr>
          <a:xfrm>
            <a:off x="0" y="-10008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2BAF-5D9E-4C0B-A54E-92958C2B5CBB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08000" y="620280"/>
            <a:ext cx="3384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Bridge Tem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47628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建筑物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Use of templ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47640" y="171144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宋体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47640" y="3139920"/>
            <a:ext cx="340992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Use these templates for your present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992400" y="3139920"/>
            <a:ext cx="36403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Don’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Resell or distribute these templ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Pass off any of our created content as your own 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47640" y="2608200"/>
            <a:ext cx="692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We have put a lot of work into developing all these templates and retain the copyright in them.  You can use them freely providing that you do not redistribute or sell the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Colour sche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835360" y="278748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911760" y="2787480"/>
            <a:ext cx="826920" cy="611280"/>
          </a:xfrm>
          <a:prstGeom prst="rect">
            <a:avLst/>
          </a:prstGeom>
          <a:solidFill>
            <a:srgbClr val="b3cc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782720" y="4402080"/>
            <a:ext cx="827280" cy="611280"/>
          </a:xfrm>
          <a:prstGeom prst="rect">
            <a:avLst/>
          </a:prstGeom>
          <a:solidFill>
            <a:srgbClr val="3365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851200" y="4402080"/>
            <a:ext cx="826920" cy="611280"/>
          </a:xfrm>
          <a:prstGeom prst="rect">
            <a:avLst/>
          </a:prstGeom>
          <a:solidFill>
            <a:srgbClr val="2e4c6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919680" y="4402080"/>
            <a:ext cx="826920" cy="611280"/>
          </a:xfrm>
          <a:prstGeom prst="rect">
            <a:avLst/>
          </a:prstGeom>
          <a:solidFill>
            <a:srgbClr val="ffab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989600" y="4402080"/>
            <a:ext cx="826920" cy="611280"/>
          </a:xfrm>
          <a:prstGeom prst="rect">
            <a:avLst/>
          </a:prstGeom>
          <a:solidFill>
            <a:srgbClr val="0091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971960" y="278748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766880" y="2787480"/>
            <a:ext cx="826920" cy="611280"/>
          </a:xfrm>
          <a:prstGeom prst="rect">
            <a:avLst/>
          </a:prstGeom>
          <a:solidFill>
            <a:srgbClr val="1e3f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548720" y="21477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2867400" y="202572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817080" y="21477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5097960" y="202572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1925280" y="37623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2872800" y="3762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3807000" y="363996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4888080" y="36385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Sample Graph (3 colou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6732720" cy="374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Example Bullet Point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Pictur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6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Bulle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park_1"/>
          <p:cNvPicPr/>
          <p:nvPr/>
        </p:nvPicPr>
        <p:blipFill>
          <a:blip r:embed="rId1"/>
          <a:stretch/>
        </p:blipFill>
        <p:spPr>
          <a:xfrm>
            <a:off x="3995640" y="2960640"/>
            <a:ext cx="2454480" cy="3273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411280" y="6381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ffab57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Process 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31880" y="3087720"/>
            <a:ext cx="1376280" cy="2354400"/>
          </a:xfrm>
          <a:prstGeom prst="rect">
            <a:avLst/>
          </a:prstGeom>
          <a:solidFill>
            <a:srgbClr val="2e4c9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266920" y="3087720"/>
            <a:ext cx="1376280" cy="2354400"/>
          </a:xfrm>
          <a:prstGeom prst="rect">
            <a:avLst/>
          </a:prstGeom>
          <a:solidFill>
            <a:srgbClr val="0091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776760" y="3087720"/>
            <a:ext cx="1376280" cy="235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284800" y="308772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796080" y="308772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1e3f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e3f6c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1e3f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e3f6c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1e3f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e3f6c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1e3f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18"/>
          <p:cNvSpPr/>
          <p:nvPr/>
        </p:nvSpPr>
        <p:spPr>
          <a:xfrm>
            <a:off x="226692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19"/>
          <p:cNvSpPr/>
          <p:nvPr/>
        </p:nvSpPr>
        <p:spPr>
          <a:xfrm>
            <a:off x="731880" y="1614600"/>
            <a:ext cx="1898640" cy="1269720"/>
          </a:xfrm>
          <a:custGeom>
            <a:avLst/>
            <a:gdLst/>
            <a:ahLst/>
            <a:rect l="l" t="t" r="r" b="b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2e4c9d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0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1"/>
          <p:cNvSpPr/>
          <p:nvPr/>
        </p:nvSpPr>
        <p:spPr>
          <a:xfrm>
            <a:off x="5284800" y="1614600"/>
            <a:ext cx="1857240" cy="1269720"/>
          </a:xfrm>
          <a:custGeom>
            <a:avLst/>
            <a:gdLst/>
            <a:ahLst/>
            <a:rect l="l" t="t" r="r" b="b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679608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2918520" y="2066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1034640" y="2065320"/>
            <a:ext cx="889560" cy="368280"/>
          </a:xfrm>
          <a:prstGeom prst="rect">
            <a:avLst/>
          </a:prstGeom>
          <a:solidFill>
            <a:srgbClr val="2e4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4449240" y="206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4c6b"/>
                </a:solidFill>
                <a:latin typeface="Arial"/>
                <a:ea typeface="宋体"/>
              </a:rPr>
              <a:t>Bui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5960880" y="2065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4c6b"/>
                </a:solidFill>
                <a:latin typeface="Arial"/>
                <a:ea typeface="宋体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7368480" y="2066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Evalu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Example of a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65240" y="1806480"/>
          <a:ext cx="6551640" cy="3279600"/>
        </p:xfrm>
        <a:graphic>
          <a:graphicData uri="http://schemas.openxmlformats.org/drawingml/2006/table">
            <a:tbl>
              <a:tblPr/>
              <a:tblGrid>
                <a:gridCol w="3276720"/>
                <a:gridCol w="3274920"/>
              </a:tblGrid>
              <a:tr h="51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4c9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4c9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29"/>
          <p:cNvSpPr/>
          <p:nvPr/>
        </p:nvSpPr>
        <p:spPr>
          <a:xfrm>
            <a:off x="2630520" y="5397480"/>
            <a:ext cx="41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Note: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PowerPoint does not allow you to have nice default tables - but you can cut and paste this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Examples of default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149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ab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ab57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193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873680" y="1668600"/>
          <a:ext cx="2806560" cy="1614240"/>
        </p:xfrm>
        <a:graphic>
          <a:graphicData uri="http://schemas.openxmlformats.org/drawingml/2006/table">
            <a:tbl>
              <a:tblPr/>
              <a:tblGrid>
                <a:gridCol w="1403280"/>
                <a:gridCol w="140328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15"/>
          <p:cNvSpPr/>
          <p:nvPr/>
        </p:nvSpPr>
        <p:spPr>
          <a:xfrm>
            <a:off x="1620720" y="4581360"/>
            <a:ext cx="2232000" cy="1368720"/>
          </a:xfrm>
          <a:prstGeom prst="rect">
            <a:avLst/>
          </a:prstGeom>
          <a:solidFill>
            <a:srgbClr val="3365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4500720" y="4581360"/>
            <a:ext cx="2232000" cy="1368720"/>
          </a:xfrm>
          <a:prstGeom prst="rect">
            <a:avLst/>
          </a:prstGeom>
          <a:solidFill>
            <a:srgbClr val="3365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b3cc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ab5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6Z</dcterms:modified>
  <cp:revision>3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