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B8C-DC7E-49F2-A701-587640ED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10F-12E8-4A55-9794-D4332A6F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090-BA71-4B3F-B120-7CC8AE7F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7D0-28CC-4675-8FD0-F4BB767D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61A-D436-42F4-BDA8-5D67ACE3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3B9-BBFE-46EF-87FE-D044D8F9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161-6BD8-4EEC-A3C7-7EE26C50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B32-C3EB-4DB7-80FF-14AE7D08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BB8-34BD-480B-B73E-7BA8AADA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EF3-91E6-4091-99C7-6A22C365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182-38A9-483E-B977-D19CCB42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E38-E6E5-4E27-80CA-8DA330D2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Mistral"/>
              </a:defRPr>
            </a:lvl1pPr>
          </a:lstStyle>
          <a:p>
            <a:pPr marL="914400" indent="0">
              <a:buNone/>
              <a:tabLst>
                <a:tab algn="l" pos="0"/>
              </a:tabLst>
            </a:pPr>
            <a:fld id="{C638EBAC-EA09-40ED-B914-9721C3ECEA10}" type="datetime">
              <a:rPr b="0" lang="en-US" sz="1200" spc="-1" strike="noStrike">
                <a:solidFill>
                  <a:srgbClr val="898989"/>
                </a:solidFill>
                <a:latin typeface="Mistr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Mistral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DD6877ED-A442-4C6A-921E-77C8198F4A2C}" type="slidenum">
              <a:rPr b="0" lang="en-US" sz="1200" spc="-1" strike="noStrike">
                <a:solidFill>
                  <a:srgbClr val="898989"/>
                </a:solidFill>
                <a:latin typeface="Mistr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-25560"/>
            <a:ext cx="9144000" cy="688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79520" y="633240"/>
            <a:ext cx="6370560" cy="6221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294000" y="939960"/>
            <a:ext cx="2519280" cy="3995640"/>
            <a:chOff x="3294000" y="939960"/>
            <a:chExt cx="2519280" cy="3995640"/>
          </a:xfrm>
        </p:grpSpPr>
        <p:sp>
          <p:nvSpPr>
            <p:cNvPr id="44" name="Rectangle 4"/>
            <p:cNvSpPr/>
            <p:nvPr/>
          </p:nvSpPr>
          <p:spPr>
            <a:xfrm>
              <a:off x="3294000" y="939960"/>
              <a:ext cx="2519280" cy="3995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Your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Message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Here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</p:txBody>
        </p:sp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3296160" y="939960"/>
              <a:ext cx="2514600" cy="25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1"/>
            <p:cNvSpPr/>
            <p:nvPr/>
          </p:nvSpPr>
          <p:spPr>
            <a:xfrm>
              <a:off x="3390480" y="939960"/>
              <a:ext cx="23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Calibri"/>
                  <a:ea typeface="MS PGothic"/>
                </a:rPr>
                <a:t>16:59</a:t>
              </a:r>
              <a:endParaRPr b="0" lang="en-US" sz="1200" spc="-1" strike="noStrike">
                <a:solidFill>
                  <a:srgbClr val="000000"/>
                </a:solidFill>
                <a:latin typeface="Mistr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Mistr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Mistr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48" name=""/>
          <p:cNvSpPr/>
          <p:nvPr/>
        </p:nvSpPr>
        <p:spPr>
          <a:xfrm>
            <a:off x="2038680" y="4428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Mistral"/>
                <a:ea typeface="宋体"/>
              </a:rPr>
              <a:t>科技感</a:t>
            </a:r>
            <a:r>
              <a:rPr b="0" lang="zh-CN" sz="4000" spc="-1" strike="noStrike">
                <a:solidFill>
                  <a:srgbClr val="000000"/>
                </a:solidFill>
                <a:latin typeface="Mistr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Mistr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2936880"/>
            <a:ext cx="4011480" cy="39178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463400" y="3141720"/>
            <a:ext cx="2210760" cy="2516040"/>
            <a:chOff x="1463400" y="3141720"/>
            <a:chExt cx="2210760" cy="2516040"/>
          </a:xfrm>
        </p:grpSpPr>
        <p:sp>
          <p:nvSpPr>
            <p:cNvPr id="51" name="Rectangle 4"/>
            <p:cNvSpPr/>
            <p:nvPr/>
          </p:nvSpPr>
          <p:spPr>
            <a:xfrm>
              <a:off x="1763640" y="3141720"/>
              <a:ext cx="1587600" cy="25160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Your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Message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Here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</p:txBody>
        </p:sp>
        <p:pic>
          <p:nvPicPr>
            <p:cNvPr id="52" name="Picture 2" descr=""/>
            <p:cNvPicPr/>
            <p:nvPr/>
          </p:nvPicPr>
          <p:blipFill>
            <a:blip r:embed="rId2"/>
            <a:stretch/>
          </p:blipFill>
          <p:spPr>
            <a:xfrm>
              <a:off x="1765080" y="3141720"/>
              <a:ext cx="1584720" cy="1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1"/>
            <p:cNvSpPr/>
            <p:nvPr/>
          </p:nvSpPr>
          <p:spPr>
            <a:xfrm>
              <a:off x="1463400" y="3141720"/>
              <a:ext cx="221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Calibri"/>
                  <a:ea typeface="MS PGothic"/>
                </a:rPr>
                <a:t>16:59</a:t>
              </a:r>
              <a:endParaRPr b="0" lang="en-US" sz="700" spc="-1" strike="noStrike">
                <a:solidFill>
                  <a:srgbClr val="000000"/>
                </a:solidFill>
                <a:latin typeface="Mistr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3011400" y="752400"/>
            <a:ext cx="3121200" cy="53532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222720" y="971640"/>
            <a:ext cx="2698560" cy="4248000"/>
            <a:chOff x="3222720" y="971640"/>
            <a:chExt cx="2698560" cy="4248000"/>
          </a:xfrm>
        </p:grpSpPr>
        <p:sp>
          <p:nvSpPr>
            <p:cNvPr id="56" name="Rectangle 4"/>
            <p:cNvSpPr/>
            <p:nvPr/>
          </p:nvSpPr>
          <p:spPr>
            <a:xfrm>
              <a:off x="3222720" y="971640"/>
              <a:ext cx="2698560" cy="424800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Your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Message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Here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</p:txBody>
        </p:sp>
        <p:pic>
          <p:nvPicPr>
            <p:cNvPr id="57" name="Picture 2" descr=""/>
            <p:cNvPicPr/>
            <p:nvPr/>
          </p:nvPicPr>
          <p:blipFill>
            <a:blip r:embed="rId2"/>
            <a:stretch/>
          </p:blipFill>
          <p:spPr>
            <a:xfrm>
              <a:off x="3225240" y="971640"/>
              <a:ext cx="269352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1"/>
            <p:cNvSpPr/>
            <p:nvPr/>
          </p:nvSpPr>
          <p:spPr>
            <a:xfrm>
              <a:off x="3409560" y="971640"/>
              <a:ext cx="2361600" cy="2764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3f3f3f"/>
                  </a:solidFill>
                  <a:latin typeface="Calibri"/>
                </a:rPr>
                <a:t>16:59</a:t>
              </a:r>
              <a:endParaRPr b="0" lang="en-US" sz="1200" spc="-1" strike="noStrike">
                <a:solidFill>
                  <a:srgbClr val="000000"/>
                </a:solidFill>
                <a:latin typeface="Mistr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609444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Mistr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Mistr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0" y="-25560"/>
            <a:ext cx="9144000" cy="688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2936880"/>
            <a:ext cx="4011480" cy="39178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1463400" y="3141720"/>
            <a:ext cx="2210760" cy="2516040"/>
            <a:chOff x="1463400" y="3141720"/>
            <a:chExt cx="2210760" cy="2516040"/>
          </a:xfrm>
        </p:grpSpPr>
        <p:sp>
          <p:nvSpPr>
            <p:cNvPr id="63" name="Rectangle 4"/>
            <p:cNvSpPr/>
            <p:nvPr/>
          </p:nvSpPr>
          <p:spPr>
            <a:xfrm>
              <a:off x="1763640" y="3141720"/>
              <a:ext cx="1587600" cy="2516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Your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Message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Here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</p:txBody>
        </p:sp>
        <p:pic>
          <p:nvPicPr>
            <p:cNvPr id="64" name="Picture 2" descr=""/>
            <p:cNvPicPr/>
            <p:nvPr/>
          </p:nvPicPr>
          <p:blipFill>
            <a:blip r:embed="rId3"/>
            <a:stretch/>
          </p:blipFill>
          <p:spPr>
            <a:xfrm>
              <a:off x="1765080" y="3141720"/>
              <a:ext cx="1584720" cy="1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1"/>
            <p:cNvSpPr/>
            <p:nvPr/>
          </p:nvSpPr>
          <p:spPr>
            <a:xfrm>
              <a:off x="1463400" y="3141720"/>
              <a:ext cx="221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Calibri"/>
                  <a:ea typeface="MS PGothic"/>
                </a:rPr>
                <a:t>16:59</a:t>
              </a:r>
              <a:endParaRPr b="0" lang="en-US" sz="700" spc="-1" strike="noStrike">
                <a:solidFill>
                  <a:srgbClr val="000000"/>
                </a:solidFill>
                <a:latin typeface="Mistr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Mistr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C93-ADA8-405B-A95D-D9DF2922CE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1:14:00Z</dcterms:created>
  <dc:creator>www.pptbz.com</dc:creator>
  <dc:description/>
  <dc:language>en-US</dc:language>
  <cp:lastModifiedBy>微软用户</cp:lastModifiedBy>
  <dcterms:modified xsi:type="dcterms:W3CDTF">2015-07-20T09:45:55Z</dcterms:modified>
  <cp:revision>13</cp:revision>
  <dc:subject/>
  <dc:title>Smartphon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