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D91-1C25-4ABC-88AE-3CEEDE5A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CE5-DB6D-4CCD-8226-2379EE6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6F5-5050-4B93-9AFB-DA7598FB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A26-8453-449C-9437-9D12ED9C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81A24-34C6-46E0-A8F6-146204C088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03CAE-F9EC-4C61-8E82-728DE81C7A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7E52C-69DA-4853-8463-B8A774CFCA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807F8-0F33-4B53-97FC-8D0A34E5D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62F9C-5612-49AB-B14B-D2E8D4561A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6CD8B-9171-4430-AD59-1269786BA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6E91D-33FB-4D33-9817-4115FEA91F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F40-9B06-4727-A05D-E07694B5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1EEFF-00F0-4779-B38F-B8E4019209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87937-67FE-48DF-A9CE-45E4E4C7A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CCC52-865A-4E84-A93A-61D619551F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94CE2-C24F-455A-9ACF-0CAE5A890E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6665-A8AF-4F9A-85AB-3B1DF51378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5D1BA-CD2D-4115-9632-7469651344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CA9DF-B7BD-4D70-8DF0-F5A4B90AA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3CF47-A182-4A5C-9CFC-D549D75DF9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237D4-DCA2-403D-8597-C2C0D183C4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A6D3D-A82E-43A4-BF33-761B7A177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BE4-9C91-49F6-9E38-CF6D09CD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4C0EE-A3CD-4CDC-AA28-486C776F83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F645C-6796-4A92-975B-3881A415DC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3D2A4-8216-4CAA-B8B6-43FBFDC8A6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E3EA5-025C-4875-B18B-B10919DC5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0651F-7F34-41CF-9613-177ADEDECA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2C946-BD9E-4FB2-A8D5-9F46491143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FF0F8-7D28-4CF3-8905-DA5E0DACA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E00-CE58-4573-A3CA-057F9B6E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A90-0B6A-41B4-BC7F-BC94047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CB0-FF1A-45C8-88CB-DC51C8B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55B-0BB2-4289-8E11-A4F9064C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E00-2B76-4024-96B3-AF9FF3D6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AAF-5114-4145-9537-0EF2481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nordridesign.cn/index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233-C342-4D66-A5CE-BD639570879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7" descr="logo2"/>
          <p:cNvPicPr/>
          <p:nvPr/>
        </p:nvPicPr>
        <p:blipFill>
          <a:blip r:embed="rId2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18">
            <a:hlinkClick r:id="rId3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025_5000x4375_zcool.com.cn.jpg"/>
          <p:cNvPicPr/>
          <p:nvPr/>
        </p:nvPicPr>
        <p:blipFill>
          <a:blip r:embed="rId2"/>
          <a:stretch/>
        </p:blipFill>
        <p:spPr>
          <a:xfrm>
            <a:off x="50760" y="2214720"/>
            <a:ext cx="5307120" cy="4643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9C12-9C2E-48C2-B84D-B20E492662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-6480" y="4950000"/>
            <a:ext cx="1086120" cy="1914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028C-07C4-434B-B554-74DFE61B0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172040" y="2571840"/>
            <a:ext cx="4186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572240" y="214200"/>
            <a:ext cx="1214640" cy="428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6453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55720" y="4046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领奖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21A16-346D-45B5-99F9-E485A3DEA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05:44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8:37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