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2C812-8038-4A85-A5C3-7C07AC175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5C713-5EFC-4723-B6B8-BC32C9254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1BEFB-6A2A-4A6B-BF7F-FEB1B3817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7629E-6921-4F68-9AB7-51A3171B3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A3AF8-E350-4874-A075-BB003CC61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472C9-04B0-4A96-B189-240348385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DB4F1-5A40-4278-A1EC-72C3F7ED4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BB66F-C107-4128-9F11-FF3AECE60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C2973-3666-452D-BCCB-81C9E4926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6C3F4-8990-438F-BF4B-FA3728414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2166D-76C9-4C5A-BB3F-CE108B61F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79032-2003-4BA6-BFFC-17412B17E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8D8DA-1969-4B71-A369-556C8A73C3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beijing/" TargetMode="External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6360" y="40464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6360" y="6165720"/>
            <a:ext cx="202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47840" y="1058760"/>
            <a:ext cx="491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MO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风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背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765000"/>
            <a:ext cx="9144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-23760" y="693720"/>
            <a:ext cx="9131400" cy="571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3336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6360" y="6165720"/>
            <a:ext cx="202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4920" y="47628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24000" y="6453360"/>
            <a:ext cx="58068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ppt背景图片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40464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755640" y="6308640"/>
            <a:ext cx="67658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009999"/>
                </a:solidFill>
                <a:uFillTx/>
                <a:latin typeface="Verdana"/>
                <a:hlinkClick r:id="rId2"/>
              </a:rPr>
              <a:t>PPT之家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E8460-7864-47F4-9F0D-CEEF40AAF86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29T06:09:40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03T09:27:33Z</dcterms:modified>
  <cp:revision>1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