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52C-46A4-429F-A9EA-5D5E7AE0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8A8-7CB8-407E-A192-2BA44C3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50A-D9BD-4F76-ABE3-7A0326DC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911-929A-48F6-B7F6-1137ED1C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245-5574-4240-8DAC-87959AA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DDA-D341-497E-84C0-2220C937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A6F-B12D-453F-AACB-76FE6C3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540-3E1A-4DD6-9B79-BA0B8570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F75-E9A6-48C2-9972-5F040CA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91E-B249-474E-8103-EC2982D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F28-0776-41FD-B95F-055C97A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5C3-2EB4-4542-A129-17D984D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00E-47C0-428D-9E58-3C91F6F749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蓝色地球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演示模板下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ccec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3688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9d0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7216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a9e9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cccc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8964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1c6e6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21320" y="19051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3cccc">
                  <a:alpha val="0"/>
                </a:srgbClr>
              </a:gs>
              <a:gs pos="100000">
                <a:srgbClr val="2082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911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a8b79b"/>
              </a:gs>
              <a:gs pos="50000">
                <a:srgbClr val="ffffff"/>
              </a:gs>
              <a:gs pos="100000">
                <a:srgbClr val="a8b79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8b79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917640" y="1887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8b79b"/>
              </a:gs>
              <a:gs pos="50000">
                <a:srgbClr val="5b6354"/>
              </a:gs>
              <a:gs pos="100000">
                <a:srgbClr val="a8b7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919080" y="18907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8b79b">
                  <a:alpha val="0"/>
                </a:srgbClr>
              </a:gs>
              <a:gs pos="100000">
                <a:srgbClr val="6b74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1011240" y="19810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38240" y="2006640"/>
            <a:ext cx="1636560" cy="1636560"/>
            <a:chOff x="1038240" y="2006640"/>
            <a:chExt cx="1636560" cy="1636560"/>
          </a:xfrm>
        </p:grpSpPr>
        <p:sp>
          <p:nvSpPr>
            <p:cNvPr id="296" name="Oval 16"/>
            <p:cNvSpPr/>
            <p:nvPr/>
          </p:nvSpPr>
          <p:spPr>
            <a:xfrm>
              <a:off x="1038240" y="20066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59120" y="20156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76040" y="20314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64960" y="20732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491e6"/>
              </a:gs>
              <a:gs pos="50000">
                <a:srgbClr val="ffffff"/>
              </a:gs>
              <a:gs pos="100000">
                <a:srgbClr val="3491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18436a"/>
              </a:gs>
              <a:gs pos="100000">
                <a:srgbClr val="3491e6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5436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491e6"/>
              </a:gs>
              <a:gs pos="50000">
                <a:srgbClr val="1c4e7c"/>
              </a:gs>
              <a:gs pos="100000">
                <a:srgbClr val="3491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56160" y="18972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3491e6">
                  <a:alpha val="0"/>
                </a:srgbClr>
              </a:gs>
              <a:gs pos="100000">
                <a:srgbClr val="215c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479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74960" y="2006640"/>
            <a:ext cx="1636920" cy="1636560"/>
            <a:chOff x="3774960" y="2006640"/>
            <a:chExt cx="1636920" cy="1636560"/>
          </a:xfrm>
        </p:grpSpPr>
        <p:sp>
          <p:nvSpPr>
            <p:cNvPr id="306" name="Oval 26"/>
            <p:cNvSpPr/>
            <p:nvPr/>
          </p:nvSpPr>
          <p:spPr>
            <a:xfrm>
              <a:off x="377496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9584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1276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90168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21400" y="2006640"/>
            <a:ext cx="1636920" cy="1636560"/>
            <a:chOff x="6521400" y="2006640"/>
            <a:chExt cx="1636920" cy="1636560"/>
          </a:xfrm>
        </p:grpSpPr>
        <p:sp>
          <p:nvSpPr>
            <p:cNvPr id="311" name="Oval 31"/>
            <p:cNvSpPr/>
            <p:nvPr/>
          </p:nvSpPr>
          <p:spPr>
            <a:xfrm>
              <a:off x="652140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4228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5920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4812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380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7192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3244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727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2159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591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未知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324" name="Picture 5" descr="Picture1"/>
            <p:cNvPicPr/>
            <p:nvPr/>
          </p:nvPicPr>
          <p:blipFill>
            <a:blip r:embed="rId2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6"/>
            <p:cNvSpPr/>
            <p:nvPr/>
          </p:nvSpPr>
          <p:spPr>
            <a:xfrm>
              <a:off x="3284280" y="38368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3305160" y="384624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3414600" y="390672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29" name="Group 10"/>
          <p:cNvGrpSpPr/>
          <p:nvPr/>
        </p:nvGrpSpPr>
        <p:grpSpPr>
          <a:xfrm>
            <a:off x="1219320" y="3473280"/>
            <a:ext cx="1676160" cy="1631880"/>
            <a:chOff x="1219320" y="3473280"/>
            <a:chExt cx="1676160" cy="1631880"/>
          </a:xfrm>
        </p:grpSpPr>
        <p:pic>
          <p:nvPicPr>
            <p:cNvPr id="330" name="Picture 11" descr="Picture1"/>
            <p:cNvPicPr/>
            <p:nvPr/>
          </p:nvPicPr>
          <p:blipFill>
            <a:blip r:embed="rId3"/>
            <a:stretch/>
          </p:blipFill>
          <p:spPr>
            <a:xfrm>
              <a:off x="1219320" y="4641840"/>
              <a:ext cx="16761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Oval 12"/>
            <p:cNvSpPr/>
            <p:nvPr/>
          </p:nvSpPr>
          <p:spPr>
            <a:xfrm>
              <a:off x="1438200" y="3473280"/>
              <a:ext cx="1364760" cy="136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2" name="Oval 13"/>
            <p:cNvSpPr/>
            <p:nvPr/>
          </p:nvSpPr>
          <p:spPr>
            <a:xfrm>
              <a:off x="1455480" y="348120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3" name="Oval 14"/>
            <p:cNvSpPr/>
            <p:nvPr/>
          </p:nvSpPr>
          <p:spPr>
            <a:xfrm>
              <a:off x="1469880" y="3493800"/>
              <a:ext cx="1266480" cy="1244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4" name="Oval 15"/>
            <p:cNvSpPr/>
            <p:nvPr/>
          </p:nvSpPr>
          <p:spPr>
            <a:xfrm>
              <a:off x="1542960" y="3528720"/>
              <a:ext cx="1126440" cy="100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336" name="Picture 17" descr="Picture1"/>
            <p:cNvPicPr/>
            <p:nvPr/>
          </p:nvPicPr>
          <p:blipFill>
            <a:blip r:embed="rId4"/>
            <a:stretch/>
          </p:blipFill>
          <p:spPr>
            <a:xfrm>
              <a:off x="990720" y="2931840"/>
              <a:ext cx="13716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Oval 18"/>
            <p:cNvSpPr/>
            <p:nvPr/>
          </p:nvSpPr>
          <p:spPr>
            <a:xfrm>
              <a:off x="1193760" y="210492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8" name="Oval 19"/>
            <p:cNvSpPr/>
            <p:nvPr/>
          </p:nvSpPr>
          <p:spPr>
            <a:xfrm>
              <a:off x="1206720" y="21096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9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0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342" name="Picture 23" descr="Picture1"/>
            <p:cNvPicPr/>
            <p:nvPr/>
          </p:nvPicPr>
          <p:blipFill>
            <a:blip r:embed="rId5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Oval 24"/>
            <p:cNvSpPr/>
            <p:nvPr/>
          </p:nvSpPr>
          <p:spPr>
            <a:xfrm>
              <a:off x="278928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4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2805120" y="15332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6" name="Oval 27"/>
            <p:cNvSpPr/>
            <p:nvPr/>
          </p:nvSpPr>
          <p:spPr>
            <a:xfrm>
              <a:off x="2841840" y="15523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47" name="Text Box 28"/>
          <p:cNvSpPr/>
          <p:nvPr/>
        </p:nvSpPr>
        <p:spPr>
          <a:xfrm>
            <a:off x="28594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Text Box 29"/>
          <p:cNvSpPr/>
          <p:nvPr/>
        </p:nvSpPr>
        <p:spPr>
          <a:xfrm>
            <a:off x="139104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1721880" y="3952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3702240" y="4464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5410080" y="3352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0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61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3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64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5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6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7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8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9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70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2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73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6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7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78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5e5e"/>
              </a:gs>
              <a:gs pos="100000">
                <a:srgbClr val="33cccc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1c6e6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3cccc">
                  <a:alpha val="0"/>
                </a:srgbClr>
              </a:gs>
              <a:gs pos="100000">
                <a:srgbClr val="2082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82" name="Group 32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83" name="Oval 33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4" name="Oval 34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5" name="Oval 35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6" name="Oval 36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7" name="Oval 37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88" name="Text Box 38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Text Box 39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Text Box 40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Text Box 41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Text Box 42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Text Box 43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Text Box 44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ec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109224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112536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114300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114300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1836720" y="1863720"/>
            <a:ext cx="642960" cy="642960"/>
            <a:chOff x="1836720" y="1863720"/>
            <a:chExt cx="642960" cy="642960"/>
          </a:xfrm>
        </p:grpSpPr>
        <p:sp>
          <p:nvSpPr>
            <p:cNvPr id="404" name="Oval 8"/>
            <p:cNvSpPr/>
            <p:nvPr/>
          </p:nvSpPr>
          <p:spPr>
            <a:xfrm>
              <a:off x="183672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Oval 9"/>
            <p:cNvSpPr/>
            <p:nvPr/>
          </p:nvSpPr>
          <p:spPr>
            <a:xfrm>
              <a:off x="184320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Oval 10"/>
            <p:cNvSpPr/>
            <p:nvPr/>
          </p:nvSpPr>
          <p:spPr>
            <a:xfrm>
              <a:off x="1851120" y="18723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7" name="Oval 11"/>
            <p:cNvSpPr/>
            <p:nvPr/>
          </p:nvSpPr>
          <p:spPr>
            <a:xfrm>
              <a:off x="185760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8" name="Oval 12"/>
            <p:cNvSpPr/>
            <p:nvPr/>
          </p:nvSpPr>
          <p:spPr>
            <a:xfrm>
              <a:off x="189144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09" name="Text Box 13"/>
          <p:cNvSpPr/>
          <p:nvPr/>
        </p:nvSpPr>
        <p:spPr>
          <a:xfrm>
            <a:off x="197676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168560" y="26258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816520" y="21718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850000" y="21798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867280" y="42433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AutoShape 18"/>
          <p:cNvSpPr/>
          <p:nvPr/>
        </p:nvSpPr>
        <p:spPr>
          <a:xfrm>
            <a:off x="5867280" y="22017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5" name="Group 19"/>
          <p:cNvGrpSpPr/>
          <p:nvPr/>
        </p:nvGrpSpPr>
        <p:grpSpPr>
          <a:xfrm>
            <a:off x="6561000" y="1863720"/>
            <a:ext cx="642960" cy="642960"/>
            <a:chOff x="6561000" y="1863720"/>
            <a:chExt cx="642960" cy="642960"/>
          </a:xfrm>
        </p:grpSpPr>
        <p:sp>
          <p:nvSpPr>
            <p:cNvPr id="416" name="Oval 20"/>
            <p:cNvSpPr/>
            <p:nvPr/>
          </p:nvSpPr>
          <p:spPr>
            <a:xfrm>
              <a:off x="656100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7" name="Oval 21"/>
            <p:cNvSpPr/>
            <p:nvPr/>
          </p:nvSpPr>
          <p:spPr>
            <a:xfrm>
              <a:off x="656748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8" name="Oval 22"/>
            <p:cNvSpPr/>
            <p:nvPr/>
          </p:nvSpPr>
          <p:spPr>
            <a:xfrm>
              <a:off x="6575400" y="18723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9" name="Oval 23"/>
            <p:cNvSpPr/>
            <p:nvPr/>
          </p:nvSpPr>
          <p:spPr>
            <a:xfrm>
              <a:off x="658188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20" name="Oval 24"/>
            <p:cNvSpPr/>
            <p:nvPr/>
          </p:nvSpPr>
          <p:spPr>
            <a:xfrm>
              <a:off x="661572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21" name="Text Box 25"/>
          <p:cNvSpPr/>
          <p:nvPr/>
        </p:nvSpPr>
        <p:spPr>
          <a:xfrm>
            <a:off x="670104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5892840" y="26258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AutoShape 27"/>
          <p:cNvSpPr/>
          <p:nvPr/>
        </p:nvSpPr>
        <p:spPr>
          <a:xfrm>
            <a:off x="345456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28"/>
          <p:cNvSpPr/>
          <p:nvPr/>
        </p:nvSpPr>
        <p:spPr>
          <a:xfrm>
            <a:off x="348768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AutoShape 29"/>
          <p:cNvSpPr/>
          <p:nvPr/>
        </p:nvSpPr>
        <p:spPr>
          <a:xfrm>
            <a:off x="350532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AutoShape 30"/>
          <p:cNvSpPr/>
          <p:nvPr/>
        </p:nvSpPr>
        <p:spPr>
          <a:xfrm>
            <a:off x="350532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4199040" y="18637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4205160" y="18684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4213080" y="18716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4219560" y="18781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Oval 35"/>
          <p:cNvSpPr/>
          <p:nvPr/>
        </p:nvSpPr>
        <p:spPr>
          <a:xfrm>
            <a:off x="4254480" y="18939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433908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530520" y="26258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8" name="Group 6"/>
            <p:cNvGrpSpPr/>
            <p:nvPr/>
          </p:nvGrpSpPr>
          <p:grpSpPr>
            <a:xfrm>
              <a:off x="4953960" y="3336840"/>
              <a:ext cx="1657080" cy="2618280"/>
              <a:chOff x="4953960" y="3336840"/>
              <a:chExt cx="1657080" cy="2618280"/>
            </a:xfrm>
          </p:grpSpPr>
          <p:grpSp>
            <p:nvGrpSpPr>
              <p:cNvPr id="439" name="Group 7"/>
              <p:cNvGrpSpPr/>
              <p:nvPr/>
            </p:nvGrpSpPr>
            <p:grpSpPr>
              <a:xfrm>
                <a:off x="4953960" y="3509640"/>
                <a:ext cx="1537920" cy="2445480"/>
                <a:chOff x="4953960" y="3509640"/>
                <a:chExt cx="1537920" cy="2445480"/>
              </a:xfrm>
            </p:grpSpPr>
            <p:sp>
              <p:nvSpPr>
                <p:cNvPr id="440" name="未知"/>
                <p:cNvSpPr/>
                <p:nvPr/>
              </p:nvSpPr>
              <p:spPr>
                <a:xfrm rot="3876600">
                  <a:off x="4497120" y="4462920"/>
                  <a:ext cx="245124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1" name="未知"/>
                <p:cNvSpPr/>
                <p:nvPr/>
              </p:nvSpPr>
              <p:spPr>
                <a:xfrm rot="3876600">
                  <a:off x="5970240" y="5410440"/>
                  <a:ext cx="38520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10"/>
              <p:cNvGrpSpPr/>
              <p:nvPr/>
            </p:nvGrpSpPr>
            <p:grpSpPr>
              <a:xfrm>
                <a:off x="5431320" y="3336840"/>
                <a:ext cx="1179720" cy="1876680"/>
                <a:chOff x="5431320" y="3336840"/>
                <a:chExt cx="1179720" cy="1876680"/>
              </a:xfrm>
            </p:grpSpPr>
            <p:sp>
              <p:nvSpPr>
                <p:cNvPr id="443" name="未知"/>
                <p:cNvSpPr/>
                <p:nvPr/>
              </p:nvSpPr>
              <p:spPr>
                <a:xfrm flipV="1" rot="3876600">
                  <a:off x="5080680" y="4067640"/>
                  <a:ext cx="18810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4" name="未知"/>
                <p:cNvSpPr/>
                <p:nvPr/>
              </p:nvSpPr>
              <p:spPr>
                <a:xfrm flipV="1" rot="3876600">
                  <a:off x="6194160" y="480312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5" name="Group 13"/>
            <p:cNvGrpSpPr/>
            <p:nvPr/>
          </p:nvGrpSpPr>
          <p:grpSpPr>
            <a:xfrm>
              <a:off x="4506480" y="2441160"/>
              <a:ext cx="1392120" cy="1409760"/>
              <a:chOff x="4506480" y="2441160"/>
              <a:chExt cx="1392120" cy="1409760"/>
            </a:xfrm>
          </p:grpSpPr>
          <p:sp>
            <p:nvSpPr>
              <p:cNvPr id="446" name="Oval 14"/>
              <p:cNvSpPr/>
              <p:nvPr/>
            </p:nvSpPr>
            <p:spPr>
              <a:xfrm>
                <a:off x="4506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7" name="Oval 15"/>
              <p:cNvSpPr/>
              <p:nvPr/>
            </p:nvSpPr>
            <p:spPr>
              <a:xfrm>
                <a:off x="4506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6"/>
              <p:cNvSpPr/>
              <p:nvPr/>
            </p:nvSpPr>
            <p:spPr>
              <a:xfrm>
                <a:off x="4598640" y="253260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9" name="Oval 17"/>
              <p:cNvSpPr/>
              <p:nvPr/>
            </p:nvSpPr>
            <p:spPr>
              <a:xfrm>
                <a:off x="4598640" y="253584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50" name="Oval 18"/>
              <p:cNvSpPr/>
              <p:nvPr/>
            </p:nvSpPr>
            <p:spPr>
              <a:xfrm>
                <a:off x="4658400" y="2594880"/>
                <a:ext cx="1087920" cy="1101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51" name="Group 19"/>
              <p:cNvGrpSpPr/>
              <p:nvPr/>
            </p:nvGrpSpPr>
            <p:grpSpPr>
              <a:xfrm>
                <a:off x="4674960" y="2611800"/>
                <a:ext cx="1054440" cy="1069200"/>
                <a:chOff x="4674960" y="2611800"/>
                <a:chExt cx="1054440" cy="1069200"/>
              </a:xfrm>
            </p:grpSpPr>
            <p:sp>
              <p:nvSpPr>
                <p:cNvPr id="452" name="Oval 20"/>
                <p:cNvSpPr/>
                <p:nvPr/>
              </p:nvSpPr>
              <p:spPr>
                <a:xfrm>
                  <a:off x="4674960" y="2611800"/>
                  <a:ext cx="1054440" cy="10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1"/>
                <p:cNvSpPr/>
                <p:nvPr/>
              </p:nvSpPr>
              <p:spPr>
                <a:xfrm>
                  <a:off x="4688280" y="2617560"/>
                  <a:ext cx="1028880" cy="10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2"/>
                <p:cNvSpPr/>
                <p:nvPr/>
              </p:nvSpPr>
              <p:spPr>
                <a:xfrm>
                  <a:off x="4699080" y="2628000"/>
                  <a:ext cx="978480" cy="9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3"/>
                <p:cNvSpPr/>
                <p:nvPr/>
              </p:nvSpPr>
              <p:spPr>
                <a:xfrm>
                  <a:off x="4756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6" name="Group 24"/>
            <p:cNvGrpSpPr/>
            <p:nvPr/>
          </p:nvGrpSpPr>
          <p:grpSpPr>
            <a:xfrm>
              <a:off x="7112160" y="3408480"/>
              <a:ext cx="1657080" cy="2618280"/>
              <a:chOff x="7112160" y="3408480"/>
              <a:chExt cx="1657080" cy="2618280"/>
            </a:xfrm>
          </p:grpSpPr>
          <p:grpSp>
            <p:nvGrpSpPr>
              <p:cNvPr id="457" name="Group 25"/>
              <p:cNvGrpSpPr/>
              <p:nvPr/>
            </p:nvGrpSpPr>
            <p:grpSpPr>
              <a:xfrm>
                <a:off x="7112160" y="3581280"/>
                <a:ext cx="1537920" cy="2445480"/>
                <a:chOff x="7112160" y="3581280"/>
                <a:chExt cx="1537920" cy="2445480"/>
              </a:xfrm>
            </p:grpSpPr>
            <p:sp>
              <p:nvSpPr>
                <p:cNvPr id="458" name="未知"/>
                <p:cNvSpPr/>
                <p:nvPr/>
              </p:nvSpPr>
              <p:spPr>
                <a:xfrm rot="3876600">
                  <a:off x="6655320" y="4534560"/>
                  <a:ext cx="245124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9" name="未知"/>
                <p:cNvSpPr/>
                <p:nvPr/>
              </p:nvSpPr>
              <p:spPr>
                <a:xfrm rot="3876600">
                  <a:off x="8128440" y="5482080"/>
                  <a:ext cx="38520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28"/>
              <p:cNvGrpSpPr/>
              <p:nvPr/>
            </p:nvGrpSpPr>
            <p:grpSpPr>
              <a:xfrm>
                <a:off x="7589520" y="3408480"/>
                <a:ext cx="1179720" cy="1876680"/>
                <a:chOff x="7589520" y="3408480"/>
                <a:chExt cx="1179720" cy="1876680"/>
              </a:xfrm>
            </p:grpSpPr>
            <p:sp>
              <p:nvSpPr>
                <p:cNvPr id="461" name="未知"/>
                <p:cNvSpPr/>
                <p:nvPr/>
              </p:nvSpPr>
              <p:spPr>
                <a:xfrm flipV="1" rot="3876600">
                  <a:off x="7238880" y="4139280"/>
                  <a:ext cx="18810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62" name="未知"/>
                <p:cNvSpPr/>
                <p:nvPr/>
              </p:nvSpPr>
              <p:spPr>
                <a:xfrm flipV="1" rot="3876600">
                  <a:off x="8352360" y="487476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3" name="Oval 31"/>
            <p:cNvSpPr/>
            <p:nvPr/>
          </p:nvSpPr>
          <p:spPr>
            <a:xfrm>
              <a:off x="6454440" y="2286000"/>
              <a:ext cx="1673280" cy="169128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4" name="Oval 32"/>
            <p:cNvSpPr/>
            <p:nvPr/>
          </p:nvSpPr>
          <p:spPr>
            <a:xfrm>
              <a:off x="6454440" y="2286000"/>
              <a:ext cx="1673280" cy="1691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5" name="Oval 33"/>
            <p:cNvSpPr/>
            <p:nvPr/>
          </p:nvSpPr>
          <p:spPr>
            <a:xfrm>
              <a:off x="6566400" y="2396160"/>
              <a:ext cx="1452240" cy="14688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6" name="Oval 34"/>
            <p:cNvSpPr/>
            <p:nvPr/>
          </p:nvSpPr>
          <p:spPr>
            <a:xfrm>
              <a:off x="6568200" y="2399400"/>
              <a:ext cx="1451880" cy="14688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7" name="Oval 35"/>
            <p:cNvSpPr/>
            <p:nvPr/>
          </p:nvSpPr>
          <p:spPr>
            <a:xfrm>
              <a:off x="6638760" y="2471040"/>
              <a:ext cx="1307520" cy="132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68" name="Group 36"/>
            <p:cNvGrpSpPr/>
            <p:nvPr/>
          </p:nvGrpSpPr>
          <p:grpSpPr>
            <a:xfrm>
              <a:off x="6658920" y="2490840"/>
              <a:ext cx="1267560" cy="1282320"/>
              <a:chOff x="6658920" y="2490840"/>
              <a:chExt cx="1267560" cy="1282320"/>
            </a:xfrm>
          </p:grpSpPr>
          <p:sp>
            <p:nvSpPr>
              <p:cNvPr id="469" name="Oval 37"/>
              <p:cNvSpPr/>
              <p:nvPr/>
            </p:nvSpPr>
            <p:spPr>
              <a:xfrm>
                <a:off x="6658920" y="2490840"/>
                <a:ext cx="1267560" cy="1282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0" name="Oval 38"/>
              <p:cNvSpPr/>
              <p:nvPr/>
            </p:nvSpPr>
            <p:spPr>
              <a:xfrm>
                <a:off x="6675120" y="2498040"/>
                <a:ext cx="1236960" cy="1250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1" name="Oval 39"/>
              <p:cNvSpPr/>
              <p:nvPr/>
            </p:nvSpPr>
            <p:spPr>
              <a:xfrm>
                <a:off x="6688080" y="2510280"/>
                <a:ext cx="1176480" cy="1168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2" name="Oval 40"/>
              <p:cNvSpPr/>
              <p:nvPr/>
            </p:nvSpPr>
            <p:spPr>
              <a:xfrm>
                <a:off x="6756840" y="2543040"/>
                <a:ext cx="1045800" cy="94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41"/>
            <p:cNvGrpSpPr/>
            <p:nvPr/>
          </p:nvGrpSpPr>
          <p:grpSpPr>
            <a:xfrm>
              <a:off x="2973600" y="3336480"/>
              <a:ext cx="1658160" cy="2619000"/>
              <a:chOff x="2973600" y="3336480"/>
              <a:chExt cx="1658160" cy="2619000"/>
            </a:xfrm>
          </p:grpSpPr>
          <p:grpSp>
            <p:nvGrpSpPr>
              <p:cNvPr id="474" name="Group 42"/>
              <p:cNvGrpSpPr/>
              <p:nvPr/>
            </p:nvGrpSpPr>
            <p:grpSpPr>
              <a:xfrm>
                <a:off x="2973600" y="3509640"/>
                <a:ext cx="1538280" cy="2445840"/>
                <a:chOff x="2973600" y="3509640"/>
                <a:chExt cx="1538280" cy="2445840"/>
              </a:xfrm>
            </p:grpSpPr>
            <p:sp>
              <p:nvSpPr>
                <p:cNvPr id="475" name="未知"/>
                <p:cNvSpPr/>
                <p:nvPr/>
              </p:nvSpPr>
              <p:spPr>
                <a:xfrm rot="3876600">
                  <a:off x="2516760" y="4462560"/>
                  <a:ext cx="2451240" cy="539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6" name="未知"/>
                <p:cNvSpPr/>
                <p:nvPr/>
              </p:nvSpPr>
              <p:spPr>
                <a:xfrm rot="3876600">
                  <a:off x="3989880" y="5410440"/>
                  <a:ext cx="385200" cy="4413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45"/>
              <p:cNvGrpSpPr/>
              <p:nvPr/>
            </p:nvGrpSpPr>
            <p:grpSpPr>
              <a:xfrm>
                <a:off x="3451680" y="3336480"/>
                <a:ext cx="1180080" cy="1876680"/>
                <a:chOff x="3451680" y="3336480"/>
                <a:chExt cx="1180080" cy="1876680"/>
              </a:xfrm>
            </p:grpSpPr>
            <p:sp>
              <p:nvSpPr>
                <p:cNvPr id="478" name="未知"/>
                <p:cNvSpPr/>
                <p:nvPr/>
              </p:nvSpPr>
              <p:spPr>
                <a:xfrm flipV="1" rot="3876600">
                  <a:off x="3101040" y="4067280"/>
                  <a:ext cx="1881000" cy="413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9" name="未知"/>
                <p:cNvSpPr/>
                <p:nvPr/>
              </p:nvSpPr>
              <p:spPr>
                <a:xfrm flipV="1" rot="3876600">
                  <a:off x="4214520" y="4802760"/>
                  <a:ext cx="295560" cy="3387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8"/>
            <p:cNvGrpSpPr/>
            <p:nvPr/>
          </p:nvGrpSpPr>
          <p:grpSpPr>
            <a:xfrm>
              <a:off x="2526480" y="2441160"/>
              <a:ext cx="1391760" cy="1409760"/>
              <a:chOff x="2526480" y="2441160"/>
              <a:chExt cx="1391760" cy="1409760"/>
            </a:xfrm>
          </p:grpSpPr>
          <p:sp>
            <p:nvSpPr>
              <p:cNvPr id="481" name="Oval 49"/>
              <p:cNvSpPr/>
              <p:nvPr/>
            </p:nvSpPr>
            <p:spPr>
              <a:xfrm>
                <a:off x="2526480" y="2441160"/>
                <a:ext cx="1391760" cy="14097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2" name="Oval 50"/>
              <p:cNvSpPr/>
              <p:nvPr/>
            </p:nvSpPr>
            <p:spPr>
              <a:xfrm>
                <a:off x="2526480" y="2441160"/>
                <a:ext cx="1391760" cy="140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3" name="Oval 51"/>
              <p:cNvSpPr/>
              <p:nvPr/>
            </p:nvSpPr>
            <p:spPr>
              <a:xfrm>
                <a:off x="2618640" y="2532600"/>
                <a:ext cx="120708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4" name="Oval 52"/>
              <p:cNvSpPr/>
              <p:nvPr/>
            </p:nvSpPr>
            <p:spPr>
              <a:xfrm>
                <a:off x="2618640" y="2535840"/>
                <a:ext cx="120708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5" name="Oval 53"/>
              <p:cNvSpPr/>
              <p:nvPr/>
            </p:nvSpPr>
            <p:spPr>
              <a:xfrm>
                <a:off x="2678400" y="2594880"/>
                <a:ext cx="1087560" cy="1101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86" name="Group 54"/>
              <p:cNvGrpSpPr/>
              <p:nvPr/>
            </p:nvGrpSpPr>
            <p:grpSpPr>
              <a:xfrm>
                <a:off x="2694960" y="2611800"/>
                <a:ext cx="1054080" cy="1069200"/>
                <a:chOff x="2694960" y="2611800"/>
                <a:chExt cx="1054080" cy="1069200"/>
              </a:xfrm>
            </p:grpSpPr>
            <p:sp>
              <p:nvSpPr>
                <p:cNvPr id="487" name="Oval 55"/>
                <p:cNvSpPr/>
                <p:nvPr/>
              </p:nvSpPr>
              <p:spPr>
                <a:xfrm>
                  <a:off x="2694960" y="2611800"/>
                  <a:ext cx="1054080" cy="10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6"/>
                <p:cNvSpPr/>
                <p:nvPr/>
              </p:nvSpPr>
              <p:spPr>
                <a:xfrm>
                  <a:off x="2708280" y="2617560"/>
                  <a:ext cx="1028520" cy="10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7"/>
                <p:cNvSpPr/>
                <p:nvPr/>
              </p:nvSpPr>
              <p:spPr>
                <a:xfrm>
                  <a:off x="2719080" y="2628000"/>
                  <a:ext cx="978120" cy="9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58"/>
                <p:cNvSpPr/>
                <p:nvPr/>
              </p:nvSpPr>
              <p:spPr>
                <a:xfrm>
                  <a:off x="2776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59"/>
            <p:cNvGrpSpPr/>
            <p:nvPr/>
          </p:nvGrpSpPr>
          <p:grpSpPr>
            <a:xfrm>
              <a:off x="1056240" y="3336480"/>
              <a:ext cx="1658160" cy="2619000"/>
              <a:chOff x="1056240" y="3336480"/>
              <a:chExt cx="1658160" cy="2619000"/>
            </a:xfrm>
          </p:grpSpPr>
          <p:grpSp>
            <p:nvGrpSpPr>
              <p:cNvPr id="492" name="Group 60"/>
              <p:cNvGrpSpPr/>
              <p:nvPr/>
            </p:nvGrpSpPr>
            <p:grpSpPr>
              <a:xfrm>
                <a:off x="1056240" y="3509640"/>
                <a:ext cx="1538280" cy="2445840"/>
                <a:chOff x="1056240" y="3509640"/>
                <a:chExt cx="1538280" cy="2445840"/>
              </a:xfrm>
            </p:grpSpPr>
            <p:sp>
              <p:nvSpPr>
                <p:cNvPr id="493" name="未知"/>
                <p:cNvSpPr/>
                <p:nvPr/>
              </p:nvSpPr>
              <p:spPr>
                <a:xfrm rot="3876600">
                  <a:off x="599400" y="4462560"/>
                  <a:ext cx="2451240" cy="539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4" name="未知"/>
                <p:cNvSpPr/>
                <p:nvPr/>
              </p:nvSpPr>
              <p:spPr>
                <a:xfrm rot="3876600">
                  <a:off x="2072520" y="5410440"/>
                  <a:ext cx="385200" cy="4413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63"/>
              <p:cNvGrpSpPr/>
              <p:nvPr/>
            </p:nvGrpSpPr>
            <p:grpSpPr>
              <a:xfrm>
                <a:off x="1534320" y="3336480"/>
                <a:ext cx="1180080" cy="1876680"/>
                <a:chOff x="1534320" y="3336480"/>
                <a:chExt cx="1180080" cy="1876680"/>
              </a:xfrm>
            </p:grpSpPr>
            <p:sp>
              <p:nvSpPr>
                <p:cNvPr id="496" name="未知"/>
                <p:cNvSpPr/>
                <p:nvPr/>
              </p:nvSpPr>
              <p:spPr>
                <a:xfrm flipV="1" rot="3876600">
                  <a:off x="1183680" y="4067280"/>
                  <a:ext cx="1881000" cy="413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7" name="未知"/>
                <p:cNvSpPr/>
                <p:nvPr/>
              </p:nvSpPr>
              <p:spPr>
                <a:xfrm flipV="1" rot="3876600">
                  <a:off x="2297160" y="4802760"/>
                  <a:ext cx="295560" cy="3387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8" name="Group 66"/>
            <p:cNvGrpSpPr/>
            <p:nvPr/>
          </p:nvGrpSpPr>
          <p:grpSpPr>
            <a:xfrm>
              <a:off x="609480" y="2441160"/>
              <a:ext cx="1392120" cy="1409760"/>
              <a:chOff x="609480" y="2441160"/>
              <a:chExt cx="1392120" cy="1409760"/>
            </a:xfrm>
          </p:grpSpPr>
          <p:sp>
            <p:nvSpPr>
              <p:cNvPr id="499" name="Oval 67"/>
              <p:cNvSpPr/>
              <p:nvPr/>
            </p:nvSpPr>
            <p:spPr>
              <a:xfrm>
                <a:off x="609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0" name="Oval 68"/>
              <p:cNvSpPr/>
              <p:nvPr/>
            </p:nvSpPr>
            <p:spPr>
              <a:xfrm>
                <a:off x="609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1" name="Oval 69"/>
              <p:cNvSpPr/>
              <p:nvPr/>
            </p:nvSpPr>
            <p:spPr>
              <a:xfrm>
                <a:off x="701640" y="253260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2" name="Oval 70"/>
              <p:cNvSpPr/>
              <p:nvPr/>
            </p:nvSpPr>
            <p:spPr>
              <a:xfrm>
                <a:off x="701640" y="253584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3" name="Oval 71"/>
              <p:cNvSpPr/>
              <p:nvPr/>
            </p:nvSpPr>
            <p:spPr>
              <a:xfrm>
                <a:off x="761400" y="2594880"/>
                <a:ext cx="1087920" cy="1101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504" name="Group 72"/>
              <p:cNvGrpSpPr/>
              <p:nvPr/>
            </p:nvGrpSpPr>
            <p:grpSpPr>
              <a:xfrm>
                <a:off x="777960" y="2611800"/>
                <a:ext cx="1054440" cy="1069200"/>
                <a:chOff x="777960" y="2611800"/>
                <a:chExt cx="1054440" cy="1069200"/>
              </a:xfrm>
            </p:grpSpPr>
            <p:sp>
              <p:nvSpPr>
                <p:cNvPr id="505" name="Oval 73"/>
                <p:cNvSpPr/>
                <p:nvPr/>
              </p:nvSpPr>
              <p:spPr>
                <a:xfrm>
                  <a:off x="777960" y="2611800"/>
                  <a:ext cx="1054440" cy="10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74"/>
                <p:cNvSpPr/>
                <p:nvPr/>
              </p:nvSpPr>
              <p:spPr>
                <a:xfrm>
                  <a:off x="791280" y="2617560"/>
                  <a:ext cx="1028880" cy="10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7" name="Oval 75"/>
                <p:cNvSpPr/>
                <p:nvPr/>
              </p:nvSpPr>
              <p:spPr>
                <a:xfrm>
                  <a:off x="802080" y="2628000"/>
                  <a:ext cx="978480" cy="9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8" name="Oval 76"/>
                <p:cNvSpPr/>
                <p:nvPr/>
              </p:nvSpPr>
              <p:spPr>
                <a:xfrm>
                  <a:off x="859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9" name="Text Box 77"/>
            <p:cNvSpPr/>
            <p:nvPr/>
          </p:nvSpPr>
          <p:spPr>
            <a:xfrm rot="3925800">
              <a:off x="1060200" y="4348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0" name="Text Box 78"/>
            <p:cNvSpPr/>
            <p:nvPr/>
          </p:nvSpPr>
          <p:spPr>
            <a:xfrm rot="3925800">
              <a:off x="1554480" y="40629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1" name="Text Box 79"/>
            <p:cNvSpPr/>
            <p:nvPr/>
          </p:nvSpPr>
          <p:spPr>
            <a:xfrm rot="3925800">
              <a:off x="2980800" y="4357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2" name="Text Box 80"/>
            <p:cNvSpPr/>
            <p:nvPr/>
          </p:nvSpPr>
          <p:spPr>
            <a:xfrm rot="3925800">
              <a:off x="3467880" y="40629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3" name="Text Box 81"/>
            <p:cNvSpPr/>
            <p:nvPr/>
          </p:nvSpPr>
          <p:spPr>
            <a:xfrm rot="3925800">
              <a:off x="4960800" y="4348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4" name="Text Box 82"/>
            <p:cNvSpPr/>
            <p:nvPr/>
          </p:nvSpPr>
          <p:spPr>
            <a:xfrm rot="3925800">
              <a:off x="5455080" y="40629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5" name="Text Box 83"/>
            <p:cNvSpPr/>
            <p:nvPr/>
          </p:nvSpPr>
          <p:spPr>
            <a:xfrm rot="3925800">
              <a:off x="7102080" y="4504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6" name="Text Box 84"/>
            <p:cNvSpPr/>
            <p:nvPr/>
          </p:nvSpPr>
          <p:spPr>
            <a:xfrm rot="3925800">
              <a:off x="7595640" y="4216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17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3" name="AutoShape 91"/>
          <p:cNvCxnSpPr>
            <a:stCxn id="519" idx="3"/>
            <a:endCxn id="520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491e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18436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128600" y="1762200"/>
          <a:ext cx="7118280" cy="3495600"/>
        </p:xfrm>
        <a:graphic>
          <a:graphicData uri="http://schemas.openxmlformats.org/drawingml/2006/table">
            <a:tbl>
              <a:tblPr/>
              <a:tblGrid>
                <a:gridCol w="958680"/>
                <a:gridCol w="1859040"/>
                <a:gridCol w="344520"/>
                <a:gridCol w="1879560"/>
                <a:gridCol w="328680"/>
                <a:gridCol w="17478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3862440" y="2201760"/>
            <a:ext cx="1695600" cy="1836360"/>
            <a:chOff x="3862440" y="2201760"/>
            <a:chExt cx="1695600" cy="1836360"/>
          </a:xfrm>
        </p:grpSpPr>
        <p:sp>
          <p:nvSpPr>
            <p:cNvPr id="537" name="Rectangle 6"/>
            <p:cNvSpPr/>
            <p:nvPr/>
          </p:nvSpPr>
          <p:spPr>
            <a:xfrm rot="18394200">
              <a:off x="5031360" y="2413080"/>
              <a:ext cx="59364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538" name="Group 7"/>
            <p:cNvGrpSpPr/>
            <p:nvPr/>
          </p:nvGrpSpPr>
          <p:grpSpPr>
            <a:xfrm>
              <a:off x="3862440" y="2455560"/>
              <a:ext cx="1609560" cy="1582560"/>
              <a:chOff x="3862440" y="2455560"/>
              <a:chExt cx="1609560" cy="1582560"/>
            </a:xfrm>
          </p:grpSpPr>
          <p:sp>
            <p:nvSpPr>
              <p:cNvPr id="539" name="Oval 8"/>
              <p:cNvSpPr/>
              <p:nvPr/>
            </p:nvSpPr>
            <p:spPr>
              <a:xfrm>
                <a:off x="3862440" y="2455560"/>
                <a:ext cx="1609560" cy="15825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>
                <a:off x="4046400" y="2481480"/>
                <a:ext cx="1241640" cy="597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1" name="Text Box 10"/>
            <p:cNvSpPr/>
            <p:nvPr/>
          </p:nvSpPr>
          <p:spPr>
            <a:xfrm>
              <a:off x="3949200" y="31442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2" name="Group 11"/>
          <p:cNvGrpSpPr/>
          <p:nvPr/>
        </p:nvGrpSpPr>
        <p:grpSpPr>
          <a:xfrm>
            <a:off x="5272200" y="1519200"/>
            <a:ext cx="891720" cy="861840"/>
            <a:chOff x="5272200" y="1519200"/>
            <a:chExt cx="891720" cy="861840"/>
          </a:xfrm>
        </p:grpSpPr>
        <p:grpSp>
          <p:nvGrpSpPr>
            <p:cNvPr id="543" name="Group 12"/>
            <p:cNvGrpSpPr/>
            <p:nvPr/>
          </p:nvGrpSpPr>
          <p:grpSpPr>
            <a:xfrm>
              <a:off x="5272200" y="1519200"/>
              <a:ext cx="871560" cy="861840"/>
              <a:chOff x="5272200" y="1519200"/>
              <a:chExt cx="871560" cy="861840"/>
            </a:xfrm>
          </p:grpSpPr>
          <p:sp>
            <p:nvSpPr>
              <p:cNvPr id="544" name="Oval 13"/>
              <p:cNvSpPr/>
              <p:nvPr/>
            </p:nvSpPr>
            <p:spPr>
              <a:xfrm>
                <a:off x="527220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>
                <a:off x="537156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6" name="Text Box 15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7" name="Group 16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8" name="Group 17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9" name="Oval 18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0" name="未知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1" name="Text Box 20"/>
            <p:cNvSpPr/>
            <p:nvPr/>
          </p:nvSpPr>
          <p:spPr>
            <a:xfrm>
              <a:off x="15422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53" name="Group 22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54" name="Oval 23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5" name="未知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6" name="Text Box 25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3"/>
          <p:cNvGrpSpPr/>
          <p:nvPr/>
        </p:nvGrpSpPr>
        <p:grpSpPr>
          <a:xfrm>
            <a:off x="1225800" y="1439280"/>
            <a:ext cx="6667920" cy="4675320"/>
            <a:chOff x="1225800" y="1439280"/>
            <a:chExt cx="6667920" cy="4675320"/>
          </a:xfrm>
        </p:grpSpPr>
        <p:sp>
          <p:nvSpPr>
            <p:cNvPr id="559" name="Oval 4"/>
            <p:cNvSpPr/>
            <p:nvPr/>
          </p:nvSpPr>
          <p:spPr>
            <a:xfrm rot="20601600">
              <a:off x="1536840" y="23364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0" name="Oval 5"/>
            <p:cNvSpPr/>
            <p:nvPr/>
          </p:nvSpPr>
          <p:spPr>
            <a:xfrm rot="20601600">
              <a:off x="1593720" y="21744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1" name="Arc 6"/>
            <p:cNvSpPr/>
            <p:nvPr/>
          </p:nvSpPr>
          <p:spPr>
            <a:xfrm rot="20601600">
              <a:off x="4241520" y="225216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2" name="Arc 7"/>
            <p:cNvSpPr/>
            <p:nvPr/>
          </p:nvSpPr>
          <p:spPr>
            <a:xfrm flipH="1" rot="20602200">
              <a:off x="1647720" y="356508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3" name="Arc 8"/>
            <p:cNvSpPr/>
            <p:nvPr/>
          </p:nvSpPr>
          <p:spPr>
            <a:xfrm rot="20601600">
              <a:off x="3486240" y="198072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4" name="Arc 9"/>
            <p:cNvSpPr/>
            <p:nvPr/>
          </p:nvSpPr>
          <p:spPr>
            <a:xfrm flipH="1" rot="20602200">
              <a:off x="1447560" y="26330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 rot="20601600">
              <a:off x="3054600" y="28890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2369880" y="3111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4275000" y="2197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5951160" y="2654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6377040" y="318744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0" name="Arc 15"/>
            <p:cNvSpPr/>
            <p:nvPr/>
          </p:nvSpPr>
          <p:spPr>
            <a:xfrm rot="20539200">
              <a:off x="4775040" y="319356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2" name="Text Box 17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3" name="Text Box 18"/>
            <p:cNvSpPr/>
            <p:nvPr/>
          </p:nvSpPr>
          <p:spPr>
            <a:xfrm>
              <a:off x="2293560" y="4254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4853160" y="4064040"/>
              <a:ext cx="1309680" cy="1028520"/>
            </a:xfrm>
            <a:custGeom>
              <a:avLst/>
              <a:gdLst/>
              <a:ahLst/>
              <a:rect l="l" t="t" r="r" b="b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4676760" y="36687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6" name="Oval 21"/>
            <p:cNvSpPr/>
            <p:nvPr/>
          </p:nvSpPr>
          <p:spPr>
            <a:xfrm rot="20601600">
              <a:off x="3156120" y="314172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 rot="5400000">
            <a:off x="-1003320" y="1634760"/>
            <a:ext cx="3504960" cy="358776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3587760"/>
              <a:gd name="textAreaBottom" fmla="*/ 1281240 h 3587760"/>
            </a:gdLst>
            <a:ahLst/>
            <a:rect l="textAreaLeft" t="textAreaTop" r="textAreaRight" b="textAreaBottom"/>
            <a:pathLst>
              <a:path w="21600" h="10800">
                <a:moveTo>
                  <a:pt x="10736" y="10800"/>
                </a:moveTo>
                <a:cubicBezTo>
                  <a:pt x="10736" y="10764"/>
                  <a:pt x="10764" y="10736"/>
                  <a:pt x="10800" y="10736"/>
                </a:cubicBezTo>
                <a:cubicBezTo>
                  <a:pt x="10835" y="10736"/>
                  <a:pt x="10864" y="10764"/>
                  <a:pt x="10864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36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AutoShape 4"/>
          <p:cNvGrpSpPr/>
          <p:nvPr/>
        </p:nvGrpSpPr>
        <p:grpSpPr>
          <a:xfrm>
            <a:off x="865080" y="1219320"/>
            <a:ext cx="2183040" cy="4432320"/>
            <a:chOff x="865080" y="1219320"/>
            <a:chExt cx="2183040" cy="4432320"/>
          </a:xfrm>
        </p:grpSpPr>
        <p:pic>
          <p:nvPicPr>
            <p:cNvPr id="89" name="AutoShape 4" descr=""/>
            <p:cNvPicPr/>
            <p:nvPr/>
          </p:nvPicPr>
          <p:blipFill>
            <a:blip r:embed="rId2"/>
            <a:stretch/>
          </p:blipFill>
          <p:spPr>
            <a:xfrm>
              <a:off x="1341000" y="1219320"/>
              <a:ext cx="17053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5400000">
              <a:off x="-175320" y="2342160"/>
              <a:ext cx="426420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1" name="AutoShape 5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93" name="Oval 7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>
              <a:off x="2766240" y="3269880"/>
              <a:ext cx="405360" cy="405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5" name="Oval 9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12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0" name="Oval 14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15"/>
            <p:cNvSpPr/>
            <p:nvPr/>
          </p:nvSpPr>
          <p:spPr>
            <a:xfrm>
              <a:off x="2680560" y="2542680"/>
              <a:ext cx="40536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16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17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18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19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07" name="Oval 21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22"/>
            <p:cNvSpPr/>
            <p:nvPr/>
          </p:nvSpPr>
          <p:spPr>
            <a:xfrm>
              <a:off x="2277360" y="1814040"/>
              <a:ext cx="405360" cy="405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23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24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26"/>
          <p:cNvSpPr/>
          <p:nvPr/>
        </p:nvSpPr>
        <p:spPr>
          <a:xfrm>
            <a:off x="3002040" y="39304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14" name="Oval 28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29"/>
            <p:cNvSpPr/>
            <p:nvPr/>
          </p:nvSpPr>
          <p:spPr>
            <a:xfrm>
              <a:off x="2680560" y="3997080"/>
              <a:ext cx="40536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30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31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33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34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1" name="Oval 35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36"/>
            <p:cNvSpPr/>
            <p:nvPr/>
          </p:nvSpPr>
          <p:spPr>
            <a:xfrm>
              <a:off x="2231280" y="4725720"/>
              <a:ext cx="405360" cy="405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37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38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39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Text Box 40"/>
          <p:cNvSpPr/>
          <p:nvPr/>
        </p:nvSpPr>
        <p:spPr>
          <a:xfrm>
            <a:off x="816480" y="256068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231012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2725920" y="25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Text Box 43"/>
          <p:cNvSpPr/>
          <p:nvPr/>
        </p:nvSpPr>
        <p:spPr>
          <a:xfrm>
            <a:off x="2811960" y="328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2725920" y="401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2268720" y="47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3191040" y="25621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3267000" y="330192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2733840" y="474984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3191040" y="397656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79" name="未知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747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141a2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2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83" name="未知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5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4"/>
                </a:gs>
                <a:gs pos="100000">
                  <a:srgbClr val="00cc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6e7c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6" name="Group 11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87" name="未知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27a0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44f06"/>
                </a:gs>
                <a:gs pos="100000">
                  <a:srgbClr val="f4a70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ad58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0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91" name="未知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a38c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32482"/>
                </a:gs>
                <a:gs pos="100000">
                  <a:srgbClr val="c247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e0a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4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95" name="未知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1c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ec5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7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98" name="Line 23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604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806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715000" y="34718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38400" y="347652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cf7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49" name="Group 12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96363"/>
                  </a:gs>
                  <a:gs pos="100000">
                    <a:srgbClr val="33cc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a5e8e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2" name="Oval 15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491e6"/>
                </a:gs>
                <a:gs pos="100000">
                  <a:srgbClr val="1843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8d9f6"/>
                </a:gs>
                <a:gs pos="100000">
                  <a:srgbClr val="3491e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48235"/>
                  </a:srgbClr>
                </a:gs>
                <a:gs pos="100000">
                  <a:srgbClr val="2973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159" name="AutoShape 4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2" name="AutoShape 7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3" name="AutoShape 8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167" name="AutoShape 12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9" name="AutoShape 14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6099120" y="2458800"/>
              <a:ext cx="1639800" cy="47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3" name="AutoShape 18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74" name="Group 19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5" name="AutoShape 20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7" name="AutoShape 22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8" name="AutoShape 23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1" name="AutoShape 26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a8b79b"/>
              </a:gs>
              <a:gs pos="50000">
                <a:srgbClr val="4e5548"/>
              </a:gs>
              <a:gs pos="100000">
                <a:srgbClr val="a8b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50000">
                <a:srgbClr val="47477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50000">
                <a:srgbClr val="47477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50000">
                <a:srgbClr val="47477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2917800" y="1981080"/>
            <a:ext cx="3157200" cy="2841480"/>
            <a:chOff x="2917800" y="1981080"/>
            <a:chExt cx="3157200" cy="2841480"/>
          </a:xfrm>
        </p:grpSpPr>
        <p:sp>
          <p:nvSpPr>
            <p:cNvPr id="209" name="AutoShape 10"/>
            <p:cNvSpPr/>
            <p:nvPr/>
          </p:nvSpPr>
          <p:spPr>
            <a:xfrm flipH="1" rot="16200000">
              <a:off x="2836440" y="308808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36068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 flipH="1" rot="5400000">
              <a:off x="5666040" y="303408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36068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1" name="AutoShape 12"/>
            <p:cNvSpPr/>
            <p:nvPr/>
          </p:nvSpPr>
          <p:spPr>
            <a:xfrm flipH="1" rot="10800000">
              <a:off x="4253760" y="44956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36068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3223440" y="1981080"/>
              <a:ext cx="25711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3369600" y="2125440"/>
              <a:ext cx="227700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3503880" y="2260440"/>
              <a:ext cx="2009520" cy="20066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3503880" y="2260440"/>
              <a:ext cx="20095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3636000" y="2392200"/>
              <a:ext cx="1744920" cy="174312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1c6e6e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3636000" y="2392200"/>
              <a:ext cx="174492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381708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19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563f"/>
              </a:gs>
              <a:gs pos="50000">
                <a:srgbClr val="00281d"/>
              </a:gs>
              <a:gs pos="100000">
                <a:srgbClr val="0056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b1092"/>
              </a:gs>
              <a:gs pos="50000">
                <a:srgbClr val="230744"/>
              </a:gs>
              <a:gs pos="100000">
                <a:srgbClr val="4b1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90330a"/>
              </a:gs>
              <a:gs pos="50000">
                <a:srgbClr val="431805"/>
              </a:gs>
              <a:gs pos="100000">
                <a:srgbClr val="9033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906b0e"/>
              </a:gs>
              <a:gs pos="50000">
                <a:srgbClr val="433206"/>
              </a:gs>
              <a:gs pos="100000">
                <a:srgbClr val="906b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906a"/>
              </a:gs>
              <a:gs pos="50000">
                <a:srgbClr val="00684d"/>
              </a:gs>
              <a:gs pos="100000">
                <a:srgbClr val="0090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8041ff"/>
              </a:gs>
              <a:gs pos="50000">
                <a:srgbClr val="5d2fb9"/>
              </a:gs>
              <a:gs pos="100000">
                <a:srgbClr val="804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dc7150"/>
              </a:gs>
              <a:gs pos="50000">
                <a:srgbClr val="a0523a"/>
              </a:gs>
              <a:gs pos="100000">
                <a:srgbClr val="dc71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d0a11c"/>
              </a:gs>
              <a:gs pos="50000">
                <a:srgbClr val="977514"/>
              </a:gs>
              <a:gs pos="100000">
                <a:srgbClr val="d0a11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e98931"/>
              </a:gs>
              <a:gs pos="100000">
                <a:srgbClr val="001773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256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257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3944520" y="1589760"/>
                <a:ext cx="71604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59" name="Text Box 8"/>
            <p:cNvSpPr/>
            <p:nvPr/>
          </p:nvSpPr>
          <p:spPr>
            <a:xfrm>
              <a:off x="4127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0" name="Text Box 9"/>
          <p:cNvSpPr/>
          <p:nvPr/>
        </p:nvSpPr>
        <p:spPr>
          <a:xfrm>
            <a:off x="762120" y="203040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418aeb"/>
              </a:gs>
              <a:gs pos="100000">
                <a:srgbClr val="013997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263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264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4563000" y="2743920"/>
                <a:ext cx="73224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6" name="Text Box 15"/>
            <p:cNvSpPr/>
            <p:nvPr/>
          </p:nvSpPr>
          <p:spPr>
            <a:xfrm>
              <a:off x="472860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7" name="Text Box 16"/>
          <p:cNvSpPr/>
          <p:nvPr/>
        </p:nvSpPr>
        <p:spPr>
          <a:xfrm>
            <a:off x="762120" y="3184560"/>
            <a:ext cx="35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9942e0"/>
              </a:gs>
              <a:gs pos="100000">
                <a:srgbClr val="013997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270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5256360" y="3826440"/>
                <a:ext cx="7516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73" name="Text Box 22"/>
            <p:cNvSpPr/>
            <p:nvPr/>
          </p:nvSpPr>
          <p:spPr>
            <a:xfrm>
              <a:off x="549792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4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33ad8a"/>
              </a:gs>
              <a:gs pos="100000">
                <a:srgbClr val="013997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277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5914440" y="4969800"/>
              <a:ext cx="75528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9" name="Text Box 28"/>
          <p:cNvSpPr/>
          <p:nvPr/>
        </p:nvSpPr>
        <p:spPr>
          <a:xfrm>
            <a:off x="617940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762120" y="5405400"/>
            <a:ext cx="48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AutoShape 30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6Z</dcterms:modified>
  <cp:revision>2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