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463C-8CB3-4CF2-A793-DA7F3FB62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0415-475C-4310-B564-9C194C24F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B0F1-6527-48B3-81CA-BFB6F5EDC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344B-CE8E-4DD7-9DF3-4216C4DE6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A432-507C-4A63-8E7C-155F0E2DB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60DE-B133-4C20-B702-2FDE24B86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2BA2-54BB-4673-88A9-AC3B5B384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0803-500B-4134-BA19-C01FBD6B7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BD34-BFE9-4ED3-A0D7-24672A833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4004-AAF1-424C-89BE-805D1613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33EF-5FDD-4F6E-A6C0-CF99F40C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6C22-715C-4C86-A016-8BDFB9F9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12F80-83EC-4943-AF68-99A547AABB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01"/>
          <p:cNvPicPr/>
          <p:nvPr/>
        </p:nvPicPr>
        <p:blipFill>
          <a:blip r:embed="rId1"/>
          <a:stretch/>
        </p:blipFill>
        <p:spPr>
          <a:xfrm>
            <a:off x="-30240" y="7920"/>
            <a:ext cx="9209160" cy="6842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0800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QQ截图201112042211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QQ截图20111204221647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QQ截图20111204221706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QQ截图201112042217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QQ截图201112042217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CBCB-54F8-49B3-B29D-E1FB9952A8E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QQ截图2011120422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4T14:30:1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8-23T03:43:20Z</dcterms:modified>
  <cp:revision>7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