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2CF-FAB2-4B52-B97C-4A67BDCF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C88-1759-4B23-95F1-85AA26C4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25F-2007-4236-AD98-C7EC143A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7C0-192A-4DD4-A955-851FC102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51E-A5AB-43F7-AA54-D6907663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964-766B-4678-853C-3DF8A2EC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A1C-BCB1-401C-995B-72929E7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00F-D0D6-46B7-A49D-87137CD9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B15-63B4-46E3-937A-70A7FB35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D99-8CDE-4F10-8D00-F844BD1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50C-93FE-4EF0-8CA0-966E979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CB8-6BF3-4107-AD07-56799EC5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DB93-8B86-40B9-8049-33F02A5530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3F6-AAF8-4FD3-841B-403D582DBB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91004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六一儿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541008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2" descr="2.png"/>
          <p:cNvPicPr/>
          <p:nvPr/>
        </p:nvPicPr>
        <p:blipFill>
          <a:blip r:embed="rId2"/>
          <a:stretch/>
        </p:blipFill>
        <p:spPr>
          <a:xfrm>
            <a:off x="3137040" y="3978360"/>
            <a:ext cx="3363840" cy="123660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314280" y="6122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上凸带形 16"/>
          <p:cNvSpPr/>
          <p:nvPr/>
        </p:nvSpPr>
        <p:spPr>
          <a:xfrm>
            <a:off x="546120" y="2643120"/>
            <a:ext cx="2333520" cy="912960"/>
          </a:xfrm>
          <a:custGeom>
            <a:avLst/>
            <a:gdLst>
              <a:gd name="textAreaLeft" fmla="*/ 583200 w 2333520"/>
              <a:gd name="textAreaRight" fmla="*/ 1750320 w 23335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项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上凸带形 11"/>
          <p:cNvSpPr/>
          <p:nvPr/>
        </p:nvSpPr>
        <p:spPr>
          <a:xfrm>
            <a:off x="337968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上凸带形 12"/>
          <p:cNvSpPr/>
          <p:nvPr/>
        </p:nvSpPr>
        <p:spPr>
          <a:xfrm>
            <a:off x="616572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3808440" y="29383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体奖：颁发奖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6418440" y="289548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单项设一、二等奖各一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969840" y="2786040"/>
            <a:ext cx="15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每赢一次就获得糖果或其他一些实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" descr="4.png"/>
          <p:cNvPicPr/>
          <p:nvPr/>
        </p:nvPicPr>
        <p:blipFill>
          <a:blip r:embed="rId2"/>
          <a:stretch/>
        </p:blipFill>
        <p:spPr>
          <a:xfrm>
            <a:off x="358920" y="168120"/>
            <a:ext cx="8356320" cy="5975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143000" y="262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643040" y="2500200"/>
            <a:ext cx="5929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年一度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儿童节到了，为了增添节日氛围，让学生过得开心有意义，丰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儿童的学习生活，使之从中得到锻炼，让学生度过一个快乐、精彩、向上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节。希望通过活动，使学生人人自主地参与活动之中，在活动中陶冶情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中获取知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活动中培养能力。经校领导小组研究决定，我校将举行丰富多彩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，为使活动开展得安全有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将活动内容拟订如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857920" y="46432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特发此状，以资鼓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队员入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0" descr="20110603100700243.jpg"/>
          <p:cNvPicPr/>
          <p:nvPr/>
        </p:nvPicPr>
        <p:blipFill>
          <a:blip r:embed="rId2"/>
          <a:stretch/>
        </p:blipFill>
        <p:spPr>
          <a:xfrm>
            <a:off x="2000160" y="1643040"/>
            <a:ext cx="565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 16"/>
          <p:cNvSpPr/>
          <p:nvPr/>
        </p:nvSpPr>
        <p:spPr>
          <a:xfrm>
            <a:off x="3286080" y="4156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7"/>
          <p:cNvSpPr/>
          <p:nvPr/>
        </p:nvSpPr>
        <p:spPr>
          <a:xfrm>
            <a:off x="3286080" y="4727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4"/>
          <p:cNvSpPr/>
          <p:nvPr/>
        </p:nvSpPr>
        <p:spPr>
          <a:xfrm>
            <a:off x="3286080" y="3013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5"/>
          <p:cNvSpPr/>
          <p:nvPr/>
        </p:nvSpPr>
        <p:spPr>
          <a:xfrm>
            <a:off x="3286080" y="3584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12"/>
          <p:cNvSpPr/>
          <p:nvPr/>
        </p:nvSpPr>
        <p:spPr>
          <a:xfrm>
            <a:off x="3286080" y="1870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3"/>
          <p:cNvSpPr/>
          <p:nvPr/>
        </p:nvSpPr>
        <p:spPr>
          <a:xfrm>
            <a:off x="3286080" y="2441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857760" y="192888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4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4154400" y="2790720"/>
            <a:ext cx="1417680" cy="14176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429000" y="2279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357880" y="2208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眼打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572000" y="333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圈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5500800" y="4494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点投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3071880" y="4637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乒乓球步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12"/>
          <p:cNvSpPr/>
          <p:nvPr/>
        </p:nvSpPr>
        <p:spPr>
          <a:xfrm>
            <a:off x="1214280" y="1778040"/>
            <a:ext cx="6858000" cy="371484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603800" y="285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活动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643040" y="1992240"/>
            <a:ext cx="7143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：分低、中、高年级组 ，每班男女生各选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项跑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力赛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：分低、中、高年级组，人数根据实际情况来定，男女生分组进行比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五、六年级，只限男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6" descr="jbh0912091926be20da6b3e303464.jpg"/>
          <p:cNvPicPr/>
          <p:nvPr/>
        </p:nvPicPr>
        <p:blipFill>
          <a:blip r:embed="rId2"/>
          <a:stretch/>
        </p:blipFill>
        <p:spPr>
          <a:xfrm>
            <a:off x="2608200" y="4943520"/>
            <a:ext cx="1031760" cy="603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1.jpg"/>
          <p:cNvPicPr/>
          <p:nvPr/>
        </p:nvPicPr>
        <p:blipFill>
          <a:blip r:embed="rId3"/>
          <a:stretch/>
        </p:blipFill>
        <p:spPr>
          <a:xfrm>
            <a:off x="2898720" y="3992400"/>
            <a:ext cx="67320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3" descr="2-1402240TG1504.jpg"/>
          <p:cNvPicPr/>
          <p:nvPr/>
        </p:nvPicPr>
        <p:blipFill>
          <a:blip r:embed="rId4"/>
          <a:stretch/>
        </p:blipFill>
        <p:spPr>
          <a:xfrm>
            <a:off x="2571840" y="2585880"/>
            <a:ext cx="788760" cy="789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5" descr="13820967193.jpg"/>
          <p:cNvPicPr/>
          <p:nvPr/>
        </p:nvPicPr>
        <p:blipFill>
          <a:blip r:embed="rId5"/>
          <a:stretch/>
        </p:blipFill>
        <p:spPr>
          <a:xfrm>
            <a:off x="2722680" y="1800360"/>
            <a:ext cx="788760" cy="788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1143000" y="1371600"/>
            <a:ext cx="192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跳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拔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赛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力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篮球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负责登记、拍照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总负责人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[s]1007122212d0872d62e2800ff0.jpg"/>
          <p:cNvPicPr/>
          <p:nvPr/>
        </p:nvPicPr>
        <p:blipFill>
          <a:blip r:embed="rId6"/>
          <a:stretch/>
        </p:blipFill>
        <p:spPr>
          <a:xfrm>
            <a:off x="2714760" y="1093680"/>
            <a:ext cx="601560" cy="8496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12I2422a3Z34K7.gif"/>
          <p:cNvPicPr/>
          <p:nvPr/>
        </p:nvPicPr>
        <p:blipFill>
          <a:blip r:embed="rId7"/>
          <a:stretch/>
        </p:blipFill>
        <p:spPr>
          <a:xfrm>
            <a:off x="2928960" y="3443400"/>
            <a:ext cx="747720" cy="523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裁判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五边形 17"/>
          <p:cNvSpPr/>
          <p:nvPr/>
        </p:nvSpPr>
        <p:spPr>
          <a:xfrm>
            <a:off x="3571920" y="130032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18"/>
          <p:cNvSpPr/>
          <p:nvPr/>
        </p:nvSpPr>
        <p:spPr>
          <a:xfrm flipH="1">
            <a:off x="4071960" y="201456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19"/>
          <p:cNvSpPr/>
          <p:nvPr/>
        </p:nvSpPr>
        <p:spPr>
          <a:xfrm>
            <a:off x="3429000" y="280044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20"/>
          <p:cNvSpPr/>
          <p:nvPr/>
        </p:nvSpPr>
        <p:spPr>
          <a:xfrm flipH="1">
            <a:off x="4071960" y="351468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21"/>
          <p:cNvSpPr/>
          <p:nvPr/>
        </p:nvSpPr>
        <p:spPr>
          <a:xfrm>
            <a:off x="4286160" y="4371840"/>
            <a:ext cx="3857760" cy="35748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22"/>
          <p:cNvSpPr/>
          <p:nvPr/>
        </p:nvSpPr>
        <p:spPr>
          <a:xfrm flipH="1">
            <a:off x="3571920" y="5014800"/>
            <a:ext cx="3857760" cy="35748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3"/>
          <p:cNvSpPr/>
          <p:nvPr/>
        </p:nvSpPr>
        <p:spPr>
          <a:xfrm>
            <a:off x="2928960" y="565776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603800" y="285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643200" y="1714680"/>
            <a:ext cx="32860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钓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蒙眼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套圈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手持乒乓球拍顶乒乓球步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左弧形箭头 11"/>
          <p:cNvSpPr/>
          <p:nvPr/>
        </p:nvSpPr>
        <p:spPr>
          <a:xfrm>
            <a:off x="3143160" y="185724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左弧形箭头 12"/>
          <p:cNvSpPr/>
          <p:nvPr/>
        </p:nvSpPr>
        <p:spPr>
          <a:xfrm flipH="1">
            <a:off x="5428440" y="264312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左弧形箭头 13"/>
          <p:cNvSpPr/>
          <p:nvPr/>
        </p:nvSpPr>
        <p:spPr>
          <a:xfrm>
            <a:off x="3286080" y="335916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左弧形箭头 14"/>
          <p:cNvSpPr/>
          <p:nvPr/>
        </p:nvSpPr>
        <p:spPr>
          <a:xfrm flipH="1">
            <a:off x="5357880" y="4002120"/>
            <a:ext cx="428400" cy="712800"/>
          </a:xfrm>
          <a:custGeom>
            <a:avLst/>
            <a:gdLst>
              <a:gd name="textAreaLeft" fmla="*/ 57240 w 428400"/>
              <a:gd name="textAreaRight" fmla="*/ 371160 w 42840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1500120" y="2000160"/>
            <a:ext cx="554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714760" y="2000160"/>
            <a:ext cx="64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4098960" y="2000160"/>
            <a:ext cx="83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5456160" y="1928880"/>
            <a:ext cx="8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其它项目比赛顺序：呼啦圈、跳绳、单项跑、接力赛、拔河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6858000" y="2000160"/>
            <a:ext cx="64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游园活动下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开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9:34Z</dcterms:modified>
  <cp:revision>32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