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%E9%B8%9F30.WAV" ContentType="audio/x-wav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chimes.wav" ContentType="audio/x-wav"/>
  <Override PartName="/ppt/media/image24.jpeg" ContentType="image/jpeg"/>
  <Override PartName="/ppt/media/projctor.wav" ContentType="audio/x-wav"/>
  <Override PartName="/ppt/media/image14.png" ContentType="image/png"/>
  <Override PartName="/ppt/media/image23.png" ContentType="image/png"/>
  <Override PartName="/ppt/media/image11.png" ContentType="image/png"/>
  <Override PartName="/ppt/media/image19.jpeg" ContentType="image/jpeg"/>
  <Override PartName="/ppt/media/image37.jpeg" ContentType="image/jpeg"/>
  <Override PartName="/ppt/media/image12.jpeg" ContentType="image/jpeg"/>
  <Override PartName="/ppt/media/image34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whoosh.wav" ContentType="audio/x-wav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3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CC7-D6C3-4650-B0F1-7ED7906B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8AF-96CB-46E9-AFC7-71FF1E43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72255-0779-47DC-B986-190C7D57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8BEB4-64BC-44CA-A3F1-1C2345AE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71338-F420-4B5D-B3A2-F4EDC88A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500F7-D404-4F3D-A994-847B335B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1CF78-CEB2-4820-9177-0C0FF8B5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F24D9-2F40-4AFF-B21F-77C20BCC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70538-6D0B-447E-893B-72D8FA93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0F7E7-806B-4949-955D-493D68A5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A6157-F471-4EAD-94F0-09225332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04876-C3FF-48ED-924D-A370B88E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889-276D-4F8C-9324-D7CB9BC7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16B93-3186-49BD-A26F-B86FDA81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B76CA-B37D-4597-97FF-46D29D19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D8F09-DBCE-437C-8833-8DB135AB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B8581-BB26-4C22-AA16-C0BA281D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63B00-4C34-4AB9-84B3-6B88F25D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5A43E-308A-4D4B-9B49-EBC4986C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56620-0F6C-4BFC-8D41-CC54028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FC8FE-07D2-46AD-9C9D-370F42E8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B77CB-BA77-4799-A313-5262A222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A14A3-B361-4740-95AC-4E0F873E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5D5-A14A-4DA2-8B3B-7DAABED0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D99AA-6F36-42CF-824A-8DA8C4B9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E5D8F-A66B-4090-9DA6-6C42004A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EC0B9-A72B-4E53-A880-636C3284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76F34-D077-45BD-BD06-1342DDAA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80609-224D-4D76-9694-0A6BED8C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88F38-7425-4867-B003-F7704A32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0B494-5D85-414B-AE3E-4605B56F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81450-3C40-4FB2-91F1-4AF8573C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C153D-C2DD-41F4-A752-715DADE9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26F30-F031-49C8-BCBE-E092C343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9F2B-EABB-40E0-8833-031C2EFA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4848E-529D-4ECB-ADEF-F3BCF1C2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170DB-C410-41F2-B703-B149CC16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E29C8-7A70-4DDE-B1E7-B65380A5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A0C01-F38F-44EA-86C7-CD8EAD4D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55EF7-8E07-4B2E-8EEC-8A394AA0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D910D-C223-47CC-B5F8-934B6E68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BAA68-0290-42A0-92C4-F5CA2ABD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4D61A-F7FD-4EC2-A18A-5DF12244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6E43A-E92C-4922-A313-51EE7C39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06E8E-3C03-4E3A-B4BA-2206329E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B212-FEA8-4C84-B6E9-4D3185B5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45C3E-2A38-4630-B28F-C58BF624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25119-87BF-405B-9A4B-12DBC35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B0BF5-40E4-4C1B-9F42-33B543BA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FE692-8533-4D19-A771-FF317D47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7C743-99F5-4BA2-8F27-6CC6D23E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17EE6-91B2-410E-8DAF-56DA6F30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93C89-C202-4EC0-B436-E1672343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7E351-8A5F-4886-9EE6-E8E5C341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0D01D-B3FA-468B-869D-D45E55B4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D5153-6FBC-4709-82BA-04E82D7D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8C72-CED3-4794-9D0C-2BEBC316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A18E4-FC8D-450A-B66F-667CC404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2143E-7957-4BD4-B14D-F74642F2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1F9B2-0936-40EF-BDBF-DDC97867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E8BC1-8729-4D80-8081-3BCB40D4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05A7A-0104-4E01-B300-20F5F1C3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A7CD5-A986-4229-9AF2-3F128D36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F1092-431A-42B2-8917-2C0D9014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E3BDF-66A9-41C7-A1E6-49D065A3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6920E-1DB1-4D24-B16A-A84E735B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6FFFD-D9F0-4574-81E4-B09F32EA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EC39-71D4-484A-9298-B5578DE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55D85-3AD2-497F-ADA8-E51E5ADB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0D141-C3C4-49F7-82BE-FB7A260C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9BD09-83BC-4472-B5FE-B312596F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3A835-463D-484E-91ED-A4E172C8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52E7F-B8E4-41C8-9DBB-70D6DF3B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7BB69-8C85-4D82-AA7B-DCEEFCC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48BC1-7B66-461C-ABD3-F74B097E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52F90-59D6-4F55-B3A9-B7D97044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67D60-C936-4E4E-9544-8FD6C770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87AA6-E8D5-4197-9F0C-00025DC4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82BA-F391-4C2D-B934-B999B233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D723E-AE9D-4DFF-864B-B16624B8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83C7E3-7FBD-4B92-9797-4CCE30CD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8EFC5-3C2F-48E9-B396-E9635294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4F2CE-AFD2-4172-AFE2-BDF30A8B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2A2DA5-E96C-451D-A5B0-F5075CF4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4F095-D5D5-4817-8E52-E5909BDA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2A7A3-7CDB-4013-A2F4-15393A31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B9DF3-76B0-4ECE-9CC4-34C7B47A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702A5-036F-4936-AAC3-05FF176D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5DAAE-E56C-4787-92EA-16C59A92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C584-5DD9-4E39-86AC-D56F79A2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37C0F-FA57-4EC7-9AD0-D8A633E7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4E232-883F-46EC-913B-1FCC1788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0413B-28E7-4F32-A97D-2F939E0B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2E7048-0EA4-45F6-B1B9-0EA64D75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7A151-8B46-4E07-B6B5-F0603E16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5D799-0B23-4057-84EC-A8A6C73E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CCAE0-7D90-4E7B-BCA8-2C5F3790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227375-CD3D-4A5B-8E52-127FD88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DA00A0-F5D8-4212-9A38-36966DE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DA4FB-1B79-4023-804B-DA1B07FC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A401-5164-4EB4-A44B-3AF161CB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07566-3C4B-4119-A58A-E18DD1A6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06546-A080-4E9D-A56C-B584D7B1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86422-6D04-49A1-B75B-F052859E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FE37A-D167-4EEC-AD45-3778BA5A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89CAC1-5741-4C00-97C9-EFE3A09F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61560-C1BC-4C6A-BAA9-AC838E73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5E831-E8C8-4C97-A3BF-6DB47ABF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DFEEFF-9ED0-4724-A2E7-A788DC2B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926CCE-FEBB-4550-8FFC-55333986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646670-A830-4A2D-B054-D35C6F1C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323-EB31-435E-AAE9-7DDA124F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CC92-9520-4D31-B25D-73E7238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56F95-5EFB-48F2-B0EB-F3FD0827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68714-9B9E-4CB7-99ED-2BBC8E44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D059F-DA7D-4AF7-96AD-82EB5C39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C074E5-0952-41E6-B59B-48DE5D1D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2B88C-74C7-4A4A-9547-E3856FF5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1DA1B-4425-4852-A31B-ECF3F523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9DBCFB-4EA9-4EAA-A092-DD1F3A79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11262-EB1D-4F00-B206-916F45AD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0DF854-D5EA-4D20-AB90-11EF0489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491D18-2E59-44E7-9650-0B82096B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F661-3C11-499B-BBD2-8DFDA300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A9E3C5-BA90-4A02-91CC-DF95CCDC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614A03-CF52-4670-BCB5-A6112385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19357-A1D1-4582-92D8-8D18C30D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97C5A0-27CD-4DF9-B8D4-74B45BCC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00BF9-3CCD-4F9F-81AF-34CA12AF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77B687-220A-4665-B16D-1BB1F866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C6CF6D-E9C7-4C40-A4F9-9847180B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AEDC8B-00CE-45E8-82AE-E2CDE1F2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375A8-03C1-4E08-89F3-7519AE56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8C8D4-C964-46F7-AA69-0EFCF59B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5C69-97A7-4C3F-96B7-AEFD6116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EC05E8-75D5-4A31-BC45-FBB76588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524FC-43E2-4458-8689-506824D9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A45D41-A0F3-406E-8E00-753F7DDC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3FB19-AD26-41B6-85C6-4FCCA183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CA5193-49F2-4641-B357-F2BE534E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4568A7-A28A-4268-A0D8-1A53637C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312F5-248D-44AB-9B7E-E6AAEAF3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C03DD-230C-4AAF-8836-CFFA95BE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C88F3-723A-4F45-843E-CC932872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8B8AC3-6B0D-4CD0-9625-7C31AB0E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5C16-0FC9-40AD-ADDE-93017A2D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8042A-C0C5-4DCB-9031-E08CE29D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FA46AF-EFC5-41C6-AE9F-8B415426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99B227-85C3-4EF5-928B-6691F999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71058-F507-4EC1-9C9A-4FC91502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A37DC9-AD8B-442D-A763-49DB6BCE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3D00FA-3C48-4DB4-9B34-63475D85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8168A-7F79-4652-B4DD-6315DCC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B2706C-4416-450B-9113-2939369D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D3F7E-42FF-412D-B79D-A93B51E5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32517-5A42-4C6F-A790-9A071C49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7009-06A3-4D03-9939-6440BE91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2C98F-5ABE-4E1A-9C32-11CBDE4B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22E7E4-2FA5-4167-8AB8-E731E178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571F4C-587B-4E4D-B2CE-00597A33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914FC-8058-476F-B8A3-65653373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D6EF4-BEEF-4C52-95ED-1D6CDD2C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D0B396-9797-4B96-AD76-6DE2A0D3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9E4BC-EE0A-4557-86CE-A0556C99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08F355-A9D4-4886-9728-3031D92C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BA925-E0B8-4EF7-A0D6-C3334CBD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CBEACD-DFFC-4A28-A49D-9FCCBC41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83DA-F9F2-4617-BD5A-26DD0235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C7DB9-93A1-49F9-9C72-8C1D5AF3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9371A-297B-453B-A9BC-387D88DE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BCF78A-E26D-49D6-BDB9-3BDF944C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C8E37E-1398-4185-9F63-87EBCE64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B081ED-345A-473B-81AB-54E16D70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AC76AB-A369-404D-96F3-3366C416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F4F6EA-5E98-4968-8CF0-F928FA65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992D30-2205-442E-AE48-1C85974D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91774C-FCB6-4838-9F63-F89EB30D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927A88-0E4C-4762-8959-83E7911C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C61AC-2692-499C-B99C-74B969B5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A93EA4-691F-47FC-8D74-8EA14C7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6CCA50-B915-4DF4-A80B-3E8CE124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AE41F5-0E21-4CB6-B379-ED907A95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AF641E-06CA-4642-AD21-4565E1C0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60393C-1052-47C6-A199-20BA697A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25BFAD-0C46-4382-978A-BF36C85D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FFC8E9-1EA2-46A0-8F76-8C27C1C4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AE0D71-734E-4581-8F0F-43E073BF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306E70-D19A-4D3F-B86B-6D55448F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CEAB3D-4F91-439E-83C0-D1787F19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76D70-537E-4056-AABD-28C59687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DAE621-6AFF-45AB-8325-AC32ADC4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1C2AA9-3C46-4D55-B15D-BCD1E7CF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E5B18F-9864-4D0D-9666-133B3F61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7698DE-0111-4D0D-BEF6-1F6614F3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198CBB-24A3-4237-A896-8AF987CA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05D8F8-3D23-403C-95CC-44225271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6F9168-83BE-45A1-B203-7AFD2D9C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4BB3C0-B0FB-473A-8782-297D6BC6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BB842F-C443-42A2-A867-0A1431E4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79B9A0-2444-4169-9489-89E8A3E6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8436-8C1F-4BC4-AB97-6665F51F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B88719-9425-4475-B2E5-24137D4E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14DC36-91A6-42BE-A1F4-2D93B2E6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46241E-FC66-42C3-A048-DE56FE17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DE7653-C717-4EA8-9700-3BBF31E8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A6F8C4-659E-494A-B41C-998E7C5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F9979D-2A08-4455-8EF5-C98424D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64A3EB-CA6A-47D6-8858-ABDD06CC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098853-AD43-49AD-8A88-404AA7D3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074F6C-B1AA-4B5E-8D47-C73B2355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B414BE-AC89-4B0C-A2B3-7135CA1F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2F31B-21DD-46DD-8AF8-D59AE025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A9C1F5-E6CC-4ED9-A91B-166BF85B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8C7D40-1FF3-4D88-900D-99FE3408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A0F237-4D54-454C-9490-E5D0C863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15D2C0-9269-4DBB-A9AB-8CBFE80C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092707-B2B0-41E9-B2DE-B038A4F8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AD192C-6D88-446A-8F74-76B192E5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F02658-BE7D-4474-AD6A-12628519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D1DAB9-C0DC-474E-A301-B26CB745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0DA8A8-5A96-4F32-850B-FD8D2A75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F9C622-8BB8-4F0A-ABDD-D48BE6C7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E24-AC06-4348-97B0-6B6484F9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5223-7951-4526-8F47-3B115DAB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BA9595-305A-4A92-B6DF-82B20106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BDE7FC-BB6C-4EC0-AB4C-BD2B7D0D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A2824F-277D-4B85-B60E-FA981FBC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00472E-FCAF-413A-B745-D5FF6E6F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086355-4E34-4DA1-AC75-08385D0B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42ACAF-E060-49AE-B257-AED3B0A7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6D733D-5AA2-4D68-8A4A-162A98DF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26DEA3-7A3E-4872-9066-4788A695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9F1C33-E0E7-4262-8A72-09DDBF53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7D79BB-EEF4-4DBE-880A-FCE5084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B70D-BE43-4009-BC82-08C94B44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111112-8987-450A-BF9F-51FE953C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032B33-48DA-407C-A6C4-BBEBC257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71126E-C390-4171-9023-F796738F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26F4-8395-4696-9A2D-A60C99D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D641-7388-4A82-B3F6-730F7100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81A7-C738-4D64-ACDA-CD0975F9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361B-B36B-423A-B238-8488E624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AC7A-D68C-4E87-8309-A2737F42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B1F9-44FA-4870-8A59-45BD1D98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42ED-67EA-47C0-A729-9CF2BF43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03C68-C20E-4992-AD60-79978CE0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45B-48CD-4C00-8D9E-F67F3133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28EF1-CF94-4AD4-9775-D6480CC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22B9-D3C0-43B9-88A8-FB78F9C6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759A6-811C-48E6-A6EA-37257351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F459F-B197-419B-80B0-5873CA8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854A-2A53-42BE-B4A1-035723E4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B8DCE-0B88-4854-A4CD-2AEAC872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760BD-3ADB-4ECF-9E94-85E24BB2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78DC7-6324-407C-9725-9A21672D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4B94-3C55-4A21-94F9-BACB2EF0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9EC37-B274-45D1-94F8-4960135D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6C7-FAFC-41FF-952D-FC0ECFE5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493F-88A9-4C9A-925C-78CB64D8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ECB06-0274-4E46-9B16-CEF8634A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66837-8398-4CFA-BF0D-5F24E927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7143B-121A-4E13-9850-C34DBC5E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D6659-3769-462E-B967-706AF053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28CF7-0F90-4A34-86DB-8C25740D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38BA4-4A54-426A-8388-1519122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C737C-867E-459F-9CF1-0A72E585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49F5-3404-4321-9707-BF1D74DF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F9CF5-4F44-4742-AE14-F20DB719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714-FF8B-4B68-8F30-AFA14BAE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15EF0-713B-4F21-92C9-6809D0E5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F38B4-E479-47A6-AD7E-F75B051F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4FA87-13DD-419B-944D-035B3477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5BB9F-0329-4634-B357-71613B93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4D2DA-72F1-40BE-BAB7-FA6D352D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48C18-37A7-4A0E-B11E-2CE8937C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26DC6-386F-43C2-B575-B13F29AE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54050-BF3C-440C-AE91-72AA0381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59350-77AB-4D4F-8D85-ED95E56D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965A4-783E-46F6-9852-3B68040D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2BA-14B0-4B6A-AE74-C98533F9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17E09-1848-4C5F-922B-826413E9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7D308-B7CB-4727-81D2-F8C09ED5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9E05-C67B-4435-A541-16F915C0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5B3D4-590B-4CB3-A019-5935E2FE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FAF20-5CB8-4EF1-A9F3-61D00104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5D660-D9CC-4D66-A0E4-6CA5E6ED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DA5FC-A629-4468-AEA4-99F78826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C9AEC-CE48-4EE4-A64C-08890BFE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2E412-530A-4A67-8FA3-1260E267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B1050-4115-4F41-B28B-5A865B4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D70-F2CB-498E-9767-7B3D8ECA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0BEF1-ABD6-431E-B48B-6CDA2869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2C515-A85A-46C5-A62C-E609F931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08FCA-11B9-416B-AD30-D61D536B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1E552-3F53-4AEE-94D8-82AE9EE2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04606-B392-4112-98C8-181808DF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C3DA9-7BCF-4F24-911A-2A4926D7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201C7-AF7B-4F41-B86E-4A05B073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B5289-5B0A-419C-B1CA-5BA86487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6A4FC-7A2F-4BA3-A96F-A85A560A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CC6F8-D33C-4816-93FF-A3F475B5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563-7960-4B61-91DA-575C4243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C14EF-52F8-4476-BBDC-13A83766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10877-2492-46C9-A836-FE8BD8C2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0DADA-D157-4DEB-9D0A-18D66C91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001AC-918D-454C-B90F-97C549C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7DCDE-8A63-4AA8-B431-5F05DECB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64860-20C9-461C-9569-26CBEE91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990E3-9FD8-4AE3-9C8E-D4E93DAE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E8600-58DC-4826-837D-F6CE1396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8EDAF-E5F4-4B38-BF51-98129F6F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680F0-BF2D-45F1-BD6D-F600AD15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821A-40D8-494D-92D4-E6AD36455B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84C4-DDF4-4CDB-8983-B7002FB063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10B8-F4A6-45C1-95A2-C7EFE6F0B6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0B0A-02FE-44EB-A581-12753BE8F7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BD4F-BBA9-4C7C-ADE4-8166D36864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64D4-9A34-430B-8F49-BF8FA9AAED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DB7E-86DD-4CA2-B7CA-55054EF7E2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01E0-7BE1-4A48-84B5-17E1AD4733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38CF-7B76-4FA9-BDE7-ECA7999713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4240-1EF9-4DD2-B8A8-C9B15FED25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3FF5-7A02-4889-B17D-2BBECAE920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D301-9078-4F62-B829-1ABAA4AAB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678B-810A-4221-903A-C605760713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B33F-CBF4-4929-961F-547D5B439F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3AB0-3C28-4B1B-B07C-9DB9FD4A90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4E29-1F8E-4541-9E98-1E4C2D2B98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A2E2-099B-4847-AB59-BAB782E569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727-24A2-4CD6-B33C-3EE39BAC69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6092-E417-44B7-B13F-BE744DAEF7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DF22-FE98-4F35-91B2-55A407252D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454A-38E1-4F9C-BFE7-11DFC5C588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CF4F-4091-4421-908E-F15A483D49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0EE3-2F4D-42E5-B7B3-C4A8EBFD08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BAD6-C392-4017-8413-055D39D1F4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7396-5C38-40EF-B828-65AD88BCFF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8667-7D67-4E19-BC94-ADEA3D3D8A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image" Target="../media/image24.jpeg"/><Relationship Id="rId6" Type="http://schemas.openxmlformats.org/officeDocument/2006/relationships/image" Target="../media/image21.png"/><Relationship Id="rId7" Type="http://schemas.openxmlformats.org/officeDocument/2006/relationships/image" Target="../media/image25.jpeg"/><Relationship Id="rId8" Type="http://schemas.openxmlformats.org/officeDocument/2006/relationships/image" Target="../media/image21.png"/><Relationship Id="rId9" Type="http://schemas.openxmlformats.org/officeDocument/2006/relationships/image" Target="../media/image26.jpeg"/><Relationship Id="rId10" Type="http://schemas.openxmlformats.org/officeDocument/2006/relationships/image" Target="../media/image21.png"/><Relationship Id="rId11" Type="http://schemas.openxmlformats.org/officeDocument/2006/relationships/image" Target="../media/image27.jpeg"/><Relationship Id="rId12" Type="http://schemas.openxmlformats.org/officeDocument/2006/relationships/image" Target="../media/image21.png"/><Relationship Id="rId13" Type="http://schemas.openxmlformats.org/officeDocument/2006/relationships/image" Target="../media/image28.jpeg"/><Relationship Id="rId14" Type="http://schemas.openxmlformats.org/officeDocument/2006/relationships/image" Target="../media/image21.png"/><Relationship Id="rId15" Type="http://schemas.openxmlformats.org/officeDocument/2006/relationships/image" Target="../media/image29.jpeg"/><Relationship Id="rId16" Type="http://schemas.openxmlformats.org/officeDocument/2006/relationships/image" Target="../media/image21.png"/><Relationship Id="rId17" Type="http://schemas.openxmlformats.org/officeDocument/2006/relationships/image" Target="../media/image30.jpeg"/><Relationship Id="rId18" Type="http://schemas.openxmlformats.org/officeDocument/2006/relationships/image" Target="../media/image21.png"/><Relationship Id="rId19" Type="http://schemas.openxmlformats.org/officeDocument/2006/relationships/image" Target="../media/image31.jpeg"/><Relationship Id="rId20" Type="http://schemas.openxmlformats.org/officeDocument/2006/relationships/image" Target="../media/image21.png"/><Relationship Id="rId21" Type="http://schemas.openxmlformats.org/officeDocument/2006/relationships/image" Target="../media/image32.jpeg"/><Relationship Id="rId22" Type="http://schemas.openxmlformats.org/officeDocument/2006/relationships/audio" Target="../media/&#40479;30.WAV"/><Relationship Id="rId2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audio" Target="../media/&#40479;30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2" descr="背景9"/>
          <p:cNvPicPr/>
          <p:nvPr/>
        </p:nvPicPr>
        <p:blipFill>
          <a:blip r:embed="rId1"/>
          <a:stretch/>
        </p:blipFill>
        <p:spPr>
          <a:xfrm>
            <a:off x="-324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7" name="矩形 1"/>
          <p:cNvSpPr/>
          <p:nvPr/>
        </p:nvSpPr>
        <p:spPr>
          <a:xfrm>
            <a:off x="2618280" y="1197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两只鸟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WordArt 2"/>
          <p:cNvSpPr txBox="1"/>
          <p:nvPr/>
        </p:nvSpPr>
        <p:spPr>
          <a:xfrm>
            <a:off x="684360" y="1557360"/>
            <a:ext cx="77752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仿佛听见了小河的流水声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2" name="Text Box 3"/>
          <p:cNvSpPr/>
          <p:nvPr/>
        </p:nvSpPr>
        <p:spPr>
          <a:xfrm>
            <a:off x="1333440" y="314172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WordArt 4"/>
          <p:cNvSpPr txBox="1"/>
          <p:nvPr/>
        </p:nvSpPr>
        <p:spPr>
          <a:xfrm>
            <a:off x="3059280" y="4221000"/>
            <a:ext cx="216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好像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304920" y="61531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WordArt 2"/>
          <p:cNvSpPr txBox="1"/>
          <p:nvPr/>
        </p:nvSpPr>
        <p:spPr>
          <a:xfrm>
            <a:off x="1116000" y="1989000"/>
            <a:ext cx="7056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相信自己，    能行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06" name="WordArt 3"/>
          <p:cNvSpPr txBox="1"/>
          <p:nvPr/>
        </p:nvSpPr>
        <p:spPr>
          <a:xfrm>
            <a:off x="4114800" y="1989000"/>
            <a:ext cx="21128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一定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2"/>
          <p:cNvSpPr/>
          <p:nvPr/>
        </p:nvSpPr>
        <p:spPr>
          <a:xfrm>
            <a:off x="2239200" y="1674720"/>
            <a:ext cx="4569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从树杈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取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下两只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小的鸟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凉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拿在手上真好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3" descr="两只鸟蛋3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0" name="Rectangle 4"/>
          <p:cNvSpPr/>
          <p:nvPr/>
        </p:nvSpPr>
        <p:spPr>
          <a:xfrm>
            <a:off x="4414680" y="2136600"/>
            <a:ext cx="4496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从树杈上取下两只鸟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小的鸟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凉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拿在手上真好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 Box 2"/>
          <p:cNvSpPr/>
          <p:nvPr/>
        </p:nvSpPr>
        <p:spPr>
          <a:xfrm>
            <a:off x="468360" y="189000"/>
            <a:ext cx="80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3"/>
          <p:cNvSpPr/>
          <p:nvPr/>
        </p:nvSpPr>
        <p:spPr>
          <a:xfrm>
            <a:off x="3637080" y="189000"/>
            <a:ext cx="424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凉凉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4"/>
          <p:cNvSpPr/>
          <p:nvPr/>
        </p:nvSpPr>
        <p:spPr>
          <a:xfrm>
            <a:off x="468360" y="2349360"/>
            <a:ext cx="80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3637080" y="2349360"/>
            <a:ext cx="424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小小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395280" y="4724280"/>
            <a:ext cx="80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3564000" y="4724280"/>
            <a:ext cx="424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圆圆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2"/>
          <p:cNvSpPr/>
          <p:nvPr/>
        </p:nvSpPr>
        <p:spPr>
          <a:xfrm>
            <a:off x="250920" y="1557360"/>
            <a:ext cx="8642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小路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小路</a:t>
            </a:r>
            <a:r>
              <a:rPr b="1" sz="10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3995640" y="2060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3635280" y="155736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</a:rPr>
              <a:t>长长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5"/>
          <p:cNvSpPr/>
          <p:nvPr/>
        </p:nvSpPr>
        <p:spPr>
          <a:xfrm>
            <a:off x="1258920" y="386064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</a:rPr>
              <a:t>长长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2"/>
          <p:cNvSpPr/>
          <p:nvPr/>
        </p:nvSpPr>
        <p:spPr>
          <a:xfrm>
            <a:off x="250920" y="1341360"/>
            <a:ext cx="8642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杨树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杨树</a:t>
            </a:r>
            <a:r>
              <a:rPr b="1" sz="10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3"/>
          <p:cNvSpPr/>
          <p:nvPr/>
        </p:nvSpPr>
        <p:spPr>
          <a:xfrm>
            <a:off x="3564000" y="1413000"/>
            <a:ext cx="41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高高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4"/>
          <p:cNvSpPr/>
          <p:nvPr/>
        </p:nvSpPr>
        <p:spPr>
          <a:xfrm>
            <a:off x="755640" y="364500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高高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2"/>
          <p:cNvSpPr/>
          <p:nvPr/>
        </p:nvSpPr>
        <p:spPr>
          <a:xfrm>
            <a:off x="755640" y="1674720"/>
            <a:ext cx="838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妈妈看见了，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两只鸟蛋就是两只小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鸟妈妈这会儿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定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焦急不安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" descr="ren-2 拷贝"/>
          <p:cNvPicPr/>
          <p:nvPr/>
        </p:nvPicPr>
        <p:blipFill>
          <a:blip r:embed="rId2"/>
          <a:stretch/>
        </p:blipFill>
        <p:spPr>
          <a:xfrm>
            <a:off x="3581280" y="1219320"/>
            <a:ext cx="5830920" cy="7048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未标题-4 拷贝"/>
          <p:cNvPicPr/>
          <p:nvPr/>
        </p:nvPicPr>
        <p:blipFill>
          <a:blip r:embed="rId3"/>
          <a:stretch/>
        </p:blipFill>
        <p:spPr>
          <a:xfrm>
            <a:off x="1905120" y="1523880"/>
            <a:ext cx="4767120" cy="6129360"/>
          </a:xfrm>
          <a:prstGeom prst="rect">
            <a:avLst/>
          </a:prstGeom>
          <a:ln w="0">
            <a:noFill/>
          </a:ln>
        </p:spPr>
      </p:pic>
      <p:sp>
        <p:nvSpPr>
          <p:cNvPr id="1128" name="AutoShape 5"/>
          <p:cNvSpPr/>
          <p:nvPr/>
        </p:nvSpPr>
        <p:spPr>
          <a:xfrm>
            <a:off x="4343400" y="1447920"/>
            <a:ext cx="4191120" cy="1904760"/>
          </a:xfrm>
          <a:prstGeom prst="cloudCallout">
            <a:avLst>
              <a:gd name="adj1" fmla="val -52310"/>
              <a:gd name="adj2" fmla="val 64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51814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7"/>
          <p:cNvSpPr/>
          <p:nvPr/>
        </p:nvSpPr>
        <p:spPr>
          <a:xfrm>
            <a:off x="4724280" y="1828800"/>
            <a:ext cx="38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只鸟蛋就是两只小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妈妈这会儿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一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焦急不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8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6" descr="BJ_001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133" name="Text Box 2"/>
          <p:cNvSpPr/>
          <p:nvPr/>
        </p:nvSpPr>
        <p:spPr>
          <a:xfrm>
            <a:off x="0" y="4762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妈妈看见了，说：两只鸟蛋就是两只小鸟，鸟妈妈这会儿一定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黑体"/>
              </a:rPr>
              <a:t>焦急不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焦急不安”你是怎样理解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092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18" descr="PM_001"/>
          <p:cNvPicPr/>
          <p:nvPr/>
        </p:nvPicPr>
        <p:blipFill>
          <a:blip r:embed="rId1"/>
          <a:stretch/>
        </p:blipFill>
        <p:spPr>
          <a:xfrm>
            <a:off x="-1473120" y="-312840"/>
            <a:ext cx="10893240" cy="7845480"/>
          </a:xfrm>
          <a:prstGeom prst="rect">
            <a:avLst/>
          </a:prstGeom>
          <a:ln w="0">
            <a:noFill/>
          </a:ln>
        </p:spPr>
      </p:pic>
      <p:sp>
        <p:nvSpPr>
          <p:cNvPr id="1070" name="Text Box 2"/>
          <p:cNvSpPr/>
          <p:nvPr/>
        </p:nvSpPr>
        <p:spPr>
          <a:xfrm>
            <a:off x="468360" y="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蛋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3"/>
          <p:cNvSpPr/>
          <p:nvPr/>
        </p:nvSpPr>
        <p:spPr>
          <a:xfrm>
            <a:off x="2965320" y="76320"/>
            <a:ext cx="144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4"/>
          <p:cNvSpPr/>
          <p:nvPr/>
        </p:nvSpPr>
        <p:spPr>
          <a:xfrm>
            <a:off x="4572000" y="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5"/>
          <p:cNvSpPr/>
          <p:nvPr/>
        </p:nvSpPr>
        <p:spPr>
          <a:xfrm>
            <a:off x="-896760" y="1628640"/>
            <a:ext cx="213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ì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6"/>
          <p:cNvSpPr/>
          <p:nvPr/>
        </p:nvSpPr>
        <p:spPr>
          <a:xfrm>
            <a:off x="1403280" y="155736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ě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7"/>
          <p:cNvSpPr/>
          <p:nvPr/>
        </p:nvSpPr>
        <p:spPr>
          <a:xfrm>
            <a:off x="3924360" y="170028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611280" y="3068640"/>
            <a:ext cx="167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5"/>
          <p:cNvSpPr/>
          <p:nvPr/>
        </p:nvSpPr>
        <p:spPr>
          <a:xfrm>
            <a:off x="5003640" y="2924280"/>
            <a:ext cx="144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13"/>
          <p:cNvSpPr/>
          <p:nvPr/>
        </p:nvSpPr>
        <p:spPr>
          <a:xfrm>
            <a:off x="2627280" y="299736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ă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684360" y="501336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ī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771640" y="4935600"/>
            <a:ext cx="167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ó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4500720" y="4935600"/>
            <a:ext cx="25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i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Picture 4" descr="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4" descr="t3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4" descr="t4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4" descr="t5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Picture 2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3" descr="01-2"/>
          <p:cNvPicPr/>
          <p:nvPr/>
        </p:nvPicPr>
        <p:blipFill>
          <a:blip r:embed="rId2"/>
          <a:stretch/>
        </p:blipFill>
        <p:spPr>
          <a:xfrm>
            <a:off x="1187280" y="1916280"/>
            <a:ext cx="6624720" cy="4572000"/>
          </a:xfrm>
          <a:prstGeom prst="rect">
            <a:avLst/>
          </a:prstGeom>
          <a:ln w="0">
            <a:noFill/>
          </a:ln>
        </p:spPr>
      </p:pic>
      <p:sp>
        <p:nvSpPr>
          <p:cNvPr id="1140" name="Text Box 4"/>
          <p:cNvSpPr/>
          <p:nvPr/>
        </p:nvSpPr>
        <p:spPr>
          <a:xfrm>
            <a:off x="11052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鸟出生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5"/>
          <p:cNvGrpSpPr/>
          <p:nvPr/>
        </p:nvGrpSpPr>
        <p:grpSpPr>
          <a:xfrm>
            <a:off x="3894120" y="2511360"/>
            <a:ext cx="2562840" cy="1623600"/>
            <a:chOff x="3894120" y="2511360"/>
            <a:chExt cx="2562840" cy="1623600"/>
          </a:xfrm>
        </p:grpSpPr>
        <p:sp>
          <p:nvSpPr>
            <p:cNvPr id="1142" name="Oval 6"/>
            <p:cNvSpPr/>
            <p:nvPr/>
          </p:nvSpPr>
          <p:spPr>
            <a:xfrm rot="14280600">
              <a:off x="4012560" y="2903760"/>
              <a:ext cx="1199160" cy="944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7"/>
            <p:cNvSpPr/>
            <p:nvPr/>
          </p:nvSpPr>
          <p:spPr>
            <a:xfrm flipH="1">
              <a:off x="5077080" y="2853720"/>
              <a:ext cx="574560" cy="36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8"/>
            <p:cNvSpPr/>
            <p:nvPr/>
          </p:nvSpPr>
          <p:spPr>
            <a:xfrm>
              <a:off x="5849640" y="2511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弟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9"/>
          <p:cNvGrpSpPr/>
          <p:nvPr/>
        </p:nvGrpSpPr>
        <p:grpSpPr>
          <a:xfrm>
            <a:off x="3330000" y="3325320"/>
            <a:ext cx="3096720" cy="1828440"/>
            <a:chOff x="3330000" y="3325320"/>
            <a:chExt cx="3096720" cy="1828440"/>
          </a:xfrm>
        </p:grpSpPr>
        <p:sp>
          <p:nvSpPr>
            <p:cNvPr id="1146" name="Oval 10"/>
            <p:cNvSpPr/>
            <p:nvPr/>
          </p:nvSpPr>
          <p:spPr>
            <a:xfrm rot="2070000">
              <a:off x="4816440" y="3600360"/>
              <a:ext cx="1368360" cy="1278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11"/>
            <p:cNvSpPr/>
            <p:nvPr/>
          </p:nvSpPr>
          <p:spPr>
            <a:xfrm flipV="1">
              <a:off x="3995640" y="4508280"/>
              <a:ext cx="863640" cy="216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12"/>
            <p:cNvSpPr/>
            <p:nvPr/>
          </p:nvSpPr>
          <p:spPr>
            <a:xfrm>
              <a:off x="3330000" y="438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哥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9" name="02.mid" descr=""/>
          <p:cNvPicPr/>
          <p:nvPr/>
        </p:nvPicPr>
        <p:blipFill>
          <a:blip r:embed="rId3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150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1" name="Picture 15" descr="FR_038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Picture 16" descr="02-2"/>
            <p:cNvPicPr/>
            <p:nvPr/>
          </p:nvPicPr>
          <p:blipFill>
            <a:blip r:embed="rId5"/>
            <a:stretch/>
          </p:blipFill>
          <p:spPr>
            <a:xfrm>
              <a:off x="1042920" y="1916280"/>
              <a:ext cx="7201080" cy="45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4" name="Picture 18" descr="FR_0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Picture 19" descr="04-2"/>
            <p:cNvPicPr/>
            <p:nvPr/>
          </p:nvPicPr>
          <p:blipFill>
            <a:blip r:embed="rId7"/>
            <a:stretch/>
          </p:blipFill>
          <p:spPr>
            <a:xfrm>
              <a:off x="1116000" y="1916280"/>
              <a:ext cx="70563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Text Box 20"/>
            <p:cNvSpPr/>
            <p:nvPr/>
          </p:nvSpPr>
          <p:spPr>
            <a:xfrm>
              <a:off x="931680" y="247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两天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8" name="Picture 22" descr="FR_038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Text Box 23"/>
            <p:cNvSpPr/>
            <p:nvPr/>
          </p:nvSpPr>
          <p:spPr>
            <a:xfrm>
              <a:off x="931680" y="247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九天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0" name="Picture 24" descr="07-2"/>
            <p:cNvPicPr/>
            <p:nvPr/>
          </p:nvPicPr>
          <p:blipFill>
            <a:blip r:embed="rId9"/>
            <a:stretch/>
          </p:blipFill>
          <p:spPr>
            <a:xfrm>
              <a:off x="1042920" y="1844640"/>
              <a:ext cx="7201080" cy="468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1" name="Group 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62" name="Picture 26" descr="FR_038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3" name="Text Box 27"/>
            <p:cNvSpPr/>
            <p:nvPr/>
          </p:nvSpPr>
          <p:spPr>
            <a:xfrm>
              <a:off x="1789560" y="18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鸟妈妈和鸟宝宝在一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4" name="Picture 28" descr="08-2"/>
            <p:cNvPicPr/>
            <p:nvPr/>
          </p:nvPicPr>
          <p:blipFill>
            <a:blip r:embed="rId11"/>
            <a:stretch/>
          </p:blipFill>
          <p:spPr>
            <a:xfrm>
              <a:off x="1116000" y="1844640"/>
              <a:ext cx="7056360" cy="460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5" name="Group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66" name="Picture 30" descr="FR_038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Text Box 31"/>
            <p:cNvSpPr/>
            <p:nvPr/>
          </p:nvSpPr>
          <p:spPr>
            <a:xfrm>
              <a:off x="801360" y="284040"/>
              <a:ext cx="121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天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8" name="Picture 32" descr="09-2"/>
            <p:cNvPicPr/>
            <p:nvPr/>
          </p:nvPicPr>
          <p:blipFill>
            <a:blip r:embed="rId13"/>
            <a:stretch/>
          </p:blipFill>
          <p:spPr>
            <a:xfrm>
              <a:off x="1042920" y="1916280"/>
              <a:ext cx="7201080" cy="45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9" name="Group 3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70" name="Picture 34" descr="FR_038"/>
            <p:cNvPicPr/>
            <p:nvPr/>
          </p:nvPicPr>
          <p:blipFill>
            <a:blip r:embed="rId1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Text Box 35"/>
            <p:cNvSpPr/>
            <p:nvPr/>
          </p:nvSpPr>
          <p:spPr>
            <a:xfrm>
              <a:off x="1014120" y="260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半个月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2" name="Picture 36" descr="10-2"/>
            <p:cNvPicPr/>
            <p:nvPr/>
          </p:nvPicPr>
          <p:blipFill>
            <a:blip r:embed="rId15"/>
            <a:stretch/>
          </p:blipFill>
          <p:spPr>
            <a:xfrm>
              <a:off x="1116000" y="1916280"/>
              <a:ext cx="7128000" cy="45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3" name="Group 3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74" name="Picture 38" descr="FR_038"/>
            <p:cNvPicPr/>
            <p:nvPr/>
          </p:nvPicPr>
          <p:blipFill>
            <a:blip r:embed="rId1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5" name="Text Box 39"/>
            <p:cNvSpPr/>
            <p:nvPr/>
          </p:nvSpPr>
          <p:spPr>
            <a:xfrm>
              <a:off x="801360" y="284040"/>
              <a:ext cx="121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天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Picture 40" descr="11-2"/>
            <p:cNvPicPr/>
            <p:nvPr/>
          </p:nvPicPr>
          <p:blipFill>
            <a:blip r:embed="rId17"/>
            <a:stretch/>
          </p:blipFill>
          <p:spPr>
            <a:xfrm>
              <a:off x="1042920" y="1844640"/>
              <a:ext cx="7201080" cy="468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Group 4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78" name="Picture 42" descr="FR_038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9" name="Text Box 43"/>
            <p:cNvSpPr/>
            <p:nvPr/>
          </p:nvSpPr>
          <p:spPr>
            <a:xfrm>
              <a:off x="801360" y="284040"/>
              <a:ext cx="121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天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0" name="Picture 44" descr="12-2"/>
            <p:cNvPicPr/>
            <p:nvPr/>
          </p:nvPicPr>
          <p:blipFill>
            <a:blip r:embed="rId19"/>
            <a:stretch/>
          </p:blipFill>
          <p:spPr>
            <a:xfrm>
              <a:off x="971640" y="1844640"/>
              <a:ext cx="7272360" cy="468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1" name="Group 45"/>
          <p:cNvGrpSpPr/>
          <p:nvPr/>
        </p:nvGrpSpPr>
        <p:grpSpPr>
          <a:xfrm>
            <a:off x="0" y="-6480"/>
            <a:ext cx="9144000" cy="6864120"/>
            <a:chOff x="0" y="-6480"/>
            <a:chExt cx="9144000" cy="6864120"/>
          </a:xfrm>
        </p:grpSpPr>
        <p:pic>
          <p:nvPicPr>
            <p:cNvPr id="1182" name="Picture 46" descr="FR_038"/>
            <p:cNvPicPr/>
            <p:nvPr/>
          </p:nvPicPr>
          <p:blipFill>
            <a:blip r:embed="rId20"/>
            <a:stretch/>
          </p:blipFill>
          <p:spPr>
            <a:xfrm>
              <a:off x="0" y="2520"/>
              <a:ext cx="9144000" cy="68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Text Box 47"/>
            <p:cNvSpPr/>
            <p:nvPr/>
          </p:nvSpPr>
          <p:spPr>
            <a:xfrm>
              <a:off x="2946960" y="-6480"/>
              <a:ext cx="2103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</a:rPr>
                <a:t>一个月啦</a:t>
              </a: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!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</a:rPr>
                <a:t>长成一只漂亮的小鸟了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4" name="Picture 48" descr="15-2"/>
            <p:cNvPicPr/>
            <p:nvPr/>
          </p:nvPicPr>
          <p:blipFill>
            <a:blip r:embed="rId21"/>
            <a:stretch/>
          </p:blipFill>
          <p:spPr>
            <a:xfrm>
              <a:off x="971640" y="1846800"/>
              <a:ext cx="7345440" cy="467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" fill="hold"/>
                                        <p:tgtEl>
                                          <p:spTgt spid="1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3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1" presetSubtype="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12">
                                  <p:stCondLst>
                                    <p:cond delay="28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8" presetSubtype="16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36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40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44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E9%B8%9F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3" descr="ren-2 拷贝"/>
          <p:cNvPicPr/>
          <p:nvPr/>
        </p:nvPicPr>
        <p:blipFill>
          <a:blip r:embed="rId2"/>
          <a:stretch/>
        </p:blipFill>
        <p:spPr>
          <a:xfrm>
            <a:off x="468360" y="1341360"/>
            <a:ext cx="4591080" cy="6210360"/>
          </a:xfrm>
          <a:prstGeom prst="rect">
            <a:avLst/>
          </a:prstGeom>
          <a:ln w="0">
            <a:noFill/>
          </a:ln>
        </p:spPr>
      </p:pic>
      <p:sp>
        <p:nvSpPr>
          <p:cNvPr id="1187" name="Oval 4"/>
          <p:cNvSpPr/>
          <p:nvPr/>
        </p:nvSpPr>
        <p:spPr>
          <a:xfrm flipV="1">
            <a:off x="2286000" y="464760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5"/>
          <p:cNvSpPr/>
          <p:nvPr/>
        </p:nvSpPr>
        <p:spPr>
          <a:xfrm>
            <a:off x="6400800" y="2514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4572000" y="213372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小心地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着鸟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连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走到树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Picture 2" descr="未标题-1 拷贝"/>
          <p:cNvPicPr/>
          <p:nvPr/>
        </p:nvPicPr>
        <p:blipFill>
          <a:blip r:embed="rId1"/>
          <a:stretch/>
        </p:blipFill>
        <p:spPr>
          <a:xfrm>
            <a:off x="0" y="-22536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1191" name="AutoShape 3"/>
          <p:cNvSpPr/>
          <p:nvPr/>
        </p:nvSpPr>
        <p:spPr>
          <a:xfrm>
            <a:off x="4572000" y="2819520"/>
            <a:ext cx="4038480" cy="838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4"/>
          <p:cNvSpPr/>
          <p:nvPr/>
        </p:nvSpPr>
        <p:spPr>
          <a:xfrm>
            <a:off x="4648320" y="2971800"/>
            <a:ext cx="3962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轻轻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鸟蛋送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 Box 2"/>
          <p:cNvSpPr/>
          <p:nvPr/>
        </p:nvSpPr>
        <p:spPr>
          <a:xfrm>
            <a:off x="914400" y="160020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3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4" descr="未标题-5 拷贝"/>
          <p:cNvPicPr/>
          <p:nvPr/>
        </p:nvPicPr>
        <p:blipFill>
          <a:blip r:embed="rId2"/>
          <a:stretch/>
        </p:blipFill>
        <p:spPr>
          <a:xfrm>
            <a:off x="1143000" y="-1596960"/>
            <a:ext cx="4343400" cy="6673680"/>
          </a:xfrm>
          <a:prstGeom prst="rect">
            <a:avLst/>
          </a:prstGeom>
          <a:ln w="0">
            <a:noFill/>
          </a:ln>
        </p:spPr>
      </p:pic>
      <p:sp>
        <p:nvSpPr>
          <p:cNvPr id="1197" name="AutoShape 5"/>
          <p:cNvSpPr/>
          <p:nvPr/>
        </p:nvSpPr>
        <p:spPr>
          <a:xfrm>
            <a:off x="4500720" y="404640"/>
            <a:ext cx="4679640" cy="3024360"/>
          </a:xfrm>
          <a:prstGeom prst="cloudCallout">
            <a:avLst>
              <a:gd name="adj1" fmla="val -9013"/>
              <a:gd name="adj2" fmla="val 76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6"/>
          <p:cNvSpPr/>
          <p:nvPr/>
        </p:nvSpPr>
        <p:spPr>
          <a:xfrm>
            <a:off x="4645080" y="122400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仿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见鸟儿的欢唱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头来，把目光投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远的蓝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9e4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Text Box 4"/>
          <p:cNvSpPr/>
          <p:nvPr/>
        </p:nvSpPr>
        <p:spPr>
          <a:xfrm>
            <a:off x="-586800" y="1052640"/>
            <a:ext cx="200916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看谁最聪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1692360" y="0"/>
            <a:ext cx="70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小鸟会为小男孩唱什么歌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1908000" y="1989000"/>
            <a:ext cx="66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鸟妈妈会为小男孩唱什么歌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8"/>
          <p:cNvSpPr/>
          <p:nvPr/>
        </p:nvSpPr>
        <p:spPr>
          <a:xfrm>
            <a:off x="1692360" y="3860640"/>
            <a:ext cx="74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你愿意像小男孩一样爱护可爱的小鸟吗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2"/>
          <p:cNvSpPr/>
          <p:nvPr/>
        </p:nvSpPr>
        <p:spPr>
          <a:xfrm>
            <a:off x="396720" y="1047240"/>
            <a:ext cx="8148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填空：   红红的    绿绿的     软软的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蓝蓝的    甜甜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草（　　　　　）　（          ）小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花儿（          ）   （　　　　　）花儿柳枝（　　　　　）（　　　）柳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西瓜（          ）          （          ）西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海（         ）        （           ）     大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2"/>
          <p:cNvSpPr/>
          <p:nvPr/>
        </p:nvSpPr>
        <p:spPr>
          <a:xfrm>
            <a:off x="539640" y="936720"/>
            <a:ext cx="860436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        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ŭ            liáng                    d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鸟蛋      取下     凉凉的      一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lián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qīng               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f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捧着       连忙    轻轻地      仿 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ái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c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   y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抬头       听见     欢唱         高 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óu x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投  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2" descr="998933xiaoniao2_00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05" name="Text Box 3"/>
          <p:cNvSpPr/>
          <p:nvPr/>
        </p:nvSpPr>
        <p:spPr>
          <a:xfrm>
            <a:off x="306360" y="333360"/>
            <a:ext cx="853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小鸟是美丽的，有了小鸟，我们的生活才更加美好。你能说一说怎样爱护小鸟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2" descr="BAS00243"/>
          <p:cNvPicPr/>
          <p:nvPr/>
        </p:nvPicPr>
        <p:blipFill>
          <a:blip r:embed="rId1"/>
          <a:stretch/>
        </p:blipFill>
        <p:spPr>
          <a:xfrm>
            <a:off x="-249120" y="0"/>
            <a:ext cx="9645480" cy="7029360"/>
          </a:xfrm>
          <a:prstGeom prst="rect">
            <a:avLst/>
          </a:prstGeom>
          <a:ln w="0">
            <a:noFill/>
          </a:ln>
        </p:spPr>
      </p:pic>
      <p:sp>
        <p:nvSpPr>
          <p:cNvPr id="1207" name="Rectangle 3"/>
          <p:cNvSpPr/>
          <p:nvPr/>
        </p:nvSpPr>
        <p:spPr>
          <a:xfrm>
            <a:off x="2771640" y="2349360"/>
            <a:ext cx="53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（　　　），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只鸟蛋（　　　　　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鸟妈妈这会儿（　　　　　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4"/>
          <p:cNvSpPr/>
          <p:nvPr/>
        </p:nvSpPr>
        <p:spPr>
          <a:xfrm>
            <a:off x="2700360" y="981000"/>
            <a:ext cx="53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从树杈上（     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小的（    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拿在手上（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5"/>
          <p:cNvSpPr/>
          <p:nvPr/>
        </p:nvSpPr>
        <p:spPr>
          <a:xfrm>
            <a:off x="270036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仿佛（　　　　　　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抬起头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目光（　　　　　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6"/>
          <p:cNvSpPr/>
          <p:nvPr/>
        </p:nvSpPr>
        <p:spPr>
          <a:xfrm>
            <a:off x="2771640" y="36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（　　　　　）鸟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忙（　　　　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轻轻地（　　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7"/>
          <p:cNvSpPr/>
          <p:nvPr/>
        </p:nvSpPr>
        <p:spPr>
          <a:xfrm>
            <a:off x="3557880" y="333360"/>
            <a:ext cx="15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只鸟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2" name="Picture 8" descr="小鸟"/>
          <p:cNvPicPr/>
          <p:nvPr/>
        </p:nvPicPr>
        <p:blipFill>
          <a:blip r:embed="rId2"/>
          <a:stretch/>
        </p:blipFill>
        <p:spPr>
          <a:xfrm>
            <a:off x="6948360" y="4724280"/>
            <a:ext cx="1244880" cy="1054080"/>
          </a:xfrm>
          <a:prstGeom prst="rect">
            <a:avLst/>
          </a:prstGeom>
          <a:ln w="0">
            <a:noFill/>
          </a:ln>
        </p:spPr>
      </p:pic>
      <p:sp>
        <p:nvSpPr>
          <p:cNvPr id="1213" name="WordArt 9"/>
          <p:cNvSpPr txBox="1"/>
          <p:nvPr/>
        </p:nvSpPr>
        <p:spPr>
          <a:xfrm rot="5400000">
            <a:off x="503280" y="1807560"/>
            <a:ext cx="215892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我会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1214" name="Text Box 10"/>
          <p:cNvSpPr/>
          <p:nvPr/>
        </p:nvSpPr>
        <p:spPr>
          <a:xfrm>
            <a:off x="1106640" y="65484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B8%9F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2"/>
          <p:cNvSpPr/>
          <p:nvPr/>
        </p:nvSpPr>
        <p:spPr>
          <a:xfrm>
            <a:off x="539640" y="936720"/>
            <a:ext cx="860436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        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ŭ            liáng                    d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鸟蛋      取下     凉凉的      一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lián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qīng               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f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捧着       连忙    轻轻地      仿 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ái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c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   y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抬头       听见     欢唱         高 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óu x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投  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3"/>
          <p:cNvSpPr/>
          <p:nvPr/>
        </p:nvSpPr>
        <p:spPr>
          <a:xfrm>
            <a:off x="826920" y="981000"/>
            <a:ext cx="7777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4"/>
          <p:cNvSpPr/>
          <p:nvPr/>
        </p:nvSpPr>
        <p:spPr>
          <a:xfrm>
            <a:off x="468360" y="2349360"/>
            <a:ext cx="806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"/>
          <p:cNvSpPr/>
          <p:nvPr/>
        </p:nvSpPr>
        <p:spPr>
          <a:xfrm>
            <a:off x="468360" y="3789360"/>
            <a:ext cx="828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"/>
          <p:cNvSpPr/>
          <p:nvPr/>
        </p:nvSpPr>
        <p:spPr>
          <a:xfrm>
            <a:off x="539640" y="5229360"/>
            <a:ext cx="194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月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WordArt 2"/>
          <p:cNvSpPr txBox="1"/>
          <p:nvPr/>
        </p:nvSpPr>
        <p:spPr>
          <a:xfrm>
            <a:off x="1042920" y="1125360"/>
            <a:ext cx="2371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取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2" name="WordArt 3"/>
          <p:cNvSpPr txBox="1"/>
          <p:nvPr/>
        </p:nvSpPr>
        <p:spPr>
          <a:xfrm>
            <a:off x="2416320" y="2395440"/>
            <a:ext cx="2371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捧着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3" name="WordArt 4"/>
          <p:cNvSpPr txBox="1"/>
          <p:nvPr/>
        </p:nvSpPr>
        <p:spPr>
          <a:xfrm>
            <a:off x="3568680" y="3619440"/>
            <a:ext cx="2371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抬头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4" name="WordArt 5"/>
          <p:cNvSpPr txBox="1"/>
          <p:nvPr/>
        </p:nvSpPr>
        <p:spPr>
          <a:xfrm>
            <a:off x="4932360" y="4915080"/>
            <a:ext cx="23716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投向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0.53294 L -0.00365 0.86589 E">
                                      <p:cBhvr>
                                        <p:cTn id="70" dur="2000" fill="hold"/>
                                        <p:tgtEl>
                                          <p:spTgt spid="10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42913 L -0.00416 0.76208 E">
                                      <p:cBhvr>
                                        <p:cTn id="74" dur="2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5087 L -0.00417 0.58382 E">
                                      <p:cBhvr>
                                        <p:cTn id="78" dur="20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82" dur="2000" fill="hold"/>
                                        <p:tgtEl>
                                          <p:spTgt spid="10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WordArt 2"/>
          <p:cNvSpPr txBox="1"/>
          <p:nvPr/>
        </p:nvSpPr>
        <p:spPr>
          <a:xfrm>
            <a:off x="3475080" y="1413000"/>
            <a:ext cx="1673280" cy="17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凉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6" name="WordArt 3"/>
          <p:cNvSpPr txBox="1"/>
          <p:nvPr/>
        </p:nvSpPr>
        <p:spPr>
          <a:xfrm>
            <a:off x="2698920" y="3419640"/>
            <a:ext cx="352872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冰、冷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WordArt 2" descr=""/>
          <p:cNvPicPr/>
          <p:nvPr/>
        </p:nvPicPr>
        <p:blipFill>
          <a:blip r:embed="rId1"/>
          <a:stretch/>
        </p:blipFill>
        <p:spPr>
          <a:xfrm>
            <a:off x="2987640" y="1835280"/>
            <a:ext cx="2962440" cy="1803240"/>
          </a:xfrm>
          <a:prstGeom prst="rect">
            <a:avLst/>
          </a:prstGeom>
          <a:ln w="0">
            <a:noFill/>
          </a:ln>
        </p:spPr>
      </p:pic>
      <p:sp>
        <p:nvSpPr>
          <p:cNvPr id="1098" name="WordArt 3"/>
          <p:cNvSpPr txBox="1"/>
          <p:nvPr/>
        </p:nvSpPr>
        <p:spPr>
          <a:xfrm>
            <a:off x="2279520" y="477216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鸟蛋、鸡蛋、鸭蛋、鹅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WordArt 2" descr=""/>
          <p:cNvPicPr/>
          <p:nvPr/>
        </p:nvPicPr>
        <p:blipFill>
          <a:blip r:embed="rId1"/>
          <a:stretch/>
        </p:blipFill>
        <p:spPr>
          <a:xfrm>
            <a:off x="1968480" y="2189160"/>
            <a:ext cx="3000240" cy="2359080"/>
          </a:xfrm>
          <a:prstGeom prst="rect">
            <a:avLst/>
          </a:prstGeom>
          <a:ln w="0">
            <a:noFill/>
          </a:ln>
        </p:spPr>
      </p:pic>
      <p:sp>
        <p:nvSpPr>
          <p:cNvPr id="1100" name="WordArt 3"/>
          <p:cNvSpPr txBox="1"/>
          <p:nvPr/>
        </p:nvSpPr>
        <p:spPr>
          <a:xfrm>
            <a:off x="5219640" y="2133720"/>
            <a:ext cx="122400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重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3:55:2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4:12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