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9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15236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773-D0CB-41B2-973B-93ADEB25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103694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6360" y="4046760"/>
            <a:ext cx="103694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EE3-A572-403F-A49A-6222905E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89960" y="177300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6360" y="404676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89960" y="404676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475-767B-4716-BA0D-12A83BCF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33386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82400" y="1773000"/>
            <a:ext cx="33386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88440" y="1773000"/>
            <a:ext cx="33386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6360" y="4046760"/>
            <a:ext cx="33386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82400" y="4046760"/>
            <a:ext cx="33386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588440" y="4046760"/>
            <a:ext cx="33386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6BD-3DE6-4824-900F-AEEECAD4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6360" y="1773000"/>
            <a:ext cx="1036944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242-59AB-4799-BAC3-21F002ED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10369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B61-505C-4F6F-8A49-704854D9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5060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89960" y="1773000"/>
            <a:ext cx="5060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4A1-ED5E-4BDF-B486-D95C3351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9B8-7E88-4030-B957-6661A3C4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6360" y="1118880"/>
            <a:ext cx="929952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88DE-8ABE-43E6-B4C2-DAD6C45F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89960" y="1773000"/>
            <a:ext cx="5060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360" y="404676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DEC-6967-4B8B-90DD-6576DEFB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5060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89960" y="177300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89960" y="404676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F43-E048-4AC1-9CFF-90501036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89960" y="177300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6360" y="4046760"/>
            <a:ext cx="103694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240-A0B2-4FE6-8A09-A1953300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-720"/>
            <a:ext cx="1152216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6360" y="1118880"/>
            <a:ext cx="9299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6360" y="1773000"/>
            <a:ext cx="10369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262626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6000" y="6356520"/>
            <a:ext cx="268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93D9-D59C-475E-A69B-427235C3E7E5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36960" y="6356520"/>
            <a:ext cx="3648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58040" y="6356520"/>
            <a:ext cx="26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5AF0-B3F4-4B20-8823-2B1F93B2A3C0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http://www.eeppt.com/beijing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beijing/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765000"/>
            <a:ext cx="11536200" cy="556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3571920" y="1413000"/>
            <a:ext cx="7950240" cy="89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3097080" y="2421000"/>
            <a:ext cx="8212320" cy="82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950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400" y="14130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毛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3" descr=""/>
          <p:cNvPicPr/>
          <p:nvPr/>
        </p:nvPicPr>
        <p:blipFill>
          <a:blip r:embed="rId1"/>
          <a:stretch/>
        </p:blipFill>
        <p:spPr>
          <a:xfrm>
            <a:off x="0" y="762120"/>
            <a:ext cx="11536200" cy="5546520"/>
          </a:xfrm>
          <a:prstGeom prst="rect">
            <a:avLst/>
          </a:prstGeom>
          <a:ln w="0">
            <a:noFill/>
          </a:ln>
        </p:spPr>
      </p:pic>
      <p:pic>
        <p:nvPicPr>
          <p:cNvPr id="50" name="流水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-28998720" y="3860640"/>
            <a:ext cx="40520880" cy="22147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71"/>
          <p:cNvSpPr/>
          <p:nvPr/>
        </p:nvSpPr>
        <p:spPr>
          <a:xfrm flipV="1">
            <a:off x="216000" y="4292640"/>
            <a:ext cx="22381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04" descr=""/>
          <p:cNvPicPr/>
          <p:nvPr/>
        </p:nvPicPr>
        <p:blipFill>
          <a:blip r:embed="rId3"/>
          <a:stretch/>
        </p:blipFill>
        <p:spPr>
          <a:xfrm>
            <a:off x="431640" y="3484440"/>
            <a:ext cx="2824200" cy="2824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4"/>
          <a:stretch/>
        </p:blipFill>
        <p:spPr>
          <a:xfrm>
            <a:off x="4321080" y="4869000"/>
            <a:ext cx="7419960" cy="884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5"/>
          <a:stretch/>
        </p:blipFill>
        <p:spPr>
          <a:xfrm>
            <a:off x="4476600" y="1484280"/>
            <a:ext cx="6469200" cy="32986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"/>
          <p:cNvSpPr/>
          <p:nvPr/>
        </p:nvSpPr>
        <p:spPr>
          <a:xfrm>
            <a:off x="216000" y="4292640"/>
            <a:ext cx="22381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-11160" y="722160"/>
            <a:ext cx="11533320" cy="556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-9360" y="2492280"/>
            <a:ext cx="3971880" cy="30304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54" descr=""/>
          <p:cNvPicPr/>
          <p:nvPr/>
        </p:nvPicPr>
        <p:blipFill>
          <a:blip r:embed="rId3"/>
          <a:stretch/>
        </p:blipFill>
        <p:spPr>
          <a:xfrm>
            <a:off x="3024360" y="220500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63" descr=""/>
          <p:cNvPicPr/>
          <p:nvPr/>
        </p:nvPicPr>
        <p:blipFill>
          <a:blip r:embed="rId4"/>
          <a:stretch/>
        </p:blipFill>
        <p:spPr>
          <a:xfrm>
            <a:off x="2736720" y="2955960"/>
            <a:ext cx="2092320" cy="194292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4"/>
          <p:cNvGrpSpPr/>
          <p:nvPr/>
        </p:nvGrpSpPr>
        <p:grpSpPr>
          <a:xfrm>
            <a:off x="6840360" y="2739960"/>
            <a:ext cx="1597320" cy="1582920"/>
            <a:chOff x="6840360" y="2739960"/>
            <a:chExt cx="1597320" cy="1582920"/>
          </a:xfrm>
        </p:grpSpPr>
        <p:sp>
          <p:nvSpPr>
            <p:cNvPr id="62" name="直接连接符 78"/>
            <p:cNvSpPr/>
            <p:nvPr/>
          </p:nvSpPr>
          <p:spPr>
            <a:xfrm>
              <a:off x="6840360" y="2739960"/>
              <a:ext cx="1584720" cy="1582920"/>
            </a:xfrm>
            <a:prstGeom prst="line">
              <a:avLst/>
            </a:prstGeom>
            <a:ln w="12600">
              <a:solidFill>
                <a:srgbClr val="cc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80"/>
            <p:cNvSpPr/>
            <p:nvPr/>
          </p:nvSpPr>
          <p:spPr>
            <a:xfrm flipH="1">
              <a:off x="6840360" y="2739960"/>
              <a:ext cx="1584720" cy="1582920"/>
            </a:xfrm>
            <a:prstGeom prst="line">
              <a:avLst/>
            </a:prstGeom>
            <a:ln w="12600">
              <a:solidFill>
                <a:srgbClr val="cc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82"/>
            <p:cNvSpPr/>
            <p:nvPr/>
          </p:nvSpPr>
          <p:spPr>
            <a:xfrm>
              <a:off x="6852960" y="3530520"/>
              <a:ext cx="1584720" cy="0"/>
            </a:xfrm>
            <a:prstGeom prst="line">
              <a:avLst/>
            </a:prstGeom>
            <a:ln w="12600">
              <a:solidFill>
                <a:srgbClr val="cc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83"/>
            <p:cNvSpPr/>
            <p:nvPr/>
          </p:nvSpPr>
          <p:spPr>
            <a:xfrm>
              <a:off x="7632720" y="2739960"/>
              <a:ext cx="0" cy="1582920"/>
            </a:xfrm>
            <a:prstGeom prst="line">
              <a:avLst/>
            </a:prstGeom>
            <a:ln w="12600">
              <a:solidFill>
                <a:srgbClr val="cc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64"/>
            <p:cNvSpPr/>
            <p:nvPr/>
          </p:nvSpPr>
          <p:spPr>
            <a:xfrm>
              <a:off x="6852240" y="2739960"/>
              <a:ext cx="1585440" cy="158292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方正启体简体"/>
                  <a:ea typeface="方正启体简体"/>
                </a:rPr>
                <a:t>合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753080" y="5373720"/>
            <a:ext cx="580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3" descr=""/>
          <p:cNvPicPr/>
          <p:nvPr/>
        </p:nvPicPr>
        <p:blipFill>
          <a:blip r:embed="rId1"/>
          <a:stretch/>
        </p:blipFill>
        <p:spPr>
          <a:xfrm>
            <a:off x="0" y="762120"/>
            <a:ext cx="11536200" cy="5546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6327720" y="1916280"/>
            <a:ext cx="519444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2"/>
          <p:cNvSpPr/>
          <p:nvPr/>
        </p:nvSpPr>
        <p:spPr>
          <a:xfrm>
            <a:off x="4147560" y="3259080"/>
            <a:ext cx="32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beijing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0" y="746280"/>
            <a:ext cx="11536200" cy="556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0" y="3062160"/>
            <a:ext cx="3255840" cy="3181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4"/>
          <a:stretch/>
        </p:blipFill>
        <p:spPr>
          <a:xfrm>
            <a:off x="7113600" y="-7920"/>
            <a:ext cx="4408560" cy="46609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2"/>
          <p:cNvSpPr/>
          <p:nvPr/>
        </p:nvSpPr>
        <p:spPr>
          <a:xfrm>
            <a:off x="216000" y="4292640"/>
            <a:ext cx="22381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6-23彩蛋小"/>
          <p:cNvPicPr/>
          <p:nvPr/>
        </p:nvPicPr>
        <p:blipFill>
          <a:blip r:embed="rId5"/>
          <a:stretch/>
        </p:blipFill>
        <p:spPr>
          <a:xfrm>
            <a:off x="9507600" y="5591160"/>
            <a:ext cx="509400" cy="50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0400" y="189000"/>
            <a:ext cx="10342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440" y="1269720"/>
            <a:ext cx="11249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9182160" y="333360"/>
            <a:ext cx="17510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AF51-7D03-44D8-8611-D98EDBC06BA0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1160" y="765000"/>
            <a:ext cx="11533320" cy="556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-3240" y="1197000"/>
            <a:ext cx="11531520" cy="4054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-3240" y="647640"/>
            <a:ext cx="11533320" cy="5562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7261200" y="765000"/>
            <a:ext cx="4260960" cy="4260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477720" y="2060640"/>
            <a:ext cx="1046808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06:2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23:00Z</dcterms:modified>
  <cp:revision>18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