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5"/>
          <p:cNvSpPr/>
          <p:nvPr/>
        </p:nvSpPr>
        <p:spPr>
          <a:xfrm>
            <a:off x="1789200" y="60040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图片 3" descr=""/>
          <p:cNvPicPr/>
          <p:nvPr/>
        </p:nvPicPr>
        <p:blipFill>
          <a:blip r:embed="rId1"/>
          <a:srcRect l="4419" t="-3326" r="6801" b="1391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38" name="TextBox 4"/>
          <p:cNvSpPr/>
          <p:nvPr/>
        </p:nvSpPr>
        <p:spPr>
          <a:xfrm>
            <a:off x="971640" y="113040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923c"/>
                </a:solidFill>
                <a:latin typeface="微软雅黑"/>
                <a:ea typeface="微软雅黑"/>
              </a:rPr>
              <a:t>人在旅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       </a:t>
            </a:r>
            <a:r>
              <a:rPr b="1" lang="en-US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心智成熟的旅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5"/>
          <p:cNvSpPr/>
          <p:nvPr/>
        </p:nvSpPr>
        <p:spPr>
          <a:xfrm>
            <a:off x="4427640" y="3451320"/>
            <a:ext cx="4626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1"/>
          <p:cNvSpPr/>
          <p:nvPr/>
        </p:nvSpPr>
        <p:spPr>
          <a:xfrm>
            <a:off x="2722320" y="1317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374760" y="387360"/>
            <a:ext cx="3578040" cy="5940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3708360" y="1197000"/>
            <a:ext cx="504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e36c09"/>
                </a:solidFill>
                <a:latin typeface="微软雅黑"/>
                <a:ea typeface="微软雅黑"/>
              </a:rPr>
              <a:t>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就是一个面对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并解决问题的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4211640" y="335772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解决人生问题的首要方案就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6c09"/>
                </a:solidFill>
                <a:latin typeface="微软雅黑"/>
                <a:ea typeface="微软雅黑"/>
              </a:rPr>
              <a:t>自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"/>
          <p:cNvPicPr/>
          <p:nvPr/>
        </p:nvPicPr>
        <p:blipFill>
          <a:blip r:embed="rId1"/>
          <a:srcRect l="0" t="0" r="3041" b="0"/>
          <a:stretch/>
        </p:blipFill>
        <p:spPr>
          <a:xfrm>
            <a:off x="277920" y="0"/>
            <a:ext cx="8866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449280" y="620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1729c"/>
                </a:solidFill>
                <a:latin typeface="微软雅黑"/>
                <a:ea typeface="微软雅黑"/>
              </a:rPr>
              <a:t>推迟满足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39640" y="436572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7c02b"/>
                </a:solidFill>
                <a:latin typeface="微软雅黑"/>
                <a:ea typeface="微软雅黑"/>
              </a:rPr>
              <a:t>保持平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23556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fd5df"/>
                </a:solidFill>
                <a:latin typeface="微软雅黑"/>
                <a:ea typeface="微软雅黑"/>
              </a:rPr>
              <a:t>承担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308640" y="4365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49df7"/>
                </a:solidFill>
                <a:latin typeface="微软雅黑"/>
                <a:ea typeface="微软雅黑"/>
              </a:rPr>
              <a:t>尊重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8"/>
          <p:cNvSpPr/>
          <p:nvPr/>
        </p:nvSpPr>
        <p:spPr>
          <a:xfrm>
            <a:off x="539640" y="1266840"/>
            <a:ext cx="2232000" cy="0"/>
          </a:xfrm>
          <a:prstGeom prst="line">
            <a:avLst/>
          </a:prstGeom>
          <a:ln w="28440">
            <a:solidFill>
              <a:srgbClr val="d172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66560" y="13399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贪图暂时的安逸，重新设置人生快乐与痛苦的次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1"/>
          <p:cNvSpPr/>
          <p:nvPr/>
        </p:nvSpPr>
        <p:spPr>
          <a:xfrm>
            <a:off x="6380280" y="1266840"/>
            <a:ext cx="2224080" cy="0"/>
          </a:xfrm>
          <a:prstGeom prst="line">
            <a:avLst/>
          </a:prstGeom>
          <a:ln w="28440">
            <a:solidFill>
              <a:srgbClr val="0fd5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6242040" y="1349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逃避责任的同时意味着我们放弃权利和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5"/>
          <p:cNvSpPr/>
          <p:nvPr/>
        </p:nvSpPr>
        <p:spPr>
          <a:xfrm>
            <a:off x="6459480" y="5011560"/>
            <a:ext cx="2217960" cy="0"/>
          </a:xfrm>
          <a:prstGeom prst="line">
            <a:avLst/>
          </a:prstGeom>
          <a:ln w="28440">
            <a:solidFill>
              <a:srgbClr val="649d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6380280" y="51325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一个人越是诚实、保持诚实就越是活得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7"/>
          <p:cNvSpPr/>
          <p:nvPr/>
        </p:nvSpPr>
        <p:spPr>
          <a:xfrm>
            <a:off x="647640" y="5011560"/>
            <a:ext cx="2268720" cy="0"/>
          </a:xfrm>
          <a:prstGeom prst="line">
            <a:avLst/>
          </a:prstGeom>
          <a:ln w="28440">
            <a:solidFill>
              <a:srgbClr val="c7c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539640" y="5132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保持平衡的最高原则就是放弃，适当放弃过去的自我，才能心智成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4067280" y="2552760"/>
            <a:ext cx="93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6c09"/>
                </a:solidFill>
                <a:latin typeface="微软雅黑"/>
                <a:ea typeface="微软雅黑"/>
              </a:rPr>
              <a:t>自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755640" y="907920"/>
            <a:ext cx="7921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什么是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，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是为了促进自我和他人心智成熟，而具有的一种自我完善的意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rcRect l="0" t="15798" r="0" b="12343"/>
          <a:stretch/>
        </p:blipFill>
        <p:spPr>
          <a:xfrm rot="479400">
            <a:off x="5971680" y="3470400"/>
            <a:ext cx="2854440" cy="273348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5"/>
          <p:cNvSpPr/>
          <p:nvPr/>
        </p:nvSpPr>
        <p:spPr>
          <a:xfrm>
            <a:off x="826920" y="4221000"/>
            <a:ext cx="4824720" cy="0"/>
          </a:xfrm>
          <a:prstGeom prst="line">
            <a:avLst/>
          </a:prstGeom>
          <a:ln w="284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758880" y="349236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爱与不爱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762120" y="4460760"/>
            <a:ext cx="547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意识思维和潜意识思维的目标是否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爱是长期和渐进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真正的爱，既是爱自己也是爱他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爱是自我完善，也是帮助他人完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209680" y="640080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rcRect l="19626" t="0" r="21486" b="0"/>
          <a:stretch/>
        </p:blipFill>
        <p:spPr>
          <a:xfrm>
            <a:off x="4505400" y="488880"/>
            <a:ext cx="4298760" cy="5686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77800" y="48276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的误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11280" y="13986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坠入情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755640" y="19731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是人类内在性的需求和外在性的刺激，意义在于增加人类生殖机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1"/>
          <p:cNvSpPr/>
          <p:nvPr/>
        </p:nvSpPr>
        <p:spPr>
          <a:xfrm>
            <a:off x="755640" y="200988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611280" y="25844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浪漫爱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755640" y="3159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实质是一种可怕的谎言，现实生活和浪漫爱情往往相去甚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8"/>
          <p:cNvSpPr/>
          <p:nvPr/>
        </p:nvSpPr>
        <p:spPr>
          <a:xfrm>
            <a:off x="755640" y="3193920"/>
            <a:ext cx="0" cy="57492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611280" y="37688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依赖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755640" y="43434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只是苦思如何获得他人的爱，甚至没有精力去爱别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1"/>
          <p:cNvSpPr/>
          <p:nvPr/>
        </p:nvSpPr>
        <p:spPr>
          <a:xfrm>
            <a:off x="755640" y="4379760"/>
            <a:ext cx="0" cy="57492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611280" y="49910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自我牺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755640" y="55656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核心动机是满足自我需求，不管为别人做什么，目的都是为了私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4"/>
          <p:cNvSpPr/>
          <p:nvPr/>
        </p:nvSpPr>
        <p:spPr>
          <a:xfrm>
            <a:off x="755640" y="560088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rcRect l="2736" t="0" r="2736" b="5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-3240" y="333360"/>
            <a:ext cx="9158400" cy="3659760"/>
          </a:xfrm>
          <a:prstGeom prst="rect">
            <a:avLst/>
          </a:prstGeom>
          <a:solidFill>
            <a:srgbClr val="f2f2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的风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50920" y="10764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死亡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395280" y="16509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敢正视死亡，就无法获得人生的真谛，无法理解什么是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7"/>
          <p:cNvSpPr/>
          <p:nvPr/>
        </p:nvSpPr>
        <p:spPr>
          <a:xfrm>
            <a:off x="395280" y="1687680"/>
            <a:ext cx="144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695840" y="10764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独立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4840200" y="16509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敢于追求独立自主，本身就是自尊自爱的体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0"/>
          <p:cNvSpPr/>
          <p:nvPr/>
        </p:nvSpPr>
        <p:spPr>
          <a:xfrm>
            <a:off x="4840200" y="168768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250920" y="22986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承诺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95280" y="28735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做出承诺，是真正的爱的基石之一，它可以给人带来安全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3"/>
          <p:cNvSpPr/>
          <p:nvPr/>
        </p:nvSpPr>
        <p:spPr>
          <a:xfrm>
            <a:off x="395280" y="2908440"/>
            <a:ext cx="144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4695840" y="22622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冲突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4840200" y="28368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富有爱心的人，既要尊重对方的独立性，又渴望给予对方爱的指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4840200" y="287352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rcRect l="3839" t="0" r="7608" b="0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13"/>
          <p:cNvSpPr/>
          <p:nvPr/>
        </p:nvSpPr>
        <p:spPr>
          <a:xfrm>
            <a:off x="6443640" y="2886840"/>
            <a:ext cx="2154240" cy="3993480"/>
          </a:xfrm>
          <a:prstGeom prst="rect">
            <a:avLst/>
          </a:prstGeom>
          <a:solidFill>
            <a:srgbClr val="f2f2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心智的成熟之旅艰苦卓绝，无论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思考还是行动，你都离不开</a:t>
            </a: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勇敢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进取、独立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的精神。即便有先知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告诫，你仍需</a:t>
            </a: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独自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前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8:1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9:19Z</dcterms:modified>
  <cp:revision>4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