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A45A-8445-4046-95C0-FBD8E123F4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BAA16-4B99-46EB-98CF-CBB9BCD5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1A28-12F0-4F5C-B76C-755E3CFC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2C23-B24B-454E-864B-D615538A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7981-B6AC-4A00-BD0C-AB84AF23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E8453-3101-4319-A088-8A49FE6A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A6706-4330-46C4-95F6-435A57B0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67BC-943B-4770-98EB-86CC4E74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F57AC-5B42-4668-9078-322BCD43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5C5BA-9977-4E32-83C4-5EF34CE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3CA2A-BE62-475D-B6C0-BA3E1C031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BEA0A-59AF-477B-9F17-B578E46EF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23E0-30A6-4CDB-8D48-111FF93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893ED-3EB7-4E1D-B965-0098951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205AF1-5895-4719-90EF-E7106D7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F09E7-EBCB-44FA-8AE9-69800ECA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7928C-3E8F-4000-AF2B-9852B42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94968-3B77-4363-AF90-CFAACAD2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06094-A22A-49D7-9DA9-554A6CD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FCAC2-2E34-433A-9778-01133ECF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087FF-84A5-43B9-944C-676B6E04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44ED3-A6AD-454C-A9A8-CC48FB36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498DC-3335-4EEA-AD51-94316C2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E74F-CC36-4FB1-B5BD-EA697C124C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20366-3114-42CB-AAAD-B53E33BF9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AAE214-1E90-4F1D-AFB9-F372A253D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34251B-B69E-4EE1-B204-3087AEC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2BD0FE-3E0D-47D1-9F93-22A408B1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69F2EA-8B99-4D0D-89C7-EDB0F87C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1F3526-3DC4-4D3B-8A54-722B564E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E4C00-762D-497D-8B77-659E3B03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EF87F-1FBA-4A2D-B06C-2B0F9ECB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DC729D-050A-41EF-81F9-A34D24CC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1B38DF-B5F9-4CCB-A0E9-BD01227B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894C4-91F7-40D4-94B5-9E6D0B13BE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A7DC4E-D23F-4E4D-AEBF-9402602D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B8A9CA-4DCB-4230-8602-04635F1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098A38-92A9-41C8-9217-61A7E14DFD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902F0-1F5D-4576-AF62-B675BF2575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4814-A530-4EEA-A548-C670C632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07195-2FBD-45FE-923D-8A0804FA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15B97-0671-43D4-914F-48D79FDE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BBB23-7B17-4FE5-83C0-99E4EBE9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014E0-1B31-4123-AC8E-E9C1482D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77A0-829F-4A6E-B5F6-6D1125A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BF6F8-14D0-4424-9559-D1226D0A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B26BE-CF9B-45A3-9193-F6E10AA8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2D941-0790-4279-A76F-5C0BFFE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68957-2D5A-401B-AA0A-AB1F3BA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D54B4-2B7D-4441-B1A3-E43D5627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D3824-7599-463D-938A-EF4443800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15CE2-7E12-49A1-91CD-197B31A3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F5903-A57A-44E3-9BB1-4E18392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EAD92-755E-41EE-AAE5-61B42EA1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48D3C-5D76-4127-93E8-43624657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6E6B8-A518-4C99-A6DB-78A11A5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34C81-32C2-4DB1-B9E4-3C494C84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EFD3C-FECA-4BC7-B1F2-D203832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0785B-097D-4C11-82B6-62FEF2C8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981E6-09F3-4C62-A034-4F75953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9BDC1-43E0-455F-B1D5-BC26A22A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B16EC-B00B-4596-B0DD-9D0F4ED546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283C-4F3A-4A99-90FC-3B744509B0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58F4-43EB-4B58-B545-1457CD1F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A3D7-DF88-484B-8DE2-A1299C57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C927-24A0-4888-9C2A-F3AC118A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817A-FD04-434C-A583-69DCFA0D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D724-AB36-46E4-BAC1-705495C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A55B-FAF2-4BB1-B7CA-0445F76C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F4AA-F17F-4EB4-A9CB-CE4ED1A2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6142-EEBF-407C-8F6D-2E8E56A5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DE3-FEC5-4979-B96A-B7D9187D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3630-0B36-4A77-9511-33ECEAD3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9583-A65B-4F72-B5E1-74FB1FA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8389-29B7-4462-B06E-5AE3E53251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B0216-F896-4B6A-8DCE-973AB2F66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B0DFA8-223E-4091-B6C5-31B265D6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EE10B-647B-42EA-91DD-93C580FB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B517-E4D5-4F71-B926-29C140E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3D009-9672-4999-AE29-EDC129EB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3FBC2-C0A0-4E9C-93AF-2D45DFD4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DCE58-477D-457C-9D25-7EF56A11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42D73-DF32-4319-96CD-BEEC73B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29904-FD5F-47C2-9323-E5A7B1C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AD4D8-9EDC-44BC-BBEE-444B5334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203B9-D43B-4BC2-959A-6A480B40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054CC-177D-4718-97AA-0DDCD7C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6447CF-8CD2-4699-B2A2-C9C4BCDAE6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4AF4A-5046-48AA-9362-123B36C189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739D-19BB-470B-900E-723E8F6F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A561A-F782-4C17-A8B8-70D8713E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2673E6-6A37-4ED9-806C-CB48CB2A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91538-68D0-4364-A116-94D8B300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F14FE-E69B-4FD0-AD65-912EEDD8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EC105-19CD-4B11-8436-E2949E05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3DF69-2B2D-4AE2-BB3C-3C34D24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95159-25EB-4913-B393-06A46807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0A891-9FB4-4FE8-AC90-5C0AB5B3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0B15B-0F78-4467-8DF0-FE4C6F5D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DC39F-09CF-4093-A31B-3E6F2887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7AF0-A560-4410-8922-7D4A9FC7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9BF87-9C37-49FA-ACAA-C182924C7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9FF1-6EE0-42C9-B30F-560E28D88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7D26-B3D3-4B5A-B48A-D22A8780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90546-6424-4DA4-9480-E0D4AE76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C8D68-3CB7-47FF-A692-77227E7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1E17-EBAA-403F-856C-9EC408C6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2289-9266-4CD2-9AE6-567C1704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997F-DC13-4C6E-8F35-76B070C8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39F80-B24C-4338-A773-77725F85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5501-32DA-43FF-BA7C-654CC09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AB51-AA19-4D03-95B3-E7878FA8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6F9E-41E6-49A9-B32C-60D0259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D55D-2049-4CAF-A9C9-FE00DB7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86B3-67C0-4CB4-A9D0-9815BA6E6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47605-1E84-472C-91E9-19538A763E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98058-80D2-4E66-9F76-3649664F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A3D3B-C21E-4EE9-AA4F-C3A25938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B249E-F7B2-42E3-A046-491D090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1E911-6C4F-4D24-9F40-2279361D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28CFF-24CA-4FEF-8F4A-1E2278AA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ABA68-E9FB-451A-A240-5E5B52D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137C-A3A5-4CF5-8A9F-A0D416BE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5ED27-10BA-4437-BFC0-0501640F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D164E-E8EC-4B42-B1DC-0C9C8D34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BF80C-5847-46E5-8E48-07BAA5A2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1DEB3-0650-4630-AFA4-838C9E2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738D3-5069-47AB-85C9-B17F5BB14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1FFD1E-7F36-4043-8CAD-E4FCB7C0A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9AC8F-DA74-4CDA-A7CB-27A35A5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69A01C-54E7-4859-B510-9320FD6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6FF22-C9CD-45BA-9431-4A872A69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AE705-F13E-4B3F-855F-A75017A1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D9042-3D62-4EAB-A089-ADFC0673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2F9622-DC12-4F42-B372-392DDBAC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2B07F-C17C-43B3-8BFD-ACE8701D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C16048-6F72-4D1E-9DB4-1722615A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B4FE5-3502-442D-B585-4089920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46F778-EEEF-4914-BB4A-623842E9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C63519-D000-4AB5-AF12-E052C126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0A507A-41DE-49B4-AEBD-128A04FEB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26FDC-1F68-47D8-A61C-2F1829C5FE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89A9-965A-4506-B43C-0434AC4C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EF837-2621-4A72-9570-589E13A1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CB70-A5EE-4F87-9844-0F3C1DEDCDF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470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476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9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0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83E7-E158-4FFA-9FC1-6C332E59AB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22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528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2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FC89-4F3C-4C1C-B9B3-5F080770FAB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7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58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31C-6CD2-4358-BCB5-C6516F6EE8C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6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38C1-DFF2-4F32-80D7-9AB47452AD0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106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2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5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891-1BBD-4045-92B1-70F38EF0DB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158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64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6AF8-D994-4548-B58F-4DE568BF93B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210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216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9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0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0E2-7F97-4319-A4A7-16D655C886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262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268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2F6-8F9E-49BA-9AA9-EF1A1F2D77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31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32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2D7-1AF7-467F-AC46-460C9E4B6DF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366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372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16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F8B5-4628-4845-B3F3-C5D35336A42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418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424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7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F87-C0DA-4C0F-9E4B-C4DC11554FD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1" descr="A"/>
          <p:cNvPicPr/>
          <p:nvPr/>
        </p:nvPicPr>
        <p:blipFill>
          <a:blip r:embed="rId2"/>
          <a:srcRect l="2265" t="0" r="1225" b="0"/>
          <a:stretch/>
        </p:blipFill>
        <p:spPr>
          <a:xfrm>
            <a:off x="0" y="1295280"/>
            <a:ext cx="3825720" cy="954432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69"/>
          <p:cNvGrpSpPr/>
          <p:nvPr/>
        </p:nvGrpSpPr>
        <p:grpSpPr>
          <a:xfrm>
            <a:off x="5876640" y="3733920"/>
            <a:ext cx="3267000" cy="3133080"/>
            <a:chOff x="5876640" y="3733920"/>
            <a:chExt cx="3267000" cy="3133080"/>
          </a:xfrm>
        </p:grpSpPr>
        <p:pic>
          <p:nvPicPr>
            <p:cNvPr id="626" name="Picture 70" descr="artplus_nature_naturalcity38_g"/>
            <p:cNvPicPr/>
            <p:nvPr/>
          </p:nvPicPr>
          <p:blipFill>
            <a:blip r:embed="rId3">
              <a:grayscl/>
            </a:blip>
            <a:stretch/>
          </p:blipFill>
          <p:spPr>
            <a:xfrm flipH="1">
              <a:off x="5878800" y="3736800"/>
              <a:ext cx="3264840" cy="31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Freeform 71"/>
            <p:cNvSpPr/>
            <p:nvPr/>
          </p:nvSpPr>
          <p:spPr>
            <a:xfrm flipH="1">
              <a:off x="5876280" y="3733920"/>
              <a:ext cx="3267000" cy="3116520"/>
            </a:xfrm>
            <a:custGeom>
              <a:avLst/>
              <a:gdLst>
                <a:gd name="textAreaLeft" fmla="*/ -360 w 3267000"/>
                <a:gd name="textAreaRight" fmla="*/ 3267000 w 326700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2832" h="2973">
                  <a:moveTo>
                    <a:pt x="0" y="957"/>
                  </a:moveTo>
                  <a:lnTo>
                    <a:pt x="189" y="690"/>
                  </a:lnTo>
                  <a:lnTo>
                    <a:pt x="412" y="409"/>
                  </a:lnTo>
                  <a:lnTo>
                    <a:pt x="575" y="563"/>
                  </a:lnTo>
                  <a:lnTo>
                    <a:pt x="722" y="632"/>
                  </a:lnTo>
                  <a:lnTo>
                    <a:pt x="720" y="795"/>
                  </a:lnTo>
                  <a:lnTo>
                    <a:pt x="849" y="785"/>
                  </a:lnTo>
                  <a:lnTo>
                    <a:pt x="846" y="716"/>
                  </a:lnTo>
                  <a:lnTo>
                    <a:pt x="974" y="633"/>
                  </a:lnTo>
                  <a:lnTo>
                    <a:pt x="1133" y="710"/>
                  </a:lnTo>
                  <a:lnTo>
                    <a:pt x="1130" y="770"/>
                  </a:lnTo>
                  <a:lnTo>
                    <a:pt x="1209" y="768"/>
                  </a:lnTo>
                  <a:lnTo>
                    <a:pt x="1200" y="45"/>
                  </a:lnTo>
                  <a:lnTo>
                    <a:pt x="1589" y="0"/>
                  </a:lnTo>
                  <a:lnTo>
                    <a:pt x="1868" y="68"/>
                  </a:lnTo>
                  <a:lnTo>
                    <a:pt x="1902" y="1049"/>
                  </a:lnTo>
                  <a:lnTo>
                    <a:pt x="1938" y="999"/>
                  </a:lnTo>
                  <a:lnTo>
                    <a:pt x="1965" y="989"/>
                  </a:lnTo>
                  <a:lnTo>
                    <a:pt x="2037" y="866"/>
                  </a:lnTo>
                  <a:lnTo>
                    <a:pt x="2154" y="864"/>
                  </a:lnTo>
                  <a:lnTo>
                    <a:pt x="2268" y="897"/>
                  </a:lnTo>
                  <a:lnTo>
                    <a:pt x="2232" y="960"/>
                  </a:lnTo>
                  <a:lnTo>
                    <a:pt x="2369" y="977"/>
                  </a:lnTo>
                  <a:lnTo>
                    <a:pt x="2369" y="1038"/>
                  </a:lnTo>
                  <a:lnTo>
                    <a:pt x="2394" y="1049"/>
                  </a:lnTo>
                  <a:lnTo>
                    <a:pt x="2402" y="1098"/>
                  </a:lnTo>
                  <a:lnTo>
                    <a:pt x="2420" y="1112"/>
                  </a:lnTo>
                  <a:lnTo>
                    <a:pt x="2427" y="1229"/>
                  </a:lnTo>
                  <a:lnTo>
                    <a:pt x="2457" y="1262"/>
                  </a:lnTo>
                  <a:lnTo>
                    <a:pt x="2448" y="1629"/>
                  </a:lnTo>
                  <a:lnTo>
                    <a:pt x="2544" y="1581"/>
                  </a:lnTo>
                  <a:lnTo>
                    <a:pt x="2688" y="1821"/>
                  </a:lnTo>
                  <a:lnTo>
                    <a:pt x="2832" y="2973"/>
                  </a:lnTo>
                  <a:lnTo>
                    <a:pt x="0" y="2973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7e760c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38"/>
          <p:cNvGrpSpPr/>
          <p:nvPr/>
        </p:nvGrpSpPr>
        <p:grpSpPr>
          <a:xfrm>
            <a:off x="5410080" y="2060640"/>
            <a:ext cx="1279440" cy="1279440"/>
            <a:chOff x="5410080" y="2060640"/>
            <a:chExt cx="1279440" cy="1279440"/>
          </a:xfrm>
        </p:grpSpPr>
        <p:sp>
          <p:nvSpPr>
            <p:cNvPr id="629" name="Oval 12"/>
            <p:cNvSpPr/>
            <p:nvPr/>
          </p:nvSpPr>
          <p:spPr>
            <a:xfrm>
              <a:off x="5410080" y="20606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1"/>
            <p:cNvSpPr/>
            <p:nvPr/>
          </p:nvSpPr>
          <p:spPr>
            <a:xfrm>
              <a:off x="5421240" y="25495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37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32" name="Oval 16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2"/>
            <p:cNvSpPr/>
            <p:nvPr/>
          </p:nvSpPr>
          <p:spPr>
            <a:xfrm>
              <a:off x="6900840" y="1119600"/>
              <a:ext cx="171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No.1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8"/>
          <p:cNvSpPr/>
          <p:nvPr/>
        </p:nvSpPr>
        <p:spPr>
          <a:xfrm>
            <a:off x="3809880" y="2438280"/>
            <a:ext cx="19080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4038480" y="2133720"/>
            <a:ext cx="3430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0"/>
          <p:cNvSpPr/>
          <p:nvPr/>
        </p:nvSpPr>
        <p:spPr>
          <a:xfrm>
            <a:off x="4572000" y="205740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6"/>
          <p:cNvGrpSpPr/>
          <p:nvPr/>
        </p:nvGrpSpPr>
        <p:grpSpPr>
          <a:xfrm>
            <a:off x="5410080" y="2057400"/>
            <a:ext cx="1279440" cy="1279440"/>
            <a:chOff x="5410080" y="2057400"/>
            <a:chExt cx="1279440" cy="1279440"/>
          </a:xfrm>
        </p:grpSpPr>
        <p:sp>
          <p:nvSpPr>
            <p:cNvPr id="638" name="Oval 43"/>
            <p:cNvSpPr/>
            <p:nvPr/>
          </p:nvSpPr>
          <p:spPr>
            <a:xfrm>
              <a:off x="5410080" y="20574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45" descr="drop"/>
            <p:cNvPicPr/>
            <p:nvPr/>
          </p:nvPicPr>
          <p:blipFill>
            <a:blip r:embed="rId5"/>
            <a:stretch/>
          </p:blipFill>
          <p:spPr>
            <a:xfrm>
              <a:off x="5416560" y="20606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73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41" name="Oval 44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2" name="Picture 47" descr="drop"/>
            <p:cNvPicPr/>
            <p:nvPr/>
          </p:nvPicPr>
          <p:blipFill>
            <a:blip r:embed="rId7">
              <a:lum contrast="30000"/>
            </a:blip>
            <a:stretch/>
          </p:blipFill>
          <p:spPr>
            <a:xfrm>
              <a:off x="6644880" y="473040"/>
              <a:ext cx="2254320" cy="21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WordArt 5"/>
          <p:cNvSpPr txBox="1"/>
          <p:nvPr/>
        </p:nvSpPr>
        <p:spPr>
          <a:xfrm>
            <a:off x="2460600" y="4191120"/>
            <a:ext cx="50832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PowerTemplat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364840" y="50288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fbb426"/>
              </a:solidFill>
              <a:latin typeface="Arial"/>
              <a:ea typeface="Gulim"/>
            </a:endParaRPr>
          </a:p>
        </p:txBody>
      </p:sp>
      <p:sp>
        <p:nvSpPr>
          <p:cNvPr id="645" name="矩形 1"/>
          <p:cNvSpPr/>
          <p:nvPr/>
        </p:nvSpPr>
        <p:spPr>
          <a:xfrm>
            <a:off x="2364840" y="6602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66"/>
          <p:cNvSpPr/>
          <p:nvPr/>
        </p:nvSpPr>
        <p:spPr>
          <a:xfrm>
            <a:off x="1917720" y="52941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5"/>
          <p:cNvSpPr/>
          <p:nvPr/>
        </p:nvSpPr>
        <p:spPr>
          <a:xfrm>
            <a:off x="1917720" y="457200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4"/>
          <p:cNvSpPr/>
          <p:nvPr/>
        </p:nvSpPr>
        <p:spPr>
          <a:xfrm>
            <a:off x="1917720" y="38289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67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3"/>
          <p:cNvSpPr/>
          <p:nvPr/>
        </p:nvSpPr>
        <p:spPr>
          <a:xfrm>
            <a:off x="1917720" y="310680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1"/>
          <p:cNvSpPr/>
          <p:nvPr/>
        </p:nvSpPr>
        <p:spPr>
          <a:xfrm>
            <a:off x="1917720" y="23637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a9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ontents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653" name="Group 39"/>
          <p:cNvGrpSpPr/>
          <p:nvPr/>
        </p:nvGrpSpPr>
        <p:grpSpPr>
          <a:xfrm>
            <a:off x="1838160" y="2346480"/>
            <a:ext cx="524160" cy="526680"/>
            <a:chOff x="1838160" y="2346480"/>
            <a:chExt cx="524160" cy="526680"/>
          </a:xfrm>
        </p:grpSpPr>
        <p:sp>
          <p:nvSpPr>
            <p:cNvPr id="654" name="Oval 34"/>
            <p:cNvSpPr/>
            <p:nvPr/>
          </p:nvSpPr>
          <p:spPr>
            <a:xfrm>
              <a:off x="1838160" y="2347560"/>
              <a:ext cx="524160" cy="52560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Picture 38" descr="drop"/>
            <p:cNvPicPr/>
            <p:nvPr/>
          </p:nvPicPr>
          <p:blipFill>
            <a:blip r:embed="rId2"/>
            <a:stretch/>
          </p:blipFill>
          <p:spPr>
            <a:xfrm>
              <a:off x="1838520" y="2346480"/>
              <a:ext cx="52020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Text Box 35"/>
          <p:cNvSpPr/>
          <p:nvPr/>
        </p:nvSpPr>
        <p:spPr>
          <a:xfrm>
            <a:off x="1884240" y="231444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59"/>
          <p:cNvGrpSpPr/>
          <p:nvPr/>
        </p:nvGrpSpPr>
        <p:grpSpPr>
          <a:xfrm>
            <a:off x="1838160" y="3089160"/>
            <a:ext cx="523800" cy="527040"/>
            <a:chOff x="1838160" y="3089160"/>
            <a:chExt cx="523800" cy="527040"/>
          </a:xfrm>
        </p:grpSpPr>
        <p:sp>
          <p:nvSpPr>
            <p:cNvPr id="658" name="Oval 41"/>
            <p:cNvSpPr/>
            <p:nvPr/>
          </p:nvSpPr>
          <p:spPr>
            <a:xfrm>
              <a:off x="1838160" y="3090600"/>
              <a:ext cx="523800" cy="52560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Picture 42" descr="drop"/>
            <p:cNvPicPr/>
            <p:nvPr/>
          </p:nvPicPr>
          <p:blipFill>
            <a:blip r:embed="rId3"/>
            <a:stretch/>
          </p:blipFill>
          <p:spPr>
            <a:xfrm>
              <a:off x="1841400" y="308916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Text Box 43"/>
          <p:cNvSpPr/>
          <p:nvPr/>
        </p:nvSpPr>
        <p:spPr>
          <a:xfrm>
            <a:off x="1889280" y="3057480"/>
            <a:ext cx="3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58"/>
          <p:cNvGrpSpPr/>
          <p:nvPr/>
        </p:nvGrpSpPr>
        <p:grpSpPr>
          <a:xfrm>
            <a:off x="1838160" y="3811680"/>
            <a:ext cx="523800" cy="527040"/>
            <a:chOff x="1838160" y="3811680"/>
            <a:chExt cx="523800" cy="527040"/>
          </a:xfrm>
        </p:grpSpPr>
        <p:sp>
          <p:nvSpPr>
            <p:cNvPr id="662" name="Oval 45"/>
            <p:cNvSpPr/>
            <p:nvPr/>
          </p:nvSpPr>
          <p:spPr>
            <a:xfrm>
              <a:off x="1838160" y="3813120"/>
              <a:ext cx="523800" cy="52560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46" descr="drop"/>
            <p:cNvPicPr/>
            <p:nvPr/>
          </p:nvPicPr>
          <p:blipFill>
            <a:blip r:embed="rId4"/>
            <a:stretch/>
          </p:blipFill>
          <p:spPr>
            <a:xfrm>
              <a:off x="1841400" y="381168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Text Box 47"/>
          <p:cNvSpPr/>
          <p:nvPr/>
        </p:nvSpPr>
        <p:spPr>
          <a:xfrm>
            <a:off x="1892160" y="3780000"/>
            <a:ext cx="3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7"/>
          <p:cNvGrpSpPr/>
          <p:nvPr/>
        </p:nvGrpSpPr>
        <p:grpSpPr>
          <a:xfrm>
            <a:off x="1838160" y="4554360"/>
            <a:ext cx="523800" cy="527040"/>
            <a:chOff x="1838160" y="4554360"/>
            <a:chExt cx="523800" cy="527040"/>
          </a:xfrm>
        </p:grpSpPr>
        <p:sp>
          <p:nvSpPr>
            <p:cNvPr id="666" name="Oval 49"/>
            <p:cNvSpPr/>
            <p:nvPr/>
          </p:nvSpPr>
          <p:spPr>
            <a:xfrm>
              <a:off x="1838160" y="4555800"/>
              <a:ext cx="523800" cy="525600"/>
            </a:xfrm>
            <a:prstGeom prst="ellipse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Picture 50" descr="drop"/>
            <p:cNvPicPr/>
            <p:nvPr/>
          </p:nvPicPr>
          <p:blipFill>
            <a:blip r:embed="rId5"/>
            <a:stretch/>
          </p:blipFill>
          <p:spPr>
            <a:xfrm>
              <a:off x="1841400" y="455436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Text Box 51"/>
          <p:cNvSpPr/>
          <p:nvPr/>
        </p:nvSpPr>
        <p:spPr>
          <a:xfrm>
            <a:off x="1884240" y="452268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56"/>
          <p:cNvGrpSpPr/>
          <p:nvPr/>
        </p:nvGrpSpPr>
        <p:grpSpPr>
          <a:xfrm>
            <a:off x="1838160" y="5275440"/>
            <a:ext cx="523800" cy="527040"/>
            <a:chOff x="1838160" y="5275440"/>
            <a:chExt cx="523800" cy="527040"/>
          </a:xfrm>
        </p:grpSpPr>
        <p:sp>
          <p:nvSpPr>
            <p:cNvPr id="670" name="Oval 53"/>
            <p:cNvSpPr/>
            <p:nvPr/>
          </p:nvSpPr>
          <p:spPr>
            <a:xfrm>
              <a:off x="1838160" y="5276880"/>
              <a:ext cx="523800" cy="52560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Picture 54" descr="drop"/>
            <p:cNvPicPr/>
            <p:nvPr/>
          </p:nvPicPr>
          <p:blipFill>
            <a:blip r:embed="rId6"/>
            <a:stretch/>
          </p:blipFill>
          <p:spPr>
            <a:xfrm>
              <a:off x="1841400" y="527544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 Box 55"/>
          <p:cNvSpPr/>
          <p:nvPr/>
        </p:nvSpPr>
        <p:spPr>
          <a:xfrm>
            <a:off x="1884240" y="524340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2"/>
          <p:cNvSpPr/>
          <p:nvPr/>
        </p:nvSpPr>
        <p:spPr>
          <a:xfrm>
            <a:off x="2413080" y="238428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7"/>
          <p:cNvSpPr/>
          <p:nvPr/>
        </p:nvSpPr>
        <p:spPr>
          <a:xfrm>
            <a:off x="2413080" y="31273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8"/>
          <p:cNvSpPr/>
          <p:nvPr/>
        </p:nvSpPr>
        <p:spPr>
          <a:xfrm>
            <a:off x="2413080" y="384984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9"/>
          <p:cNvSpPr/>
          <p:nvPr/>
        </p:nvSpPr>
        <p:spPr>
          <a:xfrm>
            <a:off x="2413080" y="45943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0"/>
          <p:cNvSpPr/>
          <p:nvPr/>
        </p:nvSpPr>
        <p:spPr>
          <a:xfrm>
            <a:off x="2413080" y="531648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7f61"/>
                </a:solidFill>
                <a:uFillTx/>
                <a:latin typeface="Arial"/>
                <a:ea typeface="宋体"/>
                <a:hlinkClick r:id="rId7"/>
              </a:rPr>
              <a:t>ppt图片素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6149880" y="2340000"/>
            <a:ext cx="45576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4"/>
          <p:cNvSpPr/>
          <p:nvPr/>
        </p:nvSpPr>
        <p:spPr>
          <a:xfrm>
            <a:off x="6162840" y="3505320"/>
            <a:ext cx="45540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5"/>
          <p:cNvSpPr/>
          <p:nvPr/>
        </p:nvSpPr>
        <p:spPr>
          <a:xfrm>
            <a:off x="6149880" y="4729320"/>
            <a:ext cx="45576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380880" y="44956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7"/>
          <p:cNvGrpSpPr/>
          <p:nvPr/>
        </p:nvGrpSpPr>
        <p:grpSpPr>
          <a:xfrm>
            <a:off x="4330800" y="1577880"/>
            <a:ext cx="4051080" cy="914400"/>
            <a:chOff x="4330800" y="1577880"/>
            <a:chExt cx="4051080" cy="914400"/>
          </a:xfrm>
        </p:grpSpPr>
        <p:sp>
          <p:nvSpPr>
            <p:cNvPr id="685" name="Rectangle 8"/>
            <p:cNvSpPr/>
            <p:nvPr/>
          </p:nvSpPr>
          <p:spPr>
            <a:xfrm>
              <a:off x="4330800" y="1577880"/>
              <a:ext cx="4051080" cy="914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9"/>
            <p:cNvSpPr/>
            <p:nvPr/>
          </p:nvSpPr>
          <p:spPr>
            <a:xfrm>
              <a:off x="4341600" y="1587240"/>
              <a:ext cx="4025520" cy="416160"/>
            </a:xfrm>
            <a:prstGeom prst="rect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"/>
            <p:cNvSpPr/>
            <p:nvPr/>
          </p:nvSpPr>
          <p:spPr>
            <a:xfrm>
              <a:off x="4343040" y="19843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44a8cc"/>
                </a:gs>
                <a:gs pos="100000">
                  <a:srgbClr val="8cc9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11"/>
          <p:cNvSpPr/>
          <p:nvPr/>
        </p:nvSpPr>
        <p:spPr>
          <a:xfrm>
            <a:off x="4711680" y="21114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4343400" y="2749680"/>
            <a:ext cx="4051440" cy="914400"/>
            <a:chOff x="4343400" y="2749680"/>
            <a:chExt cx="4051440" cy="914400"/>
          </a:xfrm>
        </p:grpSpPr>
        <p:sp>
          <p:nvSpPr>
            <p:cNvPr id="690" name="Rectangle 13"/>
            <p:cNvSpPr/>
            <p:nvPr/>
          </p:nvSpPr>
          <p:spPr>
            <a:xfrm>
              <a:off x="4343400" y="27496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4"/>
            <p:cNvSpPr/>
            <p:nvPr/>
          </p:nvSpPr>
          <p:spPr>
            <a:xfrm>
              <a:off x="4354560" y="2759040"/>
              <a:ext cx="4025880" cy="425520"/>
            </a:xfrm>
            <a:prstGeom prst="rect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4356000" y="315612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2a9f84"/>
                </a:gs>
                <a:gs pos="100000">
                  <a:srgbClr val="7dc5b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6"/>
          <p:cNvSpPr/>
          <p:nvPr/>
        </p:nvSpPr>
        <p:spPr>
          <a:xfrm>
            <a:off x="4711680" y="32688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7"/>
          <p:cNvGrpSpPr/>
          <p:nvPr/>
        </p:nvGrpSpPr>
        <p:grpSpPr>
          <a:xfrm>
            <a:off x="4330800" y="3957480"/>
            <a:ext cx="4051080" cy="914400"/>
            <a:chOff x="4330800" y="3957480"/>
            <a:chExt cx="4051080" cy="914400"/>
          </a:xfrm>
        </p:grpSpPr>
        <p:sp>
          <p:nvSpPr>
            <p:cNvPr id="695" name="Rectangle 18"/>
            <p:cNvSpPr/>
            <p:nvPr/>
          </p:nvSpPr>
          <p:spPr>
            <a:xfrm>
              <a:off x="4330800" y="3957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9"/>
            <p:cNvSpPr/>
            <p:nvPr/>
          </p:nvSpPr>
          <p:spPr>
            <a:xfrm>
              <a:off x="4341600" y="3966840"/>
              <a:ext cx="4025520" cy="416160"/>
            </a:xfrm>
            <a:prstGeom prst="rect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0"/>
            <p:cNvSpPr/>
            <p:nvPr/>
          </p:nvSpPr>
          <p:spPr>
            <a:xfrm>
              <a:off x="4343040" y="4363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67f61"/>
                </a:gs>
                <a:gs pos="100000">
                  <a:srgbClr val="fbb0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21"/>
          <p:cNvSpPr/>
          <p:nvPr/>
        </p:nvSpPr>
        <p:spPr>
          <a:xfrm>
            <a:off x="4711680" y="44830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22"/>
          <p:cNvGrpSpPr/>
          <p:nvPr/>
        </p:nvGrpSpPr>
        <p:grpSpPr>
          <a:xfrm>
            <a:off x="4330800" y="5181480"/>
            <a:ext cx="4051080" cy="914400"/>
            <a:chOff x="4330800" y="5181480"/>
            <a:chExt cx="4051080" cy="914400"/>
          </a:xfrm>
        </p:grpSpPr>
        <p:sp>
          <p:nvSpPr>
            <p:cNvPr id="700" name="Rectangle 23"/>
            <p:cNvSpPr/>
            <p:nvPr/>
          </p:nvSpPr>
          <p:spPr>
            <a:xfrm>
              <a:off x="4330800" y="5181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4"/>
            <p:cNvSpPr/>
            <p:nvPr/>
          </p:nvSpPr>
          <p:spPr>
            <a:xfrm>
              <a:off x="4341600" y="5190840"/>
              <a:ext cx="4025520" cy="416160"/>
            </a:xfrm>
            <a:prstGeom prst="rect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4343040" y="5587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bb426"/>
                </a:gs>
                <a:gs pos="100000">
                  <a:srgbClr val="fdd1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26"/>
          <p:cNvSpPr/>
          <p:nvPr/>
        </p:nvSpPr>
        <p:spPr>
          <a:xfrm>
            <a:off x="4711680" y="5703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5154480" y="15858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5187960" y="27432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5187960" y="39355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5187960" y="51544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1"/>
          <p:cNvGrpSpPr/>
          <p:nvPr/>
        </p:nvGrpSpPr>
        <p:grpSpPr>
          <a:xfrm>
            <a:off x="533520" y="1981080"/>
            <a:ext cx="2831760" cy="2376360"/>
            <a:chOff x="533520" y="1981080"/>
            <a:chExt cx="2831760" cy="2376360"/>
          </a:xfrm>
        </p:grpSpPr>
        <p:sp>
          <p:nvSpPr>
            <p:cNvPr id="709" name="Freeform 32"/>
            <p:cNvSpPr/>
            <p:nvPr/>
          </p:nvSpPr>
          <p:spPr>
            <a:xfrm flipH="1">
              <a:off x="1801080" y="3643200"/>
              <a:ext cx="1335240" cy="68580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1019160" y="3473280"/>
              <a:ext cx="1400400" cy="66348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533520" y="3795480"/>
              <a:ext cx="1187280" cy="5619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5"/>
            <p:cNvGrpSpPr/>
            <p:nvPr/>
          </p:nvGrpSpPr>
          <p:grpSpPr>
            <a:xfrm>
              <a:off x="1279440" y="1981080"/>
              <a:ext cx="2085840" cy="2364840"/>
              <a:chOff x="1279440" y="1981080"/>
              <a:chExt cx="2085840" cy="2364840"/>
            </a:xfrm>
          </p:grpSpPr>
          <p:sp>
            <p:nvSpPr>
              <p:cNvPr id="713" name="Freeform 36"/>
              <p:cNvSpPr/>
              <p:nvPr/>
            </p:nvSpPr>
            <p:spPr>
              <a:xfrm flipH="1">
                <a:off x="2695680" y="2619360"/>
                <a:ext cx="669600" cy="1690920"/>
              </a:xfrm>
              <a:custGeom>
                <a:avLst/>
                <a:gdLst>
                  <a:gd name="textAreaLeft" fmla="*/ 0 w 669600"/>
                  <a:gd name="textAreaRight" fmla="*/ 669600 w 669600"/>
                  <a:gd name="textAreaTop" fmla="*/ 0 h 1690920"/>
                  <a:gd name="textAreaBottom" fmla="*/ 1691280 h 16909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"/>
              <p:cNvSpPr/>
              <p:nvPr/>
            </p:nvSpPr>
            <p:spPr>
              <a:xfrm flipH="1">
                <a:off x="1878120" y="1981080"/>
                <a:ext cx="842400" cy="2127240"/>
              </a:xfrm>
              <a:custGeom>
                <a:avLst/>
                <a:gdLst>
                  <a:gd name="textAreaLeft" fmla="*/ 360 w 842400"/>
                  <a:gd name="textAreaRight" fmla="*/ 843120 w 842400"/>
                  <a:gd name="textAreaTop" fmla="*/ 0 h 2127240"/>
                  <a:gd name="textAreaBottom" fmla="*/ 2127600 h 21272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"/>
              <p:cNvSpPr/>
              <p:nvPr/>
            </p:nvSpPr>
            <p:spPr>
              <a:xfrm flipH="1">
                <a:off x="1279080" y="265464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3"/>
          <p:cNvSpPr/>
          <p:nvPr/>
        </p:nvSpPr>
        <p:spPr>
          <a:xfrm>
            <a:off x="37152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17993"/>
              </a:gs>
              <a:gs pos="100000">
                <a:srgbClr val="44a8cc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343400" y="1905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5"/>
          <p:cNvSpPr/>
          <p:nvPr/>
        </p:nvSpPr>
        <p:spPr>
          <a:xfrm>
            <a:off x="2556000" y="3962520"/>
            <a:ext cx="1885680" cy="201744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e715e"/>
              </a:gs>
              <a:gs pos="100000">
                <a:srgbClr val="2a9f84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6"/>
          <p:cNvSpPr/>
          <p:nvPr/>
        </p:nvSpPr>
        <p:spPr>
          <a:xfrm>
            <a:off x="4707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05b45"/>
              </a:gs>
              <a:gs pos="100000">
                <a:srgbClr val="f67f61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7"/>
          <p:cNvSpPr/>
          <p:nvPr/>
        </p:nvSpPr>
        <p:spPr>
          <a:xfrm>
            <a:off x="6858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881c"/>
              </a:gs>
              <a:gs pos="100000">
                <a:srgbClr val="fbb426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8721720" y="4245120"/>
            <a:ext cx="3240" cy="1463400"/>
          </a:xfrm>
          <a:prstGeom prst="line">
            <a:avLst/>
          </a:prstGeom>
          <a:ln w="19080">
            <a:solidFill>
              <a:srgbClr val="080808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503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3906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1"/>
          <p:cNvSpPr/>
          <p:nvPr/>
        </p:nvSpPr>
        <p:spPr>
          <a:xfrm>
            <a:off x="255276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4694400" y="4191120"/>
            <a:ext cx="18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68580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264312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805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6956280" y="495288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7"/>
          <p:cNvGrpSpPr/>
          <p:nvPr/>
        </p:nvGrpSpPr>
        <p:grpSpPr>
          <a:xfrm>
            <a:off x="1371600" y="1523880"/>
            <a:ext cx="2298600" cy="2298960"/>
            <a:chOff x="1371600" y="1523880"/>
            <a:chExt cx="2298600" cy="2298960"/>
          </a:xfrm>
        </p:grpSpPr>
        <p:pic>
          <p:nvPicPr>
            <p:cNvPr id="731" name="Picture 18" descr="worldmap_ani8"/>
            <p:cNvPicPr/>
            <p:nvPr/>
          </p:nvPicPr>
          <p:blipFill>
            <a:blip r:embed="rId2"/>
            <a:stretch/>
          </p:blipFill>
          <p:spPr>
            <a:xfrm>
              <a:off x="1500480" y="1647000"/>
              <a:ext cx="206928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AutoShape 19"/>
            <p:cNvSpPr/>
            <p:nvPr/>
          </p:nvSpPr>
          <p:spPr>
            <a:xfrm>
              <a:off x="1371600" y="1523880"/>
              <a:ext cx="2298600" cy="229896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2298960"/>
                <a:gd name="textAreaBottom" fmla="*/ 2299320 h 22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AutoShape 20"/>
          <p:cNvSpPr/>
          <p:nvPr/>
        </p:nvSpPr>
        <p:spPr>
          <a:xfrm>
            <a:off x="230040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1"/>
          <p:cNvSpPr/>
          <p:nvPr/>
        </p:nvSpPr>
        <p:spPr>
          <a:xfrm>
            <a:off x="4441680" y="477684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659304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457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2635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4813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69786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1523880" y="1830240"/>
            <a:ext cx="6400080" cy="3361680"/>
            <a:chOff x="1523880" y="1830240"/>
            <a:chExt cx="6400080" cy="3361680"/>
          </a:xfrm>
        </p:grpSpPr>
        <p:grpSp>
          <p:nvGrpSpPr>
            <p:cNvPr id="743" name="Group 4"/>
            <p:cNvGrpSpPr/>
            <p:nvPr/>
          </p:nvGrpSpPr>
          <p:grpSpPr>
            <a:xfrm>
              <a:off x="1523880" y="1888920"/>
              <a:ext cx="4260600" cy="3303000"/>
              <a:chOff x="1523880" y="1888920"/>
              <a:chExt cx="4260600" cy="3303000"/>
            </a:xfrm>
          </p:grpSpPr>
          <p:sp>
            <p:nvSpPr>
              <p:cNvPr id="744" name="Freeform 5"/>
              <p:cNvSpPr/>
              <p:nvPr/>
            </p:nvSpPr>
            <p:spPr>
              <a:xfrm>
                <a:off x="2192760" y="1919160"/>
                <a:ext cx="244440" cy="100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>
                <a:off x="2346480" y="19717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>
                <a:off x="1884960" y="240444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>
                <a:off x="1800720" y="2479680"/>
                <a:ext cx="109080" cy="108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>
                <a:off x="4407840" y="428652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>
                <a:off x="4640040" y="3871800"/>
                <a:ext cx="502920" cy="333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720"/>
                  <a:gd name="textAreaBottom" fmla="*/ 334080 h 33372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4654080" y="387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016960" y="5099400"/>
                <a:ext cx="70560" cy="925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230800" y="495720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498640" y="4877640"/>
                <a:ext cx="164520" cy="1450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5586120" y="481212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>
                <a:off x="2920320" y="4050720"/>
                <a:ext cx="193680" cy="3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>
                <a:off x="3758760" y="355392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>
                <a:off x="4232880" y="3648240"/>
                <a:ext cx="174960" cy="290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>
                <a:off x="4084920" y="3557160"/>
                <a:ext cx="113760" cy="2170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>
                <a:off x="4161960" y="373140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>
                <a:off x="4232880" y="3949920"/>
                <a:ext cx="102600" cy="8604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>
                <a:off x="4397040" y="379836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3"/>
              <p:cNvSpPr/>
              <p:nvPr/>
            </p:nvSpPr>
            <p:spPr>
              <a:xfrm>
                <a:off x="4403160" y="3144960"/>
                <a:ext cx="34920" cy="113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4"/>
              <p:cNvSpPr/>
              <p:nvPr/>
            </p:nvSpPr>
            <p:spPr>
              <a:xfrm>
                <a:off x="4426200" y="3333600"/>
                <a:ext cx="95400" cy="187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5"/>
              <p:cNvSpPr/>
              <p:nvPr/>
            </p:nvSpPr>
            <p:spPr>
              <a:xfrm>
                <a:off x="4443480" y="3571560"/>
                <a:ext cx="99720" cy="125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563360" y="3795120"/>
                <a:ext cx="44280" cy="78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4537080" y="392616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4580280" y="3909960"/>
                <a:ext cx="70560" cy="586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689360" y="402156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5109480" y="395460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4483080" y="4048560"/>
                <a:ext cx="72360" cy="79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406400" y="407916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4374000" y="403272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4426200" y="4050720"/>
                <a:ext cx="53640" cy="38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4349520" y="3521880"/>
                <a:ext cx="42840" cy="87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6"/>
              <p:cNvSpPr/>
              <p:nvPr/>
            </p:nvSpPr>
            <p:spPr>
              <a:xfrm>
                <a:off x="4429440" y="350748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7"/>
              <p:cNvSpPr/>
              <p:nvPr/>
            </p:nvSpPr>
            <p:spPr>
              <a:xfrm>
                <a:off x="4464720" y="3480480"/>
                <a:ext cx="15120" cy="399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4480200" y="3499560"/>
                <a:ext cx="33840" cy="766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4057200" y="361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4040280" y="35730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4034160" y="3544560"/>
                <a:ext cx="18360" cy="223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4066200" y="349164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4019040" y="3520440"/>
                <a:ext cx="24120" cy="20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5337000" y="4511880"/>
                <a:ext cx="70560" cy="939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5701680" y="443376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5449320" y="439380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5435640" y="435852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8"/>
              <p:cNvSpPr/>
              <p:nvPr/>
            </p:nvSpPr>
            <p:spPr>
              <a:xfrm>
                <a:off x="5195520" y="405072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9"/>
              <p:cNvSpPr/>
              <p:nvPr/>
            </p:nvSpPr>
            <p:spPr>
              <a:xfrm>
                <a:off x="5247720" y="411912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0"/>
              <p:cNvSpPr/>
              <p:nvPr/>
            </p:nvSpPr>
            <p:spPr>
              <a:xfrm>
                <a:off x="5290560" y="421812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1"/>
              <p:cNvSpPr/>
              <p:nvPr/>
            </p:nvSpPr>
            <p:spPr>
              <a:xfrm>
                <a:off x="5344920" y="4202280"/>
                <a:ext cx="44640" cy="4104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2"/>
              <p:cNvSpPr/>
              <p:nvPr/>
            </p:nvSpPr>
            <p:spPr>
              <a:xfrm>
                <a:off x="5329440" y="414468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3"/>
              <p:cNvSpPr/>
              <p:nvPr/>
            </p:nvSpPr>
            <p:spPr>
              <a:xfrm>
                <a:off x="5288040" y="4106160"/>
                <a:ext cx="41400" cy="54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4"/>
              <p:cNvSpPr/>
              <p:nvPr/>
            </p:nvSpPr>
            <p:spPr>
              <a:xfrm>
                <a:off x="5236920" y="408096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5"/>
              <p:cNvSpPr/>
              <p:nvPr/>
            </p:nvSpPr>
            <p:spPr>
              <a:xfrm>
                <a:off x="5300280" y="416376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2812680" y="199080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2945160" y="2155320"/>
                <a:ext cx="62640" cy="190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3268080" y="190800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3315600" y="192852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3400560" y="1933200"/>
                <a:ext cx="79560" cy="51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3951360" y="1976760"/>
                <a:ext cx="137880" cy="489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2"/>
              <p:cNvSpPr/>
              <p:nvPr/>
            </p:nvSpPr>
            <p:spPr>
              <a:xfrm>
                <a:off x="4092480" y="197496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3"/>
              <p:cNvSpPr/>
              <p:nvPr/>
            </p:nvSpPr>
            <p:spPr>
              <a:xfrm>
                <a:off x="4060440" y="2021400"/>
                <a:ext cx="57960" cy="255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4"/>
              <p:cNvSpPr/>
              <p:nvPr/>
            </p:nvSpPr>
            <p:spPr>
              <a:xfrm>
                <a:off x="4457160" y="2377080"/>
                <a:ext cx="119880" cy="1803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5"/>
              <p:cNvSpPr/>
              <p:nvPr/>
            </p:nvSpPr>
            <p:spPr>
              <a:xfrm>
                <a:off x="4554000" y="256392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6"/>
              <p:cNvSpPr/>
              <p:nvPr/>
            </p:nvSpPr>
            <p:spPr>
              <a:xfrm>
                <a:off x="4497120" y="269172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7"/>
              <p:cNvSpPr/>
              <p:nvPr/>
            </p:nvSpPr>
            <p:spPr>
              <a:xfrm>
                <a:off x="2823480" y="1890360"/>
                <a:ext cx="81360" cy="478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8"/>
              <p:cNvSpPr/>
              <p:nvPr/>
            </p:nvSpPr>
            <p:spPr>
              <a:xfrm>
                <a:off x="2654280" y="190476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9"/>
              <p:cNvSpPr/>
              <p:nvPr/>
            </p:nvSpPr>
            <p:spPr>
              <a:xfrm>
                <a:off x="2692800" y="190332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0"/>
              <p:cNvSpPr/>
              <p:nvPr/>
            </p:nvSpPr>
            <p:spPr>
              <a:xfrm>
                <a:off x="2789640" y="188892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1"/>
              <p:cNvSpPr/>
              <p:nvPr/>
            </p:nvSpPr>
            <p:spPr>
              <a:xfrm>
                <a:off x="2760480" y="191736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2"/>
              <p:cNvSpPr/>
              <p:nvPr/>
            </p:nvSpPr>
            <p:spPr>
              <a:xfrm>
                <a:off x="4558680" y="194292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73"/>
              <p:cNvSpPr/>
              <p:nvPr/>
            </p:nvSpPr>
            <p:spPr>
              <a:xfrm>
                <a:off x="3165120" y="425160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74"/>
              <p:cNvSpPr/>
              <p:nvPr/>
            </p:nvSpPr>
            <p:spPr>
              <a:xfrm>
                <a:off x="3228120" y="424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75"/>
              <p:cNvSpPr/>
              <p:nvPr/>
            </p:nvSpPr>
            <p:spPr>
              <a:xfrm>
                <a:off x="3121920" y="399636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76"/>
              <p:cNvSpPr/>
              <p:nvPr/>
            </p:nvSpPr>
            <p:spPr>
              <a:xfrm>
                <a:off x="3215880" y="387972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77"/>
              <p:cNvSpPr/>
              <p:nvPr/>
            </p:nvSpPr>
            <p:spPr>
              <a:xfrm>
                <a:off x="317880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78"/>
              <p:cNvSpPr/>
              <p:nvPr/>
            </p:nvSpPr>
            <p:spPr>
              <a:xfrm>
                <a:off x="3160440" y="391320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79"/>
              <p:cNvSpPr/>
              <p:nvPr/>
            </p:nvSpPr>
            <p:spPr>
              <a:xfrm>
                <a:off x="3121920" y="396720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80"/>
              <p:cNvSpPr/>
              <p:nvPr/>
            </p:nvSpPr>
            <p:spPr>
              <a:xfrm>
                <a:off x="3151080" y="394668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81"/>
              <p:cNvSpPr/>
              <p:nvPr/>
            </p:nvSpPr>
            <p:spPr>
              <a:xfrm>
                <a:off x="1995840" y="237564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82"/>
              <p:cNvSpPr/>
              <p:nvPr/>
            </p:nvSpPr>
            <p:spPr>
              <a:xfrm>
                <a:off x="1523880" y="1976760"/>
                <a:ext cx="3248640" cy="261324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240"/>
                  <a:gd name="textAreaBottom" fmla="*/ 2613600 h 26132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83"/>
            <p:cNvGrpSpPr/>
            <p:nvPr/>
          </p:nvGrpSpPr>
          <p:grpSpPr>
            <a:xfrm>
              <a:off x="5041800" y="1830240"/>
              <a:ext cx="2882160" cy="3230640"/>
              <a:chOff x="5041800" y="1830240"/>
              <a:chExt cx="2882160" cy="3230640"/>
            </a:xfrm>
          </p:grpSpPr>
          <p:sp>
            <p:nvSpPr>
              <p:cNvPr id="823" name="Freeform 84"/>
              <p:cNvSpPr/>
              <p:nvPr/>
            </p:nvSpPr>
            <p:spPr>
              <a:xfrm>
                <a:off x="5166000" y="1980360"/>
                <a:ext cx="1997640" cy="308052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0520"/>
                  <a:gd name="textAreaBottom" fmla="*/ 3080880 h 308052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85"/>
              <p:cNvSpPr/>
              <p:nvPr/>
            </p:nvSpPr>
            <p:spPr>
              <a:xfrm>
                <a:off x="5103000" y="227376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86"/>
              <p:cNvSpPr/>
              <p:nvPr/>
            </p:nvSpPr>
            <p:spPr>
              <a:xfrm>
                <a:off x="5587560" y="246852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87"/>
              <p:cNvSpPr/>
              <p:nvPr/>
            </p:nvSpPr>
            <p:spPr>
              <a:xfrm>
                <a:off x="6819840" y="2558160"/>
                <a:ext cx="155160" cy="117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88"/>
              <p:cNvSpPr/>
              <p:nvPr/>
            </p:nvSpPr>
            <p:spPr>
              <a:xfrm>
                <a:off x="6072480" y="3169440"/>
                <a:ext cx="248760" cy="1339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89"/>
              <p:cNvSpPr/>
              <p:nvPr/>
            </p:nvSpPr>
            <p:spPr>
              <a:xfrm>
                <a:off x="6278040" y="3271680"/>
                <a:ext cx="155520" cy="63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90"/>
              <p:cNvSpPr/>
              <p:nvPr/>
            </p:nvSpPr>
            <p:spPr>
              <a:xfrm>
                <a:off x="6442920" y="331128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91"/>
              <p:cNvSpPr/>
              <p:nvPr/>
            </p:nvSpPr>
            <p:spPr>
              <a:xfrm>
                <a:off x="6532200" y="331596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92"/>
              <p:cNvSpPr/>
              <p:nvPr/>
            </p:nvSpPr>
            <p:spPr>
              <a:xfrm>
                <a:off x="6242760" y="197208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93"/>
              <p:cNvSpPr/>
              <p:nvPr/>
            </p:nvSpPr>
            <p:spPr>
              <a:xfrm>
                <a:off x="6369120" y="1906920"/>
                <a:ext cx="230400" cy="954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94"/>
              <p:cNvSpPr/>
              <p:nvPr/>
            </p:nvSpPr>
            <p:spPr>
              <a:xfrm>
                <a:off x="6692040" y="201816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95"/>
              <p:cNvSpPr/>
              <p:nvPr/>
            </p:nvSpPr>
            <p:spPr>
              <a:xfrm>
                <a:off x="6689160" y="188748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96"/>
              <p:cNvSpPr/>
              <p:nvPr/>
            </p:nvSpPr>
            <p:spPr>
              <a:xfrm>
                <a:off x="6556680" y="1999080"/>
                <a:ext cx="102600" cy="655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97"/>
              <p:cNvSpPr/>
              <p:nvPr/>
            </p:nvSpPr>
            <p:spPr>
              <a:xfrm>
                <a:off x="6664320" y="2012040"/>
                <a:ext cx="84600" cy="38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98"/>
              <p:cNvSpPr/>
              <p:nvPr/>
            </p:nvSpPr>
            <p:spPr>
              <a:xfrm>
                <a:off x="6618240" y="195444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99"/>
              <p:cNvSpPr/>
              <p:nvPr/>
            </p:nvSpPr>
            <p:spPr>
              <a:xfrm>
                <a:off x="6575040" y="190368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00"/>
              <p:cNvSpPr/>
              <p:nvPr/>
            </p:nvSpPr>
            <p:spPr>
              <a:xfrm>
                <a:off x="6755040" y="1908360"/>
                <a:ext cx="179640" cy="12276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01"/>
              <p:cNvSpPr/>
              <p:nvPr/>
            </p:nvSpPr>
            <p:spPr>
              <a:xfrm>
                <a:off x="5041800" y="2297880"/>
                <a:ext cx="39960" cy="23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02"/>
              <p:cNvSpPr/>
              <p:nvPr/>
            </p:nvSpPr>
            <p:spPr>
              <a:xfrm>
                <a:off x="6235200" y="311040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03"/>
              <p:cNvSpPr/>
              <p:nvPr/>
            </p:nvSpPr>
            <p:spPr>
              <a:xfrm>
                <a:off x="6239880" y="315036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04"/>
              <p:cNvSpPr/>
              <p:nvPr/>
            </p:nvSpPr>
            <p:spPr>
              <a:xfrm>
                <a:off x="6561360" y="335952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05"/>
              <p:cNvSpPr/>
              <p:nvPr/>
            </p:nvSpPr>
            <p:spPr>
              <a:xfrm>
                <a:off x="6756840" y="258984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06"/>
              <p:cNvSpPr/>
              <p:nvPr/>
            </p:nvSpPr>
            <p:spPr>
              <a:xfrm>
                <a:off x="6599880" y="22640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07"/>
              <p:cNvSpPr/>
              <p:nvPr/>
            </p:nvSpPr>
            <p:spPr>
              <a:xfrm>
                <a:off x="6701400" y="1980360"/>
                <a:ext cx="61200" cy="284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08"/>
              <p:cNvSpPr/>
              <p:nvPr/>
            </p:nvSpPr>
            <p:spPr>
              <a:xfrm>
                <a:off x="6801480" y="2150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09"/>
              <p:cNvSpPr/>
              <p:nvPr/>
            </p:nvSpPr>
            <p:spPr>
              <a:xfrm>
                <a:off x="6825600" y="183024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10"/>
              <p:cNvSpPr/>
              <p:nvPr/>
            </p:nvSpPr>
            <p:spPr>
              <a:xfrm>
                <a:off x="7162560" y="2122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11"/>
              <p:cNvSpPr/>
              <p:nvPr/>
            </p:nvSpPr>
            <p:spPr>
              <a:xfrm>
                <a:off x="7608960" y="2227680"/>
                <a:ext cx="201600" cy="860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12"/>
              <p:cNvSpPr/>
              <p:nvPr/>
            </p:nvSpPr>
            <p:spPr>
              <a:xfrm>
                <a:off x="7767360" y="1969200"/>
                <a:ext cx="61200" cy="37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13"/>
              <p:cNvSpPr/>
              <p:nvPr/>
            </p:nvSpPr>
            <p:spPr>
              <a:xfrm>
                <a:off x="7898040" y="232020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3" name="Object 114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1987560" cy="2038320"/>
          </a:xfrm>
          <a:prstGeom prst="rect">
            <a:avLst/>
          </a:prstGeom>
          <a:ln w="0">
            <a:noFill/>
          </a:ln>
        </p:spPr>
      </p:pic>
      <p:pic>
        <p:nvPicPr>
          <p:cNvPr id="854" name="Object 115" descr=""/>
          <p:cNvPicPr/>
          <p:nvPr/>
        </p:nvPicPr>
        <p:blipFill>
          <a:blip r:embed="rId3"/>
          <a:stretch/>
        </p:blipFill>
        <p:spPr>
          <a:xfrm>
            <a:off x="6130800" y="2684520"/>
            <a:ext cx="2022480" cy="1954080"/>
          </a:xfrm>
          <a:prstGeom prst="rect">
            <a:avLst/>
          </a:prstGeom>
          <a:ln w="0">
            <a:noFill/>
          </a:ln>
        </p:spPr>
      </p:pic>
      <p:pic>
        <p:nvPicPr>
          <p:cNvPr id="855" name="Object 116" descr=""/>
          <p:cNvPicPr/>
          <p:nvPr/>
        </p:nvPicPr>
        <p:blipFill>
          <a:blip r:embed="rId4"/>
          <a:stretch/>
        </p:blipFill>
        <p:spPr>
          <a:xfrm>
            <a:off x="3767040" y="3219480"/>
            <a:ext cx="1801800" cy="1819080"/>
          </a:xfrm>
          <a:prstGeom prst="rect">
            <a:avLst/>
          </a:prstGeom>
          <a:ln w="0">
            <a:noFill/>
          </a:ln>
        </p:spPr>
      </p:pic>
      <p:sp>
        <p:nvSpPr>
          <p:cNvPr id="856" name="Line 117"/>
          <p:cNvSpPr/>
          <p:nvPr/>
        </p:nvSpPr>
        <p:spPr>
          <a:xfrm>
            <a:off x="1143000" y="5268960"/>
            <a:ext cx="701028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219320" y="53672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19"/>
          <p:cNvSpPr/>
          <p:nvPr/>
        </p:nvSpPr>
        <p:spPr>
          <a:xfrm>
            <a:off x="4648320" y="5268960"/>
            <a:ext cx="0" cy="103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120"/>
          <p:cNvSpPr/>
          <p:nvPr/>
        </p:nvSpPr>
        <p:spPr>
          <a:xfrm>
            <a:off x="685800" y="175428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1"/>
          <p:cNvSpPr/>
          <p:nvPr/>
        </p:nvSpPr>
        <p:spPr>
          <a:xfrm>
            <a:off x="3124080" y="2744640"/>
            <a:ext cx="2590920" cy="371520"/>
          </a:xfrm>
          <a:prstGeom prst="wedgeRectCallout">
            <a:avLst>
              <a:gd name="adj1" fmla="val 13902"/>
              <a:gd name="adj2" fmla="val 124356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22"/>
          <p:cNvSpPr/>
          <p:nvPr/>
        </p:nvSpPr>
        <p:spPr>
          <a:xfrm>
            <a:off x="6248520" y="2220840"/>
            <a:ext cx="2514600" cy="371520"/>
          </a:xfrm>
          <a:prstGeom prst="wedgeRectCallout">
            <a:avLst>
              <a:gd name="adj1" fmla="val -25694"/>
              <a:gd name="adj2" fmla="val 119226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23"/>
          <p:cNvSpPr/>
          <p:nvPr/>
        </p:nvSpPr>
        <p:spPr>
          <a:xfrm>
            <a:off x="4876920" y="5397480"/>
            <a:ext cx="180720" cy="181080"/>
          </a:xfrm>
          <a:prstGeom prst="ellipse">
            <a:avLst/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4"/>
          <p:cNvSpPr/>
          <p:nvPr/>
        </p:nvSpPr>
        <p:spPr>
          <a:xfrm>
            <a:off x="5092200" y="53402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125"/>
          <p:cNvSpPr/>
          <p:nvPr/>
        </p:nvSpPr>
        <p:spPr>
          <a:xfrm>
            <a:off x="4876920" y="5722920"/>
            <a:ext cx="180720" cy="181080"/>
          </a:xfrm>
          <a:prstGeom prst="ellipse">
            <a:avLst/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6"/>
          <p:cNvSpPr/>
          <p:nvPr/>
        </p:nvSpPr>
        <p:spPr>
          <a:xfrm>
            <a:off x="5092200" y="5638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27"/>
          <p:cNvSpPr/>
          <p:nvPr/>
        </p:nvSpPr>
        <p:spPr>
          <a:xfrm>
            <a:off x="4876920" y="6045120"/>
            <a:ext cx="180720" cy="181080"/>
          </a:xfrm>
          <a:prstGeom prst="ellipse">
            <a:avLst/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28"/>
          <p:cNvSpPr/>
          <p:nvPr/>
        </p:nvSpPr>
        <p:spPr>
          <a:xfrm>
            <a:off x="5092200" y="59878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29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7f61"/>
                </a:solidFill>
                <a:uFillTx/>
                <a:latin typeface="Arial"/>
                <a:ea typeface="宋体"/>
                <a:hlinkClick r:id="rId5"/>
              </a:rPr>
              <a:t>ppt图片素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宋体"/>
              </a:rPr>
              <a:t>使用规范说明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7:5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3:53Z</dcterms:modified>
  <cp:revision>4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