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5828-BA9B-414F-8A76-D63A4D66A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63F-FB72-409C-807F-9632A740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938E-EB24-4196-94D6-8C714EA3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F86F-0829-4541-BDE8-CA432D327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A2F-B049-4023-A540-429B2FC8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5FF3-915D-47CB-A991-41564962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EAAD-0D08-4A54-BF71-2717698A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FC60-3A3F-4795-AD96-EE1C50F6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1874-85A2-4A64-B938-A97EBED0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7B8-0B44-4D46-82C1-71298FEB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C69C-D855-4D5B-801B-2BBACA25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D2E2-7A57-4878-AE12-5535ECA7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未知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92A0-ED8E-48BA-8E86-D11415A9BDD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39118;&#38083;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8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image" Target="../media/image4.jpeg"/><Relationship Id="rId8" Type="http://schemas.openxmlformats.org/officeDocument/2006/relationships/image" Target="../media/image11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0.jpeg"/><Relationship Id="rId10" Type="http://schemas.openxmlformats.org/officeDocument/2006/relationships/image" Target="../media/image27.png"/><Relationship Id="rId11" Type="http://schemas.openxmlformats.org/officeDocument/2006/relationships/hyperlink" Target="http://baike.baidu.com/view/116800.htm" TargetMode="External"/><Relationship Id="rId12" Type="http://schemas.openxmlformats.org/officeDocument/2006/relationships/hyperlink" Target="http://baike.baidu.com/view/59961.htm" TargetMode="External"/><Relationship Id="rId13" Type="http://schemas.openxmlformats.org/officeDocument/2006/relationships/hyperlink" Target="http://baike.baidu.com/view/26165.htm" TargetMode="External"/><Relationship Id="rId14" Type="http://schemas.openxmlformats.org/officeDocument/2006/relationships/hyperlink" Target="http://baike.baidu.com/view/26165.htm" TargetMode="External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ff"/>
          </a:solidFill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3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ffff"/>
          </a:solidFill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Line 4"/>
          <p:cNvSpPr/>
          <p:nvPr/>
        </p:nvSpPr>
        <p:spPr>
          <a:xfrm>
            <a:off x="0" y="762120"/>
            <a:ext cx="1440" cy="54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762120"/>
            <a:ext cx="2057400" cy="18288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0" y="2590920"/>
            <a:ext cx="2057400" cy="182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0" y="4419720"/>
            <a:ext cx="2057400" cy="175248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2057400" y="762120"/>
            <a:ext cx="2057400" cy="182880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2057400" y="2590920"/>
            <a:ext cx="2057400" cy="182880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2057400" y="4419720"/>
            <a:ext cx="2057400" cy="1752480"/>
          </a:xfrm>
          <a:prstGeom prst="rect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4114800" y="762120"/>
            <a:ext cx="2057400" cy="1828800"/>
          </a:xfrm>
          <a:prstGeom prst="rect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4114800" y="2590920"/>
            <a:ext cx="2057400" cy="1828800"/>
          </a:xfrm>
          <a:prstGeom prst="rect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4114800" y="4419720"/>
            <a:ext cx="2057400" cy="1752480"/>
          </a:xfrm>
          <a:prstGeom prst="rect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6867360" y="2301840"/>
            <a:ext cx="21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6172200" y="762120"/>
            <a:ext cx="2971800" cy="5410080"/>
          </a:xfrm>
          <a:prstGeom prst="rect">
            <a:avLst/>
          </a:prstGeom>
          <a:solidFill>
            <a:srgbClr val="ffffff"/>
          </a:solidFill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魅力广州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6477120" y="2409840"/>
            <a:ext cx="24382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f1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553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99280" y="0"/>
            <a:ext cx="312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魅力广州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87431 9.3E-005 E">
                                      <p:cBhvr>
                                        <p:cTn id="49" dur="1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87431 0.005648 E">
                                      <p:cBhvr>
                                        <p:cTn id="51" dur="1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54097 9.3E-005 E">
                                      <p:cBhvr>
                                        <p:cTn id="53" dur="1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0625 -0.011111 E">
                                      <p:cBhvr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054236 0.005648 E">
                                      <p:cBhvr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04236 9.3E-005 E">
                                      <p:cBhvr>
                                        <p:cTn id="60" dur="1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000"/>
                            </p:stCondLst>
                            <p:childTnLst>
                              <p:par>
                                <p:cTn id="75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000"/>
                            </p:stCondLst>
                            <p:childTnLst>
                              <p:par>
                                <p:cTn id="81" nodeType="after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6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0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>
            <a:off x="76320" y="76320"/>
            <a:ext cx="8991360" cy="1066680"/>
          </a:xfrm>
          <a:prstGeom prst="roundRect">
            <a:avLst>
              <a:gd name="adj" fmla="val 1018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66ff33"/>
                </a:solidFill>
                <a:latin typeface="Arial"/>
              </a:rPr>
              <a:t>Content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AutoShape 3"/>
          <p:cNvSpPr/>
          <p:nvPr/>
        </p:nvSpPr>
        <p:spPr>
          <a:xfrm>
            <a:off x="76320" y="1219320"/>
            <a:ext cx="8991360" cy="5638680"/>
          </a:xfrm>
          <a:prstGeom prst="roundRect">
            <a:avLst>
              <a:gd name="adj" fmla="val 2731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4">
            <a:hlinkClick r:id="rId1"/>
          </p:cNvPr>
          <p:cNvSpPr/>
          <p:nvPr/>
        </p:nvSpPr>
        <p:spPr>
          <a:xfrm rot="7200000">
            <a:off x="6743520" y="1638000"/>
            <a:ext cx="2057400" cy="182880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 rot="6960000">
            <a:off x="6057360" y="2095200"/>
            <a:ext cx="2057400" cy="182880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 rot="1620000">
            <a:off x="5181480" y="2286000"/>
            <a:ext cx="2057400" cy="1828800"/>
          </a:xfrm>
          <a:prstGeom prst="rect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 rot="1500000">
            <a:off x="4266720" y="2666880"/>
            <a:ext cx="2057400" cy="1828800"/>
          </a:xfrm>
          <a:prstGeom prst="rect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 rot="1440000">
            <a:off x="3580920" y="2819520"/>
            <a:ext cx="2057400" cy="1828800"/>
          </a:xfrm>
          <a:prstGeom prst="rect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 rot="1020000">
            <a:off x="2819160" y="3200400"/>
            <a:ext cx="2057400" cy="1828800"/>
          </a:xfrm>
          <a:prstGeom prst="rect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 rot="1200000">
            <a:off x="1828800" y="3505320"/>
            <a:ext cx="2057400" cy="1752480"/>
          </a:xfrm>
          <a:prstGeom prst="rect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 rot="1440000">
            <a:off x="609120" y="3123720"/>
            <a:ext cx="2057400" cy="1752840"/>
          </a:xfrm>
          <a:prstGeom prst="rect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12">
            <a:hlinkClick r:id="" action="ppaction://hlinkshowjump?jump=nextslide"/>
          </p:cNvPr>
          <p:cNvSpPr/>
          <p:nvPr/>
        </p:nvSpPr>
        <p:spPr>
          <a:xfrm>
            <a:off x="8304120" y="5638680"/>
            <a:ext cx="685800" cy="64260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五羊石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7291440" y="5640480"/>
            <a:ext cx="938160" cy="3682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中山纪念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6324480" y="5638680"/>
            <a:ext cx="925560" cy="3682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镇海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5584680" y="5638680"/>
            <a:ext cx="663840" cy="64260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黄埔军校旧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4800600" y="5638680"/>
            <a:ext cx="708120" cy="3682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二沙岛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3809880" y="5638680"/>
            <a:ext cx="939960" cy="3682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云台花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2743200" y="5638680"/>
            <a:ext cx="1035000" cy="3682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白云山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1295280" y="5638680"/>
            <a:ext cx="1105200" cy="368280"/>
          </a:xfrm>
          <a:prstGeom prst="rect">
            <a:avLst/>
          </a:prstGeom>
          <a:solidFill>
            <a:srgbClr val="99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烈士陵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22222E-006 L -0.74167 -0.11666 E">
                                      <p:cBhvr>
                                        <p:cTn id="173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24931 -0.061019 E">
                                      <p:cBhvr>
                                        <p:cTn id="17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29097 0.066759 E">
                                      <p:cBhvr>
                                        <p:cTn id="17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4097 0.122315 E">
                                      <p:cBhvr>
                                        <p:cTn id="17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4236 0.233426 E">
                                      <p:cBhvr>
                                        <p:cTn id="18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45903 -0.32213 E">
                                      <p:cBhvr>
                                        <p:cTn id="183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5 0.00556 L 0.475 -0.18889 E">
                                      <p:cBhvr>
                                        <p:cTn id="185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45903 0.205648 E">
                                      <p:cBhvr>
                                        <p:cTn id="187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566 -0.05787 L -0.87066 -0.62431 E">
                                      <p:cBhvr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944 -0.05787 L -0.706944 -0.502315 E">
                                      <p:cBhvr>
                                        <p:cTn id="19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8889 -0.037778 L -0.508889 -0.337778 E">
                                      <p:cBhvr>
                                        <p:cTn id="193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944 -0.077685 L -0.321944 -0.255463 E">
                                      <p:cBhvr>
                                        <p:cTn id="195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6944 -0.046667 L -0.055278 -0.113333 E">
                                      <p:cBhvr>
                                        <p:cTn id="197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7014 -0.026759 L 0.407014 -0.582315 E">
                                      <p:cBhvr>
                                        <p:cTn id="199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173 -0.07106 L 0.40173 -0.33773 E">
                                      <p:cBhvr>
                                        <p:cTn id="201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875 -0.02662 L 0.49792 -0.22662 E">
                                      <p:cBhvr>
                                        <p:cTn id="203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2"/>
          <p:cNvSpPr txBox="1"/>
          <p:nvPr/>
        </p:nvSpPr>
        <p:spPr>
          <a:xfrm>
            <a:off x="838080" y="1676520"/>
            <a:ext cx="1079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eec9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中</a:t>
            </a:r>
            <a:endParaRPr b="0" lang="en-US" sz="1800" spc="1" strike="noStrike">
              <a:ln w="19080">
                <a:solidFill>
                  <a:srgbClr val="feec9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WordArt 3"/>
          <p:cNvSpPr txBox="1"/>
          <p:nvPr/>
        </p:nvSpPr>
        <p:spPr>
          <a:xfrm>
            <a:off x="2819520" y="1676520"/>
            <a:ext cx="10792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eec9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山</a:t>
            </a:r>
            <a:endParaRPr b="0" lang="en-US" sz="1800" spc="1" strike="noStrike">
              <a:ln w="19080">
                <a:solidFill>
                  <a:srgbClr val="feec9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5029200" y="1676520"/>
            <a:ext cx="1079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eec9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纪</a:t>
            </a:r>
            <a:endParaRPr b="0" lang="en-US" sz="1800" spc="1" strike="noStrike">
              <a:ln w="19080">
                <a:solidFill>
                  <a:srgbClr val="feec9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7238880" y="1676520"/>
            <a:ext cx="1079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eec9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念</a:t>
            </a:r>
            <a:endParaRPr b="0" lang="en-US" sz="1800" spc="1" strike="noStrike">
              <a:ln w="19080">
                <a:solidFill>
                  <a:srgbClr val="feec9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762120" y="4952880"/>
            <a:ext cx="1079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eec9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堂</a:t>
            </a:r>
            <a:endParaRPr b="0" lang="en-US" sz="1800" spc="1" strike="noStrike">
              <a:ln w="19080">
                <a:solidFill>
                  <a:srgbClr val="feec9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WordArt 7"/>
          <p:cNvSpPr txBox="1"/>
          <p:nvPr/>
        </p:nvSpPr>
        <p:spPr>
          <a:xfrm>
            <a:off x="2819520" y="4952880"/>
            <a:ext cx="1079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eec9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欢</a:t>
            </a:r>
            <a:endParaRPr b="0" lang="en-US" sz="1800" spc="1" strike="noStrike">
              <a:ln w="19080">
                <a:solidFill>
                  <a:srgbClr val="feec9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5105520" y="5029200"/>
            <a:ext cx="1079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eec9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迎</a:t>
            </a:r>
            <a:endParaRPr b="0" lang="en-US" sz="1800" spc="1" strike="noStrike">
              <a:ln w="19080">
                <a:solidFill>
                  <a:srgbClr val="feec9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WordArt 9"/>
          <p:cNvSpPr txBox="1"/>
          <p:nvPr/>
        </p:nvSpPr>
        <p:spPr>
          <a:xfrm>
            <a:off x="7238880" y="5181480"/>
            <a:ext cx="10796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eec94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您</a:t>
            </a:r>
            <a:endParaRPr b="0" lang="en-US" sz="1800" spc="1" strike="noStrike">
              <a:ln w="19080">
                <a:solidFill>
                  <a:srgbClr val="feec94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457200" y="1219320"/>
            <a:ext cx="1800360" cy="1800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Oval 11"/>
          <p:cNvSpPr/>
          <p:nvPr/>
        </p:nvSpPr>
        <p:spPr>
          <a:xfrm>
            <a:off x="2590920" y="1219320"/>
            <a:ext cx="1800000" cy="1800000"/>
          </a:xfrm>
          <a:prstGeom prst="ellipse">
            <a:avLst/>
          </a:prstGeom>
          <a:blipFill rotWithShape="0">
            <a:blip r:embed="rId2">
              <a:alphaModFix amt="90000"/>
            </a:blip>
            <a:srcRect/>
            <a:stretch/>
          </a:blip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Oval 12"/>
          <p:cNvSpPr/>
          <p:nvPr/>
        </p:nvSpPr>
        <p:spPr>
          <a:xfrm>
            <a:off x="4800600" y="1219320"/>
            <a:ext cx="1800360" cy="1800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Oval 13"/>
          <p:cNvSpPr/>
          <p:nvPr/>
        </p:nvSpPr>
        <p:spPr>
          <a:xfrm>
            <a:off x="7010280" y="1219320"/>
            <a:ext cx="1800360" cy="1800000"/>
          </a:xfrm>
          <a:prstGeom prst="ellipse">
            <a:avLst/>
          </a:prstGeom>
          <a:blipFill rotWithShape="0">
            <a:blip r:embed="rId4">
              <a:alphaModFix amt="90000"/>
            </a:blip>
            <a:srcRect/>
            <a:stretch/>
          </a:blip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Oval 14"/>
          <p:cNvSpPr/>
          <p:nvPr/>
        </p:nvSpPr>
        <p:spPr>
          <a:xfrm>
            <a:off x="2438280" y="4800600"/>
            <a:ext cx="1800360" cy="180036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Oval 15"/>
          <p:cNvSpPr/>
          <p:nvPr/>
        </p:nvSpPr>
        <p:spPr>
          <a:xfrm>
            <a:off x="4648320" y="4876920"/>
            <a:ext cx="1800000" cy="1800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Oval 16"/>
          <p:cNvSpPr/>
          <p:nvPr/>
        </p:nvSpPr>
        <p:spPr>
          <a:xfrm>
            <a:off x="380880" y="4800600"/>
            <a:ext cx="1800360" cy="18003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Oval 17"/>
          <p:cNvSpPr/>
          <p:nvPr/>
        </p:nvSpPr>
        <p:spPr>
          <a:xfrm>
            <a:off x="6934320" y="4876920"/>
            <a:ext cx="1800000" cy="180000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1219320"/>
            <a:ext cx="9144000" cy="5638680"/>
          </a:xfrm>
          <a:prstGeom prst="roundRect">
            <a:avLst>
              <a:gd name="adj" fmla="val 3241"/>
            </a:avLst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5029200" y="1219320"/>
            <a:ext cx="4114800" cy="5638680"/>
          </a:xfrm>
          <a:custGeom>
            <a:avLst/>
            <a:gdLst>
              <a:gd name="textAreaLeft" fmla="*/ 41760 w 4114800"/>
              <a:gd name="textAreaRight" fmla="*/ 4073040 w 4114800"/>
              <a:gd name="textAreaTop" fmla="*/ 41760 h 5638680"/>
              <a:gd name="textAreaBottom" fmla="*/ 5596920 h 5638680"/>
            </a:gdLst>
            <a:ahLst/>
            <a:rect l="textAreaLeft" t="textAreaTop" r="textAreaRight" b="textAreaBottom"/>
            <a:pathLst>
              <a:path w="21600" h="29599">
                <a:moveTo>
                  <a:pt x="753" y="0"/>
                </a:moveTo>
                <a:arcTo wR="753" hR="753" stAng="16200000" swAng="-5400000"/>
                <a:lnTo>
                  <a:pt x="0" y="28846"/>
                </a:lnTo>
                <a:arcTo wR="753" hR="753" stAng="10800000" swAng="-5400000"/>
                <a:lnTo>
                  <a:pt x="20847" y="29599"/>
                </a:lnTo>
                <a:arcTo wR="753" hR="753" stAng="5400000" swAng="-5400000"/>
                <a:lnTo>
                  <a:pt x="21600" y="753"/>
                </a:lnTo>
                <a:arcTo wR="753" hR="753" stAng="0" swAng="-5400000"/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12313"/>
                </a:solidFill>
                <a:latin typeface="楷体_GB2312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广州中山纪念堂是广州最具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标性的建筑物之一，又是广州市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型集会和演出的重要场所。它见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了广州的许多历史大事：</a:t>
            </a:r>
            <a:r>
              <a:rPr b="1" lang="en-US" sz="2000" spc="-1" strike="noStrike">
                <a:solidFill>
                  <a:srgbClr val="800000"/>
                </a:solidFill>
                <a:latin typeface="楷体"/>
                <a:ea typeface="楷体"/>
              </a:rPr>
              <a:t>1936</a:t>
            </a: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年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广州市各界人士在此举行禁烟大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行；</a:t>
            </a:r>
            <a:r>
              <a:rPr b="1" lang="en-US" sz="2000" spc="-1" strike="noStrike">
                <a:solidFill>
                  <a:srgbClr val="800000"/>
                </a:solidFill>
                <a:latin typeface="楷体"/>
                <a:ea typeface="楷体"/>
              </a:rPr>
              <a:t>1945</a:t>
            </a: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年</a:t>
            </a:r>
            <a:r>
              <a:rPr b="1" lang="en-US" sz="2000" spc="-1" strike="noStrike">
                <a:solidFill>
                  <a:srgbClr val="800000"/>
                </a:solidFill>
                <a:latin typeface="楷体"/>
                <a:ea typeface="楷体"/>
              </a:rPr>
              <a:t>9</a:t>
            </a: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月，驻广州地区的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日本侵略军在这里签字投降解放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，每年各种纪念孙中山先生的活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、省市的重要集会和文艺演出都在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这里举行，如教育基金百万行、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州国际集体婚礼、纪念毛泽东诞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楷体"/>
                <a:ea typeface="楷体"/>
              </a:rPr>
              <a:t>100</a:t>
            </a: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周年、纪念红军长征</a:t>
            </a:r>
            <a:r>
              <a:rPr b="1" lang="en-US" sz="2000" spc="-1" strike="noStrike">
                <a:solidFill>
                  <a:srgbClr val="800000"/>
                </a:solidFill>
                <a:latin typeface="楷体"/>
                <a:ea typeface="楷体"/>
              </a:rPr>
              <a:t>60</a:t>
            </a: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周年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纪念抗日战争胜利和世界反法西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战争胜利</a:t>
            </a:r>
            <a:r>
              <a:rPr b="1" lang="en-US" sz="2000" spc="-1" strike="noStrike">
                <a:solidFill>
                  <a:srgbClr val="800000"/>
                </a:solidFill>
                <a:latin typeface="楷体"/>
                <a:ea typeface="楷体"/>
              </a:rPr>
              <a:t>50</a:t>
            </a:r>
            <a:r>
              <a:rPr b="1" lang="zh-CN" sz="2000" spc="-1" strike="noStrike">
                <a:solidFill>
                  <a:srgbClr val="800000"/>
                </a:solidFill>
                <a:latin typeface="楷体"/>
                <a:ea typeface="楷体"/>
              </a:rPr>
              <a:t>周年等等。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Group 20"/>
          <p:cNvGrpSpPr/>
          <p:nvPr/>
        </p:nvGrpSpPr>
        <p:grpSpPr>
          <a:xfrm>
            <a:off x="0" y="0"/>
            <a:ext cx="9144000" cy="1066680"/>
            <a:chOff x="0" y="0"/>
            <a:chExt cx="9144000" cy="1066680"/>
          </a:xfrm>
        </p:grpSpPr>
        <p:sp>
          <p:nvSpPr>
            <p:cNvPr id="114" name="AutoShape 21"/>
            <p:cNvSpPr/>
            <p:nvPr/>
          </p:nvSpPr>
          <p:spPr>
            <a:xfrm>
              <a:off x="0" y="0"/>
              <a:ext cx="9144000" cy="106668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WordArt 22"/>
            <p:cNvSpPr txBox="1"/>
            <p:nvPr/>
          </p:nvSpPr>
          <p:spPr>
            <a:xfrm>
              <a:off x="155520" y="152280"/>
              <a:ext cx="327348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66ff33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中山纪念堂</a:t>
              </a:r>
              <a:endParaRPr b="0" lang="en-US" sz="18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66ff33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90564E-006 L 0.00156 -0.50855 E">
                                      <p:cBhvr>
                                        <p:cTn id="218" dur="1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90564E-006 L 0.00156 -0.50855 E">
                                      <p:cBhvr>
                                        <p:cTn id="229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90564E-006 L 0.00156 -0.49745 E">
                                      <p:cBhvr>
                                        <p:cTn id="240" dur="1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90564E-006 L 0.00157 -0.49745 E">
                                      <p:cBhvr>
                                        <p:cTn id="251" dur="1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500"/>
                            </p:stCondLst>
                            <p:childTnLst>
                              <p:par>
                                <p:cTn id="2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62" dur="1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500"/>
                            </p:stCondLst>
                            <p:childTnLst>
                              <p:par>
                                <p:cTn id="2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73" dur="1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6500"/>
                            </p:stCondLst>
                            <p:childTnLst>
                              <p:par>
                                <p:cTn id="28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84" dur="1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7500"/>
                            </p:stCondLst>
                            <p:childTnLst>
                              <p:par>
                                <p:cTn id="2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95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8500"/>
                            </p:stCondLst>
                            <p:childTnLst>
                              <p:par>
                                <p:cTn id="3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9500"/>
                            </p:stCondLst>
                            <p:childTnLst>
                              <p:par>
                                <p:cTn id="32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20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2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2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0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2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4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2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6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/>
          <p:cNvSpPr/>
          <p:nvPr/>
        </p:nvSpPr>
        <p:spPr>
          <a:xfrm>
            <a:off x="0" y="0"/>
            <a:ext cx="9144000" cy="1066680"/>
          </a:xfrm>
          <a:prstGeom prst="roundRect">
            <a:avLst>
              <a:gd name="adj" fmla="val 10181"/>
            </a:avLst>
          </a:prstGeom>
          <a:solidFill>
            <a:srgbClr val="ffffff"/>
          </a:solidFill>
          <a:ln w="9360">
            <a:solidFill>
              <a:srgbClr val="bb5f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ff33"/>
                </a:solidFill>
                <a:latin typeface="Arial"/>
              </a:rPr>
              <a:t>镇海楼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3124080" y="380880"/>
            <a:ext cx="1441440" cy="1440000"/>
          </a:xfrm>
          <a:prstGeom prst="ellipse">
            <a:avLst/>
          </a:prstGeom>
          <a:blipFill rotWithShape="0">
            <a:blip r:embed="rId1">
              <a:alphaModFix amt="90000"/>
            </a:blip>
            <a:srcRect/>
            <a:stretch/>
          </a:blipFill>
          <a:ln w="25560">
            <a:solidFill>
              <a:srgbClr val="b76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Oval 4"/>
          <p:cNvSpPr/>
          <p:nvPr/>
        </p:nvSpPr>
        <p:spPr>
          <a:xfrm>
            <a:off x="2895480" y="5418000"/>
            <a:ext cx="1441440" cy="14400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b76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1447920" y="1600200"/>
            <a:ext cx="1441440" cy="144000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b76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Oval 6"/>
          <p:cNvSpPr/>
          <p:nvPr/>
        </p:nvSpPr>
        <p:spPr>
          <a:xfrm>
            <a:off x="5181480" y="457200"/>
            <a:ext cx="1441440" cy="14400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b76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Oval 7"/>
          <p:cNvSpPr/>
          <p:nvPr/>
        </p:nvSpPr>
        <p:spPr>
          <a:xfrm>
            <a:off x="6629400" y="1905120"/>
            <a:ext cx="1441440" cy="1439640"/>
          </a:xfrm>
          <a:prstGeom prst="ellipse">
            <a:avLst/>
          </a:prstGeom>
          <a:blipFill rotWithShape="0">
            <a:blip r:embed="rId5">
              <a:alphaModFix amt="90000"/>
            </a:blip>
            <a:srcRect/>
            <a:stretch/>
          </a:blipFill>
          <a:ln w="25560">
            <a:solidFill>
              <a:srgbClr val="b76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Oval 8"/>
          <p:cNvSpPr/>
          <p:nvPr/>
        </p:nvSpPr>
        <p:spPr>
          <a:xfrm>
            <a:off x="5105520" y="5418000"/>
            <a:ext cx="1441440" cy="144000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b76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Oval 9"/>
          <p:cNvSpPr/>
          <p:nvPr/>
        </p:nvSpPr>
        <p:spPr>
          <a:xfrm>
            <a:off x="1295280" y="3886200"/>
            <a:ext cx="1441440" cy="144000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b76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Oval 10"/>
          <p:cNvSpPr/>
          <p:nvPr/>
        </p:nvSpPr>
        <p:spPr>
          <a:xfrm>
            <a:off x="6553080" y="3962520"/>
            <a:ext cx="1441440" cy="143964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b76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Oval 11"/>
          <p:cNvSpPr/>
          <p:nvPr/>
        </p:nvSpPr>
        <p:spPr>
          <a:xfrm>
            <a:off x="2819520" y="1828800"/>
            <a:ext cx="3733560" cy="35812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1905120" y="1219320"/>
            <a:ext cx="5562360" cy="53337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25560">
            <a:solidFill>
              <a:srgbClr val="b76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2819520" y="1905120"/>
            <a:ext cx="3809880" cy="4038480"/>
          </a:xfrm>
          <a:custGeom>
            <a:avLst/>
            <a:gdLst>
              <a:gd name="textAreaLeft" fmla="*/ 28080 w 3809880"/>
              <a:gd name="textAreaRight" fmla="*/ 3781800 w 3809880"/>
              <a:gd name="textAreaTop" fmla="*/ 28080 h 4038480"/>
              <a:gd name="textAreaBottom" fmla="*/ 4010400 h 4038480"/>
            </a:gdLst>
            <a:ahLst/>
            <a:rect l="textAreaLeft" t="textAreaTop" r="textAreaRight" b="textAreaBottom"/>
            <a:pathLst>
              <a:path w="21600" h="22896">
                <a:moveTo>
                  <a:pt x="550" y="0"/>
                </a:moveTo>
                <a:arcTo wR="550" hR="550" stAng="16200000" swAng="-5400000"/>
                <a:lnTo>
                  <a:pt x="0" y="22346"/>
                </a:lnTo>
                <a:arcTo wR="550" hR="550" stAng="10800000" swAng="-5400000"/>
                <a:lnTo>
                  <a:pt x="21050" y="22896"/>
                </a:lnTo>
                <a:arcTo wR="550" hR="550" stAng="5400000" swAng="-5400000"/>
                <a:lnTo>
                  <a:pt x="21600" y="550"/>
                </a:lnTo>
                <a:arcTo wR="550" hR="550" stAng="0" swAng="-5400000"/>
                <a:close/>
              </a:path>
            </a:pathLst>
          </a:custGeom>
          <a:blipFill rotWithShape="0">
            <a:blip r:embed="rId10">
              <a:alphaModFix amt="33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cc"/>
                </a:solidFill>
                <a:uFillTx/>
                <a:latin typeface="楷体"/>
                <a:ea typeface="楷体"/>
                <a:hlinkClick r:id="rId11"/>
              </a:rPr>
              <a:t>镇海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楼坐落在越秀山小蟠龙冈上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。该楼又名“</a:t>
            </a:r>
            <a:r>
              <a:rPr b="0" lang="zh-CN" sz="1800" spc="-1" strike="noStrike" u="sng">
                <a:solidFill>
                  <a:srgbClr val="ffffcc"/>
                </a:solidFill>
                <a:uFillTx/>
                <a:latin typeface="楷体"/>
                <a:ea typeface="楷体"/>
                <a:hlinkClick r:id="rId12"/>
              </a:rPr>
              <a:t>望海楼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”，因当时</a:t>
            </a:r>
            <a:r>
              <a:rPr b="0" lang="zh-CN" sz="1800" spc="-1" strike="noStrike" u="sng">
                <a:solidFill>
                  <a:srgbClr val="ffffcc"/>
                </a:solidFill>
                <a:uFillTx/>
                <a:latin typeface="楷体"/>
                <a:ea typeface="楷体"/>
                <a:hlinkClick r:id="rId13"/>
              </a:rPr>
              <a:t>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cc"/>
                </a:solidFill>
                <a:uFillTx/>
                <a:latin typeface="楷体"/>
                <a:ea typeface="楷体"/>
                <a:hlinkClick r:id="rId14"/>
              </a:rPr>
              <a:t>海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河道甚宽，故将“望江”变为“望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海”。又因楼高</a:t>
            </a:r>
            <a:r>
              <a:rPr b="1" lang="en-US" sz="18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层，故又俗称“五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层楼”。楼前碑廊有历代碑刻，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侧陈列有</a:t>
            </a:r>
            <a:r>
              <a:rPr b="1" lang="en-US" sz="1800" spc="-1" strike="noStrike">
                <a:solidFill>
                  <a:srgbClr val="ffffff"/>
                </a:solidFill>
                <a:latin typeface="楷体"/>
                <a:ea typeface="楷体"/>
              </a:rPr>
              <a:t>12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门古炮。镇海楼是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州标志性建筑之一。全楼高</a:t>
            </a:r>
            <a:r>
              <a:rPr b="1" lang="en-US" sz="1800" spc="-1" strike="noStrike">
                <a:solidFill>
                  <a:srgbClr val="ffffff"/>
                </a:solidFill>
                <a:latin typeface="楷体"/>
                <a:ea typeface="楷体"/>
              </a:rPr>
              <a:t>25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米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呈长方形，阔</a:t>
            </a:r>
            <a:r>
              <a:rPr b="1" lang="en-US" sz="1800" spc="-1" strike="noStrike">
                <a:solidFill>
                  <a:srgbClr val="ffffff"/>
                </a:solidFill>
                <a:latin typeface="楷体"/>
                <a:ea typeface="楷体"/>
              </a:rPr>
              <a:t>31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米，深</a:t>
            </a:r>
            <a:r>
              <a:rPr b="1" lang="en-US" sz="1800" spc="-1" strike="noStrike">
                <a:solidFill>
                  <a:srgbClr val="ffffff"/>
                </a:solidFill>
                <a:latin typeface="楷体"/>
                <a:ea typeface="楷体"/>
              </a:rPr>
              <a:t>16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米。下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两层围墙用红砂岩条石砌造，三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层以上为砖墙，外墙逐层收减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有复檐</a:t>
            </a:r>
            <a:r>
              <a:rPr b="1" lang="en-US" sz="1800" spc="-1" strike="noStrike">
                <a:solidFill>
                  <a:srgbClr val="ffffff"/>
                </a:solidFill>
                <a:latin typeface="楷体"/>
                <a:ea typeface="楷体"/>
              </a:rPr>
              <a:t>5</a:t>
            </a: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层，绿琉璃瓦覆盖，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有石湾彩釉鳌鱼花脊，朱红墙绿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瓦砌成，巍峨壮观，被誉为“岭南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楷体"/>
                <a:ea typeface="楷体"/>
              </a:rPr>
              <a:t>第一胜览”。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5 0.311111 E">
                                      <p:cBhvr>
                                        <p:cTn id="418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625 0.139537 E">
                                      <p:cBhvr>
                                        <p:cTn id="42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4583 -0.149352 E">
                                      <p:cBhvr>
                                        <p:cTn id="422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7917 -0.349352 E">
                                      <p:cBhvr>
                                        <p:cTn id="424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0417 -0.349352 E">
                                      <p:cBhvr>
                                        <p:cTn id="426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70417 -0.160463 E">
                                      <p:cBhvr>
                                        <p:cTn id="42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7875 0.095093 E">
                                      <p:cBhvr>
                                        <p:cTn id="43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875 0.295093 E">
                                      <p:cBhvr>
                                        <p:cTn id="432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500"/>
                            </p:stCondLst>
                            <p:childTnLst>
                              <p:par>
                                <p:cTn id="43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9583 0.339537 L -0.112083 -0.438241 E">
                                      <p:cBhvr>
                                        <p:cTn id="435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2917 0.161759 L -0.362083 -0.271574 E">
                                      <p:cBhvr>
                                        <p:cTn id="437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9583 -0.149352 L -0.378681 0.195093 E">
                                      <p:cBhvr>
                                        <p:cTn id="43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625 -0.360463 L -0.262083 0.395093 E">
                                      <p:cBhvr>
                                        <p:cTn id="441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875 -0.360463 L 0.07125 0.406204 E">
                                      <p:cBhvr>
                                        <p:cTn id="443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95417 -0.171574 L 0.337917 0.306204 E">
                                      <p:cBhvr>
                                        <p:cTn id="445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375 0.1 L 0.34625 -0.116019 E">
                                      <p:cBhvr>
                                        <p:cTn id="447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17 0.328426 L 0.19625 -0.404815 E">
                                      <p:cBhvr>
                                        <p:cTn id="449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使用规范说明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ffcc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C5E0-FBE3-4ED9-9B71-37EE18554A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22:55:5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4:39:10Z</dcterms:modified>
  <cp:revision>3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