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356-7B91-48F9-9EA5-FC1C25FC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C2A3-8D0B-4763-B3F4-7F79E1AE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36C3-AA21-4EFC-885B-194FD7F1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053-1F8C-4EF5-A00F-E2C423F3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CA82-F63C-4AD0-9D0B-CBC94614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090-3943-44EC-971A-30965449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2A3-C453-4AB4-9868-CD6F9F43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2B92-520F-4035-9856-AC822214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CB4-D3DD-494A-9974-E20137B2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94F-1749-48C5-ADA3-8123E296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D8B5-A15B-4FC2-B910-7BA362D5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5F77-EF54-4DD4-ADAD-513559EA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28DF-7351-41A5-A0F1-E02E5A1DB67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028F-C05E-4826-9556-AE74BACF929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41"/>
          <p:cNvSpPr/>
          <p:nvPr/>
        </p:nvSpPr>
        <p:spPr>
          <a:xfrm>
            <a:off x="2771640" y="825336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rc 13"/>
          <p:cNvSpPr/>
          <p:nvPr/>
        </p:nvSpPr>
        <p:spPr>
          <a:xfrm>
            <a:off x="-2814480" y="692280"/>
            <a:ext cx="5946480" cy="594972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4"/>
          <p:cNvSpPr/>
          <p:nvPr/>
        </p:nvSpPr>
        <p:spPr>
          <a:xfrm>
            <a:off x="2873520" y="1370160"/>
            <a:ext cx="312480" cy="3124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5"/>
          <p:cNvSpPr/>
          <p:nvPr/>
        </p:nvSpPr>
        <p:spPr>
          <a:xfrm>
            <a:off x="3371760" y="2638440"/>
            <a:ext cx="312840" cy="3128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16"/>
          <p:cNvSpPr/>
          <p:nvPr/>
        </p:nvSpPr>
        <p:spPr>
          <a:xfrm>
            <a:off x="3375000" y="3906720"/>
            <a:ext cx="311040" cy="3128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7"/>
          <p:cNvSpPr/>
          <p:nvPr/>
        </p:nvSpPr>
        <p:spPr>
          <a:xfrm>
            <a:off x="2886120" y="5175360"/>
            <a:ext cx="311040" cy="3124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rc 18"/>
          <p:cNvSpPr/>
          <p:nvPr/>
        </p:nvSpPr>
        <p:spPr>
          <a:xfrm>
            <a:off x="-1370160" y="1905120"/>
            <a:ext cx="3046680" cy="3047760"/>
          </a:xfrm>
          <a:prstGeom prst="pi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66320" y="306720"/>
            <a:ext cx="228960" cy="6244920"/>
            <a:chOff x="166320" y="306720"/>
            <a:chExt cx="228960" cy="6244920"/>
          </a:xfrm>
        </p:grpSpPr>
        <p:grpSp>
          <p:nvGrpSpPr>
            <p:cNvPr id="50" name=""/>
            <p:cNvGrpSpPr/>
            <p:nvPr/>
          </p:nvGrpSpPr>
          <p:grpSpPr>
            <a:xfrm>
              <a:off x="166680" y="3235680"/>
              <a:ext cx="228600" cy="3315960"/>
              <a:chOff x="166680" y="3235680"/>
              <a:chExt cx="228600" cy="3315960"/>
            </a:xfrm>
          </p:grpSpPr>
          <p:pic>
            <p:nvPicPr>
              <p:cNvPr id="51" name="Rounded Rectangle 12" descr=""/>
              <p:cNvPicPr/>
              <p:nvPr/>
            </p:nvPicPr>
            <p:blipFill>
              <a:blip r:embed="rId8"/>
              <a:stretch/>
            </p:blipFill>
            <p:spPr>
              <a:xfrm>
                <a:off x="166680" y="3235680"/>
                <a:ext cx="228600" cy="331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Text Box 25"/>
              <p:cNvSpPr/>
              <p:nvPr/>
            </p:nvSpPr>
            <p:spPr>
              <a:xfrm rot="10800000">
                <a:off x="238680" y="3368160"/>
                <a:ext cx="86040" cy="3030120"/>
              </a:xfrm>
              <a:prstGeom prst="rect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166320" y="306720"/>
              <a:ext cx="228600" cy="3315960"/>
              <a:chOff x="166320" y="306720"/>
              <a:chExt cx="228600" cy="3315960"/>
            </a:xfrm>
          </p:grpSpPr>
          <p:pic>
            <p:nvPicPr>
              <p:cNvPr id="54" name="Rounded Rectangle 2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6320" y="306720"/>
                <a:ext cx="228600" cy="331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28"/>
              <p:cNvSpPr/>
              <p:nvPr/>
            </p:nvSpPr>
            <p:spPr>
              <a:xfrm rot="10800000">
                <a:off x="239400" y="441720"/>
                <a:ext cx="86040" cy="30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TextBox 22"/>
          <p:cNvSpPr/>
          <p:nvPr/>
        </p:nvSpPr>
        <p:spPr>
          <a:xfrm flipH="1">
            <a:off x="3431520" y="1143000"/>
            <a:ext cx="58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品牌的定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 flipH="1">
            <a:off x="3894840" y="2392200"/>
            <a:ext cx="47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价值的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4"/>
          <p:cNvSpPr/>
          <p:nvPr/>
        </p:nvSpPr>
        <p:spPr>
          <a:xfrm flipH="1">
            <a:off x="3897360" y="364176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服务的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5"/>
          <p:cNvSpPr/>
          <p:nvPr/>
        </p:nvSpPr>
        <p:spPr>
          <a:xfrm flipH="1">
            <a:off x="3429000" y="4800600"/>
            <a:ext cx="52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产品的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7080" y="6404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92240" y="-507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目录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7379820">
                                      <p:cBhvr>
                                        <p:cTn id="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20000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20000">
                                      <p:cBhvr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20000">
                                      <p:cBhvr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8048-3175-46BB-A467-CB7E4A0D0E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19:48Z</dcterms:modified>
  <cp:revision>84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