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25200" y="6440400"/>
            <a:ext cx="5972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elvetica 65 Medium"/>
              </a:rPr>
              <a:t>France Telecom Group confidential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8065-2F7E-4888-BD28-BD6B64A4EF69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1"/>
          <p:cNvSpPr/>
          <p:nvPr/>
        </p:nvSpPr>
        <p:spPr>
          <a:xfrm>
            <a:off x="90360" y="914400"/>
            <a:ext cx="643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65 Medium"/>
              </a:rPr>
              <a:t>surprise them!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406760" y="1835280"/>
            <a:ext cx="4413240" cy="5095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-69480" y="23760"/>
            <a:ext cx="8254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46c0a"/>
                </a:solidFill>
                <a:latin typeface="Helvetica 55 Roman"/>
              </a:rPr>
              <a:t>your presentation will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Helvetica 45 Light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" name=""/>
          <p:cNvSpPr/>
          <p:nvPr/>
        </p:nvSpPr>
        <p:spPr>
          <a:xfrm>
            <a:off x="990360" y="2743200"/>
            <a:ext cx="30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欧美动态</a:t>
            </a:r>
            <a:r>
              <a:rPr b="0" lang="en-US" sz="4000" spc="-1" strike="noStrike">
                <a:solidFill>
                  <a:srgbClr val="ffffff"/>
                </a:solidFill>
                <a:latin typeface="Helvetica 45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84280" y="0"/>
            <a:ext cx="81025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1979280" y="2316240"/>
            <a:ext cx="52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Helvetica 45 Light"/>
              </a:rPr>
              <a:t>a picture</a:t>
            </a:r>
            <a:endParaRPr b="0" lang="en-US" sz="9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364920" y="348624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c7c7"/>
                </a:solidFill>
                <a:latin typeface="Helvetica 45 Light"/>
              </a:rPr>
              <a:t>is worth 1,000 word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144880" y="1638360"/>
            <a:ext cx="1839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622240" y="3032280"/>
            <a:ext cx="38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Helvetica 45 Light"/>
              </a:rPr>
              <a:t>every picture tells a story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Helvetica 65 Medium"/>
              </a:rPr>
              <a:t>使用规范说明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Helvetica 45 Light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Helvetica 45 Light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Helvetica 45 Light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Helvetica 45 Light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Helvetica 45 Light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Helvetica 45 Ligh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3020400" y="3259080"/>
            <a:ext cx="29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Helvetica 45 Light"/>
              </a:rPr>
              <a:t>ppt.glzy8.com</a:t>
            </a:r>
            <a:r>
              <a:rPr b="0" lang="zh-CN" sz="1600" spc="-1" strike="noStrike">
                <a:solidFill>
                  <a:srgbClr val="4a452a"/>
                </a:solidFill>
                <a:latin typeface="Helvetica 45 Light"/>
              </a:rPr>
              <a:t>海量</a:t>
            </a:r>
            <a:r>
              <a:rPr b="0" lang="en-US" sz="1600" spc="-1" strike="noStrike">
                <a:solidFill>
                  <a:srgbClr val="4a452a"/>
                </a:solidFill>
                <a:latin typeface="Helvetica 45 Light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Helvetica 45 Light"/>
              </a:rPr>
              <a:t>模板免费下载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>
            <a:lum bright="-16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-379440" y="5529240"/>
            <a:ext cx="388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videos inside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slideshare now!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420920" y="55040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video on flickr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54280" y="54864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 </a:t>
            </a: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every minute, ten hour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of video is uploa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535720" y="55306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15,000 video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uploaded dail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6600"/>
                </a:solidFill>
                <a:uFillTx/>
                <a:latin typeface="Helvetica 45 Light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576520" y="1798560"/>
            <a:ext cx="25909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6600"/>
                </a:solidFill>
                <a:latin typeface="Arial Narrow"/>
              </a:rPr>
              <a:t>IS</a:t>
            </a:r>
            <a:endParaRPr b="0" lang="en-US" sz="199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Text Box 3"/>
          <p:cNvSpPr/>
          <p:nvPr/>
        </p:nvSpPr>
        <p:spPr>
          <a:xfrm rot="16200000">
            <a:off x="1587240" y="2875680"/>
            <a:ext cx="21909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693320" y="23922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479840" y="2487600"/>
            <a:ext cx="1433520" cy="932040"/>
            <a:chOff x="4479840" y="2487600"/>
            <a:chExt cx="1433520" cy="932040"/>
          </a:xfrm>
        </p:grpSpPr>
        <p:pic>
          <p:nvPicPr>
            <p:cNvPr id="108" name="Text Box 3" descr=""/>
            <p:cNvPicPr/>
            <p:nvPr/>
          </p:nvPicPr>
          <p:blipFill>
            <a:blip r:embed="rId2"/>
            <a:stretch/>
          </p:blipFill>
          <p:spPr>
            <a:xfrm>
              <a:off x="4479840" y="2487600"/>
              <a:ext cx="14335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692600" y="27226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Helvetica 35 Thin"/>
                </a:rPr>
                <a:t>faster</a:t>
              </a:r>
              <a:endParaRPr b="0" lang="en-US" sz="24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</p:grpSp>
      <p:sp>
        <p:nvSpPr>
          <p:cNvPr id="110" name="Text Box 3"/>
          <p:cNvSpPr/>
          <p:nvPr/>
        </p:nvSpPr>
        <p:spPr>
          <a:xfrm>
            <a:off x="4650480" y="30272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time boun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685040" y="33321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703400" y="3637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692600" y="39466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859120" y="1895400"/>
            <a:ext cx="307188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90160" y="649440"/>
            <a:ext cx="67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different types of presentation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640" y="2448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69520" y="37339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164360" y="32004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980320" y="15238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alking pad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363000" y="4648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lideles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292040" y="534348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tick fig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386600" y="586728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quiet presentation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819520" y="1461960"/>
            <a:ext cx="3429000" cy="410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119280" y="6019920"/>
            <a:ext cx="28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can explain a lo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rcRect l="0" t="0" r="-107" b="-42"/>
          <a:stretch/>
        </p:blipFill>
        <p:spPr>
          <a:xfrm>
            <a:off x="-74520" y="2057400"/>
            <a:ext cx="220824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0"/>
          <p:cNvSpPr/>
          <p:nvPr/>
        </p:nvSpPr>
        <p:spPr>
          <a:xfrm>
            <a:off x="671760" y="274320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241200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4318920" y="276228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6154560" y="276228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797472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7" name="Straight Connector 39"/>
          <p:cNvSpPr/>
          <p:nvPr/>
        </p:nvSpPr>
        <p:spPr>
          <a:xfrm>
            <a:off x="552600" y="3408480"/>
            <a:ext cx="8076960" cy="1440"/>
          </a:xfrm>
          <a:prstGeom prst="line">
            <a:avLst/>
          </a:prstGeom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0"/>
          <p:cNvSpPr/>
          <p:nvPr/>
        </p:nvSpPr>
        <p:spPr>
          <a:xfrm>
            <a:off x="892800" y="1490760"/>
            <a:ext cx="331704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6600"/>
                </a:solidFill>
                <a:latin typeface="Helvetica 45 Light"/>
              </a:rPr>
              <a:t>“”</a:t>
            </a:r>
            <a:endParaRPr b="0" lang="en-US" sz="34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114800" y="2522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6a6a6"/>
                </a:solidFill>
                <a:latin typeface="Helvetica 45 Light"/>
              </a:rPr>
              <a:t>people don't know what they want until you show it to them </a:t>
            </a:r>
            <a:r>
              <a:rPr b="0" lang="en-US" sz="2400" spc="-1" strike="noStrike">
                <a:solidFill>
                  <a:srgbClr val="a6a6a6"/>
                </a:solidFill>
                <a:latin typeface="Helvetica 45 Light"/>
              </a:rPr>
              <a:t>– Steve Jobs 1998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06200" y="2800440"/>
            <a:ext cx="20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 45 Light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3" name="TextBox 9"/>
          <p:cNvSpPr/>
          <p:nvPr/>
        </p:nvSpPr>
        <p:spPr>
          <a:xfrm flipV="1">
            <a:off x="6956280" y="316656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45 Light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74" name="Shape 5"/>
          <p:cNvCxnSpPr>
            <a:stCxn id="72" idx="0"/>
            <a:endCxn id="73" idx="1"/>
          </p:cNvCxnSpPr>
          <p:nvPr/>
        </p:nvCxnSpPr>
        <p:spPr>
          <a:xfrm flipH="1" rot="16200000">
            <a:off x="4042440" y="-117720"/>
            <a:ext cx="1070640" cy="6906600"/>
          </a:xfrm>
          <a:prstGeom prst="curvedConnector5">
            <a:avLst>
              <a:gd name="adj1" fmla="val -21358"/>
              <a:gd name="adj2" fmla="val 25000"/>
              <a:gd name="adj3" fmla="val -21358"/>
            </a:avLst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TextBox 7"/>
          <p:cNvSpPr/>
          <p:nvPr/>
        </p:nvSpPr>
        <p:spPr>
          <a:xfrm>
            <a:off x="5316840" y="609588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Helvetica 45 Light"/>
              </a:rPr>
              <a:t>negative = positive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Text Box 3" descr=""/>
          <p:cNvPicPr/>
          <p:nvPr/>
        </p:nvPicPr>
        <p:blipFill>
          <a:blip r:embed="rId2"/>
          <a:stretch/>
        </p:blipFill>
        <p:spPr>
          <a:xfrm>
            <a:off x="-58680" y="1627200"/>
            <a:ext cx="10213920" cy="50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2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32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9:01Z</dcterms:modified>
  <cp:revision>2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811000000000001024140</vt:lpwstr>
  </property>
</Properties>
</file>