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DDD-45BF-404A-B1F5-B5368A2E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8FE-16D0-46AB-8F8A-2F8A07EC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0F2-4D16-4159-93B2-62DADEBE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4D5-4356-4D9C-A1EA-AC9A3944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F21-2BB4-47F1-ADD5-A6A7201B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0BB-2B38-466F-A852-8F5C496B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BB8-1EC5-401F-8EB7-80648E2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CAC-29D5-46D0-97A7-6DCFB3E3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2E9-2D45-42CB-892D-EE5CE3BD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246-08BE-4D11-AE05-40C60880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365-7A0F-4368-859D-A1FB41D7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5B7-8129-407C-A0CF-328B9934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465E-DCFD-431A-A42F-04AF7457915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未标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17" descr=""/>
          <p:cNvPicPr/>
          <p:nvPr/>
        </p:nvPicPr>
        <p:blipFill>
          <a:blip r:embed="rId2"/>
          <a:stretch/>
        </p:blipFill>
        <p:spPr>
          <a:xfrm>
            <a:off x="1981080" y="2066760"/>
            <a:ext cx="5834160" cy="1444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530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2680" y="19368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结束动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100-54F4-4E33-A5A8-EBD8492446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4:39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36:36Z</dcterms:modified>
  <cp:revision>4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