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0F5-7068-41D3-B5A4-6C568D9F1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EC3-349D-4DFB-A22F-7D60706D2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D2DE-6A24-4113-91A1-EBFBEBC3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817-556A-4B31-8859-7E4DCA23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CA1D-C6E7-4BC3-AAFC-D221972D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FB8-F39D-41C7-8A08-BFAED3FA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1D0-7DAA-4BCF-B42C-58C5F95E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763-4C92-4FBB-A5C8-25DAD891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AFB-3DED-4504-A630-52B48F15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1AB7-E740-43FE-B9E8-EC98FB96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474-4098-49FC-8A04-DE5BB1BBF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FBA0-305C-47F7-AF95-E68E6219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CF25-1AD3-491C-A449-06FEFA309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761F-7545-4A68-BA36-EB95926C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712B-17DA-4C3B-970F-F0B85D24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EB15-0520-4D24-AFED-58A1BA52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A7A7-42A3-498E-8F79-7800CE82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E3D0-39C2-437B-9720-29FD2BF8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D952-54B0-473A-9B89-D3640B2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8973-5C7E-497B-9AF7-ED737B3F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DD71A-9112-4924-BD09-B22B1C2A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0558-BB8B-4406-A308-5B1E42BF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BFCF-B709-4E6E-8EC6-AFA8F38A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91996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82720" y="148428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291996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382720" y="3891600"/>
            <a:ext cx="2345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934-1695-4FA2-A05E-80CDD9EC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60280"/>
            <a:ext cx="829152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89680" y="389160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38680"/>
            <a:ext cx="8291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89680" y="1484280"/>
            <a:ext cx="35542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91600"/>
            <a:ext cx="72835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3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bridgeinside"/>
          <p:cNvPicPr/>
          <p:nvPr/>
        </p:nvPicPr>
        <p:blipFill>
          <a:blip r:embed="rId2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b5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7" descr="bridgetitle"/>
          <p:cNvPicPr/>
          <p:nvPr/>
        </p:nvPicPr>
        <p:blipFill>
          <a:blip r:embed="rId2"/>
          <a:stretch/>
        </p:blipFill>
        <p:spPr>
          <a:xfrm>
            <a:off x="0" y="-9828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60564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60564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4BB40-9246-41FA-8E5F-B8C6A660B7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FD3D-3F5E-4117-AD4F-A2AD3B4DB86B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620280"/>
            <a:ext cx="8172360" cy="24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桥梁建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130680" y="645336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Use of templa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47640" y="17114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647640" y="313992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3992400" y="3139920"/>
            <a:ext cx="364032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Resell or distribute these templa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>
              <a:buClr>
                <a:srgbClr val="ffffff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47640" y="26082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44720" y="623736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Colour sche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835360" y="2787480"/>
            <a:ext cx="82692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11760" y="2787480"/>
            <a:ext cx="826920" cy="611280"/>
          </a:xfrm>
          <a:prstGeom prst="rect">
            <a:avLst/>
          </a:prstGeom>
          <a:solidFill>
            <a:srgbClr val="b3cce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782720" y="4402080"/>
            <a:ext cx="827280" cy="61128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851200" y="4402080"/>
            <a:ext cx="826920" cy="611280"/>
          </a:xfrm>
          <a:prstGeom prst="rect">
            <a:avLst/>
          </a:prstGeom>
          <a:solidFill>
            <a:srgbClr val="2e4c6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19680" y="4402080"/>
            <a:ext cx="826920" cy="611280"/>
          </a:xfrm>
          <a:prstGeom prst="rect">
            <a:avLst/>
          </a:prstGeom>
          <a:solidFill>
            <a:srgbClr val="ffab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989600" y="4402080"/>
            <a:ext cx="826920" cy="611280"/>
          </a:xfrm>
          <a:prstGeom prst="rect">
            <a:avLst/>
          </a:prstGeom>
          <a:solidFill>
            <a:srgbClr val="0091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4971960" y="2787480"/>
            <a:ext cx="827280" cy="6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1766880" y="2787480"/>
            <a:ext cx="826920" cy="611280"/>
          </a:xfrm>
          <a:prstGeom prst="rect">
            <a:avLst/>
          </a:prstGeom>
          <a:solidFill>
            <a:srgbClr val="1e3f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1548720" y="214776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Backgrou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2867400" y="2025720"/>
            <a:ext cx="76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3817080" y="2147760"/>
            <a:ext cx="101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Shadow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097960" y="2025720"/>
            <a:ext cx="57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br>
              <a:rPr sz="16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1925280" y="37623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i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2872800" y="376236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3807000" y="363996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Accent 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4888080" y="3638520"/>
            <a:ext cx="102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Follow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Hyperli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Sample Graph (3 colours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95280" y="1989000"/>
          <a:ext cx="6732720" cy="374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89000"/>
                    <a:ext cx="6732720" cy="37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Bullet Point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7283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Pictur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35640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4" descr="park_1"/>
          <p:cNvPicPr/>
          <p:nvPr/>
        </p:nvPicPr>
        <p:blipFill>
          <a:blip r:embed="rId1"/>
          <a:stretch/>
        </p:blipFill>
        <p:spPr>
          <a:xfrm>
            <a:off x="3995640" y="2960640"/>
            <a:ext cx="2454480" cy="3273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  <a:ea typeface="宋体"/>
              </a:rPr>
              <a:t>Process Fl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31880" y="3087720"/>
            <a:ext cx="1376280" cy="2354400"/>
          </a:xfrm>
          <a:prstGeom prst="rect">
            <a:avLst/>
          </a:prstGeom>
          <a:solidFill>
            <a:srgbClr val="2e4c9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66920" y="3087720"/>
            <a:ext cx="1376280" cy="2354400"/>
          </a:xfrm>
          <a:prstGeom prst="rect">
            <a:avLst/>
          </a:prstGeom>
          <a:solidFill>
            <a:srgbClr val="00919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776760" y="3087720"/>
            <a:ext cx="1376280" cy="2354400"/>
          </a:xfrm>
          <a:prstGeom prst="rect">
            <a:avLst/>
          </a:prstGeom>
          <a:solidFill>
            <a:srgbClr val="99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528480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e4c6b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2e4c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796080" y="3087720"/>
            <a:ext cx="1376280" cy="2354400"/>
          </a:xfrm>
          <a:prstGeom prst="rect">
            <a:avLst/>
          </a:prstGeom>
          <a:solidFill>
            <a:srgbClr val="ffab5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e3f6c"/>
                </a:solidFill>
                <a:latin typeface="Arial"/>
                <a:ea typeface="宋体"/>
              </a:rPr>
              <a:t>Bulle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81080" indent="-181080">
              <a:buClr>
                <a:srgbClr val="1e3f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Freeform 18"/>
          <p:cNvSpPr/>
          <p:nvPr/>
        </p:nvSpPr>
        <p:spPr>
          <a:xfrm>
            <a:off x="226692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009193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Freeform 19"/>
          <p:cNvSpPr/>
          <p:nvPr/>
        </p:nvSpPr>
        <p:spPr>
          <a:xfrm>
            <a:off x="731880" y="1614600"/>
            <a:ext cx="1898640" cy="1269720"/>
          </a:xfrm>
          <a:custGeom>
            <a:avLst/>
            <a:gdLst>
              <a:gd name="textAreaLeft" fmla="*/ 0 w 1898640"/>
              <a:gd name="textAreaRight" fmla="*/ 1899000 w 18986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96" h="800">
                <a:moveTo>
                  <a:pt x="1046" y="204"/>
                </a:moveTo>
                <a:lnTo>
                  <a:pt x="892" y="0"/>
                </a:lnTo>
                <a:lnTo>
                  <a:pt x="0" y="0"/>
                </a:lnTo>
                <a:lnTo>
                  <a:pt x="0" y="800"/>
                </a:lnTo>
                <a:lnTo>
                  <a:pt x="892" y="800"/>
                </a:lnTo>
                <a:lnTo>
                  <a:pt x="1046" y="596"/>
                </a:lnTo>
                <a:lnTo>
                  <a:pt x="1196" y="400"/>
                </a:lnTo>
                <a:lnTo>
                  <a:pt x="1046" y="204"/>
                </a:lnTo>
                <a:close/>
              </a:path>
            </a:pathLst>
          </a:custGeom>
          <a:solidFill>
            <a:srgbClr val="2e4c9d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Freeform 20"/>
          <p:cNvSpPr/>
          <p:nvPr/>
        </p:nvSpPr>
        <p:spPr>
          <a:xfrm>
            <a:off x="3776760" y="1614600"/>
            <a:ext cx="1854000" cy="1269720"/>
          </a:xfrm>
          <a:custGeom>
            <a:avLst/>
            <a:gdLst>
              <a:gd name="textAreaLeft" fmla="*/ 0 w 1854000"/>
              <a:gd name="textAreaRight" fmla="*/ 1854360 w 185400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Freeform 21"/>
          <p:cNvSpPr/>
          <p:nvPr/>
        </p:nvSpPr>
        <p:spPr>
          <a:xfrm>
            <a:off x="5284800" y="1614600"/>
            <a:ext cx="1857240" cy="1269720"/>
          </a:xfrm>
          <a:custGeom>
            <a:avLst/>
            <a:gdLst>
              <a:gd name="textAreaLeft" fmla="*/ 0 w 1857240"/>
              <a:gd name="textAreaRight" fmla="*/ 1857600 w 185724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70" h="800">
                <a:moveTo>
                  <a:pt x="1020" y="204"/>
                </a:moveTo>
                <a:lnTo>
                  <a:pt x="864" y="0"/>
                </a:lnTo>
                <a:lnTo>
                  <a:pt x="0" y="0"/>
                </a:lnTo>
                <a:lnTo>
                  <a:pt x="156" y="204"/>
                </a:lnTo>
                <a:lnTo>
                  <a:pt x="306" y="400"/>
                </a:lnTo>
                <a:lnTo>
                  <a:pt x="156" y="596"/>
                </a:lnTo>
                <a:lnTo>
                  <a:pt x="0" y="800"/>
                </a:lnTo>
                <a:lnTo>
                  <a:pt x="864" y="800"/>
                </a:lnTo>
                <a:lnTo>
                  <a:pt x="1020" y="596"/>
                </a:lnTo>
                <a:lnTo>
                  <a:pt x="1170" y="400"/>
                </a:lnTo>
                <a:lnTo>
                  <a:pt x="1020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Freeform 22"/>
          <p:cNvSpPr/>
          <p:nvPr/>
        </p:nvSpPr>
        <p:spPr>
          <a:xfrm>
            <a:off x="6796080" y="1614600"/>
            <a:ext cx="1854360" cy="1269720"/>
          </a:xfrm>
          <a:custGeom>
            <a:avLst/>
            <a:gdLst>
              <a:gd name="textAreaLeft" fmla="*/ 0 w 1854360"/>
              <a:gd name="textAreaRight" fmla="*/ 1854720 w 1854360"/>
              <a:gd name="textAreaTop" fmla="*/ 0 h 1269720"/>
              <a:gd name="textAreaBottom" fmla="*/ 1270080 h 1269720"/>
            </a:gdLst>
            <a:ahLst/>
            <a:rect l="textAreaLeft" t="textAreaTop" r="textAreaRight" b="textAreaBottom"/>
            <a:pathLst>
              <a:path w="1168" h="800">
                <a:moveTo>
                  <a:pt x="1018" y="204"/>
                </a:moveTo>
                <a:lnTo>
                  <a:pt x="864" y="0"/>
                </a:lnTo>
                <a:lnTo>
                  <a:pt x="0" y="0"/>
                </a:lnTo>
                <a:lnTo>
                  <a:pt x="154" y="204"/>
                </a:lnTo>
                <a:lnTo>
                  <a:pt x="304" y="400"/>
                </a:lnTo>
                <a:lnTo>
                  <a:pt x="154" y="596"/>
                </a:lnTo>
                <a:lnTo>
                  <a:pt x="0" y="800"/>
                </a:lnTo>
                <a:lnTo>
                  <a:pt x="864" y="800"/>
                </a:lnTo>
                <a:lnTo>
                  <a:pt x="1018" y="596"/>
                </a:lnTo>
                <a:lnTo>
                  <a:pt x="1168" y="400"/>
                </a:lnTo>
                <a:lnTo>
                  <a:pt x="1018" y="204"/>
                </a:lnTo>
                <a:close/>
              </a:path>
            </a:pathLst>
          </a:custGeom>
          <a:solidFill>
            <a:srgbClr val="ffab57"/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2918520" y="2066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24"/>
          <p:cNvSpPr/>
          <p:nvPr/>
        </p:nvSpPr>
        <p:spPr>
          <a:xfrm>
            <a:off x="1034640" y="2065320"/>
            <a:ext cx="889560" cy="368280"/>
          </a:xfrm>
          <a:prstGeom prst="rect">
            <a:avLst/>
          </a:prstGeom>
          <a:solidFill>
            <a:srgbClr val="2e4c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25"/>
          <p:cNvSpPr/>
          <p:nvPr/>
        </p:nvSpPr>
        <p:spPr>
          <a:xfrm>
            <a:off x="4449240" y="20667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Bui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6"/>
          <p:cNvSpPr/>
          <p:nvPr/>
        </p:nvSpPr>
        <p:spPr>
          <a:xfrm>
            <a:off x="5960880" y="2065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e4c6b"/>
                </a:solidFill>
                <a:latin typeface="Arial"/>
                <a:ea typeface="宋体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7"/>
          <p:cNvSpPr/>
          <p:nvPr/>
        </p:nvSpPr>
        <p:spPr>
          <a:xfrm>
            <a:off x="7368480" y="206676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Evalu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 of a tab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5240" y="1806480"/>
          <a:ext cx="6551640" cy="3278160"/>
        </p:xfrm>
        <a:graphic>
          <a:graphicData uri="http://schemas.openxmlformats.org/drawingml/2006/table">
            <a:tbl>
              <a:tblPr/>
              <a:tblGrid>
                <a:gridCol w="3276720"/>
                <a:gridCol w="3274920"/>
              </a:tblGrid>
              <a:tr h="51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e4c9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Dat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29"/>
          <p:cNvSpPr/>
          <p:nvPr/>
        </p:nvSpPr>
        <p:spPr>
          <a:xfrm>
            <a:off x="2630520" y="5397480"/>
            <a:ext cx="411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Note: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PowerPoint does not allow you to have nice default tables - but you can cut and paste this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3636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Examples of default sty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4149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ab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fab57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1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9193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873680" y="1668600"/>
          <a:ext cx="2806560" cy="1614240"/>
        </p:xfrm>
        <a:graphic>
          <a:graphicData uri="http://schemas.openxmlformats.org/drawingml/2006/table">
            <a:tbl>
              <a:tblPr/>
              <a:tblGrid>
                <a:gridCol w="1403280"/>
                <a:gridCol w="140328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15"/>
          <p:cNvSpPr/>
          <p:nvPr/>
        </p:nvSpPr>
        <p:spPr>
          <a:xfrm>
            <a:off x="162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4500720" y="4581360"/>
            <a:ext cx="2232000" cy="1368720"/>
          </a:xfrm>
          <a:prstGeom prst="rect">
            <a:avLst/>
          </a:prstGeom>
          <a:solidFill>
            <a:srgbClr val="336599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3cc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With shad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10:04:3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47:44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