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BC8-E135-4411-826D-CD73E718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59C-B8A5-40B3-9DB4-63CC3D80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F52EE-59F3-46F6-BFD9-1A19A587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398E9-8E17-4DD8-8607-6F86435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B3739-5D06-4F72-A7FA-A7C10B10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82A89-D2D8-44E7-9661-CC2E17C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5CD6F-10DF-465E-9D96-8A55E20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CAD6-6826-41D5-AA7A-0325D19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D473E-AC73-4715-BDEF-57700572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83A47-4840-4030-94F5-4F782786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E038B-C8D2-4AE4-8A7A-195AB497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29102-ACE1-4364-AC56-3F26573E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909-18BD-48C4-91B1-5CD6048A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E391A-5CB3-4251-AF70-31F24CB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81F2B-EA18-4284-9320-9777E422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5C155-0E30-42BA-B7AD-815C037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013F-1A7D-40BE-888E-2EE79F8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D1FE4-358B-4D46-96DE-41E5A66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C3629-3FE4-43EB-A5F2-230B96C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DA19E-6282-40EB-BA89-CEABD0D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A5E17-0130-40B7-BBB9-AAE8837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21AF8-29B3-4437-9254-F8584EF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39ED5-7466-4392-BA4D-554F3A1D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611-5551-44F9-A857-AF96898F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EE9B9-F675-4FD3-877E-13462079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10A67-3DE5-4C6A-80A6-49EAB440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1501-3A65-4BC9-872C-DD494BBF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6CDE2-E81C-4302-B3CC-3A2E71E9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F134A-8E20-47D3-A8DE-7981F01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CBD6C-FDCE-459A-B07B-642EFFB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57254-45B9-44EB-BDCA-57BD323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2A8D1-6E93-4FE1-AE90-285A20B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DD769-92F4-4646-A367-1C82134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EEDEC-809B-409D-9DF7-634F075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54C1-8E76-4E89-BE72-857E5D5B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AF91D-7EF5-4B25-A9D1-0B46D84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9C248-A5DD-4483-8FEF-4762A1D9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DE874-96C3-41CF-A074-C632282F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48346-462F-4BB1-BCC7-40353C4B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6F074-AE0C-4462-A6A3-E15338B5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E4A80-E1BC-4E7B-98B8-CF8F2E9B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9B77F-24D0-441C-8C96-51399D74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2514A-F6BC-48B9-8E91-E4B4D67E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CA51E-2C02-471D-B253-8499C3C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6B496-1237-47FC-9E18-D8B03E2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0940-D4AE-4932-B779-0720D8F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D1EEF-152A-4421-BAB1-71D732B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55C16-620C-42AD-A8D9-6F48F95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C6B20-EF9A-4BA9-9F30-98BC308C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A8588-583E-4AC6-9759-D34BCE07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CB992-DF87-4A46-869E-6338F052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09880-2910-4F16-8DA5-990B9EFD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3E453-BA79-4E10-80D4-D186035C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47110-7E82-46BA-98E7-494B583B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96C32-8A6B-4AC4-BCEA-B7A9912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EE3B8-081B-43AA-8875-6C6F50D2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4A8-2F74-481A-85D4-7F654F3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0C5AF-8FC5-4C4A-A0DA-5FDEC94C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5EC2A-10A3-47FE-BAA8-F35B958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3C2E3-F9AC-43CC-88E9-F8A0CA3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87B56-1112-49FC-BD35-A23FBF9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DC6ED-812F-4428-BF81-3199B82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E675F-A81F-4431-980A-2031ED0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CECC8-8400-4252-8763-FD5D9CEB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3C19-3070-4BD1-A185-A4F1B16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8FD7-6FC9-4A46-907C-A6431BDA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EE5A-A84D-4B6B-A7F8-15871459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BE80-6B16-4682-8B30-A3E39A6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2CD-CED4-4B16-B123-80BBAFE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EBF-8F58-426A-9545-F2CCBB2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2A57-9B3F-4313-B043-17BD765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D830-6ABE-474B-B04D-DB3A04C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9780-AB46-451D-9AFE-2AD88767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243B-277F-4999-8882-7C0340E7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79B3-E846-42A6-B8F8-EBB13DFC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762E-226B-4FC6-AAAA-28A95387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F866-2690-4A39-B8C4-C81564F0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1C74-2DA1-4F37-961C-FD73B9BA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3E42-6757-40C5-83EE-223B8AB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193-F986-4C5B-803D-1162DD44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B97E4-CB6A-4757-B918-7EDF2B42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9D74-787B-48DE-A27B-B7E51CA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F932-98B5-4351-9BDA-9AE1B8B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BED8-0B37-4215-9F33-288D271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2688-12CD-4B06-A6C5-2468B27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56A7-5566-47EF-B8F4-FF41B326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862E-B953-4C0E-8F71-02BD2AB3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D674-6E31-405D-B3D4-81329984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8B83-5C1F-4323-8F6B-994E61DF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A746-7188-4F3D-A764-44C35FB6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CDE-B3DE-4E67-A589-4D852E10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C03D-B0A2-4AA6-A87C-003365DF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2692-B839-42CB-A679-2CE5F11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EE19-AA6C-4D46-9F4D-648EA81F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44F8C-EAF1-4E52-B56B-23DF9608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73D4A-ED02-40EF-94EA-F70FA104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1B80-58D2-480B-BA5F-958722D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8AD66-F4C7-42D7-B9E3-D630E5FB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2BF7-86D4-4B53-9E4C-09647496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6A6C-B8E1-48B8-9624-63D41D89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0B372-4B62-4BAB-B9F7-378DBAD4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C92-980C-414C-A94E-29D64C8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3CED-0D69-4C35-83CC-A1F4BB3E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72AD-2BD6-4D29-BEF9-E1D62BA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804A-7BC7-4071-BD3D-CCA594AB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B602-9A81-4204-89AE-A7A8A03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314F2-9A41-430F-82C0-629137AD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83C3-1995-4538-AB34-4B20DA95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5FF9-94EC-41EB-8160-9A580CE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462F-4111-46A0-A99D-A863CA1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374B3-E26B-4AD5-B260-E36A33E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5660-45A3-44FE-97F7-8757250D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0D7-76BE-4C97-85E5-597C69C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6665-CDFE-45DC-917F-3C8DD86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94F9-AF63-477D-85CE-5C379B66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A209C-CF81-41B6-9E8E-C708470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EE5A-74C6-4E2C-B6DC-A04F928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B0C3A-B347-47C6-86C7-1FB71551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9713-8723-45AB-AC0B-F2872920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47EB-A9D5-4182-AB95-F2561394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DA5A-014E-445A-A84D-09B756A1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882AD-9D10-4A2D-B72F-B7EACD04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E196-FEC9-4C3E-B71D-36B9529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073-AD1A-4230-90E3-C50B51F7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1891-5057-45CA-B60D-918B4B42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2BF6-5117-429B-9B4E-8619EB47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3F7C-2B27-423B-9573-DC991AE9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2CA5-B214-4ACD-AA9C-15FE1669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C68D-7875-4EDE-B42C-88BE8EF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622A-C104-4123-BC46-DA45DF0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4544-08E3-4E6F-A476-215C99EF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06D6-88F2-4AF7-A571-455ED735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CC3C-4CD0-49A8-980D-8907A08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3A38-D99C-41E6-8A0C-6A3E7B9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150-D94C-4C7E-AB56-F60F052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5CBB8-21B3-40D2-91D3-CA329181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26C1-32F3-41E2-B02C-6F44629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4CCA1-2D8B-4C7B-8D89-5504BD4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32E87-117B-49D7-BE07-5F10958A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DC33-EB32-45A5-9B7A-472FBD8E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4305-75B4-4F68-A214-E7B4E59C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5B372-7062-4A14-A794-B47F6DE3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98F4-2C02-4943-A12C-D9222774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3FDE-4535-4881-B364-8158A5BE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435A-DC4C-4F9F-8CCE-9F32F41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FFE-3666-4C51-849E-48C125D4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7728D-7077-4388-B2C0-A54919A4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2AE5-F4B8-4C46-8E2C-FBE89C6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BB69F-640C-4617-B75C-0A1D04A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62934-254B-41AC-BB08-5F61EA6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0B54C-3CCE-4ACF-82C5-F8E59DA1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9BDE-3913-400F-9B60-16473C09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FC349-07EC-49BF-A073-EECF7282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72A5E-3013-4606-B32A-48DDA2B9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B4652-BC82-4723-B6A1-8707E99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53C2D-C527-4E67-8C56-9DC1588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87E9-E50E-4EF4-8410-CCD2F68D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82B-D34B-4E54-A172-3FC52AC51C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521-CE1D-450C-91D2-C830C4626F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37D-2803-437F-873A-FF510CF2D2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5BA0-DBFD-4D34-8A9E-CE9EC70331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E2C1-C745-46F3-8A98-C4E7E6DBEE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0A8-8ACB-46B3-A50B-5CE2279F59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BA38-266B-4DBF-A01C-9E77E09775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6C29-B7EC-4015-8EF7-328C9F7465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D5C-609E-41CA-A790-22750CDDD1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9A7-3CA2-46D6-9D4B-DAD36EB99C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466-4ADD-47AD-85EE-D136E60A70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9007-4310-4B0A-9115-F04B4E9BFA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矩形 1"/>
          <p:cNvSpPr/>
          <p:nvPr/>
        </p:nvSpPr>
        <p:spPr>
          <a:xfrm>
            <a:off x="0" y="1557360"/>
            <a:ext cx="9144000" cy="33116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7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浅谈安全管理体系的实施</a:t>
            </a:r>
            <a:r>
              <a:rPr b="0" lang="en-US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思路：抓安全就是消除隐患，预防事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抓安全要在防字上下功夫：防为上，救次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安全才有效益                 出了事故，追悔莫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1119109278_FZaims"/>
          <p:cNvPicPr/>
          <p:nvPr/>
        </p:nvPicPr>
        <p:blipFill>
          <a:blip r:embed="rId1"/>
          <a:stretch/>
        </p:blipFill>
        <p:spPr>
          <a:xfrm>
            <a:off x="395280" y="3789360"/>
            <a:ext cx="3809880" cy="2712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0016364f1e8302420c2102"/>
          <p:cNvPicPr/>
          <p:nvPr/>
        </p:nvPicPr>
        <p:blipFill>
          <a:blip r:embed="rId2"/>
          <a:stretch/>
        </p:blipFill>
        <p:spPr>
          <a:xfrm>
            <a:off x="4788000" y="3789360"/>
            <a:ext cx="4032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我们谈下硬件管理：硬件管理就是把设备设施和环境的完好，重点是提高先进性可靠性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我们看一下在很多企业中推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251434_b"/>
          <p:cNvPicPr/>
          <p:nvPr/>
        </p:nvPicPr>
        <p:blipFill>
          <a:blip r:embed="rId1"/>
          <a:stretch/>
        </p:blipFill>
        <p:spPr>
          <a:xfrm>
            <a:off x="4572000" y="2060640"/>
            <a:ext cx="4572000" cy="47973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理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区分要与不要的东西，职场除了要用的东西以外，一切都不放置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空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腾出来活用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顿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要的东西依规定定位、定方法摆放整齐，明确数量，明确标示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不浪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找东西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扫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清除职场内的脏污，并防止污染的发生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消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脏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保持职场干干净净、明明亮亮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将上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的做法制度化，规范化，维持其成果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通过制度化来维持成果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养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培养文明礼貌习惯，按规定行事，养成良好的工作习惯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提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的品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成为对任何工作都讲究认真的人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效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节约家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降低很多不必要的材料以及工具的浪费减少“寻找”的浪费，节省很多宝贵的时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降低工时，提高效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安全有保障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洁有序的办公环境，设备车辆一目了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遵守堆积限制，危险处一目了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造成杂乱情形而影响工作的顺畅及安全生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标准化的推动者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都正确的按照规定执行任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稳定，带来品质稳定，成本也安定，安全就有了保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次我们谈一下软件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管理就是着重把各项规章制度、业务流程等一系列制度建立并不断地完善起来，并能有效的保证这些制度规程能被一丝不苟的实施下去！我总结了几项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管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想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树立员工正确的人生观价值观安全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为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严格按照工作准则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强化培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boerer502342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管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什么？如何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成什么目标？遵守什么规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行什么标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取什么样的方式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求什么样的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20070409161615902"/>
          <p:cNvPicPr/>
          <p:nvPr/>
        </p:nvPicPr>
        <p:blipFill>
          <a:blip r:embed="rId1"/>
          <a:stretch/>
        </p:blipFill>
        <p:spPr>
          <a:xfrm>
            <a:off x="4643280" y="2060640"/>
            <a:ext cx="4032360" cy="424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管落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什么方法落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来落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什么时间落实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boerer502338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演讲结束谢谢各位领导同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：相关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总在谈安全生产，那么什么是安全？什么又是危险？有没有明确的定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统定义：远离危险的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人讲“无危则安，无缺则全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温馨家庭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安全管理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就是人们把风险控制在可以接受的水平以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是系统的固有特征，能够保证系统在人们可以接受的风险水平下运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dtxxpic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的定义是随着安全经济学的出现而发生了根本性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20071021213905338"/>
          <p:cNvPicPr/>
          <p:nvPr/>
        </p:nvPicPr>
        <p:blipFill>
          <a:blip r:embed="rId1"/>
          <a:stretch/>
        </p:blipFill>
        <p:spPr>
          <a:xfrm>
            <a:off x="4643280" y="2205000"/>
            <a:ext cx="403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危险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定义：事物处于一种不安全状态，将可能导致一种事故或者一系列的损害或损失事件的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5" descr="火灾5"/>
          <p:cNvPicPr/>
          <p:nvPr/>
        </p:nvPicPr>
        <p:blipFill>
          <a:blip r:embed="rId1"/>
          <a:stretch/>
        </p:blipFill>
        <p:spPr>
          <a:xfrm>
            <a:off x="755640" y="4149720"/>
            <a:ext cx="3672000" cy="237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6" descr="油罐车失火"/>
          <p:cNvPicPr/>
          <p:nvPr/>
        </p:nvPicPr>
        <p:blipFill>
          <a:blip r:embed="rId2"/>
          <a:stretch/>
        </p:blipFill>
        <p:spPr>
          <a:xfrm>
            <a:off x="5076720" y="4149720"/>
            <a:ext cx="3598920" cy="24256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：什么是安全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针的概念：引导事业前进的方向和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第一”是指在生产经营活动中，在处理保证安全与生产经营活动等的关系上，要始终把安全放在首位，优先考虑从业人员和其他人员的人身安全、设备设施安全和环境的安全，实行安全优先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：什么是预防为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防是按照系统化、科学化的管理思想，按照事故发生的规律和特点，千方百计地预防事故的发生，做到防患于未然，将事故消灭在萌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消防学习2"/>
          <p:cNvPicPr/>
          <p:nvPr/>
        </p:nvPicPr>
        <p:blipFill>
          <a:blip r:embed="rId1"/>
          <a:stretch/>
        </p:blipFill>
        <p:spPr>
          <a:xfrm>
            <a:off x="4572000" y="2133720"/>
            <a:ext cx="4141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：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硬件与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质上讲包括硬件和软件管理两个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者之间的关系是硬件是基础，软件是关键，彼此影响，彼此制约，相互依存，互为因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1:59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7:4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