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793B4-6649-46DE-B8A7-3E6619281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DDB69-0066-4D13-AF8D-4ECC2CDD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85D8B-2BB4-4363-A5A6-64FC49A8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1FCA9-EE52-43AB-AE33-E43D9E5F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D76727-1770-4D3B-BD0C-C7221D1A5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41F6E-CA64-423F-A875-8B5D7129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90D4E-A126-4D77-BE3A-F1A7DB0BF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B333E-E26C-4E21-9159-BF7D0C6C8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FD132-0547-458E-9381-E20365E9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0FDF1-3F19-4A3E-AD6E-EACE5328F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41E651-7ECC-422B-97D4-5A59102B3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11BC64-D67D-438C-9F7F-47FA49C8D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2C262-4A7C-48A0-9C2B-41E6D11B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4F45C8-3DFF-4F4E-9F1B-995108FF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5D2EE1-BD3E-47D1-A8E5-F9FAF6DA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5D6AB-83C3-499D-9ED4-7F9AD56B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7A786-6EEB-446C-9B94-E6D4F531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653BE-0D72-48D2-A1B8-7E8132D8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EC22A9-43D3-46FE-A6AB-77034CD5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28F7F-7BBB-44B9-91A4-11B0EF811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EB1E5E-75EC-443B-A1E2-E905524D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51C54-AC3B-457D-8E2A-C2488CA6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8E4F39-2035-46BD-B6E1-9B4EA6FA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ACB6F-FF58-44C1-A768-404457D2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7B5F9F-BB5E-4774-9810-6C50F1E9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61168D-2996-4BAC-8701-01C46254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829512-8241-4A27-B666-77D22090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C9391C-2400-41EA-AC93-E079342D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0BBA8F-A9D1-4B08-A455-4BF98D05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2C95A-9F17-4687-82EA-8A8F6A84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4E24-F794-45D6-85C3-2A7544173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1F496E-B6F7-44AF-803B-E69FEC4F5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5DC985-F965-4653-916C-C0B1DE50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520BE-58FE-4BF7-AD0F-CF7724C0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65A45-7DE4-47F8-98AC-FF9A173D1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7AB1C-1C82-41EB-A5E4-ECE34260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B22CEE-5916-402E-81E0-C10826AB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1060F-6F9F-41F7-AB07-9274AE91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E88CA-BAF8-4C6A-9F1A-D89CD94B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69BFA-8EB2-48EC-9AF8-96CDBD19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86645B-318E-4EBA-BD22-7D55AF31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55B-6882-4315-AB9A-9CFAB720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4CE51-33D9-41FB-A1D2-E1DF7651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67660A-D2CE-46F8-9F29-5A0472AA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B9AE-94B4-44B7-A446-29C3A0E5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B0403-AB07-40DE-B185-7FFB3803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34997-5E51-4DEB-9F49-9CE70FC9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A2763-D9C3-4303-BF28-A6871B4C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F09FCD-073A-4D16-9412-152D10F3C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475EA2-CC22-4D22-B497-CB198524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C5C9D2-0339-492A-8C5D-BD1A07BD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B7D92-A9D3-4089-93A3-B7910020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F208-39CD-403B-91EB-4EBD604C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43CB2D-A4A3-4D06-A0CC-4195298D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9C1A1-9E7C-4DB1-ADAB-ECB34603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46EAD3-1B51-4D92-B2FB-4FDAFAA0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260AC3-6724-4477-A2DC-7DC8C65F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4FBA1D-550D-42A1-BCAD-0FA01978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CA758B-ED31-4E84-A1E0-C21E39BCF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AFA71-3781-447E-A2A0-7B2D39D5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8DB6-333A-4687-AAE1-C758FE62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98C7-9F00-4E99-BC3B-CB641A86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80D-AF05-4960-A23F-61C3543A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48FB-E4EF-4F8B-9F09-CED7615D6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C6A6-3988-4BF9-93CE-50CE5356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42BA-C88B-4B80-B596-3BF35BE8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EE47-1DD5-472D-AB37-E937C0A7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541-CC14-4ECD-8AB4-DCA8849D7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16C5-CD29-411B-B280-24848F391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2128-46E7-4DB9-8356-083401500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762F-9E33-4B1A-879A-233C766E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6229-EDA6-497E-BDC2-ABAF9C14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2CB5-178F-493C-8127-4EFC7285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7399-3DD2-40D8-B409-7D15E505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0C49-CA68-4418-A8E7-EE28304B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9BCE-20FB-4F4C-B553-6F02C935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7BC4-A5B4-49C3-A8C8-F10CB90C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1C81-A149-45F9-9CD6-B9EB8930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19FE-8C87-4FB9-BE56-A8406B7D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5C48F-B940-4DEC-9A54-FB7865443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6DDB-3D03-43F1-A0AF-EEC65E86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373778-E838-441E-A6E5-03E52129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1760B-2975-499B-A3EB-D8D1BCBF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939D3-0222-4D47-BAE8-73E6C2C6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F64F0-4A9C-427C-94A8-DEEC9F4B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0394D-99CF-4A55-9858-19A555AB8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54E38-442D-41F1-93B5-006B25E58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E9714-BE26-4EE9-B824-ADC30067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B750D-3E17-4B3B-A763-47C85837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0622E-936E-4D67-B05C-640C40AE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36E94-13BE-40E0-B682-FEB8E180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56EF9-8D3D-410E-AC37-5DE57BBF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BDECE-50CC-45C8-84F5-DBF3F1380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B8627-87E3-467C-B282-FFE36A9B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88B09-34C5-4DCB-92E7-63F3EAF1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00E13-239E-42E0-A61C-FE35C760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6EA49-49AC-4D00-AA29-6B21BE5D0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18B3C-A23F-453E-A63B-54D473B90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0F07A-2D5F-4A0C-A42E-A7550089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5E6A-8B99-4E23-A234-7E2159CD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B58F4-DADB-4D73-98AC-F5E54C5B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7D731-D1C6-473D-AF0F-664D93A5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E3B93-BCDF-4A8E-B861-1BE0E9A9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7881B-909C-47D2-9525-0523621B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3A9D1-75EC-4CA5-BD47-574D5CD17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223CA-6CAE-4AF2-998C-700CFDDAC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6EC0F-CB53-4655-8B9F-239593AE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E18F1-5EFB-4393-8CF6-968D85F2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7E6AD-4539-4322-8717-03CCC996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644A7-9F37-4257-85F1-94246618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7C986-8074-4E52-9D3E-2FEAE8C6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F8CD4-9864-4543-BAB3-C379CEDB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CCEBD-D847-4ACE-9131-937E7E6F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4553D-9587-4B45-A1C4-BDF9FFC4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3FF1D-AE9A-49E5-B93F-ADE29091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58781-3A11-451D-85E7-F6798FCE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7FCA3-8BC4-4708-8044-162AA5B73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9BDE9-23E5-430A-8CE4-E25EC59BE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0F8A9-F831-4FA9-95A1-E9F90D94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A6D7F-3412-4DC0-81A6-A7300290F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9132E-492B-4130-B0E2-6496687A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35957-49E8-4C37-9BD1-B1B3456E2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CAB6D-2A31-4FB8-9CD7-C47DEEC4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FAA8F-C9DE-48B3-9E60-0E9C13EF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6F5AF-AC63-469D-A245-C1DF1E8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3ABFF-3B8F-4B36-943C-C5E4203E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E846A-466A-4867-81C2-CB96FED20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D5307-C6EC-457D-AFF8-170325167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44BD1-8BA4-4D05-A193-B916DA6B4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F9705-BE9E-4859-9275-6FD82A949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6B95B5-D839-4180-B9C8-177311340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07083-325D-45B8-97C5-2B5F6E4C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F8F4E-9893-4BAA-BE72-ACC645A2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AE8217-E220-48FC-8C10-4E59ACA4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826303-E8AC-44F8-BC27-2103AE09D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CE136-7B61-46BB-9183-F1AE1482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FD581-DAED-43C7-83BC-9BCA474C2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6C4B9-AF40-4516-AB36-384053ED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84883-CBCF-4AFD-AA19-887BF9A3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31DDC-FFA5-450B-90EE-C584A3321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74D6B-F9CD-48A5-97A9-DE1282E2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54DB9A-C54C-4DB6-88FF-B4B28AD3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D77E6-0EBA-4350-88AD-FC109CF2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74E400-C884-4E75-B64D-F9A6C992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C939-5984-4522-916C-31B1B61733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154E-2182-488B-B7FA-11CF81D16F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A04B-7F5D-4E2D-A32B-BD1AC313927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1C60-72E8-49E4-8B99-C718FEE675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589C-D36E-4313-99AF-EE6985ADF7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F73-2128-4837-A531-1A8A4DD2FF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0F099-8386-4B87-A4E6-089FD505AD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DBDE-3989-49A6-AF8A-3D2DFEF6B4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B96E-B328-450A-A83D-4981F7DA003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7B9F-4CD2-4EB1-B1E6-6BE630813E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44834-3B77-40E4-9C10-2D53ECE549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6E74-47D9-48CA-81CB-F78DE46499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求富路社区公共文化服务体系建设总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矩形 1"/>
          <p:cNvSpPr/>
          <p:nvPr/>
        </p:nvSpPr>
        <p:spPr>
          <a:xfrm>
            <a:off x="1953360" y="83664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社区文化服务体系建设总结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矩形 3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基础概括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如画的生态景观，和谐的人际关系，多彩的文化活动，这里就是广东省优秀文化社区、东莞市文化标兵社区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求富路社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大力开展文化艺术活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求富路社区位于大朗镇中心区，毗邻松山湖科技产园，面积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.69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平方公里，户籍人口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42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多人，新莞人近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万多人。社区共有灯光球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个，文化广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个，村史馆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个，图书馆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个健身器材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5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套，宣传长廊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条。求富路每年对本地居民、新莞人、青少年等不同类的服务人群开展文化活动需求调查，有针对性地开展了一系列文化艺术活动。如：开展了“家庭教育”、“普发教育”、“道德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等知识传播活动？场，年播放电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48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场，举办文艺展演？场，年办篮球比赛、羽毛球比赛、兵乓球比赛各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场。并在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201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月，由社区组织举办了第一届才艺大赛，给参赛者提供展现自我的平台，也为社区挖掘了一批文艺术人才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着力打造“书香社区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求富路积极利用图书馆、村史馆、文化资源，以开展知识传播活动为载体，着力打造“书香社区”，不断丰富社区居民的文化内涵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四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引进社工组织，创新文化服务模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201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月成立了社区综合服务中心，中心以常规服务月特色服务结合，做到天天有服务，周周有活动，月月主题。中心自成立以来，共举办了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7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个小组和活动，服务人次达到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720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五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保障措施到位，确保文化工作顺利开展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求富路在文化建设保障措施做到了以下几点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一）领导重视是前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二）经费到位是保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三）宣传领导是抓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四）形成合力是关键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04:11:0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2:58:10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