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27C-495E-4DE7-ACE8-4081A6A7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ADA-43E7-456E-831D-62E826A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F6E-C477-49BA-9C8C-50037742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68E-BA8C-454F-AF1E-BFEAA698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3AE-6891-4411-886B-C6DEBD4E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8C0-2C37-4827-9329-DFF14985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C0C-EE05-45BF-A053-A694BE21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304-8EA5-41D0-A579-F50BB500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F13-7500-4D5C-B913-9E9C6CA8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D61-4E26-455C-9705-4E54FAC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045-40BF-4495-B364-5C1E08F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A79-3664-42C0-89ED-EEA1360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02F3-B16E-454C-83FD-E5FACC491C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0C44-012C-4D40-A304-1A1807F090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52424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360" y="40730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752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28560" y="27608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db3e2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41A-764D-4F5C-931F-865D765C36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788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253440" y="62485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b3e2"/>
                </a:solidFill>
                <a:uFillTx/>
                <a:latin typeface="Calibri"/>
                <a:ea typeface="Calibri"/>
              </a:rPr>
              <a:t>David McCan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899320" cy="6629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781680" y="0"/>
            <a:ext cx="23623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066680" y="0"/>
            <a:ext cx="72327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781680" y="0"/>
            <a:ext cx="23623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LES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124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781680" y="0"/>
            <a:ext cx="23623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UG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3"/>
          <p:cNvGrpSpPr/>
          <p:nvPr/>
        </p:nvGrpSpPr>
        <p:grpSpPr>
          <a:xfrm>
            <a:off x="11160" y="838080"/>
            <a:ext cx="9118440" cy="5562720"/>
            <a:chOff x="11160" y="838080"/>
            <a:chExt cx="9118440" cy="5562720"/>
          </a:xfrm>
        </p:grpSpPr>
        <p:sp>
          <p:nvSpPr>
            <p:cNvPr id="55" name="AutoShape 4"/>
            <p:cNvSpPr/>
            <p:nvPr/>
          </p:nvSpPr>
          <p:spPr>
            <a:xfrm>
              <a:off x="1060920" y="1478520"/>
              <a:ext cx="7018920" cy="4281840"/>
            </a:xfrm>
            <a:custGeom>
              <a:avLst/>
              <a:gdLst>
                <a:gd name="textAreaLeft" fmla="*/ 0 w 7018920"/>
                <a:gd name="textAreaRight" fmla="*/ 7019280 w 7018920"/>
                <a:gd name="textAreaTop" fmla="*/ 0 h 4281840"/>
                <a:gd name="textAreaBottom" fmla="*/ 1528920 h 4281840"/>
              </a:gdLst>
              <a:ahLst/>
              <a:rect l="textAreaLeft" t="textAreaTop" r="textAreaRight" b="textAreaBottom"/>
              <a:pathLst>
                <a:path w="21600" h="10800">
                  <a:moveTo>
                    <a:pt x="1002" y="10800"/>
                  </a:moveTo>
                  <a:cubicBezTo>
                    <a:pt x="1002" y="5388"/>
                    <a:pt x="5388" y="1002"/>
                    <a:pt x="10800" y="1002"/>
                  </a:cubicBezTo>
                  <a:cubicBezTo>
                    <a:pt x="16211" y="1002"/>
                    <a:pt x="20598" y="5388"/>
                    <a:pt x="20598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2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5"/>
            <p:cNvSpPr/>
            <p:nvPr/>
          </p:nvSpPr>
          <p:spPr>
            <a:xfrm>
              <a:off x="1060920" y="1478520"/>
              <a:ext cx="7018920" cy="4281840"/>
            </a:xfrm>
            <a:custGeom>
              <a:avLst/>
              <a:gdLst>
                <a:gd name="textAreaLeft" fmla="*/ 0 w 7018920"/>
                <a:gd name="textAreaRight" fmla="*/ 7019280 w 7018920"/>
                <a:gd name="textAreaTop" fmla="*/ 0 h 4281840"/>
                <a:gd name="textAreaBottom" fmla="*/ 4259520 h 4281840"/>
              </a:gdLst>
              <a:ahLst/>
              <a:rect l="textAreaLeft" t="textAreaTop" r="textAreaRight" b="textAreaBottom"/>
              <a:pathLst>
                <a:path w="10800" h="21600">
                  <a:moveTo>
                    <a:pt x="10800" y="20598"/>
                  </a:moveTo>
                  <a:lnTo>
                    <a:pt x="10800" y="21600"/>
                  </a:lnTo>
                  <a:lnTo>
                    <a:pt x="10800" y="20598"/>
                  </a:lnTo>
                  <a:close/>
                </a:path>
              </a:pathLst>
            </a:custGeom>
            <a:solidFill>
              <a:srgbClr val="1d1b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1060920" y="1478520"/>
              <a:ext cx="7018920" cy="4281840"/>
            </a:xfrm>
            <a:custGeom>
              <a:avLst/>
              <a:gdLst>
                <a:gd name="textAreaLeft" fmla="*/ 0 w 7018920"/>
                <a:gd name="textAreaRight" fmla="*/ 7019280 w 7018920"/>
                <a:gd name="textAreaTop" fmla="*/ 2140920 h 4281840"/>
                <a:gd name="textAreaBottom" fmla="*/ 4282200 h 428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98" y="10800"/>
                  </a:moveTo>
                  <a:cubicBezTo>
                    <a:pt x="20598" y="16211"/>
                    <a:pt x="16211" y="20598"/>
                    <a:pt x="10800" y="20598"/>
                  </a:cubicBezTo>
                  <a:cubicBezTo>
                    <a:pt x="5388" y="20598"/>
                    <a:pt x="1002" y="16211"/>
                    <a:pt x="1002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20598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>
              <a:off x="1060920" y="1478520"/>
              <a:ext cx="7018920" cy="4281840"/>
            </a:xfrm>
            <a:custGeom>
              <a:avLst/>
              <a:gdLst>
                <a:gd name="textAreaLeft" fmla="*/ 0 w 7018920"/>
                <a:gd name="textAreaRight" fmla="*/ 7019280 w 7018920"/>
                <a:gd name="textAreaTop" fmla="*/ 0 h 4281840"/>
                <a:gd name="textAreaBottom" fmla="*/ 199080 h 4281840"/>
              </a:gdLst>
              <a:ahLst/>
              <a:rect l="textAreaLeft" t="textAreaTop" r="textAreaRight" b="textAreaBottom"/>
              <a:pathLst>
                <a:path w="10800" h="1002">
                  <a:moveTo>
                    <a:pt x="10799" y="1002"/>
                  </a:moveTo>
                  <a:lnTo>
                    <a:pt x="10800" y="0"/>
                  </a:lnTo>
                  <a:lnTo>
                    <a:pt x="10799" y="10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8"/>
            <p:cNvSpPr/>
            <p:nvPr/>
          </p:nvSpPr>
          <p:spPr>
            <a:xfrm>
              <a:off x="2954160" y="2633400"/>
              <a:ext cx="3232440" cy="197172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8ca9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3427560" y="2922120"/>
              <a:ext cx="2285640" cy="13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EMATIC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0"/>
            <p:cNvSpPr/>
            <p:nvPr/>
          </p:nvSpPr>
          <p:spPr>
            <a:xfrm>
              <a:off x="3439080" y="838080"/>
              <a:ext cx="2262600" cy="138024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8ca9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3770280" y="1040040"/>
              <a:ext cx="1599840" cy="9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esour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2"/>
            <p:cNvSpPr/>
            <p:nvPr/>
          </p:nvSpPr>
          <p:spPr>
            <a:xfrm>
              <a:off x="6867000" y="2929320"/>
              <a:ext cx="2262600" cy="138024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8ca9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7198560" y="3131280"/>
              <a:ext cx="1599840" cy="9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rrent Stat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4"/>
            <p:cNvSpPr/>
            <p:nvPr/>
          </p:nvSpPr>
          <p:spPr>
            <a:xfrm>
              <a:off x="3439080" y="5020560"/>
              <a:ext cx="2262600" cy="138024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8ca9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770280" y="5222880"/>
              <a:ext cx="1599840" cy="9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rogress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11160" y="2929320"/>
              <a:ext cx="2262600" cy="1380240"/>
            </a:xfrm>
            <a:prstGeom prst="ellipse">
              <a:avLst/>
            </a:prstGeom>
            <a:solidFill>
              <a:srgbClr val="0070c0"/>
            </a:solidFill>
            <a:ln w="38160">
              <a:solidFill>
                <a:srgbClr val="8ca9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342360" y="3131280"/>
              <a:ext cx="1599840" cy="9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aris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8600" y="29844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2038320" cy="146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6629400" y="1579680"/>
            <a:ext cx="2514600" cy="130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5562720" y="5638680"/>
            <a:ext cx="270504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orSchemeDesigner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03200" y="1447920"/>
            <a:ext cx="84106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57200" y="31680"/>
            <a:ext cx="8305920" cy="6811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378160" y="308448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Blog S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5193360" y="533520"/>
            <a:ext cx="208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ok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129920" y="5487840"/>
            <a:ext cx="209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cial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7090560" y="4975200"/>
            <a:ext cx="14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610720" y="438120"/>
            <a:ext cx="166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m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612720" y="4008600"/>
            <a:ext cx="129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653880" y="2832120"/>
            <a:ext cx="19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purp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774000" y="194940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l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1265400" y="567072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a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5101920" y="4114800"/>
            <a:ext cx="181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74240" cy="6115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2133720"/>
            <a:ext cx="9144000" cy="266688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f you’re navigating a dense information jungle, coming across a beautiful graphic or a lovely data visualization, it’s… like coming across a clearing in the jung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vid McCand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3:5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14:20Z</dcterms:modified>
  <cp:revision>13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