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EED-5216-41C2-8E5E-8614E6A2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DD1-97C4-484C-AC5E-1B3264F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C5A-D2DF-49D4-AC3B-49B79DBE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5CA-5F87-4316-8D14-09E1B049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F2E-ACBB-42F5-AD4A-5EEAA6AC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DB6-2429-4DBB-83B7-3FC6C94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74C-E1DB-42BD-A92A-73EFDE37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7DC-BACF-46A0-B514-5A33FBC8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147-9CAB-4674-9FB8-9F11816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828-3185-4819-AD56-4BFAB7E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1CF-C1F5-4700-B3C3-E8B55DB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500-E8C9-4DD5-B5B9-3AB8FDE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AC18-8E85-4549-8600-D44D9026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123"/>
          <p:cNvPicPr/>
          <p:nvPr/>
        </p:nvPicPr>
        <p:blipFill>
          <a:blip r:embed="rId1"/>
          <a:srcRect l="0" t="483" r="0" b="0"/>
          <a:stretch/>
        </p:blipFill>
        <p:spPr>
          <a:xfrm>
            <a:off x="-14400" y="0"/>
            <a:ext cx="9172800" cy="689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360" y="99180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课件完整版在线下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00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枫林晚景"/>
          <p:cNvPicPr/>
          <p:nvPr/>
        </p:nvPicPr>
        <p:blipFill>
          <a:blip r:embed="rId1"/>
          <a:stretch/>
        </p:blipFill>
        <p:spPr>
          <a:xfrm>
            <a:off x="0" y="533520"/>
            <a:ext cx="3710160" cy="58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48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9000" y="175212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yuǎ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jìng 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tínɡ c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zuò ài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ɡ lín 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sh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n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yè hónɡ yú èr  yuè 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shan1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yuǎ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jìng 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80880" y="5943600"/>
            <a:ext cx="8384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字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han2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120" y="3124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han2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23888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yuǎ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jìng 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08小猪数数儿.MP3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53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123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73915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tínɡ c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zuò ài 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nɡ lín w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sh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nɡ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yè hónɡ yú  èr yuè h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8600" y="5867280"/>
            <a:ext cx="6858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19320" y="5867280"/>
            <a:ext cx="6858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267080" y="5867280"/>
            <a:ext cx="1067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雨  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200400" y="5867280"/>
            <a:ext cx="7621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儿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23"/>
          <p:cNvPicPr/>
          <p:nvPr/>
        </p:nvPicPr>
        <p:blipFill>
          <a:blip r:embed="rId1"/>
          <a:stretch/>
        </p:blipFill>
        <p:spPr>
          <a:xfrm>
            <a:off x="-14400" y="-33480"/>
            <a:ext cx="9172800" cy="6924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8580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05A-26E8-4766-9E19-687887C9E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3:31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9:28:36Z</dcterms:modified>
  <cp:revision>6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