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3A9-1199-49E3-8B65-858331D4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59C-AB20-4C5C-A842-EE04486E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19C-5D41-4A39-96E4-996C3889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457-13D9-48ED-979A-4EDA7344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444C-2A8E-4782-8DED-5BDB0855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292C-0486-4050-98EB-1FE3BF94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69EC-47AD-48F4-96A8-3769B075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18DE-4FE3-4EF3-947D-B6AF3D3B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E0B1-18D8-4D8E-80A6-DF684E3A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29200" y="18864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EBAA-0A80-45D4-B419-73D7D2D9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10C4-7021-4B83-A99B-9DA498AA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FFF-A9A7-4693-9796-70D2F6D7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038E-170C-49AE-BBF6-94C54EB9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FCDE-0525-4D60-8E3E-05DB5E6D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9820-5FF5-4CD5-B01E-8FC2351E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1D72-3540-403C-8D56-084149B9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9F16-14AA-44FC-B6E5-278FCFC9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348-9C99-4367-844B-513DFCC8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053-9F33-4448-8179-D28BD255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C9B-939F-4CC3-87F8-0BD0E9CA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29200" y="18864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AD7-46B2-4A84-9172-B1349BCC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F86-0B6F-4B58-99A5-01949702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CBC-2E0D-4BDC-B6AB-40CC1727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C4F-E9EE-405A-80AC-63164C5A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360"/>
            <a:ext cx="9144000" cy="981000"/>
            <a:chOff x="0" y="-360"/>
            <a:chExt cx="9144000" cy="981000"/>
          </a:xfrm>
        </p:grpSpPr>
        <p:pic>
          <p:nvPicPr>
            <p:cNvPr id="1" name="Picture 3" descr="0142"/>
            <p:cNvPicPr/>
            <p:nvPr/>
          </p:nvPicPr>
          <p:blipFill>
            <a:blip r:embed="rId2"/>
            <a:stretch/>
          </p:blipFill>
          <p:spPr>
            <a:xfrm rot="10800000">
              <a:off x="0" y="-360"/>
              <a:ext cx="914400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0142"/>
            <p:cNvPicPr/>
            <p:nvPr/>
          </p:nvPicPr>
          <p:blipFill>
            <a:blip r:embed="rId3"/>
            <a:stretch/>
          </p:blipFill>
          <p:spPr>
            <a:xfrm>
              <a:off x="0" y="917640"/>
              <a:ext cx="9144000" cy="6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0574-E952-4660-947B-572AD040E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966960" y="1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公司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123"/>
          <p:cNvPicPr/>
          <p:nvPr/>
        </p:nvPicPr>
        <p:blipFill>
          <a:blip r:embed="rId4"/>
          <a:stretch/>
        </p:blipFill>
        <p:spPr>
          <a:xfrm>
            <a:off x="163440" y="165240"/>
            <a:ext cx="577800" cy="536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0142"/>
          <p:cNvPicPr/>
          <p:nvPr/>
        </p:nvPicPr>
        <p:blipFill>
          <a:blip r:embed="rId3"/>
          <a:stretch/>
        </p:blipFill>
        <p:spPr>
          <a:xfrm>
            <a:off x="0" y="5457960"/>
            <a:ext cx="9144000" cy="140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0143"/>
          <p:cNvPicPr/>
          <p:nvPr/>
        </p:nvPicPr>
        <p:blipFill>
          <a:blip r:embed="rId4"/>
          <a:stretch/>
        </p:blipFill>
        <p:spPr>
          <a:xfrm>
            <a:off x="4168800" y="115920"/>
            <a:ext cx="4975200" cy="5897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123"/>
          <p:cNvPicPr/>
          <p:nvPr/>
        </p:nvPicPr>
        <p:blipFill>
          <a:blip r:embed="rId5"/>
          <a:stretch/>
        </p:blipFill>
        <p:spPr>
          <a:xfrm>
            <a:off x="7740720" y="260280"/>
            <a:ext cx="1150920" cy="1071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0E0C-9FB4-47AD-9AE3-5E5851B0A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4680000" cy="21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715920"/>
            <a:ext cx="4859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12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石油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FF5-ABE2-464F-A410-960DBFBE5A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1:58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5:59:44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