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82E-D148-43A7-A91C-A8FADD7F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69D-D280-4425-8462-DEC301E7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E636B-1B5F-4D17-A906-E96AAED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E9724-5DBA-4ED3-92B6-D311E5B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EDC2F-66CC-4D58-AB94-91C893C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3DBF-129F-4483-8637-13FEC73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9E2F-BCBC-42D3-BD15-90DC535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060F0-FC2B-4694-A91B-5B9A5C8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6E36F-48B9-43B1-A7B9-86218E34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DE40-AE09-4C6A-910A-FEF5763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D4F5-A0DF-4B8E-A849-615B15A4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AB900-51F5-46FA-B1B2-9776BB03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1F1-FAED-4FFF-B1CA-E24CA7F4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BCDA6-46D7-4001-A184-B27DBCA8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39A63-8D97-4FDC-B776-4A76675E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30571-3DDE-4866-A362-940240F2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D1FAF-587B-46A3-BC7F-7F614C9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57190-80D7-4425-851E-AC093828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884D3-980E-4605-A775-68C562C4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B68A6-1E77-43DA-B3B0-5376735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9160C-C91C-4980-BA66-8522CC5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4CC7-9E95-4E14-81C0-28FEDC6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FB408-93E7-43FC-8249-D8A18151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C42-C449-4799-B7FA-3A464673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EDBB6-BCB1-478B-9305-3AA36C4B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1B09D-6F13-49F6-BA20-097BE6D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7A70-8528-49CA-9E94-3D84DED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61B1-E011-49FD-9297-C0ACDF1C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D7063-BEB1-4026-986B-5166BCC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85D9C-BB16-4FB8-9BF6-4C9F60B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6EE53-209D-474F-9042-DE442DA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7DD6-F197-4562-83C6-28B5C76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E634-CD95-42B5-BEBA-9FB3B7C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8E1B7-07FA-4C12-AF77-437605A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D6E-DEA8-460C-8DF2-CD5CA14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08613-46E9-4097-9744-7D4724B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6B420-520F-480E-915B-A58D4CB2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19887-3493-4DB5-B4F6-1155B540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DA686-4C79-45C1-9954-B834153B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1F5AC-65C5-4158-B9DF-5D73BFF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89475-7309-4164-BF36-6080552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9CB5E-2892-45A1-947C-DC5E0E7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26B72-69B5-4DE8-8BC1-6B108D01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212F9-DC6A-4288-A4F9-663B4E32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3DAB8-97F4-4554-9E2F-A3878FF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935D-995C-4D93-B4CE-5E2A20D9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D7EA9-F655-4B7A-BF97-4CFEDEB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B4E8-CA8C-4AFA-8D85-0B5C087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E5E48-76A8-4EC6-AA04-3FC0DF6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581CE-FF82-4A0A-BA94-7162775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F2593-1893-4012-AD84-906FDD89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1D87B-CBD8-4552-AD96-3D16AE13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52BF6-A4DE-4808-AB13-B4BC6CAB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ECD0A-4E2C-434F-9875-4686411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3230-7A3D-4EF5-9691-F566DD3A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93BB1-92DD-46FA-9F9E-2913EB3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EAD7-A7AA-4A45-9831-F49E8C1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0821E-5121-4B32-96EC-1AE987A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B0228-EA00-4000-B79F-7F6ED32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0934C-6C30-4490-B1F6-48F561E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D4F7C-5780-4B74-9EE0-BF57F61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8014C-BF87-47FF-BAA5-327B20F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BDFE0-A29B-4AA3-9DF7-C0E82B99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67120-24E6-4E91-8D62-2A3ACBE9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DA57-5C71-47EC-976C-14DA636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380-C845-4BEA-B27E-2620DF7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6C8-C10B-42A4-8216-C0D76B3B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5318-3FF3-4AA8-BB7F-EAF39A2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F4B-E0AE-4594-9141-20D86E5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055-6794-4A36-8D51-0F668CA4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5A4-D12C-455D-BC80-FDAFBBE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1357-67AF-4BB4-B2C6-F7D488C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1D6-07B2-4219-9129-7F2605D2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ECDB-1100-4853-B669-704DA300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F9E1-3FE7-4BE1-8E19-F80B6184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2585-25D5-4766-8CA8-991B7F06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3FCA-30E9-40C9-BD5C-483410A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6767-BF0C-4DA6-B799-54513AD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08BA-B331-441F-815D-3ADFE35D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61A-D3A0-4220-88DA-22A378D4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D07C-AB4C-4C24-8676-E6FE521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5D12-1B26-4AC1-9093-FEF509E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493B-AD37-4C6D-987F-3EFCA26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BC4C-AF80-40AC-BF75-EF4580E4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C1AE-8017-45E9-8D3E-7662B44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55F3-760B-470B-9EA5-54845DA6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AE9B-8F2D-4B82-B3B0-FD07DAD2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2F22-0517-4EA7-98E7-109B7FF4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8699-42A2-4CA4-8DF6-94138EB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44AC-E994-48F4-A544-535DD13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67D-0FE2-4B1F-999F-70EFAC1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98E4-CBA7-477B-B474-59143D3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A18B-3A2B-4603-8AD9-D3707329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2B45-F37E-499F-B270-231B5B8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D453-403C-42EA-8575-474EDFC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8DF7-4AC8-44EA-8956-846D8AB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CD52-8FAD-4A98-91FE-5B7BBF2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43C3-4947-4E51-89BE-71D9681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ECCA-86F7-4942-94A3-9D5C2057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4E60-A3C2-48BE-87B2-D95EE8EE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95D1-7F19-4505-A3B0-4303DE9C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655-F3BD-4CAD-8B30-ED266D3F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F0B7-6954-4E62-B51B-519BC18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FD24-22B6-458A-BEF7-3958AAA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AA3C-483F-44F6-80AC-CC9C7220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36B4-ACB5-42CE-9811-BF0E6296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C925-845C-469D-91D8-5CA9DAB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07C1-DE57-44A9-94E1-D16534D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298E-5F60-42AE-9D97-71A25477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EF2D-0AE8-4AB8-929E-184BE14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908C-D9D7-4CB5-8E8E-FB14FA7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3AAE-5DFD-452B-ACF1-4692508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C36-F196-48C1-9802-C47EC315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8A32-26F3-4212-A719-9FE4FCBC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9ECA-C8BB-414B-9DB0-6C9002CC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F4A7-C663-43DD-923B-F4CC930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ADF2-F158-4517-B5E4-C278E36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2717-E858-4AC0-BEEC-4AD35BC7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647B-AB90-493D-AAF3-275FF2F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E991-E3F6-464E-90E7-E99D12F6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C5E4-11E4-42F3-AF04-5474B95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0245-9336-4975-818A-1EB7100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1DE8-6DFB-47DE-99BF-79C73F0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B55-6F51-4CDB-B843-80E65C7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5697-45D9-4C5E-8B5B-8F44099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9E29-FC68-4702-8E97-D41340C1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E48F-9FD0-4508-82A5-DF0BE0DD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28D9-612A-4A6A-A28C-A86AD666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659F-9705-4A1D-8CC8-DF68E902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3372-B6AF-4E0B-83DA-14CF4E5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82BB-B56C-4B07-8450-619CACAD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D667-71F6-4CEB-ABE2-119EA42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5E6F-857F-49C2-9B8E-CE10194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CA88-628F-4CA3-A52B-8136B00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510-5653-49E5-BA94-35A0F18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EF9C-A3FE-43D4-B854-3237ADB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473A-4A93-49C0-BC16-010194C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E07F-365D-480A-AD36-0FB2828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22702-ACE4-4520-8498-BF384AFC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169D-7BF2-4CFB-8132-A5B10BEF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93F6-38E6-4C1D-BFE9-CDC6998D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9AA39-0158-4F79-91A0-05734DA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CEBF-CAFC-4CD8-8247-208EDF1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52DF-F646-4291-9F7E-3CAE79C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21F4-9772-431E-B96A-35CF702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A44-FFAD-487D-86B5-4C38ADD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1DCC-5C33-467A-B49A-F053E75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E375-CBE9-4E80-B728-1E7DABC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45F42-C0BC-46D6-B84B-D6B89D0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AABFC-CF06-4E9C-9927-29CBE2E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5DEFC-D6D2-4EEA-97A1-8E27D722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E64E-3F9B-44E4-9735-004EFF71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8E13-2B28-4348-8497-8E2D7724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C5CCF-CCDB-4717-9B9E-B82931E0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84AC0-C89C-407B-92CE-2D58044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E7370-DE0C-40C2-9FC3-460BFFD3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DC7-FB79-4920-9FF3-EDE9BD934C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A09-F7D3-4261-AD76-F560A96B34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506-A9C9-4119-B7C2-46CF5FF0E8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98D1-56C0-430A-BF94-E602DA976E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85A5-F69C-4EE8-8CFB-2B0CD870B9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B856-B7A0-4C55-AE4D-38834335AC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103-31AC-469F-8A89-652E7836C8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EB8A-9DFB-4089-9A33-1DE83C4251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272F-638F-4E30-9389-41297430F1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E993-66FC-4C5B-9C4A-CB1B26DB45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06CB-3EED-4188-998A-99F2F94C2C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7CE-98BD-4823-AA26-D463B59B6C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119-7DA0-4878-A4BB-7CF44DE409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F651-39A2-4040-A406-6F7E181528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5132-8CC2-48ED-8923-26C977429A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AF26-FA23-4508-A7AC-A0706054B9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8B8-8F88-47A3-82B6-18E1632A21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D27-C13A-4109-80CB-824E4EEE72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4FF-6B55-4931-AFCB-D5E78B3BED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DDFD-40FA-4EE1-9929-290BC00EEC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461B-EBEA-4F64-B8C5-6AAA8403B9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40D-D607-4C24-82B0-06730B6531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F9B4-D8FA-4246-BA2A-429696F2AF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CF8-4EB1-409A-BFAF-143B8D6553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FD34-4EC4-497F-99C9-A5F1E22579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E75E-E98E-4533-A591-6AB3BCE351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6" descr="沙漏.png"/>
          <p:cNvPicPr/>
          <p:nvPr/>
        </p:nvPicPr>
        <p:blipFill>
          <a:blip r:embed="rId2"/>
          <a:stretch/>
        </p:blipFill>
        <p:spPr>
          <a:xfrm>
            <a:off x="3328920" y="1773360"/>
            <a:ext cx="24386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535" name="组合 7"/>
          <p:cNvGrpSpPr/>
          <p:nvPr/>
        </p:nvGrpSpPr>
        <p:grpSpPr>
          <a:xfrm>
            <a:off x="3013200" y="4702320"/>
            <a:ext cx="3070080" cy="1071360"/>
            <a:chOff x="3013200" y="4702320"/>
            <a:chExt cx="3070080" cy="1071360"/>
          </a:xfrm>
        </p:grpSpPr>
        <p:sp>
          <p:nvSpPr>
            <p:cNvPr id="536" name="AutoShape 4"/>
            <p:cNvSpPr/>
            <p:nvPr/>
          </p:nvSpPr>
          <p:spPr>
            <a:xfrm>
              <a:off x="3013200" y="4702320"/>
              <a:ext cx="3070080" cy="1071360"/>
            </a:xfrm>
            <a:prstGeom prst="roundRect">
              <a:avLst>
                <a:gd name="adj" fmla="val 1174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47"/>
            <p:cNvSpPr/>
            <p:nvPr/>
          </p:nvSpPr>
          <p:spPr>
            <a:xfrm>
              <a:off x="3174480" y="505980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2409480" y="-9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4:0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