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D63-646A-492F-B498-1AC8F671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F11-2E9D-4793-840A-88EE29F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98151-F5C6-4B3D-9FDA-69027852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97812-6876-49EC-BFD7-11D0212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228AE-6C13-4402-AC77-49BC222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6E17C-8C47-43C8-B1A3-793C497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98BB7-FE67-4AA0-9798-E46ECCB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D9B0-C05C-4968-B74E-7A4F157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7C979-91E4-4CFD-842A-7D76098B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E57F7-3193-4775-A1BD-F79A7176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2F3E5-CF8F-4429-A429-75A5ED9A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9460-9C29-4CFC-A739-4D905D11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755-A427-4669-AE3E-4825B61A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98976-18F7-47D2-836D-A58088B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2DF9-B540-4731-87BA-0E25879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18709-7F34-4C6E-AC80-34A900F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17E8A-9001-4C43-A075-1F717A1E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310FA-91F4-435D-A537-6FBCD79B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05E3-7395-4237-BBE2-11898F9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1A6FA-2192-4852-80C5-CDC83A2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7FBB8-6B5F-41E8-A8CA-063F459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70FEB-00BE-463D-92F5-5164DB3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84567-6BCA-4FD1-9B90-F0A5020D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3D9-4D64-462E-8AFE-DD92973E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852F6-620A-402F-9EAD-33806423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A38B1-F361-4BBC-89CA-2F9D4D58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305B3-4740-4BC5-9D7B-B7BBC704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A622-0979-4C75-BA0E-2A6B27B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DB300-D963-4681-90E8-61B0F50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1289D-9C24-4E10-A382-BD601F8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77FB-B926-4D99-A757-2708EB8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DB222-D922-4897-AAA8-581C746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072D-35E9-40BA-8B71-5734ED8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2BFCF-F124-4567-B619-8187484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A66-ADDB-48D2-9717-58D229E3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1CF03-0AAE-4B65-B8AF-8EDF85F9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014E5-5F51-4AF5-9E6C-5E85272D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87601-F59C-44E0-83C9-6CAD9E46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5EDC6-9BDC-4A49-A79B-444AC7A9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1D77E-F907-4A59-B023-35F4EAD0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BE008-AA4D-4B4D-AE58-72635F6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30339-C72C-4E5B-A409-F6F58E6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55F3C-4950-471D-85BD-5514D31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67DC2-3D68-465B-BEE8-CE2D6A00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39B23-F9C3-4F6D-9491-6AB7816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BA07-5F1B-498F-A5E3-6C16E33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A676A-2764-425C-BA05-9D87E88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1EEA6-DEDD-42C1-8BE6-AB0089A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81F7F-F0F0-404E-9FDF-29FC9B94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57384-3196-4E42-8FAC-6D60C877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38726-CD94-4E9E-ADEE-818A772C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51727-F170-4D5C-94A6-ACDEDF3C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B25D5-3769-4F08-8901-7B45FDE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A2E66-8A9C-4004-A484-2CEF319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BFDCF-924A-4CB2-9927-E4A8A3E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DEDB8-2957-46E9-9435-9805517C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E277-FA8C-40F8-8B9F-CC91D0A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2A8E8-1673-4E26-95D4-926D044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5DB42-987F-40D7-91E9-15DFECF0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18B3D-1587-4100-93B1-843EDF3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7A11E-3756-4B1A-81EE-877766F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FEC76-7224-493C-AD15-77E320DA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BE738-3059-4F40-A8E0-7C8AFDE2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D2955-DF2C-482B-994D-6AF20D2B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95A-4DDE-4E57-AA92-F047915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47ED-772C-4524-A0D3-309C4161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0FC-99AA-4639-A95E-06F04818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47C4-EFAB-43D5-80EA-36881C4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68A-304D-4E8F-A02B-A93654D6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000-83C9-4B0A-9CA6-24B039B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4BF1-21E5-411C-B27C-7FF4084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3863-264F-4464-A397-6312A1B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6AF6-7C3E-4AA5-B10A-B8F06783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10A4-30EA-476E-9039-1F3A3C1D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477E-2311-44C7-B056-F5DD597F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975C-CE38-4152-AC6B-4F8B6C03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95BB-7DDE-421B-9A52-49C33215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B09D-B679-418C-ABC4-54399B0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3464-B1D6-4A38-A44F-FADF3105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B19-CEC7-4740-B36C-07C6A25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0E65-6A6E-458F-9D1F-5B4B5021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2D83-3233-4EDB-A0AE-F517156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CC3B-EC53-4B05-9713-860F3D9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431B-766F-4A26-A3C7-0EB25F7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4ED4-F138-4153-BA41-56AFD0D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D0E0-E0A4-4FD5-A0B7-65181A77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9550-6692-4157-BE3D-BA032645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E3DE-A70E-425A-ABD5-904A2EE5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791B-0532-4C20-AE8A-7F6B163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8F33-E867-4DA6-81A2-968D04F2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5F2-93BD-421C-9DD8-6B0FA5A7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6CD6-7EED-41B4-8CEE-8564D3A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58F2-89F0-43C5-A0A8-4C3A94CD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544A-5A96-42D0-8B20-C1D6381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53DF-DE40-4ADA-A9D0-7693ACC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D8CD9-4CBB-4CAD-9A48-0D0E1EB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5815-CCBE-4839-8196-B393877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96D3-29B5-4ECA-8916-DFFC4FC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92E7-6C0A-4D4C-80DB-AE59DEFF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CAA2-BDEF-41EF-B761-F95EA029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EFD8-EEFB-4B71-A3BF-497787A4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90F-DB1F-422D-A5CF-8011E49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CE2B-AED3-458C-8367-5D161CC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0464-91DE-464D-BAE9-48A9EEF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2EDE-47B9-40A2-96BC-E19A574A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6DFA-152F-4F9B-9427-E60FB41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6D7B-6364-47B5-A6C8-98D9C8E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FC2F-4784-4F7C-9DB8-D91206F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A246-1675-4DC8-85B9-82A219E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5510-5198-48C5-AA45-82EB9BE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73996-0246-412E-A30C-ACD99A0C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B055-18D3-4498-8421-36E85A1D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0D8-665E-4F7D-A299-6F82F71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8EE8-6CE3-49F9-9E5E-692066DF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D201-3CCA-47B2-9E67-B8037A3C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700D-E98C-4E9D-A58D-D80DD83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5C6D-C4A9-481F-8871-6544D67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B069-C7F5-4495-8C43-FDDFC8CB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1E78-87F7-4197-8219-A21DF68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1A12-9288-4853-8845-8CCDC6D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7085-9CEF-4EF0-9F50-66A4547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4F3AC-4D03-4D1F-9700-A867770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7079-BF7C-40FD-8060-448BA81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8BC-C6E9-4B99-82F1-559C85F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F8496-E41D-4A72-9D94-5D6F5AE2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4BB8-205D-4B39-B5BE-85A1124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A8A60-FC0B-4175-AEB6-83E3A995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8028-A5E2-464C-B582-93CC3575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6A42-D2F9-4763-924B-9AE743D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3906-3905-404A-82D9-863111CE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E046-17D2-4E0F-8A90-1D2EAAA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06C2-8B13-409A-A11D-4C704D30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55CD6-BBA6-4E6A-91A9-444DB49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5409-623D-4D1E-838D-82101DF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E57-13F6-47E3-B31E-EFB5E1B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3F39-9451-4A8E-B986-8A7DDDCD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86E8-014A-4B7B-9274-E7F3AAA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7DD2-0C54-409A-9127-1C69018D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BA34-7AB5-41A4-B9F7-9917B4F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B9B1-1F49-4D8E-9D0B-42F143C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6A142-C5A0-43A0-A4AC-70472F9D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1213-DC2C-481E-B0B7-AACFCB6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A78F1-2B34-42B8-A1E6-391765F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6A6F-0F62-4DC2-8315-E495E5F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7065-0B00-471F-979D-3120944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769-88A7-40A9-938C-739425B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A3875-A479-4C80-BEB2-2DC8A25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D379-CBF9-426D-8D1E-FA19B67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3F04-16D3-408E-9469-0F7CC73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9A81-C89E-4D00-BD99-5D9A1AF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51E98-4CA9-486A-BE7A-5AD3D52A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F55C-5D77-407B-9D79-F571F88D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B599-12EB-4A76-AA45-F330536B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32565-E134-4B6C-AB82-68161039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7817-D557-4046-B2A2-7BF6A74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74CC3-5507-4B42-9985-4E7B6F11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80A6-4B09-4D6F-B413-EB8999C717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184-7B40-4CC6-91A8-D604C3FC2B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28D-F2AA-40A1-BDEC-2B9C4FE5D6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96C5-AAF2-4EAD-AEBC-C55336999A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563-282C-46C6-88B5-5934676172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470A-328A-4EBB-8A7D-CB6D6625A2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7692-38B5-4ED7-9BC8-3A93B6442E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7E4-0109-4AA5-99E4-5CC5176C30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2FB2-2F98-4891-8747-49DFEF56C0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7CE-47AE-42E5-BA8B-EC6CA2C8DF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FDE8-AC74-45A5-B16B-60592CDF59F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0C7-7A36-464B-8F9A-E9A2B2D934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D22D-7E78-44DB-A133-65080218F6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218-88FA-4E75-96B6-EF1B4A9841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C9A-52BD-40D9-BC8C-7DD7AFAA79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04C6-AB97-4EB8-B59A-5D5BB17E4F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B0BC-599C-45B5-B0FC-774F6B8509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131-74BE-400D-8D07-71AC597A1A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BBBE-BEBA-4700-9809-D27DB23D6C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7B0-048F-47DD-A9E0-8DD5A1CF8C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982A-D973-442B-944A-7DBD522A2CC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20FB-A4D3-4A1D-8947-52B6940B2F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EE7A-C6D0-4AD7-9EA4-EF3316C18C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0C39-D578-47F2-A585-8B27A2E2F2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12B2-E462-4166-A984-A337FE1333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C65-E5DA-4361-A10B-634B97EF4C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成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211560" y="328464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与她的新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4" descr=""/>
          <p:cNvPicPr/>
          <p:nvPr/>
        </p:nvPicPr>
        <p:blipFill>
          <a:blip r:embed="rId1"/>
          <a:stretch/>
        </p:blipFill>
        <p:spPr>
          <a:xfrm>
            <a:off x="-1440" y="2944800"/>
            <a:ext cx="4784400" cy="386064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646720" y="10652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团队培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6"/>
          <p:cNvSpPr/>
          <p:nvPr/>
        </p:nvSpPr>
        <p:spPr>
          <a:xfrm>
            <a:off x="4990320" y="6451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齿轮大图 点击还原"/>
          <p:cNvPicPr/>
          <p:nvPr/>
        </p:nvPicPr>
        <p:blipFill>
          <a:blip r:embed="rId1"/>
          <a:stretch/>
        </p:blipFill>
        <p:spPr>
          <a:xfrm>
            <a:off x="-162000" y="0"/>
            <a:ext cx="94932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5"/>
          <p:cNvSpPr/>
          <p:nvPr/>
        </p:nvSpPr>
        <p:spPr>
          <a:xfrm>
            <a:off x="2924640" y="1380960"/>
            <a:ext cx="3472560" cy="6426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建立市场开发部的工作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http://farm3.static.flickr.com/2234/2456279865_605f5924c0_o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5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6129360" y="3645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915840" y="2421000"/>
            <a:ext cx="221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人都是管理者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程跟踪负责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思考力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力、预判力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4394160" y="4424400"/>
            <a:ext cx="2885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新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6334200" y="4070520"/>
            <a:ext cx="4856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7414200" y="4070520"/>
            <a:ext cx="485640" cy="70344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3"/>
          <p:cNvSpPr/>
          <p:nvPr/>
        </p:nvSpPr>
        <p:spPr>
          <a:xfrm>
            <a:off x="1273320" y="1781280"/>
            <a:ext cx="175572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828720" y="260352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6172200" y="3745080"/>
            <a:ext cx="175572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做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>
            <a:off x="868320" y="178128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5749920" y="374508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"/>
          <p:cNvSpPr/>
          <p:nvPr/>
        </p:nvSpPr>
        <p:spPr>
          <a:xfrm>
            <a:off x="568440" y="47628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Bauhaus 93"/>
                <a:ea typeface="宋体"/>
              </a:rPr>
              <a:t>D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5477040" y="24400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Bauhaus 93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5437080" y="451008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4047480" y="4005360"/>
            <a:ext cx="306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</a:t>
            </a:r>
            <a:r>
              <a:rPr b="1" lang="zh-CN" sz="8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新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学走路的可爱宝宝婴儿"/>
          <p:cNvPicPr/>
          <p:nvPr/>
        </p:nvPicPr>
        <p:blipFill>
          <a:blip r:embed="rId1"/>
          <a:stretch/>
        </p:blipFill>
        <p:spPr>
          <a:xfrm>
            <a:off x="4489560" y="903240"/>
            <a:ext cx="5200560" cy="57340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1362600" y="17733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5400" spc="-1" strike="noStrike">
                <a:solidFill>
                  <a:srgbClr val="ffc000"/>
                </a:solidFill>
                <a:latin typeface="Arial"/>
                <a:ea typeface="微软雅黑"/>
              </a:rPr>
              <a:t>蹒跚学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852480" y="3100320"/>
            <a:ext cx="388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http://blog.shakespeare-school.ro/wp-content/uploads/2011/03/Child-with-Microphone-and-Headphones.jpg"/>
          <p:cNvPicPr/>
          <p:nvPr/>
        </p:nvPicPr>
        <p:blipFill>
          <a:blip r:embed="rId1"/>
          <a:stretch/>
        </p:blipFill>
        <p:spPr>
          <a:xfrm>
            <a:off x="2700360" y="356220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599" name="矩形 4"/>
          <p:cNvSpPr/>
          <p:nvPr/>
        </p:nvSpPr>
        <p:spPr>
          <a:xfrm>
            <a:off x="3411360" y="612720"/>
            <a:ext cx="26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6000" spc="-1" strike="noStrike">
                <a:solidFill>
                  <a:srgbClr val="00b0f0"/>
                </a:solidFill>
                <a:latin typeface="Arial"/>
                <a:ea typeface="微软雅黑"/>
              </a:rPr>
              <a:t>咿呀学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"/>
          <p:cNvSpPr/>
          <p:nvPr/>
        </p:nvSpPr>
        <p:spPr>
          <a:xfrm>
            <a:off x="3283560" y="1916280"/>
            <a:ext cx="26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已经被删除，这里可以录入相关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693A-CEE6-4680-9832-8A6120B290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7" descr="http://farm1.static.flickr.com/115/273543098_4505815c09_b.jpg"/>
          <p:cNvPicPr/>
          <p:nvPr/>
        </p:nvPicPr>
        <p:blipFill>
          <a:blip r:embed="rId1"/>
          <a:stretch/>
        </p:blipFill>
        <p:spPr>
          <a:xfrm>
            <a:off x="3121200" y="404640"/>
            <a:ext cx="2665080" cy="4027680"/>
          </a:xfrm>
          <a:prstGeom prst="rect">
            <a:avLst/>
          </a:prstGeom>
          <a:ln w="0">
            <a:noFill/>
          </a:ln>
        </p:spPr>
      </p:pic>
      <p:sp>
        <p:nvSpPr>
          <p:cNvPr id="603" name="矩形 7"/>
          <p:cNvSpPr/>
          <p:nvPr/>
        </p:nvSpPr>
        <p:spPr>
          <a:xfrm>
            <a:off x="3111840" y="4438800"/>
            <a:ext cx="24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  <a:ea typeface="微软雅黑"/>
              </a:rPr>
              <a:t>爱的呼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3"/>
          <p:cNvSpPr/>
          <p:nvPr/>
        </p:nvSpPr>
        <p:spPr>
          <a:xfrm>
            <a:off x="2800080" y="56214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强凝聚力的团队，将给每个成员带来无限的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少女的瞳孔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矩形 4"/>
          <p:cNvSpPr/>
          <p:nvPr/>
        </p:nvSpPr>
        <p:spPr>
          <a:xfrm>
            <a:off x="4871520" y="3639960"/>
            <a:ext cx="286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她的</a:t>
            </a:r>
            <a:r>
              <a:rPr b="1" lang="zh-CN" sz="6600" spc="-1" strike="noStrike">
                <a:solidFill>
                  <a:srgbClr val="daeef3"/>
                </a:solidFill>
                <a:latin typeface="Arial"/>
                <a:ea typeface="微软雅黑"/>
              </a:rPr>
              <a:t>渴望眼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"/>
          <p:cNvSpPr/>
          <p:nvPr/>
        </p:nvSpPr>
        <p:spPr>
          <a:xfrm>
            <a:off x="4903200" y="5084640"/>
            <a:ext cx="1426680" cy="1328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城市夜景高清大图 点击还原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"/>
          <p:cNvSpPr/>
          <p:nvPr/>
        </p:nvSpPr>
        <p:spPr>
          <a:xfrm>
            <a:off x="287280" y="4160880"/>
            <a:ext cx="8748720" cy="18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岁月如梭，光阴似箭，在忙碌与如何不忙碌中纠结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8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天。在职业生涯，我还是第一次做职能部门的管理者，这需要诸多的改变，适应、心理的阵痛。但经历时间的洗礼 ，事情本质的学习，摸索、总结，我期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我能蜕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3446280" y="3357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Verdana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34560" y="4005360"/>
            <a:ext cx="455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与</a:t>
            </a: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</a:t>
            </a:r>
            <a:r>
              <a:rPr b="1" lang="zh-CN" sz="8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未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http://farm5.static.flickr.com/4095/4851849758_f0e17f542d_b.jpg"/>
          <p:cNvPicPr/>
          <p:nvPr/>
        </p:nvPicPr>
        <p:blipFill>
          <a:blip r:embed="rId1"/>
          <a:srcRect l="-398" t="0" r="0" b="0"/>
          <a:stretch/>
        </p:blipFill>
        <p:spPr>
          <a:xfrm>
            <a:off x="-54000" y="765000"/>
            <a:ext cx="9178920" cy="6096240"/>
          </a:xfrm>
          <a:prstGeom prst="rect">
            <a:avLst/>
          </a:prstGeom>
          <a:ln w="0">
            <a:noFill/>
          </a:ln>
        </p:spPr>
      </p:pic>
      <p:sp>
        <p:nvSpPr>
          <p:cNvPr id="611" name="TextBox 6"/>
          <p:cNvSpPr/>
          <p:nvPr/>
        </p:nvSpPr>
        <p:spPr>
          <a:xfrm>
            <a:off x="3543120" y="4724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我与她是有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461040" y="551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从业务到职能，从普通员工到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2" descr="http://www.winddesktop.com/Wallpaper/02735/Original/02735_005_HugqTAI5.jpg"/>
          <p:cNvPicPr/>
          <p:nvPr/>
        </p:nvPicPr>
        <p:blipFill>
          <a:blip r:embed="rId1"/>
          <a:srcRect l="-4233" t="0" r="0" b="-241"/>
          <a:stretch/>
        </p:blipFill>
        <p:spPr>
          <a:xfrm>
            <a:off x="2755800" y="1628640"/>
            <a:ext cx="6353280" cy="4660920"/>
          </a:xfrm>
          <a:prstGeom prst="rect">
            <a:avLst/>
          </a:prstGeom>
          <a:ln w="0">
            <a:noFill/>
          </a:ln>
        </p:spPr>
      </p:pic>
      <p:sp>
        <p:nvSpPr>
          <p:cNvPr id="615" name="矩形 4"/>
          <p:cNvSpPr/>
          <p:nvPr/>
        </p:nvSpPr>
        <p:spPr>
          <a:xfrm>
            <a:off x="1131480" y="142236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她的未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我是要负责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1085040" y="3314880"/>
            <a:ext cx="2238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作为一名管理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我有责任为她建立好发展的机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做事的原则、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farm6.static.flickr.com/5139/5448771837_9901616b1e_b.jpg"/>
          <p:cNvPicPr/>
          <p:nvPr/>
        </p:nvPicPr>
        <p:blipFill>
          <a:blip r:embed="rId1"/>
          <a:stretch/>
        </p:blipFill>
        <p:spPr>
          <a:xfrm>
            <a:off x="2050920" y="836640"/>
            <a:ext cx="6845400" cy="4562280"/>
          </a:xfrm>
          <a:prstGeom prst="rect">
            <a:avLst/>
          </a:prstGeom>
          <a:ln w="0">
            <a:noFill/>
          </a:ln>
        </p:spPr>
      </p:pic>
      <p:sp>
        <p:nvSpPr>
          <p:cNvPr id="618" name="矩形 4"/>
          <p:cNvSpPr/>
          <p:nvPr/>
        </p:nvSpPr>
        <p:spPr>
          <a:xfrm>
            <a:off x="1261800" y="4462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与她的结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1162080" y="5435640"/>
            <a:ext cx="182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，在此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雄鹰大图 点击还原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3"/>
          <p:cNvSpPr/>
          <p:nvPr/>
        </p:nvSpPr>
        <p:spPr>
          <a:xfrm>
            <a:off x="276120" y="2349360"/>
            <a:ext cx="7032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人生总有许多第一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但我们不能因为第一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而给自己找到借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新生意味着机会，新生意味着挑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只要不断的磨砺与学习，我们必能永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愿市场开发部的同仁们，一起经历风雨之后，</a:t>
            </a: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能美好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让我们一起鹰击长空，为梦想而翱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1272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孵化的小鸡大图 点击还原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3"/>
          <p:cNvSpPr/>
          <p:nvPr/>
        </p:nvSpPr>
        <p:spPr>
          <a:xfrm>
            <a:off x="5122800" y="3452760"/>
            <a:ext cx="38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刚刚诞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不够健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不够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能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很弱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5374800" y="1052640"/>
            <a:ext cx="9122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生命力大图 点击还原"/>
          <p:cNvPicPr/>
          <p:nvPr/>
        </p:nvPicPr>
        <p:blipFill>
          <a:blip r:embed="rId1"/>
          <a:srcRect l="0" t="-17192" r="0" b="0"/>
          <a:stretch/>
        </p:blipFill>
        <p:spPr>
          <a:xfrm>
            <a:off x="0" y="-1177920"/>
            <a:ext cx="9144000" cy="80359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3"/>
          <p:cNvSpPr/>
          <p:nvPr/>
        </p:nvSpPr>
        <p:spPr>
          <a:xfrm>
            <a:off x="2916360" y="2146320"/>
            <a:ext cx="6119640" cy="73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但她极强的生命力昭示着她美好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未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4394160" y="4424400"/>
            <a:ext cx="2885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新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6334200" y="4070520"/>
            <a:ext cx="4856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7414200" y="4086360"/>
            <a:ext cx="485640" cy="70344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看向未来大图 点击还原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"/>
          <p:cNvSpPr/>
          <p:nvPr/>
        </p:nvSpPr>
        <p:spPr>
          <a:xfrm>
            <a:off x="1476360" y="4508640"/>
            <a:ext cx="7199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打造一个专博的开发部，他们年青、上进、专业，但他们更需要一个让他们能学习能成长的环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7074000" y="18900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674840" y="189000"/>
            <a:ext cx="79020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打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团结 给力加油大图 点击还原"/>
          <p:cNvPicPr/>
          <p:nvPr/>
        </p:nvPicPr>
        <p:blipFill>
          <a:blip r:embed="rId1"/>
          <a:stretch/>
        </p:blipFill>
        <p:spPr>
          <a:xfrm>
            <a:off x="11160" y="2978280"/>
            <a:ext cx="9132840" cy="38797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4"/>
          <p:cNvSpPr/>
          <p:nvPr/>
        </p:nvSpPr>
        <p:spPr>
          <a:xfrm>
            <a:off x="826920" y="333360"/>
            <a:ext cx="7704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轻松、快乐的空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有凝聚力、有超强执行力、有思考能力、有应   变能力、有向心力的合作伙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有成效的历练、有挑战极限的机会、有前途的助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74806"/>
                </a:solidFill>
                <a:latin typeface="Arial"/>
                <a:ea typeface="微软雅黑"/>
              </a:rPr>
              <a:t>我们要创造高效的团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3222720" y="2470320"/>
            <a:ext cx="185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7074000" y="18900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7674840" y="189000"/>
            <a:ext cx="79020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打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http://farm3.static.flickr.com/2794/4073797556_91148d2400_b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"/>
          <p:cNvSpPr/>
          <p:nvPr/>
        </p:nvSpPr>
        <p:spPr>
          <a:xfrm>
            <a:off x="6084720" y="1413000"/>
            <a:ext cx="2590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专项培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铅笔大图 点击还原"/>
          <p:cNvPicPr/>
          <p:nvPr/>
        </p:nvPicPr>
        <p:blipFill>
          <a:blip r:embed="rId1"/>
          <a:stretch/>
        </p:blipFill>
        <p:spPr>
          <a:xfrm>
            <a:off x="2697120" y="3814920"/>
            <a:ext cx="3727440" cy="3043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3648600" y="26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提高学习和应变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5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 rot="18915600">
            <a:off x="1620720" y="39816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74806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不要固守过去，要定位于未来；创新与成熟一定是相辅相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6:1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7:3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