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DAEE-68AC-490F-92A0-2FA6C032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47D1-AF67-44EB-B405-AC44AF8B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DA7F-AC45-49ED-A539-F81A49B0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7D1D-3E7D-493A-96D8-BE9EB148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6B8C-F718-46DB-9D61-2EDED063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D276-41D1-4AEB-AE55-95F32DEE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6544-08E1-49DE-8032-58869836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C76A-E866-43F3-BCAD-53526DFD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8D39-D47F-46C4-B4D5-62A7ADE7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6B48-DF18-4905-B3C5-D8B2B74B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494C-A9A0-4D61-86ED-1847FC5C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4C48-C96E-4104-BDC3-4F379C98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C21C-8CA1-4127-BE07-68BF68374D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71200" y="15573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温暖奶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8"/>
          <p:cNvSpPr/>
          <p:nvPr/>
        </p:nvSpPr>
        <p:spPr>
          <a:xfrm>
            <a:off x="123408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44265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14976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5140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8"/>
          <p:cNvSpPr/>
          <p:nvPr/>
        </p:nvSpPr>
        <p:spPr>
          <a:xfrm>
            <a:off x="137700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29977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47836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9"/>
          <p:cNvSpPr/>
          <p:nvPr/>
        </p:nvSpPr>
        <p:spPr>
          <a:xfrm>
            <a:off x="30690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45691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857160" y="925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58550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9978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21405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123408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4000680" y="221472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5691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3997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48549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137700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406908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606960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221184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130572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21405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39978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9979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130572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2500200" y="2643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59266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6840" y="4941720"/>
            <a:ext cx="580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1234080" y="78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56408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4140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22831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39978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116280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28548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26406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5283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55695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EB88-35D0-4BA3-80E6-394BE42E93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9-24T15:22:59Z</dcterms:modified>
  <cp:revision>36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