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20276-372B-4BE3-936D-7FA70E9B29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9BDFD-4027-4AC0-AAF7-3B3B59E5A6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75A71-C696-406C-A54C-89E7F2A1C2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EEBAF-099C-4BE9-92F3-B11A9CDAAC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6B913-C29C-48FD-9087-C7309CB9D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0C203-CCF0-4AF9-88C8-2E6286C2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18B89-51B9-49D5-A9E6-9F0EA575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8E7EC3-D039-4CA2-BF86-F19F38C8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7EF607-8F16-46EA-9F1E-66F52F3C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75804-730F-47A9-AE52-7C0F69A9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E5827-24B7-4202-827D-073C63BE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7A580-223F-4113-82F9-66979CE5AB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7E6516-FAFA-4EDB-A4CB-459B1536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0E041-48E4-47C8-B103-CFDE7D46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3C20D2-720E-485E-A62A-BE152753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7D9E7-1A7B-42F0-ABAA-84F4AF76C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63BC4-C1FF-462F-834A-69C1D7077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1EB4D-8459-432A-99E1-AE0F96BA81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6302D-827D-4FFE-B07D-DBEE6DE978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AA21D-4720-4F6A-8E22-3355AC3FCE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4156B-AA61-4833-A703-9E01E5521E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27EB6-2783-4E9C-BB5A-A2FC92DA62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963AE-B726-4AFC-BCAF-5A58632543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4BC4A-13BE-498A-A687-343368FE8A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BE63-E419-48C2-B319-AE7AB9909B1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1867-BE9A-403B-B020-41B22F80828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eeppt.com/sucai/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7"/>
          <p:cNvSpPr/>
          <p:nvPr/>
        </p:nvSpPr>
        <p:spPr>
          <a:xfrm>
            <a:off x="281160" y="5284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5" descr="background1.jpg"/>
          <p:cNvPicPr/>
          <p:nvPr/>
        </p:nvPicPr>
        <p:blipFill>
          <a:blip r:embed="rId1"/>
          <a:srcRect l="0" t="12987" r="0" b="0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83" name="图片 3" descr="1369025_233359298000_2.jpg"/>
          <p:cNvPicPr/>
          <p:nvPr/>
        </p:nvPicPr>
        <p:blipFill>
          <a:blip r:embed="rId2"/>
          <a:srcRect l="0" t="0" r="12872" b="12666"/>
          <a:stretch/>
        </p:blipFill>
        <p:spPr>
          <a:xfrm>
            <a:off x="1692360" y="914400"/>
            <a:ext cx="5422680" cy="4851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4920" y="5305320"/>
            <a:ext cx="4464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5f5f5f"/>
                </a:solidFill>
                <a:uFillTx/>
                <a:latin typeface="Arial"/>
                <a:hlinkClick r:id="rId3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30200" y="5076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谢谢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FE7B86-4E22-43F2-BCC7-405D85B5C8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6:08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56:13Z</dcterms:modified>
  <cp:revision>30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