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9DB-AB2D-4BE2-AF18-0A9EB278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295-9C33-4B86-AB3B-EFD3578B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8E8-7496-41E7-852A-DCF86427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121-7B11-4BA1-B7E0-C7A2A8E5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5C1-3960-4EC9-8CB8-FB34B288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E6D-17F3-4811-8E2D-B2BF065D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871-CD14-4E48-B779-2C24E05F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61B-58F3-407A-8E0B-EC4C9048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A44-8729-4EB4-998C-0956B8BB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753-4CC4-41BB-A836-503C7EBA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5AA-1F30-4532-BD9F-42B1C3CB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4DDB-E863-4545-90B5-310A1166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B729-0511-439E-8356-F2406FB90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worldfjs12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有关青春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快乐很简单"/>
          <p:cNvPicPr/>
          <p:nvPr/>
        </p:nvPicPr>
        <p:blipFill>
          <a:blip r:embed="rId2"/>
          <a:stretch/>
        </p:blipFill>
        <p:spPr>
          <a:xfrm>
            <a:off x="152280" y="1295280"/>
            <a:ext cx="8839440" cy="5562720"/>
          </a:xfrm>
          <a:prstGeom prst="rect">
            <a:avLst/>
          </a:prstGeom>
          <a:ln w="0">
            <a:noFill/>
          </a:ln>
        </p:spPr>
      </p:pic>
      <p:pic>
        <p:nvPicPr>
          <p:cNvPr id="44" name="20081413315068909.mp3" descr=""/>
          <p:cNvPicPr/>
          <p:nvPr/>
        </p:nvPicPr>
        <p:blipFill>
          <a:blip r:embed="rId3"/>
          <a:stretch/>
        </p:blipFill>
        <p:spPr>
          <a:xfrm>
            <a:off x="1219320" y="533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worldfjs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kj"/>
          <p:cNvPicPr/>
          <p:nvPr/>
        </p:nvPicPr>
        <p:blipFill>
          <a:blip r:embed="rId2"/>
          <a:stretch/>
        </p:blipFill>
        <p:spPr>
          <a:xfrm>
            <a:off x="0" y="0"/>
            <a:ext cx="5029200" cy="7162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952880" y="609480"/>
            <a:ext cx="4191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离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让事情变得简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人们变得善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像个孩子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重新开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worldfjs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4191120" y="304920"/>
            <a:ext cx="4572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CTION OF THE TIME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ffliction"/>
              </a:rPr>
              <a:t>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ffliction"/>
              </a:rPr>
              <a:t>                 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fflictio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209680" y="640080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92f5353d768040d2a71e12c3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57200" y="0"/>
            <a:ext cx="823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大学 ，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有人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我们是站在青春尾巴上的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寻寻觅觅     不知所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20081210104865976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当年填涂过这么多，就是没这么干过副本"/>
          <p:cNvPicPr/>
          <p:nvPr/>
        </p:nvPicPr>
        <p:blipFill>
          <a:blip r:embed="rId2"/>
          <a:stretch/>
        </p:blipFill>
        <p:spPr>
          <a:xfrm>
            <a:off x="-304920" y="0"/>
            <a:ext cx="548640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929920" y="914400"/>
            <a:ext cx="219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当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涂过那么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你可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这样做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worldfjs24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_imgloadCA8JEXHK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941280" y="838080"/>
            <a:ext cx="2512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是谁说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我们是一个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少了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都是残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_imgloadCAAHRX8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_imgloadCA1JON52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76560" y="0"/>
            <a:ext cx="6703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如果回忆象钢铁般坚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那么我是该微笑   还是哭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如果钢铁象记忆般腐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那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是欢城         还是废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ttp_gfhoad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-732600" y="0"/>
            <a:ext cx="10037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那些以前说着永不分离的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早已经散落在天涯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有人说，    地球是圆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我们总会再相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康体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可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康体简体"/>
                <a:ea typeface="方正康体简体"/>
              </a:rPr>
              <a:t>你说是何年何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_imgloadCAS9YU07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0" y="527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2743200"/>
            <a:ext cx="9144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曾有一个人对我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牵着我的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闭着眼睛走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你也不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迷路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……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我也天真地相信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假如有一天我们不在一起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也会像在一起一样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方正毡笔黑简体"/>
              </a:rPr>
              <a:t>可是现在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_imgloadCAKHZ9Z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127880" y="60480"/>
            <a:ext cx="35334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那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说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稚艺简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永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稚艺简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的朋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你们是不是把我遗忘在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某个角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方正稚艺简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4:17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5:02:40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