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BC8-D516-4259-BF4D-69A1E9B6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8226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2974320"/>
            <a:ext cx="8226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78D-53B6-4BB1-BF13-ACA152C1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29743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29743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E03-424D-43C1-81E8-EA9CD3DB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031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2031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29743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29743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29743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839-928C-4F1F-96E7-3F2CF903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9E81-E8F3-4213-AC52-F326C0CF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203120"/>
            <a:ext cx="8226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7901-BB3F-4AB2-85FC-691E1867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8226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9E5D-C316-403F-8E46-ECDC8AD8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5D90-3682-4ADC-8B09-3AA97C82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0D09-B760-483D-BC2A-29DABA6D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98760"/>
            <a:ext cx="776916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3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C542-95D9-49E0-AB09-1323542B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29743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ADA0-4F7C-4E00-BBB6-3703EE57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203120"/>
            <a:ext cx="8226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867-0782-4466-A782-79CC4894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440" y="29743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00E2-982E-4ED3-A72C-2FF06473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2974320"/>
            <a:ext cx="8226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0393-DE6A-47B1-996E-59654644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8226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2974320"/>
            <a:ext cx="8226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014E-FA11-49BC-9FF5-1514E8CA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29743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440" y="29743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36FA-E87B-4E3D-A524-A481E131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8200" y="12031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9560" y="12031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29743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8200" y="29743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9560" y="2974320"/>
            <a:ext cx="264852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838C-67E2-48F1-9A5E-0BC88C9D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8226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84D-0D2F-4439-8968-A865D311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268-FDFA-4ED9-A562-B3F4D4B8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FE8-2B20-4697-8700-D330AC23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598760"/>
            <a:ext cx="776916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3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CD4-32EB-413B-BC4C-C7D42511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29743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BB4-4AE7-4C52-83EA-70A6D068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29743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B11-7E9C-4376-9E98-AF6BB9FF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203120"/>
            <a:ext cx="4014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2974320"/>
            <a:ext cx="8226360" cy="16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992-9B9B-4548-808F-E52AA3FF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6880" y="644400"/>
            <a:ext cx="7998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7240" y="1199880"/>
            <a:ext cx="7996320" cy="32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2536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792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2160" indent="-1796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23960" indent="-179280"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623960" indent="-179280"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623960" indent="-179280"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4684320"/>
            <a:ext cx="21304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4684320"/>
            <a:ext cx="2892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4684320"/>
            <a:ext cx="21304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1F946-F62A-4FF1-BDA9-9143D1C9B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9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4686120"/>
            <a:ext cx="21304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4686120"/>
            <a:ext cx="2892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4686120"/>
            <a:ext cx="21304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EA145D-B8F6-40C4-9DD3-081962D7E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78335" b="0"/>
          <a:stretch/>
        </p:blipFill>
        <p:spPr>
          <a:xfrm>
            <a:off x="0" y="58680"/>
            <a:ext cx="1981080" cy="5143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203120"/>
            <a:ext cx="822636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2536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792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2160" indent="-1796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23960" indent="-179280"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623960" indent="-179280"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623960" indent="-179280"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5800" cy="5146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12502" t="35219" r="8316" b="38124"/>
          <a:stretch/>
        </p:blipFill>
        <p:spPr>
          <a:xfrm>
            <a:off x="1143000" y="1811160"/>
            <a:ext cx="723888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48752" t="22500" r="13750" b="42502"/>
          <a:stretch/>
        </p:blipFill>
        <p:spPr>
          <a:xfrm>
            <a:off x="1295280" y="150840"/>
            <a:ext cx="3353040" cy="2346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rcRect l="0" t="0" r="64168" b="0"/>
          <a:stretch/>
        </p:blipFill>
        <p:spPr>
          <a:xfrm>
            <a:off x="0" y="0"/>
            <a:ext cx="3505320" cy="5143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76720" y="14209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23600" y="773280"/>
            <a:ext cx="26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风动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dur="indefinite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31 3E-006 C 0.000346 0.00493 0.018056 -0.00124 0.025006 -0.00186 C 0.027256 -0.00309 0.032816 -0.00556 0.032816 -0.00586 C 0.034896 -0.02376 0.030736 -0.03116 0.022746 -0.03578 C 0.020146 -0.03517 0.015456 -0.03856 0.014936 -0.03393 C 0.005216 0.04966 0.027776 0.03269 0.010416 0.0441 C 0.002956 0.04287 -0.004684 0.04256 -0.012154 0.04009 C -0.013364 0.03979 -0.009894 0.03855 -0.008674 0.03794 C -0.006424 0.0367 -0.003124 0.03608 -0.000864 0.03393 C 0.007466 0.02529 0.013896 0.01881 0.023786 0.01604 C 0.028646 0.01727 0.030036 0.01943 0.034026 0.01604 C 0.035936 0.01449 0.039586 0.00802 0.041846 0.00802 C 0.043236 0.00802 0.039586 0.01048 0.038546 0.01203 C 0.032986 0.02004 0.037506 0.01634 0.031776 0.02004 C 0.022576 0.0438 0.036986 0.00802 0.026046 0.02992 C 0.021006 0.03979 0.018756 0.05058 0.012676 0.05798 C 0.010076 0.07063 0.013546 0.05829 0.008166 0.066 C 0.007116 0.06755 0.006946 0.07032 0.005906 0.07186 C 0.004866 0.07372 0.003646 0.07464 0.002436 0.07587 C -0.003474 0.09191 -0.013014 0.09839 -0.018924 0.11381 C -0.016144 0.09592 0.000526 0.08359 0.008166 0.07001 C 0.009206 0.06354 0.013716 0.05212 0.013716 0.05212 C 0.018756 0.07618 0.007116 0.10518 0.022746 0.11381 C 0.031776 0.1132 0.040806 0.11443 0.049656 0.11196 C 0.057986 0.1098 0.051046 0.08297 0.049656 0.07587 C 0.048436 0.0694 0.042186 0.07372 0.038546 0.07186 C 0.034026 0.07248 0.029516 0.0731 0.025006 0.07402 C 0.023096 0.07433 0.021186 0.07464 0.019446 0.07587 C 0.018236 0.0768 0.014936 0.08174 0.015976 0.07988 C 0.017366 0.07742 0.018926 0.07587 0.020486 0.07402 C 0.023616 0.06539 0.027436 0.06631 0.032816 0.06385 C 0.044446 0.04873 0.029686 0.06693 0.042886 0.05397 C 0.048616 0.04842 0.053306 0.04102 0.059726 0.03794 C 0.064066 0.03238 0.067536 0.02467 0.072226 0.02004 C 0.073616 0.01881 0.075346 0.01881 0.076736 0.01789 C 0.078306 0.01696 0.079686 0.01573 0.081076 0.01418 C 0.083856 0.0111 0.086286 0.00709 0.089066 0.00401 C 0.092366 -0.00463 0.100006 -0.01481 0.105906 -0.01789 C 0.110596 -0.02622 0.114416 -0.02499 0.119446 -0.02992 C 0.130216 -0.04103 0.122056 -0.03578 0.129516 -0.03979 C 0.134026 -0.03733 0.134726 -0.03363 0.136286 -0.02591 C 0.131596 -0.01512 0.130736 -0.01882 0.125006 -0.01203 C 0.121356 -0.00216 0.115276 0.00647 0.110416 0.01418 C 0.107986 0.01789 0.103646 0.02591 0.103646 0.02591 C 0.103306 0.02806 0.102776 0.02992 0.102436 0.03207 C 0.102086 0.03393 0.101396 0.04009 0.101396 0.03794 C 0.101396 0.02313 0.100866 0.02591 0.105906 0.02004 C 0.114586 -0.00093 0.127086 -0.00525 0.140626 -0.01203 C 0.145666 -0.00895 0.148966 -0.01388 0.154166 -0.01604 C 0.159206 -0.01358 0.161286 -0.01296 0.163196 -0.00401 C 0.155036 0.01048 0.142886 0.01881 0.131776 0.02405 C 0.128126 0.03022 0.126216 0.03146 0.121526 0.03393 C 0.120836 0.03207 0.118756 0.02992 0.119446 0.02806 C 0.120836 0.02405 0.126046 0.02004 0.126046 0.02004 C 0.131256 0.02066 0.137326 0.01696 0.141846 0.0219 C 0.144096 0.02436 0.140806 0.03146 0.140626 0.03608 C 0.139586 0.07063 0.149486 0.10703 0.129516 0.11381 C 0.121006 0.11258 0.115106 0.11628 0.112676 0.10178 C 0.113026 0.09438 0.112326 0.08698 0.113716 0.07988 C 0.113716 0.07988 0.124306 0.07217 0.125006 0.07186 C 0.134556 0.0549 0.159726 0.05798 0.172226 0.05583 C 0.174486 0.04349 0.180036 0.04287 0.185596 0.03608 C 0.191666 0.02868 0.195146 0.01912 0.200176 0.01017 C 0.201396 0.00493 0.203306 -0.00031 0.203646 -0.00586 C 0.203996 -0.01111 0.203306 -0.01697 0.204686 -0.0219 C 0.205386 -0.02468 0.207646 -0.02468 0.209206 -0.02591 C 0.223436 -0.02067 0.217186 -0.0182 0.217186 0.01418 C 0.217186 0.01819 0.217016 0.00555 0.218236 0.00215 C 0.219796 -0.00186 0.225006 -0.00586 0.225006 -0.00586 C 0.233336 -0.00401 0.238366 -0.00124 0.231776 0.01789 C 0.226566 0.03331 0.219966 0.03485 0.211466 0.04009 C 0.216666 0.04225 0.220836 0.03979 0.226046 0.04195 C 0.221006 0.04811 0.220146 0.05428 0.218236 0.06385 C 0.219796 0.07186 0.221526 0.07341 0.226046 0.07587 C 0.224826 0.0876 0.223616 0.08945 0.218236 0.09592 C 0.217886 0.09253 0.216666 0.08914 0.217186 0.08605 C 0.217886 0.08204 0.219966 0.07896 0.221526 0.07587 C 0.226916 0.06539 0.231946 0.05397 0.238546 0.04595 C 0.242716 0.04102 0.249656 0.02806 0.249656 0.02806 C 0.252436 0.01511 0.253996 0.00771 0.255386 -0.00586 C 0.257296 -0.00093 0.260596 0.01881 0.254166 0.00215 C 0.261806 -0.01142 0.257296 -0.01296 0.268756 -0.00987 C 0.268406 -0.00401 0.269096 0.00246 0.267716 0.00802 C 0.265976 0.01449 0.250526 0.02837 0.246356 0.03207 C 0.244446 0.03146 0.241326 0.03331 0.240626 0.02992 C 0.240106 0.02714 0.243576 0.02652 0.245146 0.02591 C 0.248966 0.02405 0.263546 0.01789 0.268756 0.01789 C 0.271006 0.01789 0.264236 0.01912 0.261986 0.02004 C 0.260936 0.02035 0.259726 0.02128 0.258686 0.0219 C 0.250006 0.02621 0.252956 0.02405 0.238546 0.02591 C 0.236636 0.04441 0.228476 0.10209 0.244096 0.08204 C 0.250526 0.06477 0.260596 0.05058 0.267716 0.03393 C 0.265626 0.01727 0.267186 0.02591 0.259726 0.02992 C 0.256426 0.03794 0.254686 0.0404 0.256426 0.04996 C 0.255216 0.06138 0.251916 0.06909 0.249656 0.07988 C 0.249306 0.08389 0.249136 0.0879 0.248616 0.09191 C 0.248436 0.09407 0.246876 0.09963 0.247396 0.09777 C 0.253126 0.0805 0.254166 0.0768 0.264236 0.06785 C 0.269966 0.08328 0.263896 0.10055 0.273266 0.11196 C 0.274486 0.11073 0.275526 0.10888 0.276736 0.10795 C 0.278476 0.10672 0.280556 0.10734 0.282296 0.10579 C 0.293056 0.09592 0.277436 0.10302 0.290106 0.09592 C 0.294616 0.09346 0.303646 0.08976 0.303646 0.08976 C 0.308166 0.08174 0.311636 0.0842 0.317186 0.07988 C 0.323095 0.07526 0.328126 0.06755 0.334026 0.06385 C 0.338366 0.05829 0.341496 0.05243 0.346356 0.04811 C 0.349136 0.03824 0.351395 0.03855 0.356426 0.03207 C 0.367186 0.03578 0.357986 0.0293 0.363196 0.04811 C 0.363716 0.04996 0.363366 0.04349 0.364236 0.04195 C 0.365626 0.03917 0.370146 0.03701 0.372226 0.03608 C 0.379866 0.03207 0.388026 0.03115 0.395836 0.02806 C 0.400346 0.02251 0.405036 0.02035 0.410416 0.01789 C 0.419796 0.00123 0.426736 0.00123 0.438545 -0.00401 C 0.450174 -0.00926 0.461114 -0.01419 0.472226 -0.0219 C 0.474485 -0.03424 0.477087 -0.03949 0.468756 -0.02777 C 0.464585 -0.0219 0.462846 -0.01512 0.458686 -0.00987 C 0.468235 0.00185 0.480556 -0.00802 0.491324 -0.01203 C 0.490626 -0.01388 0.490105 -0.01635 0.489066 -0.01789 C 0.486985 -0.02098 0.482296 -0.02591 0.482296 -0.02591 C 0.479686 -0.01234 0.479345 -0.01265 0.478996 0.01017 C 0.478826 0.02004 0.479516 0.03022 0.480033 0.04009 C 0.480215 0.04349 0.481945 0.04688 0.481075 0.04996 C 0.480556 0.05182 0.478826 0.04873 0.477776 0.04811 C 0.470486 0.03948 0.467185 0.04256 0.457644 0.0441 C 0.475346 0.0185 0.477256 0.03238 0.511465 0.03393 C 0.505904 0.04071 0.500004 0.04626 0.493575 0.04996 C 0.489416 0.05459 0.485766 0.05768 0.482296 0.06385 C 0.487325 0.0657 0.490455 0.06693 0.494616 0.07186 C 0.500865 0.08883 0.500174 0.0842 0.495837 0.12183 C 0.495487 0.1243 0.493406 0.11937 0.492364 0.11782 C 0.486285 0.1095 0.483335 0.10364 0.480033 0.09191 C 0.479864 0.09099 0.478644 0.07958 0.477776 0.07803 C 0.475866 0.07464 0.471006 0.07001 0.471006 0.07001 C 0.466325 0.07834 0.463195 0.08482 0.460937 0.09592 C 0.460415 0.09839 0.458335 0.1024 0.459726 0.10394 C 0.461637 0.1061 0.464236 0.1024 0.466496 0.10178 C 0.483855 0.08636 0.502605 0.07834 0.521525 0.07186 C 0.527085 0.06724 0.533166 0.06477 0.538545 0.05984 C 0.548965 0.04996 0.541322 0.05521 0.549655 0.04595 C 0.553994 0.04102 0.559556 0.03886 0.564236 0.03608 C 0.568235 0.03362 0.571525 0.02868 0.575525 0.02591 C 0.577604 0.01542 0.579165 0.00215 0.572226 -0.00186 C 0.570664 0.01418 0.571706 0.00647 0.568754 0.0219 C 0.568235 0.02498 0.571006 0.01665 0.572226 0.01418 C 0.577604 0.00339 0.573436 0.01233 0.580034 0.00215 C 0.587156 -0.00895 0.595314 -0.01574 0.604686 -0.01789 C 0.610765 -0.01728 0.618233 -0.02345 0.622745 -0.01604 C 0.625866 -0.0108 0.619966 0.01295 0.617186 0.02004 C 0.616324 0.02621 0.616664 0.04195 0.613715 0.04595 C 0.609205 0.05212 0.592186 0.05397 0.586805 0.05583 C 0.574826 0.05397 0.570664 0.05675 0.580034 0.04009 C 0.582116 0.02806 0.586287 0.01881 0.587844 0.00616 C 0.589585 -0.06632 0.586983 -0.05306 0.595834 -0.0219 C 0.600004 0.01079 0.598267 0.04811 0.599136 0.07988 C 0.599485 0.09222 0.604864 0.10579 0.606945 0.11782 C 0.614064 0.11412 0.616145 0.10672 0.620486 0.09592 C 0.623266 0.08883 0.624485 0.08976 0.628304 0.08389 C 0.632983 0.07649 0.636287 0.06909 0.639585 0.05984 C 0.643576 0.03701 0.656256 0.02066 0.660933 -0.00186 C 0.661803 -0.01049 0.659554 -0.0219 0.663195 -0.02777 C 0.665106 -0.03085 0.668404 -0.02653 0.671005 -0.02591 C 0.672575 -0.01543 0.675175 -0.00648 0.676733 0.00401 C 0.677085 0.02591 0.677773 0.07001 0.677773 0.07001 C 0.678475 0.04472 0.679344 0.02591 0.682295 0.00215 C 0.682466 -0.00031 0.682815 -0.02283 0.685594 -0.02777 C 0.688193 -0.03239 0.695835 -0.03455 0.699134 -0.03794 C 0.701563 -0.04041 0.705905 -0.04596 0.705905 -0.04596 C 0.711805 -0.04535 0.717885 -0.04473 0.723786 -0.0438 C 0.725695 -0.0435 0.727953 -0.04411 0.729516 -0.04195 C 0.731596 -0.03918 0.734025 -0.02992 0.734025 -0.02992 C 0.738545 0.00431 0.736983 0.05274 0.737326 0.08389 C 0.736983 0.08667 0.737675 0.09099 0.736281 0.09191 C 0.734374 0.09315 0.727953 0.08019 0.726044 0.07803 C 0.722395 0.06816 0.716665 0.06292 0.711465 0.05583 C 0.709023 0.05243 0.707464 0.04657 0.704683 0.0441 C 0.700525 0.0404 0.696523 0.03578 0.692364 0.03207 C 0.686804 0.0219 0.676565 0.01696 0.668756 0.01203 C 0.672393 -0.00525 0.688543 -0.00463 0.696876 -0.01203 C 0.703993 -0.01142 0.711287 -0.01265 0.718233 -0.00987 C 0.719274 -0.00957 0.717885 -0.00586 0.717186 -0.00401 C 0.716325 -0.00155 0.715106 0.00061 0.713716 0.00215 C 0.706425 0.01141 0.698266 0.01943 0.691325 0.02992 C 0.690106 0.03177 0.688894 0.03393 0.687844 0.03608 C 0.686983 0.03794 0.684374 0.04133 0.685594 0.04195 C 0.688543 0.0438 0.691663 0.04071 0.694615 0.04009 C 0.703993 0.0293 0.693576 0.05243 0.692364 0.05798 C 0.697573 0.06261 0.700525 0.06292 0.702435 0.05212 C 0.702085 0.03331 0.700861 0.0148 0.701394 -0.00401 C 0.701394 -0.00648 0.702955 2.99999999999996E-006 0.703643 0.00215 C 0.712503 0.03362 0.701734 -0.00278 0.706945 0.01789 C 0.710594 0.03207 0.716494 0.04225 0.720483 0.05583 C 0.722395 0.04195 0.722575 0.03639 0.727256 0.02591 C 0.729165 0.0148 0.727606 0.00863 0.723786 3E-006 C 0.722226 -0.00864 0.722744 -0.0182 0.718233 -0.00586 C 0.719094 0.00431 0.719793 0.01418 0.721525 0.02405 C 0.720483 0.04472 0.718054 0.05953 0.711465 0.07587 C 0.710246 0.07865 0.707983 0.08667 0.705905 0.0879 C 0.703124 0.08976 0.699823 0.08914 0.696876 0.08976 C 0.685415 0.08513 0.688894 0.08729 0.714936 0.08605 C 0.720483 0.08575 0.726214 0.08605 0.731775 0.08605 E">
                                      <p:cBhvr>
                                        <p:cTn id="19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48752" t="22500" r="13750" b="42502"/>
          <a:stretch/>
        </p:blipFill>
        <p:spPr>
          <a:xfrm>
            <a:off x="2743200" y="1278000"/>
            <a:ext cx="3352680" cy="2346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6920" y="35082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32000" y="213984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omic Sans MS"/>
                <a:ea typeface="MingLiU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952200"/>
            <a:ext cx="89280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250920"/>
            <a:ext cx="1388880" cy="261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13E2-227A-4248-BBE6-F9A1DB65EC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49:3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9T01:42:44Z</dcterms:modified>
  <cp:revision>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