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CA9-032E-4499-8E55-7287323FA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42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BC94-F820-412F-BBBB-45C9A787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CA8-221D-4A60-9129-8F8F045DF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0160-1DFF-4FA1-B4F3-C55E1EA7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AE09-269E-41EC-852B-D3A4772E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E117-CA99-46AA-A784-EE71E329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125D-8734-4698-8888-A82267A5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46F5-7FA6-4BA7-8002-7CBA8A5A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2AAD-2AC2-421D-9726-50E99AD0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B57C-95AB-4DBF-A375-CFD6BB8C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1CC4-9353-46A9-BB88-E6D74AF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A9ED-544D-413C-842F-00581E75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6D23-2D05-4300-B0A9-F7F1227C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74A6-669F-4AE4-84C3-80BABB28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42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63D7-B428-4C0E-B480-0E86B7D4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38B4-FD6D-416B-B67E-8675C613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638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42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995D-47E8-4D3C-9CFC-60E09C6C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377F-7DDE-4A59-87A8-B5E1634A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341-BDC5-446E-8C49-314E3FF6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005-6B0B-4F01-BD2F-91263FD9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7DC8-76A0-452C-9100-F1ED9AC2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91D0-92F1-4234-9084-CA148FB4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42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F5F-38B1-43F3-AC13-D4EBDE4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38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42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941-3FF6-4B59-9896-1E31787C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5F24-85BF-4474-B06E-D0D8A20C35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63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4AD1-EF50-465F-A692-655725AFEE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376280" y="1557360"/>
            <a:ext cx="5158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3203640" y="443700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4520" y="404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自然风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7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2" name="Freeform 36"/>
            <p:cNvSpPr/>
            <p:nvPr/>
          </p:nvSpPr>
          <p:spPr>
            <a:xfrm>
              <a:off x="5653080" y="3098880"/>
              <a:ext cx="1352520" cy="1119240"/>
            </a:xfrm>
            <a:custGeom>
              <a:avLst/>
              <a:gdLst>
                <a:gd name="textAreaLeft" fmla="*/ 0 w 1352520"/>
                <a:gd name="textAreaRight" fmla="*/ 1352880 w 135252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599d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7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c1ff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8"/>
            <p:cNvSpPr/>
            <p:nvPr/>
          </p:nvSpPr>
          <p:spPr>
            <a:xfrm>
              <a:off x="5495760" y="4089240"/>
              <a:ext cx="1190520" cy="13352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8ebb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9"/>
            <p:cNvSpPr/>
            <p:nvPr/>
          </p:nvSpPr>
          <p:spPr>
            <a:xfrm>
              <a:off x="6886080" y="3274920"/>
              <a:ext cx="1208160" cy="1324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矩形 33"/>
          <p:cNvSpPr/>
          <p:nvPr/>
        </p:nvSpPr>
        <p:spPr>
          <a:xfrm>
            <a:off x="1825560" y="6627960"/>
            <a:ext cx="6904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960-8F4B-4208-90EF-563CEEF68F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564000" y="2781360"/>
            <a:ext cx="2793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4041720" y="3495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2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7:48:0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9:54:11Z</dcterms:modified>
  <cp:revision>35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