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ZR522.WAV" ContentType="audio/x-wav"/>
  <Override PartName="/ppt/media/image15.jpeg" ContentType="image/jpeg"/>
  <Override PartName="/ppt/media/image14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41.gif" ContentType="image/gif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812-FB99-4005-BFAD-251D35F4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FB0-F94A-4C37-8921-6082F3F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ECB5D-C756-4C5C-A25F-20A0997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EF073-F479-457E-A67B-34396DB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5B472-5200-4F3D-A0CF-CC8E8D8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F34B5-A2B5-4F35-BE83-5A5015B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1520C-DF5A-4647-8A3E-25F1C3B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20B9C-1E65-4DDA-8EEB-7AFEED7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2680C-00E0-4C47-B16F-D0149E3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BED83-BA5E-4EA4-BA3C-7984B15B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A021F-277F-44AB-BEC6-49E7E0EC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71EB-1262-49C7-BE7A-EA32B835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629-2A79-4D02-B639-86F32B67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0AE70-7C36-4B2B-A62A-9303153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B9D8B-1B33-4487-A701-F21F3FD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26B3B-F4D6-4772-B436-DB31C1E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A2AA0-B396-4EFF-9385-CB6B4CC5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7EF68-F3CA-423C-BC3F-B114FC8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32DE-F875-4D7B-A84D-08EB68CB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659FB-CE27-40C5-8F27-48DB3B4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B80E-CD83-47F0-B673-7A31024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EB6F-7B76-4427-926A-C6F935F9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53F1C-EF2E-4892-BCBF-F9E9555D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2B2-0AEC-41DC-8298-BF5E933A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534AE-5333-42D6-8071-8C749BA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1600C-F391-445D-82BA-D5FCB405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6B562-C8EB-48BF-AA4F-DB861B1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0F75D-54AE-44E5-9673-B8C9B81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0B85D-0B30-4042-8E73-E1BD4154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5D44A-23E6-4E3B-91BE-6CB3318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BBA0B-393B-4464-848B-FFC4277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ACB8-BE84-4EE9-9C2B-66D7BF9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53F06-B27D-4517-9D14-60067D2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BCB0-906E-4C23-AF46-BF1A934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8899-21B1-4AD7-A98B-66C1C596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5A9B-F32A-4A43-B894-8F82425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7E9B-026E-484B-8DEE-8B5012E0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C8803-6ABA-4DA1-A952-41AD7A5F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41AB6-302B-474A-B70D-D68C5839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1BA41-B4F4-46F5-8AA5-414146E4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EE0D3-582A-497A-91AB-4014030F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23346-7947-4E5B-B3AD-12B919A2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351A0-E3F3-44C6-9FC0-5AE002E4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B6009-D5BD-4FE4-ADFA-C522DAF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9F942-FCDD-4924-9B79-52E483F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66B-72F3-4CB2-8ED0-0AD7C44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CC00A-D980-4A9D-8EEE-228AA4F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691EE-EC4F-4AE1-A89D-F1B7AC4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EF09E-7FAA-414B-8766-50D9003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15A1E-7FE2-4578-B374-21A3358C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F7651-BE44-4199-997F-F3422C09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57F81-E33A-4294-B08A-7F5AA340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9CCBB-056F-4445-B39E-1162AC5D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548B5-5927-4C4B-AA8C-4436078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E1591-BA51-424A-AAB4-C4463FE8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EBFF9-3548-405C-9908-EBD72E8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2B24-E0CF-4222-881C-C5D1D8B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9A32C-6558-4FEF-BF04-EABF2FDF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C5FC0-65C3-4FB8-B676-AA69873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AA752-BCB2-486B-891E-F82D513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7EED7-80D4-4392-8D7A-86E25B9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6D921-B8C3-4F70-97F1-3417151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D64BF-ADF2-43A2-BC9F-5ED97160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FEB8A-98C4-4A66-8F4C-6BEFB272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D20-C619-46CE-AC36-3A0A98AD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7B99-28AF-44FF-919E-02693A5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D06-7CAC-41A2-80DF-9FBAF109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0CE-9DD7-4504-A9AD-DD3987C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1DA-073D-4545-AAE9-9706CA2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5177-E581-468C-8275-B5D9D11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307E-211F-467C-B09B-E684FDC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A58E-461C-4A34-ADA5-2E71A9B3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8A3-4025-4A81-B55E-E0C8AADC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F37-B41A-43E8-B9D8-091AD731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F365-37C9-442C-94C4-86D4D18D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C39C-FC31-4860-868D-AA3E7213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90D0-D5DE-4E14-82C9-162B7E00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431A-85BB-4944-9DE5-E34AF4E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D06F-BDC6-4AC1-804C-CFAC4FE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A62-033C-4C71-96E4-2BD5F8A8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91AC-BC56-47D3-9E6A-DBDE069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BCA9-4BDD-47F5-B15C-9E23630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B12E-B774-4469-AB83-7F4AD22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B12B-F8BE-4CF4-97A6-DC0B80D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5703-F984-4032-81D9-349B83C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4D5D-41E7-4A85-B52F-98189807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22C3-0A32-4160-83F7-E7596518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0567-FDDE-456E-B875-911239EE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0A4C-4D76-454C-B45D-F39D975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3ED9-B5B8-44E0-A04A-F024181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7F3-D6FD-46E8-A4B2-DADB14F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4DB6-9CE4-4E37-8F7B-3F5432DF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7994-5410-4222-9498-7039E33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D2E4-1B01-4369-8F83-95883ACB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A38B-86D8-4825-A6D8-DE85359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927F-2F00-4A61-BC88-A73EC0E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6519-CF60-4DB3-BF35-5C45560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560A-B8C0-422B-BB6C-C3BD2136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0615-F6A9-4EED-8D7C-9DDC1565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59BB-952F-4866-87F1-DCFC4115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7CBD-DA9A-4103-B3DD-0FF52A4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B07-CA99-470C-82BD-4F64938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09BE-E606-4304-8AB9-276911D9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B4E87-BB5C-4C22-B752-1B9E6D5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1378-6F63-40BE-80D1-043EF1B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5175-8C34-4896-8AE7-5513F759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C8D9-9809-43A5-993A-F68905C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E010-97CF-486B-8F14-415F46D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8D26-6F48-4E0D-8170-305935B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34F5-11DE-41A9-BAC0-3A9CAF9A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05EA-1A74-439A-8D36-74A2840B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9F33-287C-4C64-B37A-417637F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E7B-6093-458C-AC97-27A836B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B0C0-C8D4-4EAC-B3F8-BA953EA6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9BC7-B08C-462E-83B5-DF691A68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2D2D-57D8-4E5A-9BE8-5F7C8A7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C57F-0461-4880-BB6D-AF120E2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2993-3B91-4B2C-A387-07902FB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BCBF-52BC-4A1E-B9E8-D0E1928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07DBD-F3E6-4776-8A00-D3D6192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F79E8-C525-424E-8A7F-2D29A87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90F7E-4E2E-4B2A-A64E-0172685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9AC72-8240-4031-A0AD-FDA2D021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95E-F601-48CB-BC56-6DA4D60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0283C-ADB9-40A8-B0DB-E1BFCCD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61BB-4D38-4A55-99D0-0A63CE85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23C2-55BA-420E-95D6-BC1D1FA2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F8A0-9392-431C-AF3F-A564B13C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C52E-72A9-4004-9D1F-47AEEDFF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8E4F-D11D-4392-A771-77DF391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D3AAB-4A2E-4CD7-BEB7-FABB84D6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4993F-17AE-4A21-A091-9299EDD3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5C5B-F567-4B41-97CA-AF0D899D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76E7-D2DC-4C77-A61F-27433CE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178-E213-436A-990D-15F25BDC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C1ED-5792-4E7D-A222-A8942DE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8AAE-5E92-4BA5-98D5-FCEE0D4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E3DE-3FA0-492B-B0C7-2D3CCCAD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FF2F9-1190-46AD-95CF-1AEF073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36BF-E017-42F8-A666-FB995065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03D6-50A4-4250-89A7-C36E747F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0153E-C416-447D-9B53-D5D1A0C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804CA-0AF2-4F44-8F4C-F6FE688D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673F-E79C-4F20-86E7-DD43A8C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063D-2306-4A51-A28C-A140241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226-0E85-46DB-ACBF-A9EC23A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3D9E-E97A-46C4-B2BD-C9AED975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59CE-A2AA-434E-AABD-140138B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459AE-014B-4249-B694-E2BCEB5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18CD-F7C2-43E2-8C67-D1549B3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6CBFA-186F-4F62-BC35-7C105FF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F3E8-E9C9-4AE8-B860-7E74CDED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EBD0-B2E3-4EF2-89B5-18CF7219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223C0-0566-4C61-9C8F-CAB777C8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78FD9-61EE-49F4-8BD1-E097FBC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6C919-5C98-4F7F-9997-7CF31A8F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7C7E-3A99-41C5-A207-CFA3F28A5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4BA-45A5-4E26-9731-FC2C473139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8E3-31CA-4CCA-8338-FA6B54E56C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8CE5-C176-4B9D-9F6F-09E2431AC6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CC3-864C-48AC-AFDC-4D02B4827C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06B8-7488-46C6-AFAB-F44B24C5DB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AB3-BE7A-4C9B-B036-BBCE4DC437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45D-D5A1-4774-8A92-4812353D71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5184-577B-4154-B3FB-BCCE4EF700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2C0-6336-4398-9BC2-E8AD926876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EE4-D340-4AD6-B3A0-38ECE14226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50F-5455-495C-8A54-58DD785E33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E9E-51C3-49D5-AB68-6F9023DB22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24.xml"/><Relationship Id="rId5" Type="http://schemas.openxmlformats.org/officeDocument/2006/relationships/slide" Target="slide30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5.png"/><Relationship Id="rId11" Type="http://schemas.openxmlformats.org/officeDocument/2006/relationships/audio" Target="../media/ZR522.WAV"/><Relationship Id="rId12" Type="http://schemas.openxmlformats.org/officeDocument/2006/relationships/audio" Target="../media/ZR522.WAV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vpengyou.com/html/pic/0_5F_B2_D4_B6_FA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绿005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224000" y="836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植物妈妈有办法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260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5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秋季15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8839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672480" y="1360440"/>
            <a:ext cx="3805200" cy="2067480"/>
            <a:chOff x="672480" y="1360440"/>
            <a:chExt cx="3805200" cy="2067480"/>
          </a:xfrm>
        </p:grpSpPr>
        <p:sp>
          <p:nvSpPr>
            <p:cNvPr id="557" name="AutoShape 5"/>
            <p:cNvSpPr/>
            <p:nvPr/>
          </p:nvSpPr>
          <p:spPr>
            <a:xfrm>
              <a:off x="1219320" y="17524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6"/>
            <p:cNvSpPr/>
            <p:nvPr/>
          </p:nvSpPr>
          <p:spPr>
            <a:xfrm>
              <a:off x="1674720" y="1360440"/>
              <a:ext cx="23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dé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得到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672480" y="185904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8"/>
            <p:cNvSpPr/>
            <p:nvPr/>
          </p:nvSpPr>
          <p:spPr>
            <a:xfrm>
              <a:off x="1812960" y="2028600"/>
              <a:ext cx="260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děi</a:t>
              </a: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（我得去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9"/>
            <p:cNvSpPr/>
            <p:nvPr/>
          </p:nvSpPr>
          <p:spPr>
            <a:xfrm>
              <a:off x="1802160" y="2663640"/>
              <a:ext cx="267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de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跑得快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0"/>
          <p:cNvGrpSpPr/>
          <p:nvPr/>
        </p:nvGrpSpPr>
        <p:grpSpPr>
          <a:xfrm>
            <a:off x="4781520" y="1413000"/>
            <a:ext cx="3666600" cy="2020320"/>
            <a:chOff x="4781520" y="1413000"/>
            <a:chExt cx="3666600" cy="2020320"/>
          </a:xfrm>
        </p:grpSpPr>
        <p:sp>
          <p:nvSpPr>
            <p:cNvPr id="563" name="AutoShape 11"/>
            <p:cNvSpPr/>
            <p:nvPr/>
          </p:nvSpPr>
          <p:spPr>
            <a:xfrm>
              <a:off x="5329800" y="1755000"/>
              <a:ext cx="152280" cy="1375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5560"/>
                <a:gd name="textAreaBottom" fmla="*/ 1339920 h 13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5466240" y="1413000"/>
              <a:ext cx="29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wéi</a:t>
              </a: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（行为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4781520" y="1861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5482080" y="2137320"/>
              <a:ext cx="18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"/>
            <p:cNvSpPr/>
            <p:nvPr/>
          </p:nvSpPr>
          <p:spPr>
            <a:xfrm>
              <a:off x="5793480" y="2669040"/>
              <a:ext cx="263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wèi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因为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596160" y="3578400"/>
            <a:ext cx="4211640" cy="2067480"/>
            <a:chOff x="596160" y="3578400"/>
            <a:chExt cx="4211640" cy="2067480"/>
          </a:xfrm>
        </p:grpSpPr>
        <p:sp>
          <p:nvSpPr>
            <p:cNvPr id="569" name="AutoShape 17"/>
            <p:cNvSpPr/>
            <p:nvPr/>
          </p:nvSpPr>
          <p:spPr>
            <a:xfrm>
              <a:off x="1143000" y="397044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1659600" y="3578400"/>
              <a:ext cx="3056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jiànɡ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降落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596160" y="40770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降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0"/>
            <p:cNvSpPr/>
            <p:nvPr/>
          </p:nvSpPr>
          <p:spPr>
            <a:xfrm>
              <a:off x="1295280" y="435168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"/>
            <p:cNvSpPr/>
            <p:nvPr/>
          </p:nvSpPr>
          <p:spPr>
            <a:xfrm>
              <a:off x="1599120" y="4881600"/>
              <a:ext cx="320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xiánɡ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投降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22"/>
          <p:cNvGrpSpPr/>
          <p:nvPr/>
        </p:nvGrpSpPr>
        <p:grpSpPr>
          <a:xfrm>
            <a:off x="4710960" y="3586320"/>
            <a:ext cx="3681360" cy="2067480"/>
            <a:chOff x="4710960" y="3586320"/>
            <a:chExt cx="3681360" cy="2067480"/>
          </a:xfrm>
        </p:grpSpPr>
        <p:sp>
          <p:nvSpPr>
            <p:cNvPr id="575" name="AutoShape 23"/>
            <p:cNvSpPr/>
            <p:nvPr/>
          </p:nvSpPr>
          <p:spPr>
            <a:xfrm>
              <a:off x="5257800" y="39783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24"/>
            <p:cNvSpPr/>
            <p:nvPr/>
          </p:nvSpPr>
          <p:spPr>
            <a:xfrm>
              <a:off x="5682960" y="3586320"/>
              <a:ext cx="267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h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</a:rPr>
                <a:t>ǎ</a:t>
              </a: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o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好人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4710960" y="4084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5410080" y="435960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7"/>
            <p:cNvSpPr/>
            <p:nvPr/>
          </p:nvSpPr>
          <p:spPr>
            <a:xfrm>
              <a:off x="5685120" y="4889520"/>
              <a:ext cx="270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hào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好奇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秋季9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划一划，课文中介绍了几种植物妈妈传播种子的方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4" descr="art_0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5"/>
          <p:cNvSpPr/>
          <p:nvPr/>
        </p:nvSpPr>
        <p:spPr>
          <a:xfrm>
            <a:off x="684360" y="765000"/>
            <a:ext cx="7848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如果已经长大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ěi                                                  wé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别妈妈，四海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600120" y="3068640"/>
            <a:ext cx="85438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马有脚，鸟有翅膀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要旅行靠的什么办法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0" y="1484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苍耳妈妈为孩子准备了（                 ）， 孩子（         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5364000" y="141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带刺的铠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835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挂住动物皮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0" y="3357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豌豆妈妈为孩子准备了（         ），让孩子（                    ），豆荚炸开，孩子（     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5651640" y="33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豆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332000" y="393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晒在太阳底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1042920" y="450864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蹦着跳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115920"/>
            <a:ext cx="93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蒲公英妈妈为孩子准备了（         ）， 孩子（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6012000" y="1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降落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1754640" y="76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乘着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蒲公仪"/>
          <p:cNvPicPr/>
          <p:nvPr/>
        </p:nvPicPr>
        <p:blipFill>
          <a:blip r:embed="rId1"/>
          <a:stretch/>
        </p:blipFill>
        <p:spPr>
          <a:xfrm>
            <a:off x="457200" y="380880"/>
            <a:ext cx="2730600" cy="21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602" name="Picture 3" descr="山羊"/>
          <p:cNvPicPr/>
          <p:nvPr/>
        </p:nvPicPr>
        <p:blipFill>
          <a:blip r:embed="rId2"/>
          <a:stretch/>
        </p:blipFill>
        <p:spPr>
          <a:xfrm>
            <a:off x="3048120" y="1981080"/>
            <a:ext cx="2685960" cy="2135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603" name="Picture 4" descr="wandou"/>
          <p:cNvPicPr/>
          <p:nvPr/>
        </p:nvPicPr>
        <p:blipFill>
          <a:blip r:embed="rId3"/>
          <a:stretch/>
        </p:blipFill>
        <p:spPr>
          <a:xfrm>
            <a:off x="5638680" y="3581280"/>
            <a:ext cx="2667240" cy="2200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04" name="AutoShape 5">
            <a:hlinkClick r:id="" action="ppaction://hlinkshowjump?jump=nextslide"/>
          </p:cNvPr>
          <p:cNvSpPr/>
          <p:nvPr/>
        </p:nvSpPr>
        <p:spPr>
          <a:xfrm>
            <a:off x="1600200" y="3124080"/>
            <a:ext cx="380880" cy="15264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22" h="21600">
                <a:moveTo>
                  <a:pt x="0" y="0"/>
                </a:moveTo>
                <a:lnTo>
                  <a:pt x="53822" y="0"/>
                </a:lnTo>
                <a:lnTo>
                  <a:pt x="53822" y="21600"/>
                </a:lnTo>
                <a:lnTo>
                  <a:pt x="0" y="21600"/>
                </a:lnTo>
                <a:close/>
              </a:path>
              <a:path fill="lightenLess" w="53822" h="21600">
                <a:moveTo>
                  <a:pt x="0" y="0"/>
                </a:moveTo>
                <a:lnTo>
                  <a:pt x="53822" y="0"/>
                </a:lnTo>
                <a:lnTo>
                  <a:pt x="52422" y="1400"/>
                </a:lnTo>
                <a:lnTo>
                  <a:pt x="1400" y="1400"/>
                </a:lnTo>
                <a:close/>
              </a:path>
              <a:path fill="darken" w="53822" h="21600">
                <a:moveTo>
                  <a:pt x="53822" y="0"/>
                </a:moveTo>
                <a:lnTo>
                  <a:pt x="53822" y="21600"/>
                </a:lnTo>
                <a:lnTo>
                  <a:pt x="52422" y="20200"/>
                </a:lnTo>
                <a:lnTo>
                  <a:pt x="52422" y="1400"/>
                </a:lnTo>
                <a:close/>
              </a:path>
              <a:path fill="darkenLess" w="53822" h="21600">
                <a:moveTo>
                  <a:pt x="53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22" y="20200"/>
                </a:lnTo>
                <a:close/>
              </a:path>
              <a:path fill="lighten" w="53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22" h="21600">
                <a:moveTo>
                  <a:pt x="19905" y="3794"/>
                </a:moveTo>
                <a:lnTo>
                  <a:pt x="33918" y="10800"/>
                </a:lnTo>
                <a:lnTo>
                  <a:pt x="199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>
            <a:hlinkClick r:id="rId4" action="ppaction://hlinksldjump"/>
          </p:cNvPr>
          <p:cNvSpPr/>
          <p:nvPr/>
        </p:nvSpPr>
        <p:spPr>
          <a:xfrm>
            <a:off x="4267080" y="48006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>
            <a:hlinkClick r:id="rId5" action="ppaction://hlinksldjump"/>
          </p:cNvPr>
          <p:cNvSpPr/>
          <p:nvPr/>
        </p:nvSpPr>
        <p:spPr>
          <a:xfrm>
            <a:off x="6858000" y="6400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8">
            <a:hlinkClick r:id="rId6" action="ppaction://hlinksldjump"/>
          </p:cNvPr>
          <p:cNvSpPr/>
          <p:nvPr/>
        </p:nvSpPr>
        <p:spPr>
          <a:xfrm>
            <a:off x="135792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3962520" y="426708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6629400" y="594360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1">
            <a:hlinkClick r:id="rId7" action="ppaction://hlinksldjump"/>
          </p:cNvPr>
          <p:cNvSpPr/>
          <p:nvPr/>
        </p:nvSpPr>
        <p:spPr>
          <a:xfrm>
            <a:off x="1295280" y="6477120"/>
            <a:ext cx="457200" cy="204840"/>
          </a:xfrm>
          <a:custGeom>
            <a:avLst/>
            <a:gdLst>
              <a:gd name="textAreaLeft" fmla="*/ 12960 w 457200"/>
              <a:gd name="textAreaRight" fmla="*/ 444240 w 4572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48164" h="21600">
                <a:moveTo>
                  <a:pt x="0" y="0"/>
                </a:moveTo>
                <a:lnTo>
                  <a:pt x="48164" y="0"/>
                </a:lnTo>
                <a:lnTo>
                  <a:pt x="48164" y="21600"/>
                </a:lnTo>
                <a:lnTo>
                  <a:pt x="0" y="21600"/>
                </a:lnTo>
                <a:close/>
              </a:path>
              <a:path fill="lightenLess" w="48164" h="21600">
                <a:moveTo>
                  <a:pt x="0" y="0"/>
                </a:moveTo>
                <a:lnTo>
                  <a:pt x="48164" y="0"/>
                </a:lnTo>
                <a:lnTo>
                  <a:pt x="46764" y="1400"/>
                </a:lnTo>
                <a:lnTo>
                  <a:pt x="1400" y="1400"/>
                </a:lnTo>
                <a:close/>
              </a:path>
              <a:path fill="darken" w="48164" h="21600">
                <a:moveTo>
                  <a:pt x="48164" y="0"/>
                </a:moveTo>
                <a:lnTo>
                  <a:pt x="48164" y="21600"/>
                </a:lnTo>
                <a:lnTo>
                  <a:pt x="46764" y="20200"/>
                </a:lnTo>
                <a:lnTo>
                  <a:pt x="46764" y="1400"/>
                </a:lnTo>
                <a:close/>
              </a:path>
              <a:path fill="darkenLess" w="48164" h="21600">
                <a:moveTo>
                  <a:pt x="48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4" y="20200"/>
                </a:lnTo>
                <a:close/>
              </a:path>
              <a:path fill="lighten" w="48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64" h="21600">
                <a:moveTo>
                  <a:pt x="17076" y="3794"/>
                </a:moveTo>
                <a:lnTo>
                  <a:pt x="31089" y="10800"/>
                </a:lnTo>
                <a:lnTo>
                  <a:pt x="170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4课-3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838080" y="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">
            <a:hlinkClick r:id="rId2" action="ppaction://hlinksldjump"/>
          </p:cNvPr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24课-3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838080" y="0"/>
            <a:ext cx="7772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4"/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20071128161141369_2"/>
          <p:cNvPicPr/>
          <p:nvPr/>
        </p:nvPicPr>
        <p:blipFill>
          <a:blip r:embed="rId1"/>
          <a:stretch/>
        </p:blipFill>
        <p:spPr>
          <a:xfrm>
            <a:off x="4035600" y="0"/>
            <a:ext cx="5108400" cy="5108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降落伞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feng"/>
          <p:cNvPicPr/>
          <p:nvPr/>
        </p:nvPicPr>
        <p:blipFill>
          <a:blip r:embed="rId2"/>
          <a:stretch/>
        </p:blipFill>
        <p:spPr>
          <a:xfrm>
            <a:off x="0" y="1270080"/>
            <a:ext cx="4317840" cy="4317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未标题-2"/>
          <p:cNvPicPr/>
          <p:nvPr/>
        </p:nvPicPr>
        <p:blipFill>
          <a:blip r:embed="rId3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未标题-2"/>
          <p:cNvPicPr/>
          <p:nvPr/>
        </p:nvPicPr>
        <p:blipFill>
          <a:blip r:embed="rId4"/>
          <a:stretch/>
        </p:blipFill>
        <p:spPr>
          <a:xfrm>
            <a:off x="4051440" y="34290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未标题-2"/>
          <p:cNvPicPr/>
          <p:nvPr/>
        </p:nvPicPr>
        <p:blipFill>
          <a:blip r:embed="rId5"/>
          <a:stretch/>
        </p:blipFill>
        <p:spPr>
          <a:xfrm>
            <a:off x="457200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未标题-2"/>
          <p:cNvPicPr/>
          <p:nvPr/>
        </p:nvPicPr>
        <p:blipFill>
          <a:blip r:embed="rId6"/>
          <a:stretch/>
        </p:blipFill>
        <p:spPr>
          <a:xfrm>
            <a:off x="502920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未标题-2"/>
          <p:cNvPicPr/>
          <p:nvPr/>
        </p:nvPicPr>
        <p:blipFill>
          <a:blip r:embed="rId7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未标题-2"/>
          <p:cNvPicPr/>
          <p:nvPr/>
        </p:nvPicPr>
        <p:blipFill>
          <a:blip r:embed="rId8"/>
          <a:stretch/>
        </p:blipFill>
        <p:spPr>
          <a:xfrm>
            <a:off x="617220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" descr="未标题-2"/>
          <p:cNvPicPr/>
          <p:nvPr/>
        </p:nvPicPr>
        <p:blipFill>
          <a:blip r:embed="rId9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未标题-2"/>
          <p:cNvPicPr/>
          <p:nvPr/>
        </p:nvPicPr>
        <p:blipFill>
          <a:blip r:embed="rId10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2" descr="未标题-2"/>
          <p:cNvPicPr/>
          <p:nvPr/>
        </p:nvPicPr>
        <p:blipFill>
          <a:blip r:embed="rId11"/>
          <a:stretch/>
        </p:blipFill>
        <p:spPr>
          <a:xfrm>
            <a:off x="6019920" y="482292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未标题-2"/>
          <p:cNvPicPr/>
          <p:nvPr/>
        </p:nvPicPr>
        <p:blipFill>
          <a:blip r:embed="rId12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未标题-2"/>
          <p:cNvPicPr/>
          <p:nvPr/>
        </p:nvPicPr>
        <p:blipFill>
          <a:blip r:embed="rId13"/>
          <a:stretch/>
        </p:blipFill>
        <p:spPr>
          <a:xfrm>
            <a:off x="7086600" y="383220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未标题-2"/>
          <p:cNvPicPr/>
          <p:nvPr/>
        </p:nvPicPr>
        <p:blipFill>
          <a:blip r:embed="rId14"/>
          <a:stretch/>
        </p:blipFill>
        <p:spPr>
          <a:xfrm>
            <a:off x="2554200" y="34290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6" descr="未标题-2"/>
          <p:cNvPicPr/>
          <p:nvPr/>
        </p:nvPicPr>
        <p:blipFill>
          <a:blip r:embed="rId15"/>
          <a:stretch/>
        </p:blipFill>
        <p:spPr>
          <a:xfrm>
            <a:off x="307512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7" descr="未标题-2"/>
          <p:cNvPicPr/>
          <p:nvPr/>
        </p:nvPicPr>
        <p:blipFill>
          <a:blip r:embed="rId16"/>
          <a:stretch/>
        </p:blipFill>
        <p:spPr>
          <a:xfrm>
            <a:off x="353232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8" descr="未标题-2"/>
          <p:cNvPicPr/>
          <p:nvPr/>
        </p:nvPicPr>
        <p:blipFill>
          <a:blip r:embed="rId17"/>
          <a:stretch/>
        </p:blipFill>
        <p:spPr>
          <a:xfrm>
            <a:off x="4141800" y="20574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9" descr="未标题-2"/>
          <p:cNvPicPr/>
          <p:nvPr/>
        </p:nvPicPr>
        <p:blipFill>
          <a:blip r:embed="rId18"/>
          <a:stretch/>
        </p:blipFill>
        <p:spPr>
          <a:xfrm>
            <a:off x="467532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0" descr="未标题-2"/>
          <p:cNvPicPr/>
          <p:nvPr/>
        </p:nvPicPr>
        <p:blipFill>
          <a:blip r:embed="rId19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1" descr="未标题-2"/>
          <p:cNvPicPr/>
          <p:nvPr/>
        </p:nvPicPr>
        <p:blipFill>
          <a:blip r:embed="rId20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2" descr="未标题-2"/>
          <p:cNvPicPr/>
          <p:nvPr/>
        </p:nvPicPr>
        <p:blipFill>
          <a:blip r:embed="rId21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3" descr="未标题-2"/>
          <p:cNvPicPr/>
          <p:nvPr/>
        </p:nvPicPr>
        <p:blipFill>
          <a:blip r:embed="rId22"/>
          <a:stretch/>
        </p:blipFill>
        <p:spPr>
          <a:xfrm>
            <a:off x="4202280" y="4092480"/>
            <a:ext cx="1409400" cy="1121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4" descr="未标题-2"/>
          <p:cNvPicPr/>
          <p:nvPr/>
        </p:nvPicPr>
        <p:blipFill>
          <a:blip r:embed="rId23"/>
          <a:stretch/>
        </p:blipFill>
        <p:spPr>
          <a:xfrm>
            <a:off x="4722840" y="367812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5" descr="未标题-2"/>
          <p:cNvPicPr/>
          <p:nvPr/>
        </p:nvPicPr>
        <p:blipFill>
          <a:blip r:embed="rId24"/>
          <a:stretch/>
        </p:blipFill>
        <p:spPr>
          <a:xfrm>
            <a:off x="5180040" y="3265560"/>
            <a:ext cx="1409760" cy="1120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6" descr="未标题-2"/>
          <p:cNvPicPr/>
          <p:nvPr/>
        </p:nvPicPr>
        <p:blipFill>
          <a:blip r:embed="rId25"/>
          <a:stretch/>
        </p:blipFill>
        <p:spPr>
          <a:xfrm>
            <a:off x="5789520" y="27208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7" descr="未标题-2"/>
          <p:cNvPicPr/>
          <p:nvPr/>
        </p:nvPicPr>
        <p:blipFill>
          <a:blip r:embed="rId26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8" descr="未标题-2"/>
          <p:cNvPicPr/>
          <p:nvPr/>
        </p:nvPicPr>
        <p:blipFill>
          <a:blip r:embed="rId27"/>
          <a:stretch/>
        </p:blipFill>
        <p:spPr>
          <a:xfrm>
            <a:off x="6858000" y="1730520"/>
            <a:ext cx="1407960" cy="11206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9" descr="未标题-2"/>
          <p:cNvPicPr/>
          <p:nvPr/>
        </p:nvPicPr>
        <p:blipFill>
          <a:blip r:embed="rId28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0" descr="未标题-2"/>
          <p:cNvPicPr/>
          <p:nvPr/>
        </p:nvPicPr>
        <p:blipFill>
          <a:blip r:embed="rId29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31"/>
          <p:cNvSpPr/>
          <p:nvPr/>
        </p:nvSpPr>
        <p:spPr>
          <a:xfrm>
            <a:off x="1476360" y="7128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纷纷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475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125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625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news_200417174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762120" y="5335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</a:rPr>
              <a:t>向日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feng"/>
          <p:cNvPicPr/>
          <p:nvPr/>
        </p:nvPicPr>
        <p:blipFill>
          <a:blip r:embed="rId2"/>
          <a:stretch/>
        </p:blipFill>
        <p:spPr>
          <a:xfrm>
            <a:off x="0" y="1270080"/>
            <a:ext cx="4317840" cy="4317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未标题-2"/>
          <p:cNvPicPr/>
          <p:nvPr/>
        </p:nvPicPr>
        <p:blipFill>
          <a:blip r:embed="rId3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未标题-2"/>
          <p:cNvPicPr/>
          <p:nvPr/>
        </p:nvPicPr>
        <p:blipFill>
          <a:blip r:embed="rId4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0" descr="未标题-2"/>
          <p:cNvPicPr/>
          <p:nvPr/>
        </p:nvPicPr>
        <p:blipFill>
          <a:blip r:embed="rId5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未标题-2"/>
          <p:cNvPicPr/>
          <p:nvPr/>
        </p:nvPicPr>
        <p:blipFill>
          <a:blip r:embed="rId6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3" descr="未标题-2"/>
          <p:cNvPicPr/>
          <p:nvPr/>
        </p:nvPicPr>
        <p:blipFill>
          <a:blip r:embed="rId7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0" descr="未标题-2"/>
          <p:cNvPicPr/>
          <p:nvPr/>
        </p:nvPicPr>
        <p:blipFill>
          <a:blip r:embed="rId8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1" descr="未标题-2"/>
          <p:cNvPicPr/>
          <p:nvPr/>
        </p:nvPicPr>
        <p:blipFill>
          <a:blip r:embed="rId9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2" descr="未标题-2"/>
          <p:cNvPicPr/>
          <p:nvPr/>
        </p:nvPicPr>
        <p:blipFill>
          <a:blip r:embed="rId10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7" descr="未标题-2"/>
          <p:cNvPicPr/>
          <p:nvPr/>
        </p:nvPicPr>
        <p:blipFill>
          <a:blip r:embed="rId11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9" descr="未标题-2"/>
          <p:cNvPicPr/>
          <p:nvPr/>
        </p:nvPicPr>
        <p:blipFill>
          <a:blip r:embed="rId12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0" descr="未标题-2"/>
          <p:cNvPicPr/>
          <p:nvPr/>
        </p:nvPicPr>
        <p:blipFill>
          <a:blip r:embed="rId13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31"/>
          <p:cNvSpPr/>
          <p:nvPr/>
        </p:nvSpPr>
        <p:spPr>
          <a:xfrm>
            <a:off x="755640" y="9810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F77AFC66DBC4BBBB78186E477EA138D8_800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03728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"/>
          <p:cNvSpPr/>
          <p:nvPr/>
        </p:nvSpPr>
        <p:spPr>
          <a:xfrm>
            <a:off x="111600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海为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7" descr="20061111_237e1c51ddc0de0308c66940840f1a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5"/>
          <p:cNvSpPr/>
          <p:nvPr/>
        </p:nvSpPr>
        <p:spPr>
          <a:xfrm>
            <a:off x="7467480" y="6248520"/>
            <a:ext cx="738360" cy="380880"/>
          </a:xfrm>
          <a:custGeom>
            <a:avLst/>
            <a:gdLst>
              <a:gd name="textAreaLeft" fmla="*/ 24480 w 738360"/>
              <a:gd name="textAreaRight" fmla="*/ 713880 w 738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1854" h="21600">
                <a:moveTo>
                  <a:pt x="0" y="0"/>
                </a:moveTo>
                <a:lnTo>
                  <a:pt x="41854" y="0"/>
                </a:lnTo>
                <a:lnTo>
                  <a:pt x="41854" y="21600"/>
                </a:lnTo>
                <a:lnTo>
                  <a:pt x="0" y="21600"/>
                </a:lnTo>
                <a:close/>
              </a:path>
              <a:path fill="lightenLess" w="41854" h="21600">
                <a:moveTo>
                  <a:pt x="0" y="0"/>
                </a:moveTo>
                <a:lnTo>
                  <a:pt x="41854" y="0"/>
                </a:lnTo>
                <a:lnTo>
                  <a:pt x="40454" y="1400"/>
                </a:lnTo>
                <a:lnTo>
                  <a:pt x="1400" y="1400"/>
                </a:lnTo>
                <a:close/>
              </a:path>
              <a:path fill="darken" w="41854" h="21600">
                <a:moveTo>
                  <a:pt x="41854" y="0"/>
                </a:moveTo>
                <a:lnTo>
                  <a:pt x="41854" y="21600"/>
                </a:lnTo>
                <a:lnTo>
                  <a:pt x="40454" y="20200"/>
                </a:lnTo>
                <a:lnTo>
                  <a:pt x="40454" y="1400"/>
                </a:lnTo>
                <a:close/>
              </a:path>
              <a:path fill="darkenLess" w="41854" h="21600">
                <a:moveTo>
                  <a:pt x="41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4" y="20200"/>
                </a:lnTo>
                <a:close/>
              </a:path>
              <a:path fill="lighten" w="41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4" h="21600">
                <a:moveTo>
                  <a:pt x="13920" y="3794"/>
                </a:moveTo>
                <a:lnTo>
                  <a:pt x="27933" y="10800"/>
                </a:lnTo>
                <a:lnTo>
                  <a:pt x="139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684360" y="1700280"/>
            <a:ext cx="7772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4"/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1042920" y="5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4"/>
          <p:cNvSpPr/>
          <p:nvPr/>
        </p:nvSpPr>
        <p:spPr>
          <a:xfrm>
            <a:off x="8077320" y="6653160"/>
            <a:ext cx="533160" cy="204840"/>
          </a:xfrm>
          <a:custGeom>
            <a:avLst/>
            <a:gdLst>
              <a:gd name="textAreaLeft" fmla="*/ 12960 w 533160"/>
              <a:gd name="textAreaRight" fmla="*/ 520200 w 53316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56160" h="21600">
                <a:moveTo>
                  <a:pt x="0" y="0"/>
                </a:moveTo>
                <a:lnTo>
                  <a:pt x="56160" y="0"/>
                </a:lnTo>
                <a:lnTo>
                  <a:pt x="56160" y="21600"/>
                </a:lnTo>
                <a:lnTo>
                  <a:pt x="0" y="21600"/>
                </a:lnTo>
                <a:close/>
              </a:path>
              <a:path fill="lightenLess" w="56160" h="21600">
                <a:moveTo>
                  <a:pt x="0" y="0"/>
                </a:moveTo>
                <a:lnTo>
                  <a:pt x="56160" y="0"/>
                </a:lnTo>
                <a:lnTo>
                  <a:pt x="54760" y="1400"/>
                </a:lnTo>
                <a:lnTo>
                  <a:pt x="1400" y="1400"/>
                </a:lnTo>
                <a:close/>
              </a:path>
              <a:path fill="darken" w="56160" h="21600">
                <a:moveTo>
                  <a:pt x="56160" y="0"/>
                </a:moveTo>
                <a:lnTo>
                  <a:pt x="56160" y="21600"/>
                </a:lnTo>
                <a:lnTo>
                  <a:pt x="54760" y="20200"/>
                </a:lnTo>
                <a:lnTo>
                  <a:pt x="54760" y="1400"/>
                </a:lnTo>
                <a:close/>
              </a:path>
              <a:path fill="darkenLess" w="56160" h="21600">
                <a:moveTo>
                  <a:pt x="56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60" y="20200"/>
                </a:lnTo>
                <a:close/>
              </a:path>
              <a:path fill="lighten" w="56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60" h="21600">
                <a:moveTo>
                  <a:pt x="21074" y="3794"/>
                </a:moveTo>
                <a:lnTo>
                  <a:pt x="35086" y="10800"/>
                </a:lnTo>
                <a:lnTo>
                  <a:pt x="210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zhanguowushi"/>
          <p:cNvPicPr/>
          <p:nvPr/>
        </p:nvPicPr>
        <p:blipFill>
          <a:blip r:embed="rId1"/>
          <a:stretch/>
        </p:blipFill>
        <p:spPr>
          <a:xfrm>
            <a:off x="0" y="0"/>
            <a:ext cx="480204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"/>
          <p:cNvSpPr/>
          <p:nvPr/>
        </p:nvSpPr>
        <p:spPr>
          <a:xfrm>
            <a:off x="5219640" y="40464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铠 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4" descr="无标题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兔"/>
          <p:cNvPicPr/>
          <p:nvPr/>
        </p:nvPicPr>
        <p:blipFill>
          <a:blip r:embed="rId1"/>
          <a:stretch/>
        </p:blipFill>
        <p:spPr>
          <a:xfrm>
            <a:off x="7954920" y="0"/>
            <a:ext cx="1189080" cy="12193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兔苍二"/>
          <p:cNvPicPr/>
          <p:nvPr/>
        </p:nvPicPr>
        <p:blipFill>
          <a:blip r:embed="rId2"/>
          <a:stretch/>
        </p:blipFill>
        <p:spPr>
          <a:xfrm>
            <a:off x="2286000" y="3429000"/>
            <a:ext cx="1857240" cy="19051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兔"/>
          <p:cNvPicPr/>
          <p:nvPr/>
        </p:nvPicPr>
        <p:blipFill>
          <a:blip r:embed="rId3"/>
          <a:stretch/>
        </p:blipFill>
        <p:spPr>
          <a:xfrm>
            <a:off x="7391520" y="304920"/>
            <a:ext cx="1411200" cy="1447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兔"/>
          <p:cNvPicPr/>
          <p:nvPr/>
        </p:nvPicPr>
        <p:blipFill>
          <a:blip r:embed="rId4"/>
          <a:stretch/>
        </p:blipFill>
        <p:spPr>
          <a:xfrm>
            <a:off x="6861240" y="533520"/>
            <a:ext cx="1560600" cy="16002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兔"/>
          <p:cNvPicPr/>
          <p:nvPr/>
        </p:nvPicPr>
        <p:blipFill>
          <a:blip r:embed="rId5"/>
          <a:stretch/>
        </p:blipFill>
        <p:spPr>
          <a:xfrm>
            <a:off x="6019920" y="838080"/>
            <a:ext cx="1708200" cy="1752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兔"/>
          <p:cNvPicPr/>
          <p:nvPr/>
        </p:nvPicPr>
        <p:blipFill>
          <a:blip r:embed="rId6"/>
          <a:stretch/>
        </p:blipFill>
        <p:spPr>
          <a:xfrm>
            <a:off x="4952880" y="1676520"/>
            <a:ext cx="1708200" cy="17524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兔"/>
          <p:cNvPicPr/>
          <p:nvPr/>
        </p:nvPicPr>
        <p:blipFill>
          <a:blip r:embed="rId7"/>
          <a:stretch/>
        </p:blipFill>
        <p:spPr>
          <a:xfrm>
            <a:off x="3718080" y="2286000"/>
            <a:ext cx="1707840" cy="17524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9" descr="兔苍二"/>
          <p:cNvPicPr/>
          <p:nvPr/>
        </p:nvPicPr>
        <p:blipFill>
          <a:blip r:embed="rId8"/>
          <a:stretch/>
        </p:blipFill>
        <p:spPr>
          <a:xfrm>
            <a:off x="1677960" y="373392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兔苍二"/>
          <p:cNvPicPr/>
          <p:nvPr/>
        </p:nvPicPr>
        <p:blipFill>
          <a:blip r:embed="rId9"/>
          <a:stretch/>
        </p:blipFill>
        <p:spPr>
          <a:xfrm>
            <a:off x="920880" y="3886200"/>
            <a:ext cx="2154240" cy="2209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1" descr="苍二"/>
          <p:cNvPicPr/>
          <p:nvPr/>
        </p:nvPicPr>
        <p:blipFill>
          <a:blip r:embed="rId10"/>
          <a:stretch/>
        </p:blipFill>
        <p:spPr>
          <a:xfrm>
            <a:off x="2286000" y="1549440"/>
            <a:ext cx="5683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4"/>
          <p:cNvSpPr/>
          <p:nvPr/>
        </p:nvSpPr>
        <p:spPr>
          <a:xfrm>
            <a:off x="2657160" y="836640"/>
            <a:ext cx="420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孩子们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3"/>
          <p:cNvSpPr/>
          <p:nvPr/>
        </p:nvSpPr>
        <p:spPr>
          <a:xfrm>
            <a:off x="2167920" y="836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"/>
          <p:cNvSpPr/>
          <p:nvPr/>
        </p:nvSpPr>
        <p:spPr>
          <a:xfrm>
            <a:off x="2840040" y="83664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给孩子们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樱桃"/>
          <p:cNvPicPr/>
          <p:nvPr/>
        </p:nvPicPr>
        <p:blipFill>
          <a:blip r:embed="rId1"/>
          <a:stretch/>
        </p:blipFill>
        <p:spPr>
          <a:xfrm>
            <a:off x="611280" y="12600"/>
            <a:ext cx="7921440" cy="6831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1518840" y="36828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樱  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2008722037641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3"/>
          <p:cNvSpPr/>
          <p:nvPr/>
        </p:nvSpPr>
        <p:spPr>
          <a:xfrm>
            <a:off x="3161880" y="836640"/>
            <a:ext cx="38840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让豆荚晒在太阳底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炸开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蹦着跳着离开妈妈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豆荚"/>
          <p:cNvPicPr/>
          <p:nvPr/>
        </p:nvPicPr>
        <p:blipFill>
          <a:blip r:embed="rId1"/>
          <a:stretch/>
        </p:blipFill>
        <p:spPr>
          <a:xfrm>
            <a:off x="1486080" y="749160"/>
            <a:ext cx="7657920" cy="5357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太阳"/>
          <p:cNvPicPr/>
          <p:nvPr/>
        </p:nvPicPr>
        <p:blipFill>
          <a:blip r:embed="rId2"/>
          <a:stretch/>
        </p:blipFill>
        <p:spPr>
          <a:xfrm>
            <a:off x="838080" y="533520"/>
            <a:ext cx="2032200" cy="21081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豆荚开2"/>
          <p:cNvPicPr/>
          <p:nvPr/>
        </p:nvPicPr>
        <p:blipFill>
          <a:blip r:embed="rId3"/>
          <a:stretch/>
        </p:blipFill>
        <p:spPr>
          <a:xfrm>
            <a:off x="2971800" y="5257800"/>
            <a:ext cx="1181160" cy="507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豆荚开3"/>
          <p:cNvPicPr/>
          <p:nvPr/>
        </p:nvPicPr>
        <p:blipFill>
          <a:blip r:embed="rId4"/>
          <a:stretch/>
        </p:blipFill>
        <p:spPr>
          <a:xfrm>
            <a:off x="3848040" y="5562720"/>
            <a:ext cx="1447920" cy="8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6"/>
          <p:cNvGraphicFramePr/>
          <p:nvPr/>
        </p:nvGraphicFramePr>
        <p:xfrm>
          <a:off x="2286000" y="5486400"/>
          <a:ext cx="37152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486400"/>
                    <a:ext cx="371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7"/>
          <p:cNvGraphicFramePr/>
          <p:nvPr/>
        </p:nvGraphicFramePr>
        <p:xfrm>
          <a:off x="1981080" y="5791320"/>
          <a:ext cx="37152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371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8"/>
          <p:cNvGraphicFramePr/>
          <p:nvPr/>
        </p:nvGraphicFramePr>
        <p:xfrm>
          <a:off x="1295280" y="5562720"/>
          <a:ext cx="371520" cy="39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562720"/>
                    <a:ext cx="371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wandou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16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11" name="Text Box 3"/>
          <p:cNvSpPr/>
          <p:nvPr/>
        </p:nvSpPr>
        <p:spPr>
          <a:xfrm>
            <a:off x="2776680" y="547560"/>
            <a:ext cx="42192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让豆荚晒在太阳底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炸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/>
          <p:cNvSpPr/>
          <p:nvPr/>
        </p:nvSpPr>
        <p:spPr>
          <a:xfrm>
            <a:off x="7596360" y="6021360"/>
            <a:ext cx="480960" cy="379440"/>
          </a:xfrm>
          <a:custGeom>
            <a:avLst/>
            <a:gdLst>
              <a:gd name="textAreaLeft" fmla="*/ 24480 w 480960"/>
              <a:gd name="textAreaRight" fmla="*/ 456480 w 480960"/>
              <a:gd name="textAreaTop" fmla="*/ 24480 h 379440"/>
              <a:gd name="textAreaBottom" fmla="*/ 354960 h 379440"/>
            </a:gdLst>
            <a:ahLst/>
            <a:rect l="textAreaLeft" t="textAreaTop" r="textAreaRight" b="textAreaBottom"/>
            <a:pathLst>
              <a:path w="27374" h="21600">
                <a:moveTo>
                  <a:pt x="0" y="0"/>
                </a:moveTo>
                <a:lnTo>
                  <a:pt x="27374" y="0"/>
                </a:lnTo>
                <a:lnTo>
                  <a:pt x="27374" y="21600"/>
                </a:lnTo>
                <a:lnTo>
                  <a:pt x="0" y="21600"/>
                </a:lnTo>
                <a:close/>
              </a:path>
              <a:path fill="lightenLess" w="27374" h="21600">
                <a:moveTo>
                  <a:pt x="0" y="0"/>
                </a:moveTo>
                <a:lnTo>
                  <a:pt x="27374" y="0"/>
                </a:lnTo>
                <a:lnTo>
                  <a:pt x="25974" y="1400"/>
                </a:lnTo>
                <a:lnTo>
                  <a:pt x="1400" y="1400"/>
                </a:lnTo>
                <a:close/>
              </a:path>
              <a:path fill="darken" w="27374" h="21600">
                <a:moveTo>
                  <a:pt x="27374" y="0"/>
                </a:moveTo>
                <a:lnTo>
                  <a:pt x="27374" y="21600"/>
                </a:lnTo>
                <a:lnTo>
                  <a:pt x="25974" y="20200"/>
                </a:lnTo>
                <a:lnTo>
                  <a:pt x="25974" y="1400"/>
                </a:lnTo>
                <a:close/>
              </a:path>
              <a:path fill="darkenLess" w="27374" h="21600">
                <a:moveTo>
                  <a:pt x="27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4" y="20200"/>
                </a:lnTo>
                <a:close/>
              </a:path>
              <a:path fill="lighten" w="27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4" h="21600">
                <a:moveTo>
                  <a:pt x="6680" y="3794"/>
                </a:moveTo>
                <a:lnTo>
                  <a:pt x="20693" y="10800"/>
                </a:lnTo>
                <a:lnTo>
                  <a:pt x="668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611280" y="105264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3" descr="p4p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15" name="Oval 4"/>
          <p:cNvSpPr/>
          <p:nvPr/>
        </p:nvSpPr>
        <p:spPr>
          <a:xfrm>
            <a:off x="8534520" y="64771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755640" y="105264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3" descr="p4p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18" name="Oval 4"/>
          <p:cNvSpPr/>
          <p:nvPr/>
        </p:nvSpPr>
        <p:spPr>
          <a:xfrm>
            <a:off x="8534520" y="64771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826920" y="333360"/>
            <a:ext cx="90741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粗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447920" y="5410080"/>
            <a:ext cx="69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4" descr="Q_MARK2"/>
          <p:cNvPicPr/>
          <p:nvPr/>
        </p:nvPicPr>
        <p:blipFill>
          <a:blip r:embed="rId1"/>
          <a:stretch/>
        </p:blipFill>
        <p:spPr>
          <a:xfrm>
            <a:off x="1676520" y="4876920"/>
            <a:ext cx="77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539640" y="620640"/>
            <a:ext cx="9001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能得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24000" y="42210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细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8305920" y="297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" descr="200841419523897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种子传播的奥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种子的传播方式大致有四种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风传播、动物传播、弹射传播、水传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  春天，柳絮四处飞扬。你知道春天柳絮飞扬的奥秘吗？抓一团柳絮仔细观察，会发现里面有些小颗粒，那就是柳树的种子。柳树就是靠柳絮的飞扬，把种子传播到四面八方的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凤仙花妈妈的办法跟豌豆妈妈的办法差不多，凤仙花果实成熟后炸裂，凤仙花妈妈用这种办法把种子送到四面八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tnpic190"/>
          <p:cNvPicPr/>
          <p:nvPr/>
        </p:nvPicPr>
        <p:blipFill>
          <a:blip r:embed="rId1"/>
          <a:stretch/>
        </p:blipFill>
        <p:spPr>
          <a:xfrm>
            <a:off x="0" y="0"/>
            <a:ext cx="10515600" cy="74674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"/>
          <p:cNvSpPr/>
          <p:nvPr/>
        </p:nvSpPr>
        <p:spPr>
          <a:xfrm>
            <a:off x="609480" y="2971800"/>
            <a:ext cx="7696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你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植物还有哪些传播种子的方法吗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ZW_074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a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685800" y="379800"/>
            <a:ext cx="3741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ú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蒲公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ZW_074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椰树的传播依靠流水，所以椰树一般长在江河海洋的沿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0" y="3809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762120" y="685800"/>
            <a:ext cx="7924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些植物的果实非常好吃。像野葡萄、柿子等被小鸟或动物 吃了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种子会随动物的粪便传到各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7010280" y="3124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èn  b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304920" y="6172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a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7740720" cy="6621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1332000" y="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ān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苍   耳</a:t>
            </a:r>
            <a:r>
              <a:rPr b="1" lang="zh-CN" sz="66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905120" y="5638680"/>
            <a:ext cx="5333760" cy="1008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xin_5431104150929119278185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4"/>
          <p:cNvSpPr/>
          <p:nvPr/>
        </p:nvSpPr>
        <p:spPr>
          <a:xfrm>
            <a:off x="653040" y="907200"/>
            <a:ext cx="23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99"/>
                </a:solidFill>
                <a:latin typeface="楷体_GB2312"/>
                <a:ea typeface="楷体_GB2312"/>
              </a:rPr>
              <a:t>豌 豆</a:t>
            </a:r>
            <a:r>
              <a:rPr b="1" lang="zh-CN" sz="4800" spc="-1" strike="noStrike">
                <a:solidFill>
                  <a:srgbClr val="66ff99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7" descr="绿005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2215800" y="1628640"/>
            <a:ext cx="49262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3.</a:t>
            </a:r>
            <a:r>
              <a:rPr b="1" lang="zh-CN" sz="7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植物妈妈有办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59120" y="1533600"/>
            <a:ext cx="9137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lǚ   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j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fēn   cā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 蒲　降　娃　纷　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ā   pā   z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c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s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洼 啪  炸　蹦　察　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art_0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611280" y="1125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旅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英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降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伞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娃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纷纷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苍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洼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啪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炸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察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蹦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跳着 知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5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