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9.jpeg" ContentType="image/jpeg"/>
  <Override PartName="/ppt/media/image17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4.wmf" ContentType="image/x-wmf"/>
  <Override PartName="/ppt/media/image6.png" ContentType="image/pn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E8FF-8DC6-4ACA-AA4F-1F9BB3616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CC19-4703-477E-8E75-90A100FD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20E3-88FC-45F6-859C-02B3D7E6C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F920-404E-4006-B161-8BADD309D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2F2B-0787-40D7-A97E-441FB9BE3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690D-FC34-4762-8454-AD3F3428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BDE7-11FC-4EEA-B080-89313DF6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07D9-488B-4A8E-93BB-5313F13F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9FD1-E044-4860-9F71-9203D902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100D-6C45-4243-84D2-7715155A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50B1-9C44-4BB9-9D24-41A6752B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3099-E1C8-41EB-8968-20458966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D071-92B1-4E64-8EB2-993169C7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16DD-3DB0-4FF6-84A1-ED8FA732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B5E1-0DA2-49B0-8E09-F32412E6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2C3F-C1FA-4649-A416-9ACE8F05A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AAE3-BA5B-44B6-B74F-86A8F3B16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96B7E-9F63-4BD3-BC73-366A809A6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EBB9F-09F2-4ED5-99C6-62AA0A4E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EAC5D-AA54-4997-8433-31DF3A5A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43F5F-E1F3-4FC5-A733-44412393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E300F-64BA-4339-AC77-EC8A1A88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63F1-862F-4667-80CD-8718B06E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D5299-4188-42BB-B2A3-3D500316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18049-55E4-4B20-ADBE-FD815BEE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9DE08-E6AE-4B63-9AF9-039868FC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81A96-A037-4365-AD8B-3BBD83C1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7A542-700D-453C-BCEC-24E7685D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05985-B085-43D0-B3AA-BBE559223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2F4BE-E71F-4BC8-A704-DBAC66244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76666-60F6-494F-BE72-BD0447CDC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A1F88-A17B-4984-81C9-1C6C03AA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16D0D-A988-4724-941E-95F2A565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BE46-482D-40E2-8120-3849B1D5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513E1-FBF2-4AB1-B851-FB3F8F3B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C1A04-39A3-4A70-9783-81CD6715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1FA59-ECF1-4491-99A7-9B238C0D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FF125-431D-47BE-A9FE-E13DF1F7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32CB4-23E4-44C0-813A-8786D22F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EB68A-419F-47BC-9125-E29433D3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65887-8F94-454B-A175-E3A11CED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A6EF3-9441-40B5-BF4C-1FDB05C33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04615-6EC1-4FC6-ADF5-419D5C867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BF011-2D64-4D28-B7A8-E01EC7DD6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0339-1BE0-4D82-84B9-5A40270C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EEAA4-B193-41FF-950E-99D638C6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79976-4FB9-4675-AA6E-7481EC6F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6BD5C-6C04-4CF3-9F4B-16B930AD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64CC5-55AC-4FA0-ACB8-A4DF7338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DCA23-DB62-43E7-A13A-A552A6A8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256E9-20B4-4540-9DBA-30EF5795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286EA-3A3B-4785-AEDD-CCE97F3B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AF66E-4910-424C-858D-17B823AC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3C5E9-89C1-4F0F-A335-CEADD985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3ECF4-C923-4E36-A261-A097951EA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88B5-7D41-43AE-86DF-D349DBAC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C03A6-F785-417C-A06B-17290B7AF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80580-5A38-402C-A496-4AB86B7ED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EC3B8-488F-48C3-AC76-B8CA15D5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4004C-8CEC-402C-9D2C-AA6CF135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C66D9-FB50-4DB0-A140-12D2AF21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B6A67-7787-4798-A757-0A7C34C2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7427B-B285-4CBB-9C3A-E3D37162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B04C1-5A8A-41F0-8C5D-7D1DF480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BF7BB-EE4D-471D-95E6-11560A01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5D9AA-5F3B-4051-BF90-D89D56E6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46B2-438A-4D40-AE18-57FBB1FE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A21C6-7818-4C1B-B147-35A51D23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D8BAB-5D43-4724-A27D-F8B29416E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4B3C0-A948-49D5-8EE0-417E51135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26552-C30B-4147-9F5B-E3E32AE79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A8A7C-D50A-49EF-AE1C-8C98D0C4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09000-62D4-4B0E-92E9-B04459CD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4E0E3-92CE-4D96-BCC7-BE527741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165C8-24FD-4FED-B0D4-47FA38DC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D784B-9103-4FB2-B6FE-BF1ABDA3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4F2BC-E45E-4521-ADF4-C319BB59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D23D-9749-4804-BD2C-9003C7DA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0843D-344A-4962-A1C6-3AF2E3A7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C2E8B-9A20-43E5-9056-1CDE87A5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203CB-B75B-4728-9F7E-3EC32557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B51A2-6ECE-481D-ADE8-215C40193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E6D2B-847B-4A88-93AA-21E06EF68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8BA4-37A5-4AB8-8FA9-0C4A3BDD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2B81-3E1F-41CD-AD93-9EAA6E32BD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未知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8" name="未知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9" name="未知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B95A-9C12-408E-9214-4629E7E7668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02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3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4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5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7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9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0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3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4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5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6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7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8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9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0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1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2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3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4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5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6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7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8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9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0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1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2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3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4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5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6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7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8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9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40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41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42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43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44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45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46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47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48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49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50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51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52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53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54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55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56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57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58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59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60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61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62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63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7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8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9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6408-5513-405B-87B8-68F6E58399D9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7609-D115-4675-B0CC-BCD4191086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247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48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49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50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51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52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53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54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55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56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57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58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59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60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61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62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63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64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65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66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67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68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69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70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71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72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73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74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75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76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77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78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79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80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81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82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83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84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85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86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87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88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89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90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91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92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93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94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95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96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97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98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99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00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01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02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03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04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05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06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07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08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3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14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15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2333-637C-4B6D-95E3-A700C400B722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6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17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18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DD62-3356-465D-9CB8-FC5C700BC2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92" name="Picture 3" descr="框"/>
            <p:cNvPicPr/>
            <p:nvPr/>
          </p:nvPicPr>
          <p:blipFill>
            <a:blip r:embed="rId2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4" descr="花4"/>
            <p:cNvPicPr/>
            <p:nvPr/>
          </p:nvPicPr>
          <p:blipFill>
            <a:blip r:embed="rId3"/>
            <a:stretch/>
          </p:blipFill>
          <p:spPr>
            <a:xfrm>
              <a:off x="0" y="1905120"/>
              <a:ext cx="2610000" cy="24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5" descr="花3"/>
            <p:cNvPicPr/>
            <p:nvPr/>
          </p:nvPicPr>
          <p:blipFill>
            <a:blip r:embed="rId4"/>
            <a:stretch/>
          </p:blipFill>
          <p:spPr>
            <a:xfrm>
              <a:off x="0" y="3591000"/>
              <a:ext cx="3433680" cy="32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Picture 6" descr="葉子"/>
            <p:cNvPicPr/>
            <p:nvPr/>
          </p:nvPicPr>
          <p:blipFill>
            <a:blip r:embed="rId5"/>
            <a:stretch/>
          </p:blipFill>
          <p:spPr>
            <a:xfrm>
              <a:off x="7315200" y="0"/>
              <a:ext cx="1828800" cy="16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8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8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850"/>
              </a:spcBef>
              <a:buClr>
                <a:srgbClr val="3333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FD23-7A9F-490A-A35E-655F2E2049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hyperlink" Target="http://www.eeppt.com/beijing/" TargetMode="External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383920" y="127008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晏子使楚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178920" y="764640"/>
            <a:ext cx="8713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29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   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小记者们读课文第一个故事，找出楚王侮辱晏子的事例，体会晏子反驳的话，哪句最厉害。（用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线画出侮辱的事例，用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~~~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线画出晏子反驳的话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WordArt 3"/>
          <p:cNvSpPr txBox="1"/>
          <p:nvPr/>
        </p:nvSpPr>
        <p:spPr>
          <a:xfrm>
            <a:off x="8748720" y="0"/>
            <a:ext cx="395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7</a:t>
            </a:r>
            <a:endParaRPr b="0" lang="en-US" sz="32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1371600" y="219564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1676520" y="108252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橘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2514600" y="7621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于淮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---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2514600" y="15238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于淮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---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5105520" y="77796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橘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5105520" y="15397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枳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7" name="AutoShape 8"/>
          <p:cNvSpPr/>
          <p:nvPr/>
        </p:nvSpPr>
        <p:spPr>
          <a:xfrm>
            <a:off x="3059280" y="2538360"/>
            <a:ext cx="685800" cy="533520"/>
          </a:xfrm>
          <a:prstGeom prst="rightArrow">
            <a:avLst>
              <a:gd name="adj1" fmla="val 50000"/>
              <a:gd name="adj2" fmla="val 32136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8" name="Text Box 9"/>
          <p:cNvSpPr/>
          <p:nvPr/>
        </p:nvSpPr>
        <p:spPr>
          <a:xfrm>
            <a:off x="3851280" y="239400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水土不同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9" name="Text Box 10"/>
          <p:cNvSpPr/>
          <p:nvPr/>
        </p:nvSpPr>
        <p:spPr>
          <a:xfrm>
            <a:off x="1828800" y="3825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2743200" y="34606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长于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---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1" name="Text Box 12"/>
          <p:cNvSpPr/>
          <p:nvPr/>
        </p:nvSpPr>
        <p:spPr>
          <a:xfrm>
            <a:off x="2743200" y="4146480"/>
            <a:ext cx="254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入      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----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2" name="Text Box 13"/>
          <p:cNvSpPr/>
          <p:nvPr/>
        </p:nvSpPr>
        <p:spPr>
          <a:xfrm>
            <a:off x="5219640" y="330840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劳动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5219640" y="4122720"/>
            <a:ext cx="12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盗贼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4" name="AutoShape 15"/>
          <p:cNvSpPr/>
          <p:nvPr/>
        </p:nvSpPr>
        <p:spPr>
          <a:xfrm>
            <a:off x="2438280" y="870120"/>
            <a:ext cx="152640" cy="1143000"/>
          </a:xfrm>
          <a:custGeom>
            <a:avLst/>
            <a:gdLst>
              <a:gd name="textAreaLeft" fmla="*/ 97560 w 152640"/>
              <a:gd name="textAreaRight" fmla="*/ 15300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5" name="AutoShape 16"/>
          <p:cNvSpPr/>
          <p:nvPr/>
        </p:nvSpPr>
        <p:spPr>
          <a:xfrm flipH="1" rot="10810800">
            <a:off x="2588760" y="361152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6" name="AutoShape 17"/>
          <p:cNvSpPr/>
          <p:nvPr/>
        </p:nvSpPr>
        <p:spPr>
          <a:xfrm>
            <a:off x="2057400" y="5334120"/>
            <a:ext cx="685800" cy="533160"/>
          </a:xfrm>
          <a:prstGeom prst="rightArrow">
            <a:avLst>
              <a:gd name="adj1" fmla="val 50000"/>
              <a:gd name="adj2" fmla="val 3215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7" name="Text Box 18"/>
          <p:cNvSpPr/>
          <p:nvPr/>
        </p:nvSpPr>
        <p:spPr>
          <a:xfrm>
            <a:off x="2819520" y="5318280"/>
            <a:ext cx="51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同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8" name="Text Box 19"/>
          <p:cNvSpPr/>
          <p:nvPr/>
        </p:nvSpPr>
        <p:spPr>
          <a:xfrm>
            <a:off x="2819520" y="52578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ahoma"/>
              </a:rPr>
              <a:t>社会风气、国君治理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选择自己喜欢的方式自由读文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15640" y="2249280"/>
            <a:ext cx="93963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、动口、动手、用心朗读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、看课文讲了几个小故事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别是什么故事呢？从哪段看出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WordArt 4"/>
          <p:cNvSpPr txBox="1"/>
          <p:nvPr/>
        </p:nvSpPr>
        <p:spPr>
          <a:xfrm>
            <a:off x="8748720" y="6381720"/>
            <a:ext cx="3952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3</a:t>
            </a:r>
            <a:endParaRPr b="0" lang="en-US" sz="32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2"/>
          <p:cNvSpPr/>
          <p:nvPr/>
        </p:nvSpPr>
        <p:spPr>
          <a:xfrm>
            <a:off x="2411280" y="11592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看 课 本 剧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03" name="晏子1.mpg" descr=""/>
          <p:cNvPicPr/>
          <p:nvPr/>
        </p:nvPicPr>
        <p:blipFill>
          <a:blip r:embed="rId2"/>
          <a:stretch/>
        </p:blipFill>
        <p:spPr>
          <a:xfrm>
            <a:off x="1062000" y="1125360"/>
            <a:ext cx="7039080" cy="5758200"/>
          </a:xfrm>
          <a:prstGeom prst="rect">
            <a:avLst/>
          </a:prstGeom>
          <a:ln w="0">
            <a:noFill/>
          </a:ln>
        </p:spPr>
      </p:pic>
      <p:sp>
        <p:nvSpPr>
          <p:cNvPr id="504" name="WordArt 4"/>
          <p:cNvSpPr txBox="1"/>
          <p:nvPr/>
        </p:nvSpPr>
        <p:spPr>
          <a:xfrm>
            <a:off x="8675640" y="0"/>
            <a:ext cx="46836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8</a:t>
            </a:r>
            <a:endParaRPr b="0" lang="en-US" sz="32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restart="whenNotActive" nodeType="interactiveSeq" fill="hold">
                <p:stCondLst>
                  <p:cond evt="onClick">
                    <p:tgtEl>
                      <p:spTgt spid="503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4" dur="1" fill="hold"/>
                                        <p:tgtEl>
                                          <p:spTgt spid="5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3588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晏子面对楚王的侮辱，他又会怎样对接待的人说这番话呢？请选择合适的提示语，然后读一读，说说你为什么这样选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怒发冲冲地    心平气和地    冷静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WordArt 3"/>
          <p:cNvSpPr txBox="1"/>
          <p:nvPr/>
        </p:nvSpPr>
        <p:spPr>
          <a:xfrm>
            <a:off x="8686800" y="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0</a:t>
            </a:r>
            <a:endParaRPr b="0" lang="en-US" sz="32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1834920" y="287280"/>
            <a:ext cx="6265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我们还是来看看晏子是怎样说的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晏子2.mpg" descr=""/>
          <p:cNvPicPr/>
          <p:nvPr/>
        </p:nvPicPr>
        <p:blipFill>
          <a:blip r:embed="rId2"/>
          <a:stretch/>
        </p:blipFill>
        <p:spPr>
          <a:xfrm>
            <a:off x="1187280" y="1098720"/>
            <a:ext cx="7039080" cy="5759280"/>
          </a:xfrm>
          <a:prstGeom prst="rect">
            <a:avLst/>
          </a:prstGeom>
          <a:ln w="0">
            <a:noFill/>
          </a:ln>
        </p:spPr>
      </p:pic>
      <p:sp>
        <p:nvSpPr>
          <p:cNvPr id="509" name="WordArt 4"/>
          <p:cNvSpPr txBox="1"/>
          <p:nvPr/>
        </p:nvSpPr>
        <p:spPr>
          <a:xfrm>
            <a:off x="8686800" y="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1</a:t>
            </a:r>
            <a:endParaRPr b="0" lang="en-US" sz="32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0" dur="1" fill="hold"/>
                                        <p:tgtEl>
                                          <p:spTgt spid="5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士卫把晏子的话传给了楚王，楚王听了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只好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395280" y="2852640"/>
            <a:ext cx="82296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从这句话你体会到了什么？哪一个词语集中体现了楚王毫无办法。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900000" y="4697280"/>
            <a:ext cx="540072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只好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2916360" y="155736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打开城门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4" name="Rectangle 6"/>
          <p:cNvSpPr/>
          <p:nvPr/>
        </p:nvSpPr>
        <p:spPr>
          <a:xfrm>
            <a:off x="7885080" y="6308640"/>
            <a:ext cx="1258920" cy="54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5" name="WordArt 7"/>
          <p:cNvSpPr txBox="1"/>
          <p:nvPr/>
        </p:nvSpPr>
        <p:spPr>
          <a:xfrm>
            <a:off x="8686800" y="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2</a:t>
            </a:r>
            <a:endParaRPr b="0" lang="en-US" sz="32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推理填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如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访问狗国，才钻狗洞，现在楚国要让我钻狗洞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那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     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68360" y="4292640"/>
            <a:ext cx="4824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如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那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3706920" y="328464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楚国就是狗国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611280" y="90792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晏子反驳时是怎么想的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0" name="Rectangle 6"/>
          <p:cNvSpPr/>
          <p:nvPr/>
        </p:nvSpPr>
        <p:spPr>
          <a:xfrm>
            <a:off x="7885080" y="6308640"/>
            <a:ext cx="1258920" cy="54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1" name="WordArt 7"/>
          <p:cNvSpPr txBox="1"/>
          <p:nvPr/>
        </p:nvSpPr>
        <p:spPr>
          <a:xfrm>
            <a:off x="8915400" y="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9</a:t>
            </a:r>
            <a:endParaRPr b="0" lang="en-US" sz="32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10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表      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3" descr="11-1"/>
          <p:cNvPicPr/>
          <p:nvPr/>
        </p:nvPicPr>
        <p:blipFill>
          <a:blip r:embed="rId2"/>
          <a:stretch/>
        </p:blipFill>
        <p:spPr>
          <a:xfrm>
            <a:off x="1403280" y="1052640"/>
            <a:ext cx="6193080" cy="432108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4"/>
          <p:cNvSpPr/>
          <p:nvPr/>
        </p:nvSpPr>
        <p:spPr>
          <a:xfrm>
            <a:off x="431640" y="5661000"/>
            <a:ext cx="83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楚王这次想到是什么方式来侮辱晏子呢？他是怎样反驳的？结果怎么样？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5" name="Rectangle 5"/>
          <p:cNvSpPr/>
          <p:nvPr/>
        </p:nvSpPr>
        <p:spPr>
          <a:xfrm>
            <a:off x="7885080" y="6308640"/>
            <a:ext cx="1258920" cy="54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6" name="WordArt 6"/>
          <p:cNvSpPr txBox="1"/>
          <p:nvPr/>
        </p:nvSpPr>
        <p:spPr>
          <a:xfrm>
            <a:off x="8686800" y="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3</a:t>
            </a:r>
            <a:endParaRPr b="0" lang="en-US" sz="32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900000" y="1744560"/>
            <a:ext cx="7344000" cy="228852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机智勇敢，善于辞令，不辱使命，极大地维护了国家尊严的出色的外交家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矩形 8"/>
          <p:cNvSpPr/>
          <p:nvPr/>
        </p:nvSpPr>
        <p:spPr>
          <a:xfrm>
            <a:off x="971640" y="981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40" name="Picture 2" descr="Bj_014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3"/>
          <p:cNvSpPr/>
          <p:nvPr/>
        </p:nvSpPr>
        <p:spPr>
          <a:xfrm>
            <a:off x="533520" y="53352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       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隶书"/>
              </a:rPr>
              <a:t>春秋是我国历史上的一个时代。这期间，各国经常争战。其中齐楚两国国力强大，争夺霸业很激烈。这篇课文讲的是发生在齐、楚两国外交中的一个故事。 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42" name="Picture 4" descr="书4"/>
          <p:cNvPicPr/>
          <p:nvPr/>
        </p:nvPicPr>
        <p:blipFill>
          <a:blip r:embed="rId2"/>
          <a:stretch/>
        </p:blipFill>
        <p:spPr>
          <a:xfrm>
            <a:off x="304920" y="380880"/>
            <a:ext cx="1279440" cy="1200240"/>
          </a:xfrm>
          <a:prstGeom prst="rect">
            <a:avLst/>
          </a:prstGeom>
          <a:ln w="0">
            <a:noFill/>
          </a:ln>
        </p:spPr>
      </p:pic>
      <p:sp>
        <p:nvSpPr>
          <p:cNvPr id="443" name="AutoShape 5">
            <a:hlinkClick r:id="" action="ppaction://hlinkshowjump?jump=nextslide"/>
          </p:cNvPr>
          <p:cNvSpPr/>
          <p:nvPr/>
        </p:nvSpPr>
        <p:spPr>
          <a:xfrm>
            <a:off x="7162920" y="579132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2"/>
          <p:cNvSpPr/>
          <p:nvPr/>
        </p:nvSpPr>
        <p:spPr>
          <a:xfrm>
            <a:off x="1042920" y="2997360"/>
            <a:ext cx="7489800" cy="21049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ff33"/>
                </a:solidFill>
                <a:latin typeface="Arial"/>
                <a:ea typeface="隶书"/>
              </a:rPr>
              <a:t>  </a:t>
            </a:r>
            <a:r>
              <a:rPr b="0" lang="zh-CN" sz="6600" spc="-1" strike="noStrike">
                <a:solidFill>
                  <a:srgbClr val="66ff33"/>
                </a:solidFill>
                <a:latin typeface="Arial"/>
                <a:ea typeface="隶书"/>
              </a:rPr>
              <a:t>人不可貌相，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ff33"/>
                </a:solidFill>
                <a:latin typeface="Arial"/>
                <a:ea typeface="隶书"/>
              </a:rPr>
              <a:t>海水不可斗量。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2466360" y="1700280"/>
            <a:ext cx="487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通过这个故事，我们应该懂得：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843840" y="4046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转换角度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1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总结：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晏子使楚，受到楚王的侮辱，但晏子以他自己超人的智慧和善辩的口才，挫败了楚王的诡计，那么楚王会善罢干休吗？我们下节课再来学习下面的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395280" y="3459240"/>
            <a:ext cx="822960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作业：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、课文中难写的词语抄写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2-5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遍；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、完成课后练习题，练习自己讲一讲本文的任意一个小故事。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3" name="WordArt 4"/>
          <p:cNvSpPr txBox="1"/>
          <p:nvPr/>
        </p:nvSpPr>
        <p:spPr>
          <a:xfrm>
            <a:off x="8686800" y="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4</a:t>
            </a:r>
            <a:endParaRPr b="0" lang="en-US" sz="32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A912-8FE7-495E-A398-C425822E96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2"/>
          <p:cNvSpPr/>
          <p:nvPr/>
        </p:nvSpPr>
        <p:spPr>
          <a:xfrm>
            <a:off x="1600200" y="1447920"/>
            <a:ext cx="5943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45" name="Picture 3" descr="列国形势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4"/>
          <p:cNvSpPr/>
          <p:nvPr/>
        </p:nvSpPr>
        <p:spPr>
          <a:xfrm>
            <a:off x="6934320" y="20574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齐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3429000" y="49528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楚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8" name="AutoShape 6"/>
          <p:cNvSpPr/>
          <p:nvPr/>
        </p:nvSpPr>
        <p:spPr>
          <a:xfrm>
            <a:off x="7391520" y="60958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2" descr="3"/>
          <p:cNvPicPr/>
          <p:nvPr/>
        </p:nvPicPr>
        <p:blipFill>
          <a:blip r:embed="rId1"/>
          <a:stretch/>
        </p:blipFill>
        <p:spPr>
          <a:xfrm>
            <a:off x="2514600" y="838080"/>
            <a:ext cx="5257800" cy="29718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3" descr="73"/>
          <p:cNvPicPr/>
          <p:nvPr/>
        </p:nvPicPr>
        <p:blipFill>
          <a:blip r:embed="rId2"/>
          <a:stretch/>
        </p:blipFill>
        <p:spPr>
          <a:xfrm>
            <a:off x="228600" y="3886200"/>
            <a:ext cx="4114800" cy="29718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" descr="84"/>
          <p:cNvPicPr/>
          <p:nvPr/>
        </p:nvPicPr>
        <p:blipFill>
          <a:blip r:embed="rId3"/>
          <a:stretch/>
        </p:blipFill>
        <p:spPr>
          <a:xfrm>
            <a:off x="5029200" y="3886200"/>
            <a:ext cx="3962520" cy="288756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5"/>
          <p:cNvSpPr/>
          <p:nvPr/>
        </p:nvSpPr>
        <p:spPr>
          <a:xfrm>
            <a:off x="0" y="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隶书"/>
              </a:rPr>
              <a:t>对照下面三幅图画讲一下故事梗概：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0920" y="3502080"/>
            <a:ext cx="580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6699"/>
                </a:solidFill>
                <a:uFillTx/>
                <a:latin typeface="Arial"/>
                <a:hlinkClick r:id="rId4"/>
              </a:rPr>
              <a:t>ppt背景图片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ttp://www.eeppt.com/beijing/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故事发生在公元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00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多年前，我国历史上曾出现了一个群雄纷争的春秋战国时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Object 3" descr=""/>
          <p:cNvPicPr/>
          <p:nvPr/>
        </p:nvPicPr>
        <p:blipFill>
          <a:blip r:embed="rId2"/>
          <a:stretch/>
        </p:blipFill>
        <p:spPr>
          <a:xfrm>
            <a:off x="863640" y="1517760"/>
            <a:ext cx="7308720" cy="5340240"/>
          </a:xfrm>
          <a:prstGeom prst="rect">
            <a:avLst/>
          </a:prstGeom>
          <a:ln w="0">
            <a:noFill/>
          </a:ln>
        </p:spPr>
      </p:pic>
      <p:sp>
        <p:nvSpPr>
          <p:cNvPr id="456" name="WordArt 4"/>
          <p:cNvSpPr txBox="1"/>
          <p:nvPr/>
        </p:nvSpPr>
        <p:spPr>
          <a:xfrm>
            <a:off x="8748720" y="0"/>
            <a:ext cx="395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</a:t>
            </a:r>
            <a:endParaRPr b="0" lang="en-US" sz="32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4165200" y="40464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其中齐国和楚国是大国，而齐国的强大却离不开一个人。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58" name="Object 3" descr=""/>
          <p:cNvPicPr/>
          <p:nvPr/>
        </p:nvPicPr>
        <p:blipFill>
          <a:blip r:embed="rId2"/>
          <a:stretch/>
        </p:blipFill>
        <p:spPr>
          <a:xfrm>
            <a:off x="193680" y="1173240"/>
            <a:ext cx="4233960" cy="568476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4"/>
          <p:cNvSpPr/>
          <p:nvPr/>
        </p:nvSpPr>
        <p:spPr>
          <a:xfrm>
            <a:off x="4500720" y="191628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此人身材矮小，但能言善辨，口才极好，被派到其他国家执行外交任务，帮助齐国解决了许多外交上的争端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0" name="WordArt 5"/>
          <p:cNvSpPr txBox="1"/>
          <p:nvPr/>
        </p:nvSpPr>
        <p:spPr>
          <a:xfrm>
            <a:off x="8783640" y="6400800"/>
            <a:ext cx="360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2</a:t>
            </a:r>
            <a:endParaRPr b="0" lang="en-US" sz="32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973080" y="1988640"/>
            <a:ext cx="7199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晏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国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侮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瞅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一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临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撒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矩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押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囚  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淮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国势    得意洋洋        安居乐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901080" y="155412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yàn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3" name="Rectangle 4"/>
          <p:cNvSpPr/>
          <p:nvPr/>
        </p:nvSpPr>
        <p:spPr>
          <a:xfrm>
            <a:off x="2269800" y="16002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ì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4" name="Rectangle 5"/>
          <p:cNvSpPr/>
          <p:nvPr/>
        </p:nvSpPr>
        <p:spPr>
          <a:xfrm>
            <a:off x="3449520" y="155736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ǔ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5" name="Rectangle 6"/>
          <p:cNvSpPr/>
          <p:nvPr/>
        </p:nvSpPr>
        <p:spPr>
          <a:xfrm>
            <a:off x="4633200" y="155736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ǒu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6" name="Rectangle 7"/>
          <p:cNvSpPr/>
          <p:nvPr/>
        </p:nvSpPr>
        <p:spPr>
          <a:xfrm>
            <a:off x="7556760" y="1557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zī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7" name="Rectangle 8"/>
          <p:cNvSpPr/>
          <p:nvPr/>
        </p:nvSpPr>
        <p:spPr>
          <a:xfrm>
            <a:off x="961920" y="2708280"/>
            <a:ext cx="13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uǎng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8" name="Rectangle 9"/>
          <p:cNvSpPr/>
          <p:nvPr/>
        </p:nvSpPr>
        <p:spPr>
          <a:xfrm>
            <a:off x="2705400" y="2708280"/>
            <a:ext cx="4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ju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9" name="Rectangle 10"/>
          <p:cNvSpPr/>
          <p:nvPr/>
        </p:nvSpPr>
        <p:spPr>
          <a:xfrm>
            <a:off x="3539880" y="270828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ā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0" name="Rectangle 11"/>
          <p:cNvSpPr/>
          <p:nvPr/>
        </p:nvSpPr>
        <p:spPr>
          <a:xfrm>
            <a:off x="4684680" y="27050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iú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fàn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1" name="Rectangle 12"/>
          <p:cNvSpPr/>
          <p:nvPr/>
        </p:nvSpPr>
        <p:spPr>
          <a:xfrm>
            <a:off x="6878880" y="2708280"/>
            <a:ext cx="94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uái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2" name="WordArt 13"/>
          <p:cNvSpPr txBox="1"/>
          <p:nvPr/>
        </p:nvSpPr>
        <p:spPr>
          <a:xfrm>
            <a:off x="8813880" y="0"/>
            <a:ext cx="330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4</a:t>
            </a:r>
            <a:endParaRPr b="0" lang="en-US" sz="32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684360" y="1052280"/>
            <a:ext cx="817056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晏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子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敝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国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侮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辱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瞅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一眼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 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临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撒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谎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规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矩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押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着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囚犯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淮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国势    得意洋洋      安居乐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3"/>
          <p:cNvSpPr/>
          <p:nvPr/>
        </p:nvSpPr>
        <p:spPr>
          <a:xfrm>
            <a:off x="1547640" y="522936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你是怎样记住这个字的？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5" name="WordArt 4"/>
          <p:cNvSpPr txBox="1"/>
          <p:nvPr/>
        </p:nvSpPr>
        <p:spPr>
          <a:xfrm>
            <a:off x="8915400" y="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5</a:t>
            </a:r>
            <a:endParaRPr b="0" lang="en-US" sz="32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395280" y="765000"/>
            <a:ext cx="8137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默读课文，读准字音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、想课文是按什么顺序来写的？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611280" y="4076640"/>
            <a:ext cx="8064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、事情的起因，经过，结果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是什么？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8" name="WordArt 4"/>
          <p:cNvSpPr txBox="1"/>
          <p:nvPr/>
        </p:nvSpPr>
        <p:spPr>
          <a:xfrm>
            <a:off x="8820000" y="0"/>
            <a:ext cx="324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6</a:t>
            </a:r>
            <a:endParaRPr b="0" lang="en-US" sz="32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1T05:14:4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1:42:42Z</dcterms:modified>
  <cp:revision>37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