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CFF-0C0F-4F55-A661-7055EA6B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327-7B07-4FAA-A6E2-003E1FED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5F8-F446-4528-BDFB-004EB02A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7FF-5DC7-4987-A951-040A8429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3631-E00D-44C6-8070-980682AF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B73B-2D97-4515-B751-70847B52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BB3D-C3EC-4308-AB79-2FCE0171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CC6B-AF0A-4433-8BF6-25458810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0470-63E9-4D48-8F83-A106846C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38CF-0644-4AB2-A527-8E8DEA21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1428-9DD0-4CE8-978C-BA667C46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E9E-0281-4460-B05E-02EBA8BE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1A21-4F75-4DFE-8B42-3CA00819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901D-B8BC-4A70-B770-E6AA076B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A528-D709-4F9B-A843-4CECCC0C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0302-1F0A-416C-97B9-F39419F5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BDC1-2865-4D25-8283-FE4E074A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5BD5D-FCD6-4F26-955E-5695F754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274C-3457-4DFC-9603-B924A13E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F4371-DAC1-4178-9398-7D135425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9C28-2FB7-4C55-9E35-56A3DE8F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2526-53CE-43C4-8918-7BAA51A4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CFC-4F10-4971-AD68-7976F430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96FB-2AA1-4E73-A90F-5FF112F5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2ADF-2DD2-4C71-8E65-27910F9C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78725-4BB5-4DFC-A46A-E61EE600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EA28-E87B-4658-813F-1B4F5301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19390-1969-49E3-A4B0-702046C1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C408D-719F-4CFA-A836-3CCB832B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7BE9E-6F2B-4AF2-8C01-E268D04B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97E-E31D-498F-B033-7F75A579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280-3F9D-4CA8-B667-9FA89CFE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641-716E-49D1-BE07-06575245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018C-BEC1-469D-BB31-55A4A15C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569-FB9D-46FF-9BA4-198C6450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B06-7641-438B-908D-AFFA2D5D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nordridesign.cn/index.php" TargetMode="External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BC77-2BA1-482E-BF5F-C63896B55095}" type="slidenum">
              <a:rPr b="0" lang="en-US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9BB4-9D9D-4B66-B5FB-AB1A03C36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813120" y="224964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02912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255920" y="224964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54356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5776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03712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26428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47848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078080" y="273204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logo"/>
          <p:cNvPicPr/>
          <p:nvPr/>
        </p:nvPicPr>
        <p:blipFill>
          <a:blip r:embed="rId3"/>
          <a:stretch/>
        </p:blipFill>
        <p:spPr>
          <a:xfrm>
            <a:off x="3116160" y="223848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logo2"/>
          <p:cNvPicPr/>
          <p:nvPr/>
        </p:nvPicPr>
        <p:blipFill>
          <a:blip r:embed="rId4"/>
          <a:stretch/>
        </p:blipFill>
        <p:spPr>
          <a:xfrm>
            <a:off x="2563920" y="206064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>
            <a:hlinkClick r:id="rId5"/>
          </p:cNvPr>
          <p:cNvSpPr/>
          <p:nvPr/>
        </p:nvSpPr>
        <p:spPr>
          <a:xfrm>
            <a:off x="2484360" y="177336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宋体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87D7-4C28-41A9-9BA9-85AFC5918418}" type="slidenum">
              <a:rPr b="0" lang="en-US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057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91640" y="838080"/>
            <a:ext cx="3308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爱情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动态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94CF-F474-45A7-A19B-00F72350289B}" type="slidenum">
              <a:rPr b="0" lang="en-US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icrosoft JhengHei"/>
              </a:rPr>
              <a:t>按一下添加标题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fffff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首页主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副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内页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内页内容文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微软雅黑）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icrosoft JhengHei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icrosoft JhengHei"/>
              </a:rPr>
              <a:t>站点介绍</a:t>
            </a:r>
            <a:r>
              <a:rPr b="1" lang="zh-TW" sz="1500" spc="-1" strike="noStrike">
                <a:solidFill>
                  <a:srgbClr val="ededed"/>
                </a:solidFill>
                <a:latin typeface="Microsoft JhengHe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icrosoft JhengHei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icrosoft JhengHei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ededed"/>
                </a:solidFill>
                <a:latin typeface="Microsoft JhengHe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JhengHe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JhengHei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icrosoft JhengHei"/>
              </a:rPr>
              <a:t>栏目推荐</a:t>
            </a:r>
            <a:r>
              <a:rPr b="1" lang="zh-TW" sz="1500" spc="-1" strike="noStrike">
                <a:solidFill>
                  <a:srgbClr val="ededed"/>
                </a:solidFill>
                <a:latin typeface="Microsoft JhengHe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A0B-A092-49F7-BA95-1F55C75321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BA03-5BA5-4D72-A7BE-A44CD3B70AD1}" type="slidenum">
              <a:rPr b="0" lang="en-US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icrosoft JhengHei"/>
              </a:rPr>
              <a:t>按一下添加标题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pic>
        <p:nvPicPr>
          <p:cNvPr id="147" name="Object 113" descr=""/>
          <p:cNvPicPr/>
          <p:nvPr/>
        </p:nvPicPr>
        <p:blipFill>
          <a:blip r:embed="rId2"/>
          <a:stretch/>
        </p:blipFill>
        <p:spPr>
          <a:xfrm>
            <a:off x="1219320" y="1830240"/>
            <a:ext cx="65516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8"/>
          <p:cNvSpPr txBox="1"/>
          <p:nvPr/>
        </p:nvSpPr>
        <p:spPr>
          <a:xfrm>
            <a:off x="3048120" y="2362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9999"/>
                  </a:outerShdw>
                </a:effectLst>
                <a:latin typeface="SimHei"/>
              </a:rPr>
              <a:t>感谢观赏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999999"/>
                </a:outerShdw>
              </a:effectLst>
              <a:latin typeface="SimHei"/>
              <a:ea typeface="SimHei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76320" y="2498400"/>
            <a:ext cx="2971800" cy="6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ffffff">
                        <a:alpha val="40000"/>
                      </a:srgbClr>
                    </a:gs>
                  </a:gsLst>
                  <a:lin ang="5400000"/>
                </a:gradFill>
                <a:latin typeface="SimHei"/>
              </a:rPr>
              <a:t>感谢观赏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atin typeface="SimHei"/>
              <a:ea typeface="Sim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53:4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55:26Z</dcterms:modified>
  <cp:revision>2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