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12.gif" ContentType="image/gif"/>
  <Override PartName="/ppt/media/image7.gif" ContentType="image/gif"/>
  <Override PartName="/ppt/media/image20.gif" ContentType="image/gif"/>
  <Override PartName="/ppt/media/image18.jpeg" ContentType="image/jpeg"/>
  <Override PartName="/ppt/media/image16.gif" ContentType="image/gif"/>
  <Override PartName="/ppt/media/image15.wmf" ContentType="image/x-wmf"/>
  <Override PartName="/ppt/media/image14.wmf" ContentType="image/x-wmf"/>
  <Override PartName="/ppt/media/image9.wmf" ContentType="image/x-wmf"/>
  <Override PartName="/ppt/media/image4.wmf" ContentType="image/x-wmf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6.gif" ContentType="image/gi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2045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683160"/>
            <a:ext cx="257616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30120"/>
            <a:ext cx="8001000" cy="29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6831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204560"/>
            <a:ext cx="39042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683160"/>
            <a:ext cx="8001000" cy="22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019160"/>
            <a:ext cx="795816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01344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68360" y="6149880"/>
            <a:ext cx="4816440" cy="498600"/>
            <a:chOff x="468360" y="6149880"/>
            <a:chExt cx="4816440" cy="498600"/>
          </a:xfrm>
        </p:grpSpPr>
        <p:sp>
          <p:nvSpPr>
            <p:cNvPr id="5" name="Text Box 10"/>
            <p:cNvSpPr/>
            <p:nvPr/>
          </p:nvSpPr>
          <p:spPr>
            <a:xfrm>
              <a:off x="966960" y="6257880"/>
              <a:ext cx="431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6" name="Picture 11" descr="SMU-LOGO1"/>
            <p:cNvPicPr/>
            <p:nvPr/>
          </p:nvPicPr>
          <p:blipFill>
            <a:blip r:embed="rId3"/>
            <a:stretch/>
          </p:blipFill>
          <p:spPr>
            <a:xfrm>
              <a:off x="468360" y="6149880"/>
              <a:ext cx="50472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Rectangle 12"/>
          <p:cNvSpPr/>
          <p:nvPr/>
        </p:nvSpPr>
        <p:spPr>
          <a:xfrm>
            <a:off x="6669000" y="6234120"/>
            <a:ext cx="19814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F005-4ACB-45E4-BC05-06AC915AC6FD}" type="slidenum">
              <a:rPr b="0" lang="en-US" sz="16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/>
          <p:cNvSpPr/>
          <p:nvPr/>
        </p:nvSpPr>
        <p:spPr>
          <a:xfrm>
            <a:off x="685800" y="216864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16.gi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3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大学动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55640" y="5732640"/>
            <a:ext cx="6337440" cy="792000"/>
            <a:chOff x="755640" y="5732640"/>
            <a:chExt cx="6337440" cy="792000"/>
          </a:xfrm>
        </p:grpSpPr>
        <p:sp>
          <p:nvSpPr>
            <p:cNvPr id="85" name="Text Box 6"/>
            <p:cNvSpPr/>
            <p:nvPr/>
          </p:nvSpPr>
          <p:spPr>
            <a:xfrm>
              <a:off x="1763640" y="5877000"/>
              <a:ext cx="53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66ff"/>
                  </a:solidFill>
                  <a:latin typeface="Arial"/>
                  <a:ea typeface="GungsuhChe"/>
                </a:rPr>
                <a:t>SHANGHAI MARITIME UNIVERS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6" name="Picture 7" descr="SMU-LOGO1"/>
            <p:cNvPicPr/>
            <p:nvPr/>
          </p:nvPicPr>
          <p:blipFill>
            <a:blip r:embed="rId2"/>
            <a:stretch/>
          </p:blipFill>
          <p:spPr>
            <a:xfrm>
              <a:off x="755640" y="5732640"/>
              <a:ext cx="800280" cy="7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8" descr="j0297457"/>
          <p:cNvPicPr/>
          <p:nvPr/>
        </p:nvPicPr>
        <p:blipFill>
          <a:blip r:embed="rId3"/>
          <a:stretch/>
        </p:blipFill>
        <p:spPr>
          <a:xfrm>
            <a:off x="3622680" y="2708280"/>
            <a:ext cx="1898640" cy="266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6310440"/>
            <a:ext cx="570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英文字体统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 New Roman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宋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ngh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ri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1547640" y="2205000"/>
            <a:ext cx="424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1" descr="未命名"/>
          <p:cNvPicPr/>
          <p:nvPr/>
        </p:nvPicPr>
        <p:blipFill>
          <a:blip r:embed="rId2"/>
          <a:srcRect l="0" t="0" r="0" b="28187"/>
          <a:stretch/>
        </p:blipFill>
        <p:spPr>
          <a:xfrm rot="734400">
            <a:off x="4284360" y="3213000"/>
            <a:ext cx="4000320" cy="2017800"/>
          </a:xfrm>
          <a:prstGeom prst="rect">
            <a:avLst/>
          </a:prstGeom>
          <a:ln w="9360">
            <a:solidFill>
              <a:srgbClr val="ff0000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animClr clrSpc="rgb">
                                      <p:cBhvr>
                                        <p:cTn id="39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3b2c1"/>
                                      </p:to>
                                    </p:animClr>
                                    <p:set>
                                      <p:cBhvr>
                                        <p:cTn id="40" dur="25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点符号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逗号、分号、句号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题结束不用标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其他要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数字书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正文缩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页末标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置于下一页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10000"/>
              </a:lnSpc>
              <a:spcBef>
                <a:spcPts val="575"/>
              </a:spcBef>
              <a:buClr>
                <a:srgbClr val="3333ff"/>
              </a:buClr>
              <a:buSzPct val="8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自动标题可避免</a:t>
            </a: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j0237627"/>
          <p:cNvPicPr/>
          <p:nvPr/>
        </p:nvPicPr>
        <p:blipFill>
          <a:blip r:embed="rId2"/>
          <a:stretch/>
        </p:blipFill>
        <p:spPr>
          <a:xfrm>
            <a:off x="6156360" y="3645000"/>
            <a:ext cx="19447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125000"/>
            <a:ext cx="80010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主席（外聘）发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介绍答辩委员会组成人员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宣布答辩注意事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介绍论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成员提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Verdana"/>
              </a:rPr>
              <a:t>答辩人只作记录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人依次答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答辩委员会评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499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答辩及旁听人员退场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宣布答辩结果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j0326876"/>
          <p:cNvPicPr/>
          <p:nvPr/>
        </p:nvPicPr>
        <p:blipFill>
          <a:blip r:embed="rId2"/>
          <a:stretch/>
        </p:blipFill>
        <p:spPr>
          <a:xfrm>
            <a:off x="6084720" y="3429000"/>
            <a:ext cx="2149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程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绍论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作动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点  难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新之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足之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阶段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将所有问题归纳成若干个问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知之为知之 不知为不知  是知也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57440" y="1298520"/>
            <a:ext cx="2878200" cy="2885400"/>
            <a:chOff x="2557440" y="1298520"/>
            <a:chExt cx="2878200" cy="2885400"/>
          </a:xfrm>
        </p:grpSpPr>
        <p:sp>
          <p:nvSpPr>
            <p:cNvPr id="133" name="Text Box 4"/>
            <p:cNvSpPr/>
            <p:nvPr/>
          </p:nvSpPr>
          <p:spPr>
            <a:xfrm>
              <a:off x="2557440" y="3687840"/>
              <a:ext cx="27352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Text Box 5"/>
            <p:cNvSpPr/>
            <p:nvPr/>
          </p:nvSpPr>
          <p:spPr>
            <a:xfrm>
              <a:off x="2600280" y="1298520"/>
              <a:ext cx="28353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（约</a:t>
              </a: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10~15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  <a:ea typeface="楷体_GB2312"/>
                </a:rPr>
                <a:t>分钟）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5" name="Picture 7" descr="j0232133"/>
          <p:cNvPicPr/>
          <p:nvPr/>
        </p:nvPicPr>
        <p:blipFill>
          <a:blip r:embed="rId6"/>
          <a:stretch/>
        </p:blipFill>
        <p:spPr>
          <a:xfrm>
            <a:off x="6443640" y="3645000"/>
            <a:ext cx="206856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thank you-1"/>
          <p:cNvPicPr/>
          <p:nvPr/>
        </p:nvPicPr>
        <p:blipFill>
          <a:blip r:embed="rId2"/>
          <a:stretch/>
        </p:blipFill>
        <p:spPr>
          <a:xfrm>
            <a:off x="611280" y="25639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708360" y="528012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66ff"/>
                </a:solidFill>
                <a:latin typeface="Arial"/>
                <a:ea typeface="GungsuhChe"/>
              </a:rPr>
              <a:t>SHANGHAI MARITIME UNIVER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SMU-LOGO1"/>
          <p:cNvPicPr/>
          <p:nvPr/>
        </p:nvPicPr>
        <p:blipFill>
          <a:blip r:embed="rId3"/>
          <a:stretch/>
        </p:blipFill>
        <p:spPr>
          <a:xfrm>
            <a:off x="2698920" y="5084640"/>
            <a:ext cx="799920" cy="79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waving_hand-1"/>
          <p:cNvPicPr/>
          <p:nvPr/>
        </p:nvPicPr>
        <p:blipFill>
          <a:blip r:embed="rId4"/>
          <a:stretch/>
        </p:blipFill>
        <p:spPr>
          <a:xfrm>
            <a:off x="5103720" y="1052640"/>
            <a:ext cx="27813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答辩安排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答辩时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星期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星期六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材料提交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截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一”小长假后发放表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盲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取登录号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论文装订完毕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登录查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研究生部网站可登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印查询结果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新宋体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日交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5" descr="printer-1"/>
          <p:cNvPicPr/>
          <p:nvPr/>
        </p:nvPicPr>
        <p:blipFill>
          <a:blip r:embed="rId5"/>
          <a:stretch/>
        </p:blipFill>
        <p:spPr>
          <a:xfrm>
            <a:off x="5867280" y="3429000"/>
            <a:ext cx="2303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装订论文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装订顺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创性、使用授权性声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摘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考文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28800" indent="-457200">
              <a:lnSpc>
                <a:spcPct val="12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谢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Oval 4"/>
          <p:cNvSpPr/>
          <p:nvPr/>
        </p:nvSpPr>
        <p:spPr>
          <a:xfrm>
            <a:off x="1403280" y="4365720"/>
            <a:ext cx="1513080" cy="115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j0354155"/>
          <p:cNvPicPr/>
          <p:nvPr/>
        </p:nvPicPr>
        <p:blipFill>
          <a:blip r:embed="rId2"/>
          <a:stretch/>
        </p:blipFill>
        <p:spPr>
          <a:xfrm>
            <a:off x="5796000" y="3429000"/>
            <a:ext cx="27352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remove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填写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关栏目的填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门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学科专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国际法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研究方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海商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攻读学位级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4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申请学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法学硕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00720" y="2214720"/>
            <a:ext cx="1085760" cy="2274840"/>
            <a:chOff x="4500720" y="2214720"/>
            <a:chExt cx="1085760" cy="2274840"/>
          </a:xfrm>
        </p:grpSpPr>
        <p:sp>
          <p:nvSpPr>
            <p:cNvPr id="101" name="Line 4"/>
            <p:cNvSpPr/>
            <p:nvPr/>
          </p:nvSpPr>
          <p:spPr>
            <a:xfrm>
              <a:off x="4507200" y="394344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5"/>
            <p:cNvSpPr/>
            <p:nvPr/>
          </p:nvSpPr>
          <p:spPr>
            <a:xfrm>
              <a:off x="4505400" y="339588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6"/>
            <p:cNvSpPr/>
            <p:nvPr/>
          </p:nvSpPr>
          <p:spPr>
            <a:xfrm>
              <a:off x="4507200" y="2805120"/>
              <a:ext cx="107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>
              <a:off x="4505400" y="221472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>
              <a:off x="4500720" y="4489560"/>
              <a:ext cx="1079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预审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时间：提交论文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预审内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格式审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如不合格拒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目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1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注意完整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目录-1"/>
          <p:cNvPicPr/>
          <p:nvPr/>
        </p:nvPicPr>
        <p:blipFill>
          <a:blip r:embed="rId2"/>
          <a:stretch/>
        </p:blipFill>
        <p:spPr>
          <a:xfrm>
            <a:off x="1908000" y="2349360"/>
            <a:ext cx="155592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Line 5"/>
          <p:cNvSpPr/>
          <p:nvPr/>
        </p:nvSpPr>
        <p:spPr>
          <a:xfrm flipH="1">
            <a:off x="2843280" y="4497480"/>
            <a:ext cx="720720" cy="417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j0250670"/>
          <p:cNvPicPr/>
          <p:nvPr/>
        </p:nvPicPr>
        <p:blipFill>
          <a:blip r:embed="rId3"/>
          <a:stretch/>
        </p:blipFill>
        <p:spPr>
          <a:xfrm>
            <a:off x="6372360" y="3429000"/>
            <a:ext cx="2047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"/>
                            </p:stCondLst>
                            <p:childTnLst>
                              <p:par>
                                <p:cTn id="25" nodeType="afterEffect" fill="hold" presetClass="emph" presetID="35" repeatCount="4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脚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脚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量要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全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以上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脚注标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要求统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页相同脚注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同上”  或   “同上，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30000"/>
              </a:lnSpc>
              <a:spcBef>
                <a:spcPts val="601"/>
              </a:spcBef>
              <a:buClr>
                <a:srgbClr val="3333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标注查询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301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论文格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204560"/>
            <a:ext cx="80010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错别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笔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图文不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3333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语句不通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2784600" y="1413000"/>
            <a:ext cx="203040" cy="1368360"/>
          </a:xfrm>
          <a:custGeom>
            <a:avLst/>
            <a:gdLst>
              <a:gd name="textAreaLeft" fmla="*/ 0 w 203040"/>
              <a:gd name="textAreaRight" fmla="*/ 73440 w 2030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059280" y="184464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粗心 无校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9" descr="jan_anim"/>
          <p:cNvPicPr/>
          <p:nvPr/>
        </p:nvPicPr>
        <p:blipFill>
          <a:blip r:embed="rId2"/>
          <a:stretch/>
        </p:blipFill>
        <p:spPr>
          <a:xfrm>
            <a:off x="4859280" y="2852640"/>
            <a:ext cx="2975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01:57:4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6:37Z</dcterms:modified>
  <cp:revision>4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所有者">
    <vt:lpwstr>上海海事大学</vt:lpwstr>
  </property>
</Properties>
</file>