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chimes.wav" ContentType="audio/x-wav"/>
  <Override PartName="/ppt/media/image9.gif" ContentType="image/gif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5.gif" ContentType="image/gif"/>
  <Override PartName="/ppt/media/image19.gif" ContentType="image/gif"/>
  <Override PartName="/ppt/media/image1.jpeg" ContentType="image/jpeg"/>
  <Override PartName="/ppt/media/image17.png" ContentType="image/png"/>
  <Override PartName="/ppt/media/image8.gif" ContentType="image/gif"/>
  <Override PartName="/ppt/media/image16.gif" ContentType="image/gif"/>
  <Override PartName="/ppt/media/image14.jpeg" ContentType="image/jpeg"/>
  <Override PartName="/ppt/media/image18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1.gif" ContentType="image/gif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D09-B2AD-4583-AD6A-1B912ED3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B12-9656-4C6F-8786-7665BA94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F0B8B-9500-4DD4-B738-491CE71B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FD811-D5BD-499C-8514-3CA55FB8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9795F-516E-4842-BE1C-6F5E28F1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BA269-F54E-40A1-B524-1826ED2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3B976-5147-4829-B112-872BE54E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06673-093B-4833-B04D-BD1E68E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D312A-16A7-47D8-8331-BB69A5F1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7775E-D9FD-4E28-BB31-84F7A58E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B8BA7-7FB9-4A32-987F-4860CE8E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319A6-9670-4EDA-B0F2-CE1963D6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B8D-78D9-46E3-A981-D0DD0C25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D4407-9AC0-4DCB-B980-7B1DFBCC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1A6B0-C3ED-4C93-B1EF-7A51F548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B0EB5-3582-4D3A-91AE-F709DE5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C1F87-0AE6-4EA2-9608-7452D458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40D93-1498-44B1-98E9-10D3FBA7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AEF6A-B597-44D5-A5D1-CBE50A4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37A5A-11F2-4BF0-8002-D213D65F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57BAD-BD18-4CEA-812C-EE59447A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E3D32-BE12-49C4-9A55-D4DD2098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83093-E686-4DBF-904B-3E4B0E22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C02-DA25-4956-AA06-E2F880A3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17069-981E-40AB-B32B-D1B7BC54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E167E-70F8-4CDB-AF8F-B4A52C1B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091E2-90F5-4259-814F-C6651A01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5C374-EB1C-4313-A18D-1AAAA33C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328E9-44AC-4DCC-84E5-47E10ABE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B7647-EAA1-4060-AB77-AAB02F76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E9E53-C533-4678-9A48-C33B0118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3B39F-5083-4148-9E2F-4A93210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F664D-17E8-4CDD-812D-BE37CB6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C0E08-8A17-4749-8348-8788299E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3F8A-FAE5-4436-ACEA-C9A33367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AA68F-7FA4-49FF-B266-FCD9D92B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4D222-507B-429E-A482-15332EF9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94818-14DC-4CDA-8AA0-F41F3B90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63DBC-60A4-4CE5-9321-94918599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8171E-3089-4933-B481-17EBBEA3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FAA4E-E71E-48AB-AD7F-CE0FEF5E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4CBFF-D858-4BFA-81F1-F411EC1A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D734A-3CD5-48E9-A212-8209D180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8D610-FDCF-413C-B3E9-08AD866D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3B885-8995-465D-8C81-C535F78D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7048-C179-45FC-9E62-42BE0A96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B646E-1DF9-4E4E-9427-7AAEE62A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C7D67-01C9-4B34-9530-61F7E33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EBA9F-F975-47F3-80FE-BECAFCF2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43D80-5181-4C1B-939A-CFBA2A30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0E472-5319-43E2-A56B-E47EFC86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E2DE6-2F0E-448E-94BC-D1FB2901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8BF66-2BFD-4856-90A1-9A9628F0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76462-81CA-46BE-A620-5C3D5B2F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83183-20D1-433E-98C1-81EEADC5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98361-027A-4FE6-8E12-05995FDB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4E1F-85E3-4A86-B7FE-D17F0FCF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578CD-4E99-45D0-8077-60A51CC3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26428-D0EF-45F7-9ED8-BE526791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12AC5-B75B-4AB9-9EA4-B90CF04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13436-A772-436B-BC97-0071A58A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0D131-1AA5-44C0-9295-BFB27113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2BD3A-E618-4A3A-B55C-DE2E1B24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7C3F8-8296-412D-B089-85E06F98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17F3D-E655-4774-9261-0AEB9836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E570C-AA74-4F02-A568-904513E7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DA676-29E2-4D34-8C90-15293282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6D0A-2FB4-4146-9AA6-3FA1FD49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5C6EA-362D-4BB1-8BE1-8EA39D00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AA624-E4F0-4A8C-9B52-21391B20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C9344-2EA3-4F76-9497-C115B0A2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8471E-5A55-4989-B51F-1DB6CFE8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25027-2715-432C-AF0B-1AA04E0A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647BE-211B-481C-9081-EE4D09AE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7AC60-A1F0-450F-925A-49BDDD38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C5C7C-A399-44F3-A9D3-7A826A8C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53554-156C-47B8-A4BC-EC9FAC7D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C92B4-0B40-4D5F-A026-83BA72F0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C009-FFBA-4F34-B124-73103E27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78ECF-0863-4393-BBC1-DE684692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E4B41-29C8-45E5-8651-D2818CE5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790D8-1DCD-425B-9BBE-8DB97135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46146-4DB9-4C38-B59A-9EAF2B38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9606E-9221-4344-A3C7-504B3C11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0D7AB-54E6-4BB4-BB26-E0479BA9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4FF1C-F73C-4F9B-9EE0-9302D356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5AD8C9-711F-4354-8A41-20D556C1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A83AA-1DBA-43E0-AA86-48F4D3AA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BD47B-7468-4B79-997F-37EAA382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0BC7-2EDA-4E8E-9C56-34E9CD38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E54EC-9FA8-4514-8977-C60DB4A4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48337-7F4B-4FE0-A00B-4044B98A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ADAC3-060E-4321-8FBE-8D3EA159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5DA82-C7E1-4DEE-BFF4-C99939DD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00320-DE6A-451D-B9BC-98E3E840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6E5B8-5C7D-4647-B79D-AAA4A4FA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F5A63-7672-4D9C-919E-1DF951F9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19372-38AB-4E8A-B822-323E4C1C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F1DE3-3811-4F4D-BB8A-55FE0D1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CF492-8B79-4FEE-A744-9105C046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B0AB-8EF8-41E7-8E4C-ED1F657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EDD4D-B846-4B74-9E21-12674F7D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B7740-E751-4BF4-B202-526E4A92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2956B-D968-4858-A677-5F47DB0D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D85A1-AE44-424C-AD6C-6551C9FB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F0D15-8E60-4F67-82D5-3544BF14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63B5D-7892-47CB-8964-08CAD0D1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1D4BC-514B-4787-A746-9956CC3F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022538-2D0B-49C5-92B8-75FAD24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05294-3019-4FE5-B28F-29BFF688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D340B-840B-40B1-90D5-D891D7AB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051-0CD4-441E-B492-A4B077B4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E37F-3E12-46F6-AF89-4E1954BE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EE0A2-BB9C-47B1-AD38-C6F6A72F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74E9F-72B1-4CC5-B4E9-5848DE84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5B65E-B69F-45FD-804D-FD9FD01A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104A1D-E460-477E-B9D4-C8172365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B0D90-6019-4091-9CB1-DF43A2C4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7DE7-5F97-45EC-8685-712558B1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56ED-6FFF-498B-8C8A-4252E1D4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2052-69DB-420A-A494-E2F0053B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8A6D-F3B4-4B83-9594-0C0A0F71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49C9-1D38-4F86-B6E1-01CEEDE4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D181-EE0F-4D08-8813-9EEAA20C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A163-9B5C-4544-AFCA-1467DE9E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308C-6360-4A11-9F4C-7DF2253E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C82A-FC52-4EF2-BE09-2570B5BD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F98-6A76-41EB-8CEC-EA2F7740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C545-4F49-461C-9AB4-3F7B29D5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C59D-0C7D-47C1-88B2-4ED70478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01A9-C357-463D-9B7F-87577CF3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EF81-BD9F-4469-A055-79F9C32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2BC2-3ADC-43D2-BB90-A7F3A70A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0698-F409-49B5-AC1F-3EB4F068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CC8C-F5E7-4A1E-AE2C-E825B521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A47E-3B89-4CB0-B194-176AFDA6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108F-EC6A-44FB-97D0-2D900EF9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765D-F682-4B76-B4A4-40C67C2C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E16-9E16-4695-BD55-333D55FB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7446-CBEE-4124-B278-8F1A4052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6D61-6B8D-456C-A096-1BAA1868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5724-252E-4DAD-B1FC-CC6D2E0A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C096-F43B-48F0-89E2-8CC2117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7E0E-5E37-4CED-9374-7063A22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1C8C2-28B9-4200-ABCD-E153B979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55BE-7A2B-4CBA-B97A-1B795083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1DFB2-B152-444D-AE91-96622C9E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C147-FF85-4EF6-9484-38632F91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D266A-B936-441C-9CB0-C9E0B1DB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5B2-CD12-4C71-9F82-756C865C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C2C6-C875-4053-A356-0DA4897D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89A21-08F0-49D4-8C87-A32FB828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CBD0-9E8E-4606-9EAB-C317625F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D74E-A163-4F7F-A6AA-B7471720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02C0-65EB-4F0A-922A-FB22D9BA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D169-28C0-4886-B701-5F720E55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1956-43FA-4EB9-A6D5-B575826B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05BB5-77FD-4D6F-904B-A7358FE3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7DE0-1973-4B66-ABDC-4A9BD58E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F68A-7FCF-42DD-BF04-4CC5B8C1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1F2-8087-4698-B621-BD5A264A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6048-ABCB-436B-BB78-305A93E8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9596E-5658-43EB-8E2F-FA046545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1C01-C5C6-47E9-A896-B3564B6A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C001D-DFF5-4D66-B08E-3957CBAF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C8D5-1B8B-4A85-B336-B8A83728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21D8-AF7E-4D27-A541-6AFDF549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3E8AE-6010-4A12-9FA3-672D45EC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2CC5B-D5D3-4068-ADA8-82CE40E3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B5C2D-2B49-4980-B2CC-C033A07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B5944-1C4D-4983-8343-461EF9CB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71A-092D-4810-BDA2-D60EFA24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7CA9-C153-4067-98BB-D7B8FB4B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19661-B535-457E-BDBC-965D6A43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A806-3E63-45D8-B46D-4D16F6A9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709E9-42D5-408B-9455-2F0F4AB3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6D036-7EFD-4DAA-9EC2-212410DA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22319-ECB2-40D3-BACE-CEF4BBB4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D405-F3B0-4B02-A62C-60B663AA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EC5A9-7065-451C-91AD-6252532F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AEE3-9D07-490C-87EE-C12E9507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09FD-A21E-46BC-AF2E-20C05ECF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103-57D7-447E-81AD-4D426E00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3C1F0-CEC2-4768-B50B-11BDA15B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DA224-7122-466C-BB3F-1629129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8C885-4A82-445A-B3CD-C8049CC7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6E8A4-8AB7-4483-8680-BEE92894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5C0C-7A28-4470-A4F3-2CF6B854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92CF2-D5C6-4E52-BAFD-F6E9BF34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E92AA-115D-4EC2-ADEF-528B0765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F5DBF-0B48-437A-8A0A-1DE9CAD8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FDFA8-6BFA-4675-A309-88ED048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47D3-8D16-4BF5-878C-E45C23C1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145-662C-4A4B-8116-E861F5B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4E8C3-E845-479F-98B5-A84858D2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4B290-0816-4288-AA90-EBC6D98A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275F8-4F1B-42EF-A95D-2572018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35919-517B-4F09-9F3F-F8331E8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50788-571D-4F5C-A30F-90E439CA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C84B8-4605-4AD1-BCF5-FABDB60E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F5360-BD41-44C1-A594-95413C1E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7EAAA-C95C-4CF6-8FFC-9B971247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722EC-5EEF-491F-A27A-AB7E6C55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7F1AF-6AFC-4E4D-9D9A-6D640B31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90D3-103F-414D-85A7-772363A3F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B822-89B4-4BBC-B98C-A3FBE5BF2D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212E-DCF6-42C9-9D14-218F2E6416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2CA7-C7AA-4FF1-8813-AE50C1F8D2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925E-6D57-4788-8B08-4456ECFA53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97E-AB78-40D2-A4EF-E11D0FC72D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07D3-3D96-40F6-8C14-625AB85230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2315-A3F4-42DD-A26D-F53F834A7C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30DB-239D-489F-9642-21D1D44161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684E-83F5-424F-BDAB-08828F7AD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5B9F-6256-468B-84BC-2BD5250E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D399-1F4C-423E-ACE4-55E397CE6B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12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26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72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B651-B268-43E4-BD46-84C183D6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B5D6-087A-4C8B-8B11-5EC331640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4C96-18FB-48B7-9E04-2DEC8E6622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5415-773B-49E5-8FF3-C91B6B0CFC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3200-92DA-4DEC-96E1-07C7EA1612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17xxw.com/" TargetMode="External"/><Relationship Id="rId2" Type="http://schemas.openxmlformats.org/officeDocument/2006/relationships/hyperlink" Target="http://www.17xxw.com/" TargetMode="Externa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17xxw.com/" TargetMode="External"/><Relationship Id="rId2" Type="http://schemas.openxmlformats.org/officeDocument/2006/relationships/hyperlink" Target="http://www.17xxw.com/" TargetMode="External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1" descr=""/>
          <p:cNvPicPr/>
          <p:nvPr/>
        </p:nvPicPr>
        <p:blipFill>
          <a:blip r:embed="rId1"/>
          <a:srcRect l="0" t="0" r="0" b="36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9" name="Rectangle 5"/>
          <p:cNvSpPr/>
          <p:nvPr/>
        </p:nvSpPr>
        <p:spPr>
          <a:xfrm>
            <a:off x="1225080" y="69984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彩云"/>
              </a:rPr>
              <a:t>钓鱼的启示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华文彩云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彩云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4"/>
          <p:cNvSpPr/>
          <p:nvPr/>
        </p:nvSpPr>
        <p:spPr>
          <a:xfrm>
            <a:off x="304560" y="653904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 txBox="1"/>
          <p:nvPr/>
        </p:nvSpPr>
        <p:spPr>
          <a:xfrm>
            <a:off x="9144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先写什么，再写什么，最后写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钓鱼        放鱼         启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用心读课文 ，一边读一边想体会到了课文中的什么情感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再次默读课文，找出有关描写“我”的情感变化的语句，并用（）表示。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慢慢地把鱼钩从大鲈鱼的嘴唇上取下来，依依不舍地把它放回湖里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4"/>
          <p:cNvSpPr/>
          <p:nvPr/>
        </p:nvSpPr>
        <p:spPr>
          <a:xfrm>
            <a:off x="152280" y="60199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4" descr="W020070628504573216729"/>
          <p:cNvPicPr/>
          <p:nvPr/>
        </p:nvPicPr>
        <p:blipFill>
          <a:blip r:embed="rId1"/>
          <a:stretch/>
        </p:blipFill>
        <p:spPr>
          <a:xfrm rot="3650400">
            <a:off x="431640" y="131400"/>
            <a:ext cx="2654280" cy="2895840"/>
          </a:xfrm>
          <a:prstGeom prst="rect">
            <a:avLst/>
          </a:prstGeom>
          <a:ln w="0">
            <a:noFill/>
          </a:ln>
        </p:spPr>
      </p:pic>
      <p:sp>
        <p:nvSpPr>
          <p:cNvPr id="1122" name="Rectangle 5"/>
          <p:cNvSpPr/>
          <p:nvPr/>
        </p:nvSpPr>
        <p:spPr>
          <a:xfrm>
            <a:off x="3124080" y="5014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黑体"/>
                <a:ea typeface="黑体"/>
              </a:rPr>
              <a:t>单元导读告诉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黑体"/>
                <a:ea typeface="黑体"/>
              </a:rPr>
              <a:t>我们什么 </a:t>
            </a:r>
            <a:r>
              <a:rPr b="1" lang="en-US" sz="5400" spc="-1" strike="noStrike">
                <a:solidFill>
                  <a:srgbClr val="008000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6"/>
          <p:cNvSpPr/>
          <p:nvPr/>
        </p:nvSpPr>
        <p:spPr>
          <a:xfrm>
            <a:off x="2438280" y="3609720"/>
            <a:ext cx="64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、把握课文内容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体会    作者从生活中得到了哪 些启示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、抓住关键词句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体会其含义及表达效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又抬头看了一下四周，到处都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静悄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，皎洁的 月光下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看不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任何人的影子，我再次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乞求的目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投向了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又抬头看了一下四周，到处都是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静悄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，皎洁的 月光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看不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任何人的影子，我再次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乞求的目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向了父亲。 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乞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又抬头看了一下四周，到处都是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静悄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，皎洁的 月光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看不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任何人的影子，我再次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乞求的目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向了父亲。 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乞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慢慢地把鱼钩从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鲈鱼的嘴唇上取下来，依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依不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把它放回到湖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心情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啊，好大的鱼！一条我从来没见过的大鲈鱼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！（得意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爸爸！为什么？”我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问道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急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可是不会钓到这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的鱼了。”我大声争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委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又抬头看了一下四周，到处都是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静悄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，皎洁的 月光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看不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任何人的影子，我再次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乞求的目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向了父亲。 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乞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慢慢地把鱼钩从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大鲈鱼的嘴唇上取下来，依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依不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把它放回到湖里去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依依不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2"/>
          <p:cNvSpPr/>
          <p:nvPr/>
        </p:nvSpPr>
        <p:spPr>
          <a:xfrm>
            <a:off x="2590920" y="5562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3"/>
          <p:cNvGrpSpPr/>
          <p:nvPr/>
        </p:nvGrpSpPr>
        <p:grpSpPr>
          <a:xfrm>
            <a:off x="227160" y="380880"/>
            <a:ext cx="8916840" cy="2955960"/>
            <a:chOff x="227160" y="380880"/>
            <a:chExt cx="8916840" cy="2955960"/>
          </a:xfrm>
        </p:grpSpPr>
        <p:sp>
          <p:nvSpPr>
            <p:cNvPr id="1173" name="Rectangle 4"/>
            <p:cNvSpPr/>
            <p:nvPr/>
          </p:nvSpPr>
          <p:spPr>
            <a:xfrm>
              <a:off x="227160" y="834840"/>
              <a:ext cx="8916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5"/>
            <p:cNvSpPr/>
            <p:nvPr/>
          </p:nvSpPr>
          <p:spPr>
            <a:xfrm>
              <a:off x="3156840" y="380880"/>
              <a:ext cx="43898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宋体"/>
                </a:rPr>
                <a:t>啊，这样大的鱼！我还从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6"/>
            <p:cNvSpPr/>
            <p:nvPr/>
          </p:nvSpPr>
          <p:spPr>
            <a:xfrm>
              <a:off x="379440" y="1143000"/>
              <a:ext cx="860112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宋体"/>
                </a:rPr>
                <a:t>没有见过，还是条鲈鱼。我和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宋体"/>
                </a:rPr>
                <a:t>亲得意地欣赏着这条漂亮的大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宋体"/>
                </a:rPr>
                <a:t>鱼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…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Text Box 7"/>
          <p:cNvSpPr/>
          <p:nvPr/>
        </p:nvSpPr>
        <p:spPr>
          <a:xfrm>
            <a:off x="838080" y="3733920"/>
            <a:ext cx="164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8"/>
          <p:cNvSpPr/>
          <p:nvPr/>
        </p:nvSpPr>
        <p:spPr>
          <a:xfrm>
            <a:off x="2133720" y="3733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9"/>
          <p:cNvSpPr/>
          <p:nvPr/>
        </p:nvSpPr>
        <p:spPr>
          <a:xfrm>
            <a:off x="3276720" y="37339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漂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10"/>
          <p:cNvSpPr/>
          <p:nvPr/>
        </p:nvSpPr>
        <p:spPr>
          <a:xfrm>
            <a:off x="4952880" y="3733920"/>
            <a:ext cx="30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从来没见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Box 5"/>
          <p:cNvSpPr/>
          <p:nvPr/>
        </p:nvSpPr>
        <p:spPr>
          <a:xfrm>
            <a:off x="533520" y="685800"/>
            <a:ext cx="72388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上渔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范仲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上往来人，但爱鲈鱼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看一叶舟，出没风波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228600" y="31240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2"/>
          <p:cNvSpPr/>
          <p:nvPr/>
        </p:nvSpPr>
        <p:spPr>
          <a:xfrm>
            <a:off x="533520" y="0"/>
            <a:ext cx="723888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！为什么？”我急切地问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“可是不会再钓到这么大的鱼了。”我大声争辩着，竟然哭出了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又抬头看了一下四周，到处都是静悄悄的，皎洁的月光下看不见其它任何人的影子时，我再次把乞求的目光投向了父亲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慢慢地把鱼钩从大鲈鱼的嘴唇上取下来，依依不舍地把它放回到湖里去。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3"/>
          <p:cNvSpPr/>
          <p:nvPr/>
        </p:nvSpPr>
        <p:spPr>
          <a:xfrm>
            <a:off x="228600" y="31240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2" descr="我最爱的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3" descr="starfish"/>
          <p:cNvPicPr/>
          <p:nvPr/>
        </p:nvPicPr>
        <p:blipFill>
          <a:blip r:embed="rId2"/>
          <a:stretch/>
        </p:blipFill>
        <p:spPr>
          <a:xfrm>
            <a:off x="324000" y="2852640"/>
            <a:ext cx="914400" cy="4255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starfish"/>
          <p:cNvPicPr/>
          <p:nvPr/>
        </p:nvPicPr>
        <p:blipFill>
          <a:blip r:embed="rId3"/>
          <a:stretch/>
        </p:blipFill>
        <p:spPr>
          <a:xfrm>
            <a:off x="304920" y="4114800"/>
            <a:ext cx="914400" cy="42552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starfish"/>
          <p:cNvPicPr/>
          <p:nvPr/>
        </p:nvPicPr>
        <p:blipFill>
          <a:blip r:embed="rId4"/>
          <a:stretch/>
        </p:blipFill>
        <p:spPr>
          <a:xfrm>
            <a:off x="304920" y="5410080"/>
            <a:ext cx="996840" cy="425520"/>
          </a:xfrm>
          <a:prstGeom prst="rect">
            <a:avLst/>
          </a:prstGeom>
          <a:ln w="0">
            <a:noFill/>
          </a:ln>
        </p:spPr>
      </p:pic>
      <p:sp>
        <p:nvSpPr>
          <p:cNvPr id="1188" name="Text Box 6"/>
          <p:cNvSpPr/>
          <p:nvPr/>
        </p:nvSpPr>
        <p:spPr>
          <a:xfrm>
            <a:off x="684360" y="112536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不想放鱼的原因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7"/>
          <p:cNvSpPr/>
          <p:nvPr/>
        </p:nvSpPr>
        <p:spPr>
          <a:xfrm>
            <a:off x="1332000" y="2637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”钓到这条鱼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不容易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8"/>
          <p:cNvSpPr/>
          <p:nvPr/>
        </p:nvSpPr>
        <p:spPr>
          <a:xfrm>
            <a:off x="1403280" y="3789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鲈鱼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又大又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9"/>
          <p:cNvSpPr/>
          <p:nvPr/>
        </p:nvSpPr>
        <p:spPr>
          <a:xfrm>
            <a:off x="1371600" y="52293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钓着鱼时四周又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无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540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父亲盯着鲈鱼看了好一会儿，然后把目光转向了我：“孩子，你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把它放回湖里去。”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4"/>
          <p:cNvSpPr/>
          <p:nvPr/>
        </p:nvSpPr>
        <p:spPr>
          <a:xfrm>
            <a:off x="1355760" y="39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5"/>
          <p:cNvSpPr/>
          <p:nvPr/>
        </p:nvSpPr>
        <p:spPr>
          <a:xfrm>
            <a:off x="1454040" y="3973680"/>
            <a:ext cx="68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父亲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着鲈鱼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了好一会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心里在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——————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还会钓到别的鱼的。”父亲平静地说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 尽管没有人看到我们，更无人知道我是在什么时候钓到这条鲈鱼的，但是从父亲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容争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声音中，我清楚地知道，父亲的话是没有商量的余地的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4"/>
          <p:cNvSpPr/>
          <p:nvPr/>
        </p:nvSpPr>
        <p:spPr>
          <a:xfrm>
            <a:off x="304920" y="1522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我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岁那年的一个傍晚，我随着爸爸来到了新汉普斯湖中的小岛上，我们把钓线抛下去不久，月亮就慢慢地升起来了，越升越高。湖面上银光闪闪，四周围静悄悄的，看不见其他任何人的影子，只有那如水的月光轻轻地泻在我们的身上。就在那个月光如水的晚上，发生了一件令我终生难忘的往事，它留给了我永久的回忆和终生的启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Picture 5" descr="land-004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97" name="Picture 3" descr="11"/>
          <p:cNvPicPr/>
          <p:nvPr/>
        </p:nvPicPr>
        <p:blipFill>
          <a:blip r:embed="rId1"/>
          <a:stretch/>
        </p:blipFill>
        <p:spPr>
          <a:xfrm>
            <a:off x="-365040" y="0"/>
            <a:ext cx="9545400" cy="7029360"/>
          </a:xfrm>
          <a:prstGeom prst="rect">
            <a:avLst/>
          </a:prstGeom>
          <a:ln w="0">
            <a:noFill/>
          </a:ln>
        </p:spPr>
      </p:pic>
      <p:sp>
        <p:nvSpPr>
          <p:cNvPr id="1198" name="Text Box 4"/>
          <p:cNvSpPr/>
          <p:nvPr/>
        </p:nvSpPr>
        <p:spPr>
          <a:xfrm>
            <a:off x="152280" y="99072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324000" y="1052640"/>
            <a:ext cx="72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鲈鱼捕捞开放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鲈鱼的繁殖能力很差，所以在鲈鱼繁殖期间禁止打捞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休渔期在每年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月一号到九月十五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左右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开放捕捞的那一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叫鲈鱼捕捞开放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28600" y="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禁渔期”</a:t>
            </a:r>
            <a:r>
              <a:rPr b="0" lang="zh-CN" sz="4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保护某些重要的经济鱼类资源，在鱼类产卵、繁殖和生长发育的特定时期，规定禁止捕捞或限制捕捞活动的时间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的禁渔期”</a:t>
            </a:r>
            <a:r>
              <a:rPr b="0" lang="zh-CN" sz="4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至次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为青鱼禁渔期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为毛蚶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ā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禁渔期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为淡水湖区与水库禁渔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2" descr="pic024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3" name="PlaceHolder 1"/>
          <p:cNvSpPr>
            <a:spLocks noGrp="1"/>
          </p:cNvSpPr>
          <p:nvPr>
            <p:ph/>
          </p:nvPr>
        </p:nvSpPr>
        <p:spPr>
          <a:xfrm>
            <a:off x="6227280" y="-360"/>
            <a:ext cx="3132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从父亲那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不容争辩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的声音中，我清楚地知道，父亲的话是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没有商量的余地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我慢慢地把鱼钩从大鲈鱼的嘴唇上取下来，依依不舍地把它放回到湖里去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AutoShape 4">
            <a:hlinkClick r:id="rId2" action="ppaction://hlinksldjump"/>
          </p:cNvPr>
          <p:cNvSpPr/>
          <p:nvPr/>
        </p:nvSpPr>
        <p:spPr>
          <a:xfrm>
            <a:off x="7667640" y="5589720"/>
            <a:ext cx="826920" cy="826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5"/>
          <p:cNvSpPr/>
          <p:nvPr/>
        </p:nvSpPr>
        <p:spPr>
          <a:xfrm>
            <a:off x="971640" y="2852640"/>
            <a:ext cx="2808360" cy="2089080"/>
          </a:xfrm>
          <a:prstGeom prst="wedgeRectCallout">
            <a:avLst>
              <a:gd name="adj1" fmla="val 165263"/>
              <a:gd name="adj2" fmla="val -84194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要求“我”把鱼放回湖中的真正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慢慢地把鱼钩从大鲈鱼的嘴唇上取下来，依依不舍地把它放回湖里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3360" y="228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“爸爸</a:t>
            </a:r>
            <a:r>
              <a:rPr b="0" lang="zh-CN" sz="4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zh-CN" sz="4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”我急切地问道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“可是不会钓到这么大的鱼了。”我大声争辩着，哭出了声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我再次把乞求的目光投向了父亲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04920" y="-360"/>
            <a:ext cx="8540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过了好长时间，鱼竿突然剧烈地抖动了一下，一定是个大家伙上钩了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晚霞辉映的湖面上溅起了一圈圈彩色的涟漪。不一会月亮升起来了，湖面变得银光闪闪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 Box 4"/>
          <p:cNvSpPr/>
          <p:nvPr/>
        </p:nvSpPr>
        <p:spPr>
          <a:xfrm>
            <a:off x="152280" y="60199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过了好长时间，鱼竿突然剧烈地抖动了一下，一定是个大家伙上钩了。我小心翼翼地一收一放，熟练地操纵着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2"/>
          <p:cNvSpPr/>
          <p:nvPr/>
        </p:nvSpPr>
        <p:spPr>
          <a:xfrm>
            <a:off x="2590920" y="5562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Group 3"/>
          <p:cNvGrpSpPr/>
          <p:nvPr/>
        </p:nvGrpSpPr>
        <p:grpSpPr>
          <a:xfrm>
            <a:off x="227160" y="380880"/>
            <a:ext cx="8916840" cy="2955960"/>
            <a:chOff x="227160" y="380880"/>
            <a:chExt cx="8916840" cy="2955960"/>
          </a:xfrm>
        </p:grpSpPr>
        <p:sp>
          <p:nvSpPr>
            <p:cNvPr id="1216" name="Rectangle 4"/>
            <p:cNvSpPr/>
            <p:nvPr/>
          </p:nvSpPr>
          <p:spPr>
            <a:xfrm>
              <a:off x="227160" y="834840"/>
              <a:ext cx="8916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5"/>
            <p:cNvSpPr/>
            <p:nvPr/>
          </p:nvSpPr>
          <p:spPr>
            <a:xfrm>
              <a:off x="3156840" y="380880"/>
              <a:ext cx="43898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啊，这样大的鱼！我还从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6"/>
            <p:cNvSpPr/>
            <p:nvPr/>
          </p:nvSpPr>
          <p:spPr>
            <a:xfrm>
              <a:off x="379440" y="1143000"/>
              <a:ext cx="860112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没有见过，还是条鲈鱼。我和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亲得意地欣赏着这条漂亮的大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鱼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9" name="Text Box 7"/>
          <p:cNvSpPr/>
          <p:nvPr/>
        </p:nvSpPr>
        <p:spPr>
          <a:xfrm>
            <a:off x="838080" y="3733920"/>
            <a:ext cx="164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8"/>
          <p:cNvSpPr/>
          <p:nvPr/>
        </p:nvSpPr>
        <p:spPr>
          <a:xfrm>
            <a:off x="2133720" y="3733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9"/>
          <p:cNvSpPr/>
          <p:nvPr/>
        </p:nvSpPr>
        <p:spPr>
          <a:xfrm>
            <a:off x="3276720" y="37339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漂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10"/>
          <p:cNvSpPr/>
          <p:nvPr/>
        </p:nvSpPr>
        <p:spPr>
          <a:xfrm>
            <a:off x="4952880" y="3733920"/>
            <a:ext cx="30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从来没见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抬头看了一下四周，到处都是静悄悄的，皎洁的月光下看不见其他人和船的影子。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  “没有人看到我们，更无人知道我是在什么时候钓到这条鲈鱼的。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”不愿意放鱼的原因是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条鱼是“我”好不容易才钓到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3601440" y="3716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周围没有人，不会受到限制和批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5"/>
          <p:cNvSpPr/>
          <p:nvPr/>
        </p:nvSpPr>
        <p:spPr>
          <a:xfrm>
            <a:off x="3407400" y="2781360"/>
            <a:ext cx="8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PMingLiU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宋体"/>
              </a:rPr>
              <a:t>鲈鱼这么大，这么美，很诱惑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4"/>
          <p:cNvSpPr/>
          <p:nvPr/>
        </p:nvSpPr>
        <p:spPr>
          <a:xfrm>
            <a:off x="609480" y="1295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本文作者汤姆，美国著名的建筑工程师，从小受到父亲的严格教育，一向以社会公德作为自己的行动准则，深受广大人民的爱戴，正是这一点，他取得了巨大的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大思想家孟德斯鸠说：衡量人的真正品德，是看他在知道没有人会发觉的时候做些什么。这两个小时代表的就是刚才几位同学说的道德、品性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4"/>
          <p:cNvSpPr/>
          <p:nvPr/>
        </p:nvSpPr>
        <p:spPr>
          <a:xfrm>
            <a:off x="152280" y="138456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在作者钓到鱼、放走鱼的过程中作者受到了什么启示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请在课文中勾画出有关语句？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5"/>
          <p:cNvSpPr/>
          <p:nvPr/>
        </p:nvSpPr>
        <p:spPr>
          <a:xfrm>
            <a:off x="457200" y="391464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道德只是个简 单的是与非的 问题，实践起 来却很难。”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父亲盯着鲈鱼看了好一会儿。然后把目光转向我：“孩子，你得把它放回湖里去。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设计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素材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文化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月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3360" y="228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“爸爸！为什么？”我急切地问道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“可是不会钓到这么大的鱼了。”我大声争辩着，哭出了声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2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父亲曾告诫我的话：道德只是个简单的是与非的问题，但是实践起来却很难。要是人们从小受到像把钓到的大鲈鱼放回湖中这样严格的教育的话，就会获得道德实践的勇气和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3"/>
          <p:cNvSpPr/>
          <p:nvPr/>
        </p:nvSpPr>
        <p:spPr>
          <a:xfrm>
            <a:off x="395280" y="3500280"/>
            <a:ext cx="8229600" cy="703440"/>
          </a:xfrm>
          <a:prstGeom prst="rect">
            <a:avLst/>
          </a:prstGeom>
          <a:solidFill>
            <a:srgbClr val="99cc00"/>
          </a:solidFill>
          <a:ln cap="sq"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是道德是非说起来容易做起来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4"/>
          <p:cNvSpPr/>
          <p:nvPr/>
        </p:nvSpPr>
        <p:spPr>
          <a:xfrm>
            <a:off x="380880" y="4518000"/>
            <a:ext cx="8382240" cy="703440"/>
          </a:xfrm>
          <a:prstGeom prst="rect">
            <a:avLst/>
          </a:prstGeom>
          <a:solidFill>
            <a:srgbClr val="99cc00"/>
          </a:solidFill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是必须从小时候开始，处处严格教育，事事严格要求，才能成为有道德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Picture 5" descr="fish14"/>
          <p:cNvPicPr/>
          <p:nvPr/>
        </p:nvPicPr>
        <p:blipFill>
          <a:blip r:embed="rId1"/>
          <a:stretch/>
        </p:blipFill>
        <p:spPr>
          <a:xfrm>
            <a:off x="7162920" y="2209680"/>
            <a:ext cx="13827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Picture 2" descr="钓鱼1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245" name="Text Box 3"/>
          <p:cNvSpPr/>
          <p:nvPr/>
        </p:nvSpPr>
        <p:spPr>
          <a:xfrm>
            <a:off x="457200" y="304920"/>
            <a:ext cx="8381880" cy="764280"/>
          </a:xfrm>
          <a:prstGeom prst="rect">
            <a:avLst/>
          </a:prstGeom>
          <a:solidFill>
            <a:srgbClr val="cc99ff"/>
          </a:solidFill>
          <a:ln cap="sq" w="41400">
            <a:solidFill>
              <a:srgbClr val="ffa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却不止一次地遇到了与那条鲈鱼相似的诱惑人的‘鱼’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1143000" y="3505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48" name="Picture 3" descr=""/>
          <p:cNvPicPr/>
          <p:nvPr/>
        </p:nvPicPr>
        <p:blipFill>
          <a:blip r:embed="rId1"/>
          <a:stretch/>
        </p:blipFill>
        <p:spPr>
          <a:xfrm>
            <a:off x="-303120" y="0"/>
            <a:ext cx="9658080" cy="7224840"/>
          </a:xfrm>
          <a:prstGeom prst="rect">
            <a:avLst/>
          </a:prstGeom>
          <a:ln w="0">
            <a:noFill/>
          </a:ln>
        </p:spPr>
      </p:pic>
      <p:sp>
        <p:nvSpPr>
          <p:cNvPr id="1249" name="Text Box 4"/>
          <p:cNvSpPr/>
          <p:nvPr/>
        </p:nvSpPr>
        <p:spPr>
          <a:xfrm>
            <a:off x="685800" y="60948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那晚以后，我再也没有钓到过那样大的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鱼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但是，在人生的旅途中，我却不止一次地遇到了与那条鲈鱼相似的诱惑人的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“鱼”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Picture 4" descr="fish15"/>
          <p:cNvPicPr/>
          <p:nvPr/>
        </p:nvPicPr>
        <p:blipFill>
          <a:blip r:embed="rId1"/>
          <a:stretch/>
        </p:blipFill>
        <p:spPr>
          <a:xfrm>
            <a:off x="6858000" y="16002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fish17"/>
          <p:cNvPicPr/>
          <p:nvPr/>
        </p:nvPicPr>
        <p:blipFill>
          <a:blip r:embed="rId2"/>
          <a:stretch/>
        </p:blipFill>
        <p:spPr>
          <a:xfrm>
            <a:off x="609480" y="5486400"/>
            <a:ext cx="3124440" cy="121932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6"/>
          <p:cNvSpPr/>
          <p:nvPr/>
        </p:nvSpPr>
        <p:spPr>
          <a:xfrm>
            <a:off x="1050840" y="30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8"/>
          <p:cNvSpPr/>
          <p:nvPr/>
        </p:nvSpPr>
        <p:spPr>
          <a:xfrm>
            <a:off x="1854360" y="304920"/>
            <a:ext cx="56671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下面的句子，回答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人生的旅途中，我却不止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次地遇到了与那条鲈鱼相似的诱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的“鱼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个“鱼”是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个“鱼”是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9"/>
          <p:cNvSpPr/>
          <p:nvPr/>
        </p:nvSpPr>
        <p:spPr>
          <a:xfrm>
            <a:off x="5382000" y="3733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又大又美的鲈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0"/>
          <p:cNvSpPr/>
          <p:nvPr/>
        </p:nvSpPr>
        <p:spPr>
          <a:xfrm>
            <a:off x="6292800" y="44197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指人生中的名利、财富等诱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99cc00"/>
          </a:solidFill>
          <a:ln cap="sq" w="4140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遇到过类似的情况吗？是怎样做的？请联系个人的生活实际和体验想一想，说一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4"/>
          <p:cNvSpPr/>
          <p:nvPr/>
        </p:nvSpPr>
        <p:spPr>
          <a:xfrm>
            <a:off x="3657600" y="7146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读课题你有什么疑问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5" descr="W020070628504573216729"/>
          <p:cNvPicPr/>
          <p:nvPr/>
        </p:nvPicPr>
        <p:blipFill>
          <a:blip r:embed="rId1"/>
          <a:stretch/>
        </p:blipFill>
        <p:spPr>
          <a:xfrm rot="3321600">
            <a:off x="444960" y="163800"/>
            <a:ext cx="2562120" cy="2233800"/>
          </a:xfrm>
          <a:prstGeom prst="rect">
            <a:avLst/>
          </a:prstGeom>
          <a:ln w="0">
            <a:noFill/>
          </a:ln>
        </p:spPr>
      </p:pic>
      <p:sp>
        <p:nvSpPr>
          <p:cNvPr id="1129" name="Rectangle 6"/>
          <p:cNvSpPr/>
          <p:nvPr/>
        </p:nvSpPr>
        <p:spPr>
          <a:xfrm>
            <a:off x="3816720" y="2057040"/>
            <a:ext cx="40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启示”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是什么意思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7"/>
          <p:cNvSpPr/>
          <p:nvPr/>
        </p:nvSpPr>
        <p:spPr>
          <a:xfrm>
            <a:off x="1066680" y="3671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启示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启发指示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使有所领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Text Box 4"/>
          <p:cNvSpPr/>
          <p:nvPr/>
        </p:nvSpPr>
        <p:spPr>
          <a:xfrm>
            <a:off x="838080" y="380880"/>
            <a:ext cx="7620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家里 ：父母不在家，电视很精彩，是完成作业还是看电视？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：考试，老师多给了分数，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公共场所：买东西时，售货员多找了钱给你，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家路上，你拣到了一件自己喜欢的玩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父亲曾告诫我的话：道德只是个简单的是与非的问题，但是实践起来却很难。要是人们从小受到像把钓到的大鲈鱼放回湖中这样严格的教育的话，就会获得道德实践的勇气和力量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             ），要是人们从小受到像把钓到的大鲈鱼放回湖中这样严格的教育的话，就会获得道德实践的勇气和力量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152280" y="60199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眼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过去了，当年那个沮丧的孩子已是纽约一位著名的建筑设计师了。我再没有钓到过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前那个夜晚钓到的那样大的鱼。但是，在人生的旅途中，我却不止一次地遇到了与那条鲈鱼相似的诱惑人的“鱼”。当我一次次地面临道德抉择的时候，我就会想起父亲曾告诫我的话：道德只是个简单的是与非的问题，但是实践起来却很难。要是人们从小受到像把钓到的大鲈鱼放回湖中这样严格的教育的话，就会获得道德实践的勇气和力量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年前的那个月光如水的夜晚，在我的脑海中留下了永久的回忆和终生的启示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  三十四年前，皎洁的月光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慢慢地把鱼钩从大鲈鱼的嘴唇上取下来，依依不舍地把它放回湖里。”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三十四年后，月光如水的记忆里，“我”的依依不舍换来了父亲的告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只是个简单的是与非的问题，实践起来却很难。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380520" y="76212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这块橡皮都看不出是什么颜色了，衣服都被我搓成成灰了。它好像被人打了似的，青一块，紫一块，鼻青脸肿的，看起来像一个光头丑八怪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黑体"/>
              </a:rPr>
              <a:t>   </a:t>
            </a: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它虽然不起眼，但是很有用。每次我写错字时，它帮我改正让我把字写得工工整整。它真是我的好朋友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178920" y="1066680"/>
            <a:ext cx="849636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他们就像是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城市美容师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。当每天太阳还没升起，他们就开始工作，总是把灰尘留给自己，把美丽留给别人，忍受汽车尾气、噪音和灰尘。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178920" y="152280"/>
            <a:ext cx="849636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从我识字起，我就认识铅笔了。那时候妈妈给我买了很多铅笔，我的印象中，铅笔长的又长又细，穿着墨绿的衣服，不是很鲜艳的颜色，像很碍眼似的，只要我把它削掉头，里面就会出来肉色的表皮和黑色的铅蕊。这样变显得更难看了。与自动铅笔和钢笔比起来，可真上差远了！可是它是我最好的帮手，是我最好的用品。我干什么都得用它：写字、打草稿、画格等等，都不能丢掉它。可它却在一点一点的变衰老。我们却没有察觉，等到它变的实在是太小了，我们才知道丢掉它，它用自己的生命换来了我们写字的工整，换来了我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，它总是默默无闻的为人类贡献自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也要学习铅笔，舍己为人的可贵品格！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178920" y="990360"/>
            <a:ext cx="84963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俗话说得好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春蚕到死丝方尽，蜡炬成灰泪始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蜡烛的确如此。它不像闹钟一样，时间到了就大闹一翻，也不像手表一样穿着华丽的衣服，整天滴答滴答地乱吵人。它只是默默无闻地送给人们光明，然而它面临的却是牺牲自己的难题。可是他还是义无反顾的制造光明，它最可贵的是：虽没有外在的美丽，却朴实无华、默默无闻、不计名利、无私奉献，最终燃烧自己照亮别人，我要学习他的品格，做个对社会对人们有用的人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4"/>
          <p:cNvSpPr/>
          <p:nvPr/>
        </p:nvSpPr>
        <p:spPr>
          <a:xfrm>
            <a:off x="685800" y="8380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5"/>
          <p:cNvSpPr/>
          <p:nvPr/>
        </p:nvSpPr>
        <p:spPr>
          <a:xfrm>
            <a:off x="457200" y="60948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大声朗读课文。遇到难读的字词圈出来，读正确；遇到难读的句子划出来，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再读课文，在文中空白处做批注笔记，写下自己的理解、感受、评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读完后想想课文先写什么？再写什么？最后写什么？分别是哪几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从什么事情中得到了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Arial"/>
              </a:rPr>
              <a:t>送给大家一句名言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178920" y="263700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衡量真正的品德，是看他在没有人发觉的时候做些什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孟德斯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1143000" y="632448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258920" y="333000"/>
            <a:ext cx="74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鲈鱼   捕捞   启示   附近   鱼饵    辉映   剧烈   上钩   操纵    摆脱   鱼鳃    皎洁 乞求    嘴唇    沮丧   旅途   诱惑    告诫    实践   严格   永久    抉择    涟漪   鱼钩 获得    挣扎   翕动    皎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依依不舍  筋疲力尽  银光闪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小心翼翼         不容争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4"/>
          <p:cNvSpPr/>
          <p:nvPr/>
        </p:nvSpPr>
        <p:spPr>
          <a:xfrm>
            <a:off x="457200" y="685800"/>
            <a:ext cx="8381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放好鱼饵  抛出钓线  湖面涟漪  耐心等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鱼竿剧抖  大鱼挣扎  小心翼翼  操纵钓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鱼跃不已  筋疲力尽  拉鱼上岸  父子得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乞求无果  不容争辩  放鱼回湖  依依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月光如水  获得启示  遇到诱惑  思父告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道德抉择  简单问题  道德实践  勇气力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4" descr="ed3180dcbea169235882dd74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1139" name="Text Box 5"/>
          <p:cNvSpPr/>
          <p:nvPr/>
        </p:nvSpPr>
        <p:spPr>
          <a:xfrm>
            <a:off x="2916360" y="692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阅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6"/>
          <p:cNvSpPr/>
          <p:nvPr/>
        </p:nvSpPr>
        <p:spPr>
          <a:xfrm>
            <a:off x="2158920" y="184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想一想这篇课文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7"/>
          <p:cNvSpPr/>
          <p:nvPr/>
        </p:nvSpPr>
        <p:spPr>
          <a:xfrm>
            <a:off x="2124000" y="31417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课文可以分成几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8" descr="gif_icon031"/>
          <p:cNvPicPr/>
          <p:nvPr/>
        </p:nvPicPr>
        <p:blipFill>
          <a:blip r:embed="rId2"/>
          <a:stretch/>
        </p:blipFill>
        <p:spPr>
          <a:xfrm>
            <a:off x="1547640" y="3500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9" descr="gif_icon044"/>
          <p:cNvPicPr/>
          <p:nvPr/>
        </p:nvPicPr>
        <p:blipFill>
          <a:blip r:embed="rId3"/>
          <a:stretch/>
        </p:blipFill>
        <p:spPr>
          <a:xfrm>
            <a:off x="4572000" y="5157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13:23:1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4:05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