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870-98E0-46AA-9B64-728727E9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868-845C-4471-BA27-F94E03C4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0E09-CE82-4321-92E3-8E61D0E0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CDA-836B-4AC2-8EF6-74FA2839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C3F1-2E01-4B37-8901-A80A2367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E292-AA71-4A65-8764-39CCE365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F55D-B5FA-4370-B1CC-ABFB6B05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1D12-70E2-4CE6-9207-489FC599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549E-911F-461E-8B8D-C5A2884D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EBD8-AF4B-473C-96CE-B812B180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FCDE-F36C-49BF-8BFC-0C468B52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DB4-9CF8-492B-AF0F-34E54871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99E5-ABD9-4C67-ABC1-97771DC4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333D-75DA-4E90-ACB3-37A770D5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D2C3-ECB6-4105-A5E9-F6A9CAE0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5058-2E9A-4407-92C1-005094BE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E06E-9745-4677-9314-E324FE15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528-E5C5-498D-8EC3-79EA5523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F81-4DDA-4FE7-AC46-62FBA962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03B-92F0-4CED-8982-EC1313FD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DA9-7154-4419-BE2C-E0815B3C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907-58EE-4126-8953-090B40AD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B05C-F0E4-4463-AA66-659AE53D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9FC-2BAB-486E-8B19-2BC67409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0" y="1764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A67D-6629-43DF-90C8-F867908D15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4"/>
          <a:stretch/>
        </p:blipFill>
        <p:spPr>
          <a:xfrm>
            <a:off x="0" y="-17640"/>
            <a:ext cx="9418680" cy="639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F427-E166-40CD-A2B2-53897C461EC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1557-6D6D-4AB9-9D25-D1FBAE3E83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-17640"/>
            <a:ext cx="9418680" cy="6390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3"/>
          <p:cNvGrpSpPr/>
          <p:nvPr/>
        </p:nvGrpSpPr>
        <p:grpSpPr>
          <a:xfrm>
            <a:off x="-5641920" y="1044720"/>
            <a:ext cx="7642080" cy="4060800"/>
            <a:chOff x="-5641920" y="1044720"/>
            <a:chExt cx="7642080" cy="4060800"/>
          </a:xfrm>
        </p:grpSpPr>
        <p:grpSp>
          <p:nvGrpSpPr>
            <p:cNvPr id="85" name="Group 4"/>
            <p:cNvGrpSpPr/>
            <p:nvPr/>
          </p:nvGrpSpPr>
          <p:grpSpPr>
            <a:xfrm>
              <a:off x="-5641920" y="1044720"/>
              <a:ext cx="7642080" cy="3357000"/>
              <a:chOff x="-5641920" y="1044720"/>
              <a:chExt cx="7642080" cy="3357000"/>
            </a:xfrm>
          </p:grpSpPr>
          <p:grpSp>
            <p:nvGrpSpPr>
              <p:cNvPr id="86" name="Group 5"/>
              <p:cNvGrpSpPr/>
              <p:nvPr/>
            </p:nvGrpSpPr>
            <p:grpSpPr>
              <a:xfrm>
                <a:off x="-5641920" y="1830240"/>
                <a:ext cx="7284960" cy="2571480"/>
                <a:chOff x="-5641920" y="1830240"/>
                <a:chExt cx="7284960" cy="2571480"/>
              </a:xfrm>
            </p:grpSpPr>
            <p:pic>
              <p:nvPicPr>
                <p:cNvPr id="87" name="图片 10" descr=""/>
                <p:cNvPicPr/>
                <p:nvPr/>
              </p:nvPicPr>
              <p:blipFill>
                <a:blip r:embed="rId2"/>
                <a:srcRect l="51222" t="59750" r="11119" b="8751"/>
                <a:stretch/>
              </p:blipFill>
              <p:spPr>
                <a:xfrm>
                  <a:off x="-5641920" y="1830240"/>
                  <a:ext cx="7284960" cy="2571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图片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5138640" y="2044440"/>
                  <a:ext cx="2064960" cy="2065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图片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1622880" y="2044440"/>
                  <a:ext cx="2064960" cy="2065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" name="图片 9" descr=""/>
              <p:cNvPicPr/>
              <p:nvPr/>
            </p:nvPicPr>
            <p:blipFill>
              <a:blip r:embed="rId5"/>
              <a:srcRect l="88588" t="50005" r="-1031" b="40037"/>
              <a:stretch/>
            </p:blipFill>
            <p:spPr>
              <a:xfrm>
                <a:off x="1143360" y="1044720"/>
                <a:ext cx="856800" cy="813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1" name="图片 29" descr=""/>
            <p:cNvPicPr/>
            <p:nvPr/>
          </p:nvPicPr>
          <p:blipFill>
            <a:blip r:embed="rId6"/>
            <a:srcRect l="40840" t="90378" r="48784" b="0"/>
            <a:stretch/>
          </p:blipFill>
          <p:spPr>
            <a:xfrm>
              <a:off x="1260360" y="4320000"/>
              <a:ext cx="7142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图片 5" descr=""/>
          <p:cNvPicPr/>
          <p:nvPr/>
        </p:nvPicPr>
        <p:blipFill>
          <a:blip r:embed="rId7"/>
          <a:srcRect l="0" t="28202" r="88285" b="0"/>
          <a:stretch/>
        </p:blipFill>
        <p:spPr>
          <a:xfrm>
            <a:off x="0" y="1450800"/>
            <a:ext cx="1071720" cy="369288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12"/>
          <p:cNvGrpSpPr/>
          <p:nvPr/>
        </p:nvGrpSpPr>
        <p:grpSpPr>
          <a:xfrm>
            <a:off x="571680" y="1000080"/>
            <a:ext cx="714240" cy="4071960"/>
            <a:chOff x="571680" y="1000080"/>
            <a:chExt cx="714240" cy="4071960"/>
          </a:xfrm>
        </p:grpSpPr>
        <p:pic>
          <p:nvPicPr>
            <p:cNvPr id="94" name="图片 11" descr=""/>
            <p:cNvPicPr/>
            <p:nvPr/>
          </p:nvPicPr>
          <p:blipFill>
            <a:blip r:embed="rId8"/>
            <a:srcRect l="40840" t="50005" r="48784" b="39502"/>
            <a:stretch/>
          </p:blipFill>
          <p:spPr>
            <a:xfrm>
              <a:off x="571680" y="1000080"/>
              <a:ext cx="7142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图片 21" descr=""/>
            <p:cNvPicPr/>
            <p:nvPr/>
          </p:nvPicPr>
          <p:blipFill>
            <a:blip r:embed="rId9"/>
            <a:srcRect l="40840" t="90378" r="48784" b="0"/>
            <a:stretch/>
          </p:blipFill>
          <p:spPr>
            <a:xfrm>
              <a:off x="571680" y="4286160"/>
              <a:ext cx="71424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图片 22" descr=""/>
            <p:cNvPicPr/>
            <p:nvPr/>
          </p:nvPicPr>
          <p:blipFill>
            <a:blip r:embed="rId10"/>
            <a:srcRect l="40840" t="59750" r="50856" b="8751"/>
            <a:stretch/>
          </p:blipFill>
          <p:spPr>
            <a:xfrm>
              <a:off x="571680" y="1785960"/>
              <a:ext cx="571320" cy="257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图片 34" descr=""/>
          <p:cNvPicPr/>
          <p:nvPr/>
        </p:nvPicPr>
        <p:blipFill>
          <a:blip r:embed="rId11"/>
          <a:srcRect l="0" t="2987" r="4740" b="8822"/>
          <a:stretch/>
        </p:blipFill>
        <p:spPr>
          <a:xfrm>
            <a:off x="1368360" y="857160"/>
            <a:ext cx="438120" cy="4286520"/>
          </a:xfrm>
          <a:prstGeom prst="rect">
            <a:avLst/>
          </a:prstGeom>
          <a:ln w="0">
            <a:noFill/>
          </a:ln>
        </p:spPr>
      </p:pic>
      <p:sp>
        <p:nvSpPr>
          <p:cNvPr id="98" name="矩形 1"/>
          <p:cNvSpPr/>
          <p:nvPr/>
        </p:nvSpPr>
        <p:spPr>
          <a:xfrm>
            <a:off x="2541240" y="3538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古典之卷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504000" y="46195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3229 0 E">
                                      <p:cBhvr>
                                        <p:cTn id="19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3229 0 E">
                                      <p:cBhvr>
                                        <p:cTn id="2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行楷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行楷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08:10Z</dcterms:modified>
  <cp:revision>1</cp:revision>
  <dc:subject>幻灯片之家 http://www.eeppt.com</dc:subject>
  <dc:title>幻灯片之家 http://www.eeppt.com</dc:title>
</cp:coreProperties>
</file>