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DCD-1919-4820-8268-1F5EB122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0F0-27F4-438B-A122-5D8575F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66B-70F0-492D-8332-C76D1CC2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298-6ACD-4292-9968-77461863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D1D-7035-4A7C-85C5-8521E62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999-ED52-4E6D-A969-61BD7807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9AB-CC07-4B6B-AA6D-2C45E54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7A7-86E3-493E-AAC3-B4B8A49C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EEB-3049-44D6-B245-E2D08C0B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5A6-C25B-49F1-8E50-A105F817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7CB-EC8E-4043-98F7-AAE475ED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602-8422-4737-A800-E95DB5D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FFD0-0AD6-4FB7-B9A4-5369695E1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67960" y="696600"/>
            <a:ext cx="1142280" cy="876960"/>
            <a:chOff x="1767960" y="696600"/>
            <a:chExt cx="1142280" cy="876960"/>
          </a:xfrm>
        </p:grpSpPr>
        <p:grpSp>
          <p:nvGrpSpPr>
            <p:cNvPr id="42" name=""/>
            <p:cNvGrpSpPr/>
            <p:nvPr/>
          </p:nvGrpSpPr>
          <p:grpSpPr>
            <a:xfrm>
              <a:off x="1767960" y="696600"/>
              <a:ext cx="1142280" cy="876960"/>
              <a:chOff x="1767960" y="696600"/>
              <a:chExt cx="1142280" cy="876960"/>
            </a:xfrm>
          </p:grpSpPr>
          <p:sp>
            <p:nvSpPr>
              <p:cNvPr id="43" name="Freeform 25"/>
              <p:cNvSpPr/>
              <p:nvPr/>
            </p:nvSpPr>
            <p:spPr>
              <a:xfrm rot="20529000">
                <a:off x="1846080" y="907560"/>
                <a:ext cx="544680" cy="59688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6"/>
              <p:cNvSpPr/>
              <p:nvPr/>
            </p:nvSpPr>
            <p:spPr>
              <a:xfrm flipH="1" rot="20529000">
                <a:off x="2354760" y="754920"/>
                <a:ext cx="475560" cy="59688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1861560" y="789480"/>
              <a:ext cx="958320" cy="690480"/>
              <a:chOff x="1861560" y="789480"/>
              <a:chExt cx="958320" cy="690480"/>
            </a:xfrm>
          </p:grpSpPr>
          <p:sp>
            <p:nvSpPr>
              <p:cNvPr id="46" name="Freeform 21"/>
              <p:cNvSpPr/>
              <p:nvPr/>
            </p:nvSpPr>
            <p:spPr>
              <a:xfrm rot="20529000">
                <a:off x="1918800" y="971640"/>
                <a:ext cx="466560" cy="447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2"/>
              <p:cNvSpPr/>
              <p:nvPr/>
            </p:nvSpPr>
            <p:spPr>
              <a:xfrm flipH="1" rot="20529000">
                <a:off x="2353680" y="840960"/>
                <a:ext cx="407160" cy="447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AutoShape 30"/>
          <p:cNvSpPr/>
          <p:nvPr/>
        </p:nvSpPr>
        <p:spPr>
          <a:xfrm>
            <a:off x="2195640" y="2276640"/>
            <a:ext cx="2017440" cy="1257120"/>
          </a:xfrm>
          <a:prstGeom prst="roundRect">
            <a:avLst>
              <a:gd name="adj" fmla="val 17704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4"/>
          <p:cNvSpPr/>
          <p:nvPr/>
        </p:nvSpPr>
        <p:spPr>
          <a:xfrm>
            <a:off x="4933800" y="3681360"/>
            <a:ext cx="1224000" cy="1187640"/>
          </a:xfrm>
          <a:prstGeom prst="roundRect">
            <a:avLst>
              <a:gd name="adj" fmla="val 1978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4357800" y="1844640"/>
            <a:ext cx="433440" cy="2521080"/>
          </a:xfrm>
          <a:custGeom>
            <a:avLst/>
            <a:gdLst>
              <a:gd name="textAreaLeft" fmla="*/ 33840 w 433440"/>
              <a:gd name="textAreaRight" fmla="*/ 399600 w 433440"/>
              <a:gd name="textAreaTop" fmla="*/ 33840 h 2521080"/>
              <a:gd name="textAreaBottom" fmla="*/ 2487240 h 2521080"/>
            </a:gdLst>
            <a:ahLst/>
            <a:rect l="textAreaLeft" t="textAreaTop" r="textAreaRight" b="textAreaBottom"/>
            <a:pathLst>
              <a:path w="21600" h="125549">
                <a:moveTo>
                  <a:pt x="5776" y="0"/>
                </a:moveTo>
                <a:arcTo wR="5776" hR="5776" stAng="16200000" swAng="-5400000"/>
                <a:lnTo>
                  <a:pt x="0" y="119773"/>
                </a:lnTo>
                <a:arcTo wR="5776" hR="5776" stAng="10800000" swAng="-5400000"/>
                <a:lnTo>
                  <a:pt x="15824" y="125549"/>
                </a:lnTo>
                <a:arcTo wR="5776" hR="5776" stAng="5400000" swAng="-5400000"/>
                <a:lnTo>
                  <a:pt x="21600" y="5776"/>
                </a:lnTo>
                <a:arcTo wR="5776" hR="5776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2989440" y="3670200"/>
            <a:ext cx="1223640" cy="1187640"/>
          </a:xfrm>
          <a:prstGeom prst="roundRect">
            <a:avLst>
              <a:gd name="adj" fmla="val 1978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>
            <a:off x="4933800" y="2276640"/>
            <a:ext cx="2017800" cy="1257120"/>
          </a:xfrm>
          <a:prstGeom prst="roundRect">
            <a:avLst>
              <a:gd name="adj" fmla="val 17704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24000" y="3716280"/>
            <a:ext cx="433440" cy="433440"/>
            <a:chOff x="2124000" y="3716280"/>
            <a:chExt cx="433440" cy="433440"/>
          </a:xfrm>
        </p:grpSpPr>
        <p:sp>
          <p:nvSpPr>
            <p:cNvPr id="54" name="Oval 38"/>
            <p:cNvSpPr/>
            <p:nvPr/>
          </p:nvSpPr>
          <p:spPr>
            <a:xfrm>
              <a:off x="2124000" y="3716280"/>
              <a:ext cx="433440" cy="433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39"/>
            <p:cNvSpPr/>
            <p:nvPr/>
          </p:nvSpPr>
          <p:spPr>
            <a:xfrm>
              <a:off x="2162880" y="3755160"/>
              <a:ext cx="354600" cy="3546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92360" y="5157720"/>
            <a:ext cx="432000" cy="432000"/>
            <a:chOff x="3492360" y="5157720"/>
            <a:chExt cx="432000" cy="432000"/>
          </a:xfrm>
        </p:grpSpPr>
        <p:sp>
          <p:nvSpPr>
            <p:cNvPr id="57" name="Oval 42"/>
            <p:cNvSpPr/>
            <p:nvPr/>
          </p:nvSpPr>
          <p:spPr>
            <a:xfrm>
              <a:off x="3492360" y="5157720"/>
              <a:ext cx="432000" cy="432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43"/>
            <p:cNvSpPr/>
            <p:nvPr/>
          </p:nvSpPr>
          <p:spPr>
            <a:xfrm>
              <a:off x="3531240" y="5196600"/>
              <a:ext cx="353520" cy="35352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372360" y="5157720"/>
            <a:ext cx="433080" cy="433440"/>
            <a:chOff x="6372360" y="5157720"/>
            <a:chExt cx="433080" cy="433440"/>
          </a:xfrm>
        </p:grpSpPr>
        <p:sp>
          <p:nvSpPr>
            <p:cNvPr id="60" name="Oval 45"/>
            <p:cNvSpPr/>
            <p:nvPr/>
          </p:nvSpPr>
          <p:spPr>
            <a:xfrm>
              <a:off x="6372360" y="5157720"/>
              <a:ext cx="433080" cy="433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46"/>
            <p:cNvSpPr/>
            <p:nvPr/>
          </p:nvSpPr>
          <p:spPr>
            <a:xfrm>
              <a:off x="6411240" y="5196600"/>
              <a:ext cx="354240" cy="3546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372360" y="3716280"/>
            <a:ext cx="431640" cy="432000"/>
            <a:chOff x="6372360" y="3716280"/>
            <a:chExt cx="431640" cy="432000"/>
          </a:xfrm>
        </p:grpSpPr>
        <p:sp>
          <p:nvSpPr>
            <p:cNvPr id="63" name="Oval 48"/>
            <p:cNvSpPr/>
            <p:nvPr/>
          </p:nvSpPr>
          <p:spPr>
            <a:xfrm>
              <a:off x="6372360" y="3716280"/>
              <a:ext cx="431640" cy="432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49"/>
            <p:cNvSpPr/>
            <p:nvPr/>
          </p:nvSpPr>
          <p:spPr>
            <a:xfrm>
              <a:off x="6410880" y="3755160"/>
              <a:ext cx="353160" cy="35352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24360" y="1052640"/>
            <a:ext cx="503280" cy="503280"/>
            <a:chOff x="3924360" y="1052640"/>
            <a:chExt cx="503280" cy="503280"/>
          </a:xfrm>
        </p:grpSpPr>
        <p:sp>
          <p:nvSpPr>
            <p:cNvPr id="66" name="Oval 51"/>
            <p:cNvSpPr/>
            <p:nvPr/>
          </p:nvSpPr>
          <p:spPr>
            <a:xfrm>
              <a:off x="3924360" y="1052640"/>
              <a:ext cx="503280" cy="50328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52"/>
            <p:cNvSpPr/>
            <p:nvPr/>
          </p:nvSpPr>
          <p:spPr>
            <a:xfrm>
              <a:off x="3969360" y="1097640"/>
              <a:ext cx="411840" cy="41184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987640" y="1773360"/>
            <a:ext cx="432000" cy="431640"/>
            <a:chOff x="2987640" y="1773360"/>
            <a:chExt cx="432000" cy="431640"/>
          </a:xfrm>
        </p:grpSpPr>
        <p:sp>
          <p:nvSpPr>
            <p:cNvPr id="69" name="Oval 54"/>
            <p:cNvSpPr/>
            <p:nvPr/>
          </p:nvSpPr>
          <p:spPr>
            <a:xfrm>
              <a:off x="2987640" y="1773360"/>
              <a:ext cx="432000" cy="4316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55"/>
            <p:cNvSpPr/>
            <p:nvPr/>
          </p:nvSpPr>
          <p:spPr>
            <a:xfrm>
              <a:off x="3026520" y="1811880"/>
              <a:ext cx="353520" cy="353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763640" y="3933720"/>
            <a:ext cx="216000" cy="216000"/>
            <a:chOff x="1763640" y="3933720"/>
            <a:chExt cx="216000" cy="216000"/>
          </a:xfrm>
        </p:grpSpPr>
        <p:sp>
          <p:nvSpPr>
            <p:cNvPr id="72" name="Oval 57"/>
            <p:cNvSpPr/>
            <p:nvPr/>
          </p:nvSpPr>
          <p:spPr>
            <a:xfrm>
              <a:off x="1763640" y="393372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58"/>
            <p:cNvSpPr/>
            <p:nvPr/>
          </p:nvSpPr>
          <p:spPr>
            <a:xfrm>
              <a:off x="1783080" y="395316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48000" y="5734080"/>
            <a:ext cx="216000" cy="216000"/>
            <a:chOff x="3348000" y="5734080"/>
            <a:chExt cx="216000" cy="216000"/>
          </a:xfrm>
        </p:grpSpPr>
        <p:sp>
          <p:nvSpPr>
            <p:cNvPr id="75" name="Oval 60"/>
            <p:cNvSpPr/>
            <p:nvPr/>
          </p:nvSpPr>
          <p:spPr>
            <a:xfrm>
              <a:off x="3348000" y="573408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1"/>
            <p:cNvSpPr/>
            <p:nvPr/>
          </p:nvSpPr>
          <p:spPr>
            <a:xfrm>
              <a:off x="3367440" y="575352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804000" y="5589720"/>
            <a:ext cx="216000" cy="215640"/>
            <a:chOff x="6804000" y="5589720"/>
            <a:chExt cx="216000" cy="215640"/>
          </a:xfrm>
        </p:grpSpPr>
        <p:sp>
          <p:nvSpPr>
            <p:cNvPr id="78" name="Oval 63"/>
            <p:cNvSpPr/>
            <p:nvPr/>
          </p:nvSpPr>
          <p:spPr>
            <a:xfrm>
              <a:off x="6804000" y="5589720"/>
              <a:ext cx="216000" cy="2156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4"/>
            <p:cNvSpPr/>
            <p:nvPr/>
          </p:nvSpPr>
          <p:spPr>
            <a:xfrm>
              <a:off x="6823440" y="5608800"/>
              <a:ext cx="176760" cy="1764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093080" y="3284640"/>
            <a:ext cx="287280" cy="287280"/>
            <a:chOff x="7093080" y="3284640"/>
            <a:chExt cx="287280" cy="287280"/>
          </a:xfrm>
        </p:grpSpPr>
        <p:sp>
          <p:nvSpPr>
            <p:cNvPr id="81" name="Oval 66"/>
            <p:cNvSpPr/>
            <p:nvPr/>
          </p:nvSpPr>
          <p:spPr>
            <a:xfrm>
              <a:off x="7093080" y="3284640"/>
              <a:ext cx="287280" cy="28728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7"/>
            <p:cNvSpPr/>
            <p:nvPr/>
          </p:nvSpPr>
          <p:spPr>
            <a:xfrm>
              <a:off x="7118640" y="3310200"/>
              <a:ext cx="235080" cy="23508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588000" y="1700280"/>
            <a:ext cx="289080" cy="288720"/>
            <a:chOff x="6588000" y="1700280"/>
            <a:chExt cx="289080" cy="288720"/>
          </a:xfrm>
        </p:grpSpPr>
        <p:sp>
          <p:nvSpPr>
            <p:cNvPr id="84" name="Oval 69"/>
            <p:cNvSpPr/>
            <p:nvPr/>
          </p:nvSpPr>
          <p:spPr>
            <a:xfrm>
              <a:off x="6588000" y="1700280"/>
              <a:ext cx="289080" cy="28872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70"/>
            <p:cNvSpPr/>
            <p:nvPr/>
          </p:nvSpPr>
          <p:spPr>
            <a:xfrm>
              <a:off x="6613920" y="1726200"/>
              <a:ext cx="236520" cy="236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932360" y="1268280"/>
            <a:ext cx="216000" cy="216000"/>
            <a:chOff x="4932360" y="1268280"/>
            <a:chExt cx="216000" cy="216000"/>
          </a:xfrm>
        </p:grpSpPr>
        <p:sp>
          <p:nvSpPr>
            <p:cNvPr id="87" name="Oval 72"/>
            <p:cNvSpPr/>
            <p:nvPr/>
          </p:nvSpPr>
          <p:spPr>
            <a:xfrm>
              <a:off x="4932360" y="126828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3"/>
            <p:cNvSpPr/>
            <p:nvPr/>
          </p:nvSpPr>
          <p:spPr>
            <a:xfrm>
              <a:off x="4951800" y="128772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780000" y="1844640"/>
            <a:ext cx="215640" cy="216000"/>
            <a:chOff x="3780000" y="1844640"/>
            <a:chExt cx="215640" cy="216000"/>
          </a:xfrm>
        </p:grpSpPr>
        <p:sp>
          <p:nvSpPr>
            <p:cNvPr id="90" name="Oval 75"/>
            <p:cNvSpPr/>
            <p:nvPr/>
          </p:nvSpPr>
          <p:spPr>
            <a:xfrm>
              <a:off x="3780000" y="1844640"/>
              <a:ext cx="21564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6"/>
            <p:cNvSpPr/>
            <p:nvPr/>
          </p:nvSpPr>
          <p:spPr>
            <a:xfrm>
              <a:off x="3799080" y="1864080"/>
              <a:ext cx="17640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40360" y="692280"/>
            <a:ext cx="288720" cy="288720"/>
            <a:chOff x="4140360" y="692280"/>
            <a:chExt cx="288720" cy="288720"/>
          </a:xfrm>
        </p:grpSpPr>
        <p:sp>
          <p:nvSpPr>
            <p:cNvPr id="93" name="Oval 78"/>
            <p:cNvSpPr/>
            <p:nvPr/>
          </p:nvSpPr>
          <p:spPr>
            <a:xfrm>
              <a:off x="4140360" y="692280"/>
              <a:ext cx="288720" cy="28872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4166280" y="718200"/>
              <a:ext cx="236160" cy="236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0920" y="2060640"/>
            <a:ext cx="217440" cy="217440"/>
            <a:chOff x="2050920" y="2060640"/>
            <a:chExt cx="217440" cy="217440"/>
          </a:xfrm>
        </p:grpSpPr>
        <p:sp>
          <p:nvSpPr>
            <p:cNvPr id="96" name="Oval 81"/>
            <p:cNvSpPr/>
            <p:nvPr/>
          </p:nvSpPr>
          <p:spPr>
            <a:xfrm>
              <a:off x="2050920" y="2060640"/>
              <a:ext cx="217440" cy="217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2070360" y="2080080"/>
              <a:ext cx="177840" cy="17784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71560" y="2725200"/>
            <a:ext cx="769320" cy="833400"/>
            <a:chOff x="871560" y="2725200"/>
            <a:chExt cx="769320" cy="833400"/>
          </a:xfrm>
        </p:grpSpPr>
        <p:grpSp>
          <p:nvGrpSpPr>
            <p:cNvPr id="99" name=""/>
            <p:cNvGrpSpPr/>
            <p:nvPr/>
          </p:nvGrpSpPr>
          <p:grpSpPr>
            <a:xfrm>
              <a:off x="871560" y="2725200"/>
              <a:ext cx="769320" cy="833400"/>
              <a:chOff x="871560" y="2725200"/>
              <a:chExt cx="769320" cy="833400"/>
            </a:xfrm>
          </p:grpSpPr>
          <p:sp>
            <p:nvSpPr>
              <p:cNvPr id="100" name="Freeform 85"/>
              <p:cNvSpPr/>
              <p:nvPr/>
            </p:nvSpPr>
            <p:spPr>
              <a:xfrm rot="18367200">
                <a:off x="963720" y="3061800"/>
                <a:ext cx="389520" cy="42696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6"/>
              <p:cNvSpPr/>
              <p:nvPr/>
            </p:nvSpPr>
            <p:spPr>
              <a:xfrm flipH="1" rot="18367200">
                <a:off x="1197720" y="2774880"/>
                <a:ext cx="340200" cy="42696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945720" y="2797200"/>
              <a:ext cx="622800" cy="687600"/>
              <a:chOff x="945720" y="2797200"/>
              <a:chExt cx="622800" cy="687600"/>
            </a:xfrm>
          </p:grpSpPr>
          <p:sp>
            <p:nvSpPr>
              <p:cNvPr id="103" name="Freeform 88"/>
              <p:cNvSpPr/>
              <p:nvPr/>
            </p:nvSpPr>
            <p:spPr>
              <a:xfrm rot="18367200">
                <a:off x="1006560" y="3094920"/>
                <a:ext cx="333720" cy="320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9"/>
              <p:cNvSpPr/>
              <p:nvPr/>
            </p:nvSpPr>
            <p:spPr>
              <a:xfrm flipH="1" rot="18367200">
                <a:off x="1207440" y="2849040"/>
                <a:ext cx="291240" cy="320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233520" y="1105560"/>
            <a:ext cx="1044720" cy="927000"/>
            <a:chOff x="3233520" y="1105560"/>
            <a:chExt cx="1044720" cy="927000"/>
          </a:xfrm>
        </p:grpSpPr>
        <p:grpSp>
          <p:nvGrpSpPr>
            <p:cNvPr id="106" name=""/>
            <p:cNvGrpSpPr/>
            <p:nvPr/>
          </p:nvGrpSpPr>
          <p:grpSpPr>
            <a:xfrm>
              <a:off x="3233520" y="1105560"/>
              <a:ext cx="1044720" cy="927000"/>
              <a:chOff x="3233520" y="1105560"/>
              <a:chExt cx="1044720" cy="927000"/>
            </a:xfrm>
          </p:grpSpPr>
          <p:sp>
            <p:nvSpPr>
              <p:cNvPr id="107" name="Freeform 92"/>
              <p:cNvSpPr/>
              <p:nvPr/>
            </p:nvSpPr>
            <p:spPr>
              <a:xfrm rot="2127600">
                <a:off x="3317400" y="1213200"/>
                <a:ext cx="518040" cy="45576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3"/>
              <p:cNvSpPr/>
              <p:nvPr/>
            </p:nvSpPr>
            <p:spPr>
              <a:xfrm flipH="1" rot="2127000">
                <a:off x="3735360" y="1487520"/>
                <a:ext cx="452520" cy="45576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323880" y="1193040"/>
              <a:ext cx="866880" cy="754560"/>
              <a:chOff x="3323880" y="1193040"/>
              <a:chExt cx="866880" cy="754560"/>
            </a:xfrm>
          </p:grpSpPr>
          <p:sp>
            <p:nvSpPr>
              <p:cNvPr id="110" name="Freeform 95"/>
              <p:cNvSpPr/>
              <p:nvPr/>
            </p:nvSpPr>
            <p:spPr>
              <a:xfrm rot="2127600">
                <a:off x="3381840" y="1289880"/>
                <a:ext cx="443880" cy="342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96"/>
              <p:cNvSpPr/>
              <p:nvPr/>
            </p:nvSpPr>
            <p:spPr>
              <a:xfrm flipH="1" rot="2127000">
                <a:off x="3739680" y="1524600"/>
                <a:ext cx="387360" cy="342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6102000" y="382680"/>
            <a:ext cx="970560" cy="952200"/>
            <a:chOff x="6102000" y="382680"/>
            <a:chExt cx="970560" cy="952200"/>
          </a:xfrm>
        </p:grpSpPr>
        <p:grpSp>
          <p:nvGrpSpPr>
            <p:cNvPr id="113" name=""/>
            <p:cNvGrpSpPr/>
            <p:nvPr/>
          </p:nvGrpSpPr>
          <p:grpSpPr>
            <a:xfrm>
              <a:off x="6102000" y="382680"/>
              <a:ext cx="970560" cy="952200"/>
              <a:chOff x="6102000" y="382680"/>
              <a:chExt cx="970560" cy="952200"/>
            </a:xfrm>
          </p:grpSpPr>
          <p:sp>
            <p:nvSpPr>
              <p:cNvPr id="114" name="Freeform 99"/>
              <p:cNvSpPr/>
              <p:nvPr/>
            </p:nvSpPr>
            <p:spPr>
              <a:xfrm rot="2428800">
                <a:off x="6247080" y="444600"/>
                <a:ext cx="412560" cy="60012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0"/>
              <p:cNvSpPr/>
              <p:nvPr/>
            </p:nvSpPr>
            <p:spPr>
              <a:xfrm flipH="1" rot="2428200">
                <a:off x="6560280" y="689400"/>
                <a:ext cx="360360" cy="60012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193440" y="476640"/>
              <a:ext cx="789120" cy="766080"/>
              <a:chOff x="6193440" y="476640"/>
              <a:chExt cx="789120" cy="766080"/>
            </a:xfrm>
          </p:grpSpPr>
          <p:sp>
            <p:nvSpPr>
              <p:cNvPr id="117" name="Freeform 102"/>
              <p:cNvSpPr/>
              <p:nvPr/>
            </p:nvSpPr>
            <p:spPr>
              <a:xfrm rot="2428800">
                <a:off x="6296760" y="537480"/>
                <a:ext cx="353520" cy="450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03"/>
              <p:cNvSpPr/>
              <p:nvPr/>
            </p:nvSpPr>
            <p:spPr>
              <a:xfrm flipH="1" rot="2428200">
                <a:off x="6564600" y="746280"/>
                <a:ext cx="308520" cy="4500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5639040" y="1820880"/>
            <a:ext cx="715320" cy="430200"/>
            <a:chOff x="5639040" y="1820880"/>
            <a:chExt cx="715320" cy="430200"/>
          </a:xfrm>
        </p:grpSpPr>
        <p:grpSp>
          <p:nvGrpSpPr>
            <p:cNvPr id="120" name=""/>
            <p:cNvGrpSpPr/>
            <p:nvPr/>
          </p:nvGrpSpPr>
          <p:grpSpPr>
            <a:xfrm>
              <a:off x="5639040" y="1820880"/>
              <a:ext cx="715320" cy="430200"/>
              <a:chOff x="5639040" y="1820880"/>
              <a:chExt cx="715320" cy="430200"/>
            </a:xfrm>
          </p:grpSpPr>
          <p:sp>
            <p:nvSpPr>
              <p:cNvPr id="121" name="Freeform 106"/>
              <p:cNvSpPr/>
              <p:nvPr/>
            </p:nvSpPr>
            <p:spPr>
              <a:xfrm rot="21358200">
                <a:off x="5652000" y="1855800"/>
                <a:ext cx="373320" cy="38268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07"/>
              <p:cNvSpPr/>
              <p:nvPr/>
            </p:nvSpPr>
            <p:spPr>
              <a:xfrm flipH="1" rot="21358200">
                <a:off x="6014880" y="1831680"/>
                <a:ext cx="325800" cy="38268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693040" y="1872360"/>
              <a:ext cx="609840" cy="327240"/>
              <a:chOff x="5693040" y="1872360"/>
              <a:chExt cx="609840" cy="327240"/>
            </a:xfrm>
          </p:grpSpPr>
          <p:sp>
            <p:nvSpPr>
              <p:cNvPr id="124" name="Freeform 109"/>
              <p:cNvSpPr/>
              <p:nvPr/>
            </p:nvSpPr>
            <p:spPr>
              <a:xfrm rot="21358200">
                <a:off x="5702400" y="1901520"/>
                <a:ext cx="31968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10"/>
              <p:cNvSpPr/>
              <p:nvPr/>
            </p:nvSpPr>
            <p:spPr>
              <a:xfrm flipH="1" rot="21358200">
                <a:off x="6013800" y="1881720"/>
                <a:ext cx="27900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2768040" y="4912920"/>
            <a:ext cx="358200" cy="407880"/>
            <a:chOff x="2768040" y="4912920"/>
            <a:chExt cx="358200" cy="407880"/>
          </a:xfrm>
        </p:grpSpPr>
        <p:grpSp>
          <p:nvGrpSpPr>
            <p:cNvPr id="127" name=""/>
            <p:cNvGrpSpPr/>
            <p:nvPr/>
          </p:nvGrpSpPr>
          <p:grpSpPr>
            <a:xfrm>
              <a:off x="2768040" y="4912920"/>
              <a:ext cx="358200" cy="407880"/>
              <a:chOff x="2768040" y="4912920"/>
              <a:chExt cx="358200" cy="407880"/>
            </a:xfrm>
          </p:grpSpPr>
          <p:sp>
            <p:nvSpPr>
              <p:cNvPr id="128" name="Freeform 113"/>
              <p:cNvSpPr/>
              <p:nvPr/>
            </p:nvSpPr>
            <p:spPr>
              <a:xfrm rot="14353800">
                <a:off x="2893320" y="5082120"/>
                <a:ext cx="189720" cy="20772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4"/>
              <p:cNvSpPr/>
              <p:nvPr/>
            </p:nvSpPr>
            <p:spPr>
              <a:xfrm flipH="1" rot="14353800">
                <a:off x="2816280" y="4933080"/>
                <a:ext cx="165600" cy="20772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802600" y="4947120"/>
              <a:ext cx="288000" cy="338040"/>
              <a:chOff x="2802600" y="4947120"/>
              <a:chExt cx="288000" cy="338040"/>
            </a:xfrm>
          </p:grpSpPr>
          <p:sp>
            <p:nvSpPr>
              <p:cNvPr id="131" name="Freeform 116"/>
              <p:cNvSpPr/>
              <p:nvPr/>
            </p:nvSpPr>
            <p:spPr>
              <a:xfrm rot="14353800">
                <a:off x="2900880" y="5097240"/>
                <a:ext cx="16236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17"/>
              <p:cNvSpPr/>
              <p:nvPr/>
            </p:nvSpPr>
            <p:spPr>
              <a:xfrm flipH="1" rot="14353800">
                <a:off x="2835000" y="4969800"/>
                <a:ext cx="14184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7152120" y="4122360"/>
            <a:ext cx="374760" cy="405720"/>
            <a:chOff x="7152120" y="4122360"/>
            <a:chExt cx="374760" cy="405720"/>
          </a:xfrm>
        </p:grpSpPr>
        <p:grpSp>
          <p:nvGrpSpPr>
            <p:cNvPr id="134" name=""/>
            <p:cNvGrpSpPr/>
            <p:nvPr/>
          </p:nvGrpSpPr>
          <p:grpSpPr>
            <a:xfrm>
              <a:off x="7152120" y="4122360"/>
              <a:ext cx="374760" cy="405720"/>
              <a:chOff x="7152120" y="4122360"/>
              <a:chExt cx="374760" cy="405720"/>
            </a:xfrm>
          </p:grpSpPr>
          <p:sp>
            <p:nvSpPr>
              <p:cNvPr id="135" name="Freeform 120"/>
              <p:cNvSpPr/>
              <p:nvPr/>
            </p:nvSpPr>
            <p:spPr>
              <a:xfrm rot="3238800">
                <a:off x="7197120" y="4156200"/>
                <a:ext cx="189720" cy="20772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1"/>
              <p:cNvSpPr/>
              <p:nvPr/>
            </p:nvSpPr>
            <p:spPr>
              <a:xfrm flipH="1" rot="3238200">
                <a:off x="7310880" y="4296240"/>
                <a:ext cx="165600" cy="20772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188840" y="4158360"/>
              <a:ext cx="302760" cy="334800"/>
              <a:chOff x="7188840" y="4158360"/>
              <a:chExt cx="302760" cy="334800"/>
            </a:xfrm>
          </p:grpSpPr>
          <p:sp>
            <p:nvSpPr>
              <p:cNvPr id="138" name="Freeform 123"/>
              <p:cNvSpPr/>
              <p:nvPr/>
            </p:nvSpPr>
            <p:spPr>
              <a:xfrm rot="3238800">
                <a:off x="7218360" y="4191840"/>
                <a:ext cx="16236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4"/>
              <p:cNvSpPr/>
              <p:nvPr/>
            </p:nvSpPr>
            <p:spPr>
              <a:xfrm flipH="1" rot="3238200">
                <a:off x="7315560" y="4312080"/>
                <a:ext cx="141840" cy="1558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7225560" y="2284920"/>
            <a:ext cx="930960" cy="897120"/>
            <a:chOff x="7225560" y="2284920"/>
            <a:chExt cx="930960" cy="897120"/>
          </a:xfrm>
        </p:grpSpPr>
        <p:grpSp>
          <p:nvGrpSpPr>
            <p:cNvPr id="141" name=""/>
            <p:cNvGrpSpPr/>
            <p:nvPr/>
          </p:nvGrpSpPr>
          <p:grpSpPr>
            <a:xfrm>
              <a:off x="7225560" y="2284920"/>
              <a:ext cx="930960" cy="897120"/>
              <a:chOff x="7225560" y="2284920"/>
              <a:chExt cx="930960" cy="897120"/>
            </a:xfrm>
          </p:grpSpPr>
          <p:sp>
            <p:nvSpPr>
              <p:cNvPr id="142" name="Freeform 127"/>
              <p:cNvSpPr/>
              <p:nvPr/>
            </p:nvSpPr>
            <p:spPr>
              <a:xfrm rot="1554000">
                <a:off x="7347240" y="2337120"/>
                <a:ext cx="389520" cy="64764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28"/>
              <p:cNvSpPr/>
              <p:nvPr/>
            </p:nvSpPr>
            <p:spPr>
              <a:xfrm flipH="1" rot="1553400">
                <a:off x="7691760" y="2492640"/>
                <a:ext cx="340200" cy="64764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7308720" y="2381040"/>
              <a:ext cx="767160" cy="706320"/>
              <a:chOff x="7308720" y="2381040"/>
              <a:chExt cx="767160" cy="706320"/>
            </a:xfrm>
          </p:grpSpPr>
          <p:sp>
            <p:nvSpPr>
              <p:cNvPr id="145" name="Freeform 130"/>
              <p:cNvSpPr/>
              <p:nvPr/>
            </p:nvSpPr>
            <p:spPr>
              <a:xfrm rot="1554000">
                <a:off x="7397640" y="2429280"/>
                <a:ext cx="333720" cy="4856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1"/>
              <p:cNvSpPr/>
              <p:nvPr/>
            </p:nvSpPr>
            <p:spPr>
              <a:xfrm flipH="1" rot="1553400">
                <a:off x="7692480" y="2562120"/>
                <a:ext cx="291240" cy="4856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4595760" y="4962600"/>
            <a:ext cx="785520" cy="626040"/>
            <a:chOff x="4595760" y="4962600"/>
            <a:chExt cx="785520" cy="626040"/>
          </a:xfrm>
        </p:grpSpPr>
        <p:grpSp>
          <p:nvGrpSpPr>
            <p:cNvPr id="148" name=""/>
            <p:cNvGrpSpPr/>
            <p:nvPr/>
          </p:nvGrpSpPr>
          <p:grpSpPr>
            <a:xfrm>
              <a:off x="4595760" y="4962600"/>
              <a:ext cx="785520" cy="626040"/>
              <a:chOff x="4595760" y="4962600"/>
              <a:chExt cx="785520" cy="626040"/>
            </a:xfrm>
          </p:grpSpPr>
          <p:sp>
            <p:nvSpPr>
              <p:cNvPr id="149" name="Freeform 134"/>
              <p:cNvSpPr/>
              <p:nvPr/>
            </p:nvSpPr>
            <p:spPr>
              <a:xfrm rot="9390000">
                <a:off x="4947120" y="5020920"/>
                <a:ext cx="373320" cy="382680"/>
              </a:xfrm>
              <a:prstGeom prst="pie">
                <a:avLst/>
              </a:pr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5"/>
              <p:cNvSpPr/>
              <p:nvPr/>
            </p:nvSpPr>
            <p:spPr>
              <a:xfrm flipH="1" rot="9390000">
                <a:off x="4658400" y="5156640"/>
                <a:ext cx="325800" cy="382680"/>
              </a:xfrm>
              <a:prstGeom prst="pie">
                <a:avLst/>
              </a:pr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658760" y="5026680"/>
              <a:ext cx="657000" cy="498960"/>
              <a:chOff x="4658760" y="5026680"/>
              <a:chExt cx="657000" cy="498960"/>
            </a:xfrm>
          </p:grpSpPr>
          <p:sp>
            <p:nvSpPr>
              <p:cNvPr id="152" name="Freeform 137"/>
              <p:cNvSpPr/>
              <p:nvPr/>
            </p:nvSpPr>
            <p:spPr>
              <a:xfrm rot="9390000">
                <a:off x="4951440" y="5078520"/>
                <a:ext cx="32004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8"/>
              <p:cNvSpPr/>
              <p:nvPr/>
            </p:nvSpPr>
            <p:spPr>
              <a:xfrm flipH="1" rot="9390000">
                <a:off x="4704120" y="5194800"/>
                <a:ext cx="279360" cy="286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2676600" y="117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蝴蝶开场动画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2" repeatCount="indefinite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2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9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2" repeatCount="indefinite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4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600"/>
                            </p:stCondLst>
                            <p:childTnLst>
                              <p:par>
                                <p:cTn id="22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7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7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7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7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9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9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8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8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6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8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7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7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7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7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034 -1.85185E-006 L -0.36962 -1.85185E-006 E">
                                      <p:cBhvr>
                                        <p:cTn id="320" dur="29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61111E-006 -1.11111E-006 L -0.11024 -0.40972 E">
                                      <p:cBhvr>
                                        <p:cTn id="322" dur="2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.83333E-006 3.7037E-007 L 0.23629 -0.45162 E">
                                      <p:cBhvr>
                                        <p:cTn id="324" dur="19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6.38889E-006 4.07407E-006 L 0.27952 -0.25185 E">
                                      <p:cBhvr>
                                        <p:cTn id="326" dur="26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88889E-006 -3.7037E-006 L -0.0158 -0.53541 E">
                                      <p:cBhvr>
                                        <p:cTn id="328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83333E-006 5.55556E-006 L 0.33871 -0.09444 E">
                                      <p:cBhvr>
                                        <p:cTn id="330" dur="22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61111E-006 -8.51852E-006 L 0.35435 0.26249 E">
                                      <p:cBhvr>
                                        <p:cTn id="332" dur="1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6.2963E-006 L 0.10226 0.47269 E">
                                      <p:cBhvr>
                                        <p:cTn id="33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38889E-006 9.62963E-006 L -0.40173 0.45163 E">
                                      <p:cBhvr>
                                        <p:cTn id="336" dur="18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3FB-5DDC-4E0C-AB4A-B09BD979EA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3:09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3Z</dcterms:modified>
  <cp:revision>1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