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E0D-3509-43E1-B56D-3F3830F9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09400"/>
            <a:ext cx="8001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AF0-3FB5-402E-8B73-69AC9D8C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0940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410940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A07-C97A-4DC6-B022-A176B37A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90476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90476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0940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410940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410940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D62-5740-4F89-95D4-B737B717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BF61-B0AB-425E-9A2F-06CC6A3E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0476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FD9A-280C-49F9-91CA-50F2DBD5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84CB-7E71-4728-9A76-B8E01D4D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3271-A502-4C0C-AE30-06695DDA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C9F7-9406-4290-A981-43F0AF5F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99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BCAB-E091-4929-BB72-C80B29D3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0940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D90A-13FE-473C-91E8-3F637DED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0476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53A-EAB8-4552-B2B3-E6499987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120" y="410940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D7BD-241F-417C-94DF-58F328E6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09400"/>
            <a:ext cx="8001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3BDD-F03F-479B-ABBD-A5CCCEF5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09400"/>
            <a:ext cx="8001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D6BA-0D8D-41D0-8152-F518F928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0940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120" y="410940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53C8-CC4D-472E-890C-6DE51F4B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840" y="190476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6240" y="190476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0940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840" y="410940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6240" y="410940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F156-3D67-4F6A-BBD7-5EEE5F6E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1BF-5D6C-4C6A-A990-4B547B72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F2D-0C84-41AE-BCE9-636B5F4B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E81-0241-4494-AF35-C2AB0EA3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99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963-80B0-4CE6-A303-47965090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0940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1F1-E358-4E5E-9E98-0E65179B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410940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E6C-FD24-4697-BC4E-82B8434D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09400"/>
            <a:ext cx="8001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74D-B094-4E3C-BABE-FB114479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847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0476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47E8-BB7F-4E3B-8041-6FD9F9FFA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847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0476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8A33-2FE1-4EFD-B941-26540AA49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495680"/>
            <a:ext cx="77724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847e"/>
                </a:solidFill>
                <a:latin typeface="Times New Roman"/>
                <a:ea typeface="宋体"/>
              </a:rPr>
              <a:t>Gutenberg's Text </a:t>
            </a: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5410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宋体"/>
              </a:rPr>
              <a:t>YOUR SUBTOPIC GOES HE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3534480" y="3282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2602440" y="3808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怀旧风格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847e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47e"/>
                </a:solidFill>
                <a:latin typeface="Times New Roman"/>
                <a:ea typeface="宋体"/>
              </a:rPr>
              <a:t>使用规范说明</a:t>
            </a: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0:14:4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24:17Z</dcterms:modified>
  <cp:revision>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