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10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21.png" ContentType="image/pn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F1C-9093-46A5-956B-9C7C96D0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D83-4AD7-43A8-ADCF-137ED8B0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FA1-E03A-480B-96BA-40929B67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A40-2C71-41E5-8571-BC9277A2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6B7-8889-4B48-9A4B-B8950733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EB7-320A-400D-8BD0-F7F685C0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8BC-657E-4A64-8E77-39E60814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473-EFB4-46CB-8D51-4C4838C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520-CC70-4FBD-956D-10B76E41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9A4-6961-42FF-A549-7B9B1C54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D25-D552-46C2-A638-F1A19938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572-3B24-42A4-954C-0BA9914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7D25-3F49-406E-BE3B-5A06F11BE3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7A16-C41B-4EA0-8D85-D7DA98A458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1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072880" y="141300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画家乡</a:t>
            </a:r>
            <a:r>
              <a:rPr b="1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课件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山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4292640"/>
            <a:ext cx="91440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山的家乡在山里。他画的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，水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。房前屋后都是又高又大的树。画上的山山，提着小竹篮，正要到树林里去采蘑菇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356000" y="260280"/>
            <a:ext cx="338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山山提着小竹篮在干什么呢</a:t>
            </a: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284720" y="2133720"/>
            <a:ext cx="381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从山山表情你知道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605-9071-4D83-86CE-2E4F848FF4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24000" y="0"/>
            <a:ext cx="86040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由选择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—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然段一段进行自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看图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是谁的家乡？他的家乡在哪儿？有  什么景物，他喜欢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读文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由拼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听同学朗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找好词好句反复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组齐声表演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介绍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看图，用自己的语言解说图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699680" y="11592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平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250920" y="3213000"/>
            <a:ext cx="8713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平的家乡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画的平原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坦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宽广。有金黄的稻子，雪白的棉花，还有一大片一大片碧绿的菜地。屋前有鸡、鸭，午后有翠竹。正在田野上奔跑的小女孩就是平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77080" y="4365720"/>
            <a:ext cx="1800360" cy="360"/>
            <a:chOff x="6877080" y="4365720"/>
            <a:chExt cx="1800360" cy="360"/>
          </a:xfrm>
        </p:grpSpPr>
        <p:sp>
          <p:nvSpPr>
            <p:cNvPr id="156" name="Line 4"/>
            <p:cNvSpPr/>
            <p:nvPr/>
          </p:nvSpPr>
          <p:spPr>
            <a:xfrm>
              <a:off x="6877080" y="4365720"/>
              <a:ext cx="180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877080" y="436572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9280" y="4869000"/>
            <a:ext cx="1513080" cy="1440"/>
            <a:chOff x="179280" y="4869000"/>
            <a:chExt cx="1513080" cy="1440"/>
          </a:xfrm>
        </p:grpSpPr>
        <p:sp>
          <p:nvSpPr>
            <p:cNvPr id="159" name="Line 5"/>
            <p:cNvSpPr/>
            <p:nvPr/>
          </p:nvSpPr>
          <p:spPr>
            <a:xfrm>
              <a:off x="179280" y="4869000"/>
              <a:ext cx="15130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79280" y="4869000"/>
              <a:ext cx="1513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124000" y="4869000"/>
            <a:ext cx="2808360" cy="1440"/>
            <a:chOff x="2124000" y="4869000"/>
            <a:chExt cx="2808360" cy="1440"/>
          </a:xfrm>
        </p:grpSpPr>
        <p:sp>
          <p:nvSpPr>
            <p:cNvPr id="162" name="Line 6"/>
            <p:cNvSpPr/>
            <p:nvPr/>
          </p:nvSpPr>
          <p:spPr>
            <a:xfrm>
              <a:off x="2124000" y="4869000"/>
              <a:ext cx="28083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2124000" y="4869000"/>
              <a:ext cx="2808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547640" y="5373720"/>
            <a:ext cx="2880000" cy="1440"/>
            <a:chOff x="1547640" y="5373720"/>
            <a:chExt cx="2880000" cy="1440"/>
          </a:xfrm>
        </p:grpSpPr>
        <p:sp>
          <p:nvSpPr>
            <p:cNvPr id="165" name="Line 7"/>
            <p:cNvSpPr/>
            <p:nvPr/>
          </p:nvSpPr>
          <p:spPr>
            <a:xfrm>
              <a:off x="1547640" y="5373720"/>
              <a:ext cx="28800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47640" y="5373720"/>
              <a:ext cx="2880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8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草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0" y="4149720"/>
            <a:ext cx="91440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青的家乡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草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画的草原一眼望不到边。草长得又绿又密，羊群在草原上走来走去。一匹骏马从远处奔来，青青正骑在马上赶着羊群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867280" y="5300640"/>
            <a:ext cx="2089440" cy="1440"/>
            <a:chOff x="5867280" y="5300640"/>
            <a:chExt cx="2089440" cy="1440"/>
          </a:xfrm>
        </p:grpSpPr>
        <p:sp>
          <p:nvSpPr>
            <p:cNvPr id="171" name="Line 4"/>
            <p:cNvSpPr/>
            <p:nvPr/>
          </p:nvSpPr>
          <p:spPr>
            <a:xfrm>
              <a:off x="5867280" y="5300640"/>
              <a:ext cx="2089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867280" y="5300640"/>
              <a:ext cx="2089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64000" y="5805360"/>
            <a:ext cx="2089080" cy="1800"/>
            <a:chOff x="3564000" y="5805360"/>
            <a:chExt cx="2089080" cy="1800"/>
          </a:xfrm>
        </p:grpSpPr>
        <p:sp>
          <p:nvSpPr>
            <p:cNvPr id="174" name="Line 5"/>
            <p:cNvSpPr/>
            <p:nvPr/>
          </p:nvSpPr>
          <p:spPr>
            <a:xfrm>
              <a:off x="3564000" y="5805360"/>
              <a:ext cx="20890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564000" y="5805360"/>
              <a:ext cx="2089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6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城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50920" y="4437000"/>
            <a:ext cx="864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京的家乡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城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他画的城市那么美。宽宽的街道，高高的楼房，还有一座座街心公园。那个正跑向科技馆的小男孩，就是京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348000" y="5589720"/>
            <a:ext cx="2376360" cy="1440"/>
            <a:chOff x="3348000" y="5589720"/>
            <a:chExt cx="2376360" cy="1440"/>
          </a:xfrm>
        </p:grpSpPr>
        <p:sp>
          <p:nvSpPr>
            <p:cNvPr id="180" name="Line 4"/>
            <p:cNvSpPr/>
            <p:nvPr/>
          </p:nvSpPr>
          <p:spPr>
            <a:xfrm>
              <a:off x="3348000" y="5589720"/>
              <a:ext cx="23763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348000" y="5589720"/>
              <a:ext cx="23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372360" y="5516640"/>
            <a:ext cx="2376360" cy="1440"/>
            <a:chOff x="6372360" y="5516640"/>
            <a:chExt cx="2376360" cy="1440"/>
          </a:xfrm>
        </p:grpSpPr>
        <p:sp>
          <p:nvSpPr>
            <p:cNvPr id="183" name="Line 5"/>
            <p:cNvSpPr/>
            <p:nvPr/>
          </p:nvSpPr>
          <p:spPr>
            <a:xfrm>
              <a:off x="6372360" y="5516640"/>
              <a:ext cx="23763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372360" y="5516640"/>
              <a:ext cx="23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0" y="6093000"/>
            <a:ext cx="971640" cy="360"/>
            <a:chOff x="0" y="6093000"/>
            <a:chExt cx="971640" cy="360"/>
          </a:xfrm>
        </p:grpSpPr>
        <p:sp>
          <p:nvSpPr>
            <p:cNvPr id="186" name="Line 6"/>
            <p:cNvSpPr/>
            <p:nvPr/>
          </p:nvSpPr>
          <p:spPr>
            <a:xfrm>
              <a:off x="0" y="6093000"/>
              <a:ext cx="97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0" y="6093000"/>
              <a:ext cx="9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00000" y="6092640"/>
            <a:ext cx="1656000" cy="360"/>
            <a:chOff x="2700000" y="6092640"/>
            <a:chExt cx="1656000" cy="360"/>
          </a:xfrm>
        </p:grpSpPr>
        <p:sp>
          <p:nvSpPr>
            <p:cNvPr id="189" name="Line 7"/>
            <p:cNvSpPr/>
            <p:nvPr/>
          </p:nvSpPr>
          <p:spPr>
            <a:xfrm>
              <a:off x="2700360" y="6093000"/>
              <a:ext cx="1655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 rot="10800000">
              <a:off x="2700000" y="609264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8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"/>
          <p:cNvSpPr/>
          <p:nvPr/>
        </p:nvSpPr>
        <p:spPr>
          <a:xfrm>
            <a:off x="755640" y="2133720"/>
            <a:ext cx="79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向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家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介绍一下，这个家乡的什么地方把你迷住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79280" y="1825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556760" y="18900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503080" y="112392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喜欢谁的家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030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26"/>
          <p:cNvSpPr/>
          <p:nvPr/>
        </p:nvSpPr>
        <p:spPr>
          <a:xfrm>
            <a:off x="615960" y="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一、读读说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27"/>
          <p:cNvSpPr/>
          <p:nvPr/>
        </p:nvSpPr>
        <p:spPr>
          <a:xfrm>
            <a:off x="4518720" y="549360"/>
            <a:ext cx="40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画的海那么蓝，那么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画的山那么高，那么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她画的平原那么平坦，那么宽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8"/>
          <p:cNvSpPr/>
          <p:nvPr/>
        </p:nvSpPr>
        <p:spPr>
          <a:xfrm>
            <a:off x="1290600" y="32130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那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29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31"/>
          <p:cNvSpPr/>
          <p:nvPr/>
        </p:nvSpPr>
        <p:spPr>
          <a:xfrm>
            <a:off x="3245400" y="76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32"/>
          <p:cNvSpPr/>
          <p:nvPr/>
        </p:nvSpPr>
        <p:spPr>
          <a:xfrm>
            <a:off x="5045400" y="76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33"/>
          <p:cNvSpPr/>
          <p:nvPr/>
        </p:nvSpPr>
        <p:spPr>
          <a:xfrm>
            <a:off x="324540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4"/>
          <p:cNvSpPr/>
          <p:nvPr/>
        </p:nvSpPr>
        <p:spPr>
          <a:xfrm>
            <a:off x="504540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5"/>
          <p:cNvSpPr/>
          <p:nvPr/>
        </p:nvSpPr>
        <p:spPr>
          <a:xfrm>
            <a:off x="367848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6"/>
          <p:cNvSpPr/>
          <p:nvPr/>
        </p:nvSpPr>
        <p:spPr>
          <a:xfrm>
            <a:off x="598212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37"/>
          <p:cNvSpPr/>
          <p:nvPr/>
        </p:nvSpPr>
        <p:spPr>
          <a:xfrm>
            <a:off x="755640" y="31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这些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38"/>
          <p:cNvSpPr/>
          <p:nvPr/>
        </p:nvSpPr>
        <p:spPr>
          <a:xfrm>
            <a:off x="385128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39"/>
          <p:cNvSpPr/>
          <p:nvPr/>
        </p:nvSpPr>
        <p:spPr>
          <a:xfrm>
            <a:off x="658800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89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一读，记一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她的眼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圆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明亮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他玩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开心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快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松果是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香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我们的学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宽广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美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这个西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圆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0" y="0"/>
            <a:ext cx="10260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、按课文内容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涛涛的家乡在（     ），他画的海（      ），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山山的家乡在（     ），他画的山（      ），水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平平的家乡在（     ），她画的平原（     ），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青青的家乡在（         ），她画的草原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京京的家乡在（         ），她画的城市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我喜欢（       ）画的家乡，因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、我的家乡在（         ），那里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611280" y="2349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3520" y="3049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宋体"/>
              </a:rPr>
              <a:t>课文里写了哪几个孩子的家乡？他们的家乡分别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209680" y="2076480"/>
            <a:ext cx="43434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涛涛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海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山山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山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平平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平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青青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草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京京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城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总结课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通过学习课文，你知道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95280" y="234936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通过学习课文，知道祖国的伟大、美丽、可爱。我爱伟大的祖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0" t="7289" r="0" b="10415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0" y="4581360"/>
            <a:ext cx="9144000" cy="2432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践活动：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一画自己的家乡，介绍自己的家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柑桔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424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250920" y="4581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苹果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4653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250920" y="4797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250920" y="4797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250920" y="4797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250920" y="479736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家乡在（    ）。我画的（      ）那么（      ），那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个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，就是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59280" y="342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xyq01"/>
          <p:cNvPicPr/>
          <p:nvPr/>
        </p:nvPicPr>
        <p:blipFill>
          <a:blip r:embed="rId2"/>
          <a:stretch/>
        </p:blipFill>
        <p:spPr>
          <a:xfrm>
            <a:off x="3059280" y="3429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4221000"/>
            <a:ext cx="60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xyq05"/>
          <p:cNvPicPr/>
          <p:nvPr/>
        </p:nvPicPr>
        <p:blipFill>
          <a:blip r:embed="rId3"/>
          <a:srcRect l="16329" t="10536" r="31572" b="0"/>
          <a:stretch/>
        </p:blipFill>
        <p:spPr>
          <a:xfrm>
            <a:off x="4788000" y="26028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xyq02"/>
          <p:cNvPicPr/>
          <p:nvPr/>
        </p:nvPicPr>
        <p:blipFill>
          <a:blip r:embed="rId4"/>
          <a:srcRect l="10405" t="0" r="46425" b="0"/>
          <a:stretch/>
        </p:blipFill>
        <p:spPr>
          <a:xfrm>
            <a:off x="1332000" y="18900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xyq04"/>
          <p:cNvPicPr/>
          <p:nvPr/>
        </p:nvPicPr>
        <p:blipFill>
          <a:blip r:embed="rId5"/>
          <a:srcRect l="12607" t="2204" r="48024" b="0"/>
          <a:stretch/>
        </p:blipFill>
        <p:spPr>
          <a:xfrm>
            <a:off x="324000" y="342900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xyq03"/>
          <p:cNvPicPr/>
          <p:nvPr/>
        </p:nvPicPr>
        <p:blipFill>
          <a:blip r:embed="rId6"/>
          <a:srcRect l="21730" t="4390" r="42216" b="0"/>
          <a:stretch/>
        </p:blipFill>
        <p:spPr>
          <a:xfrm>
            <a:off x="6084720" y="3429000"/>
            <a:ext cx="2519640" cy="25923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8"/>
          <p:cNvGrpSpPr/>
          <p:nvPr/>
        </p:nvGrpSpPr>
        <p:grpSpPr>
          <a:xfrm>
            <a:off x="1908000" y="2349360"/>
            <a:ext cx="1511280" cy="764280"/>
            <a:chOff x="1908000" y="2349360"/>
            <a:chExt cx="1511280" cy="764280"/>
          </a:xfrm>
        </p:grpSpPr>
        <p:sp>
          <p:nvSpPr>
            <p:cNvPr id="56" name="Rectangle 9"/>
            <p:cNvSpPr/>
            <p:nvPr/>
          </p:nvSpPr>
          <p:spPr>
            <a:xfrm>
              <a:off x="1908000" y="2420640"/>
              <a:ext cx="1511280" cy="648000"/>
            </a:xfrm>
            <a:prstGeom prst="rect">
              <a:avLst/>
            </a:prstGeom>
            <a:solidFill>
              <a:srgbClr val="ffff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1979280" y="2349360"/>
              <a:ext cx="13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00"/>
                  </a:solidFill>
                  <a:latin typeface="Arial"/>
                  <a:ea typeface="楷体_GB2312"/>
                </a:rPr>
                <a:t>山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5435640" y="2349360"/>
            <a:ext cx="1511280" cy="764280"/>
            <a:chOff x="5435640" y="2349360"/>
            <a:chExt cx="1511280" cy="764280"/>
          </a:xfrm>
        </p:grpSpPr>
        <p:sp>
          <p:nvSpPr>
            <p:cNvPr id="59" name="Rectangle 12"/>
            <p:cNvSpPr/>
            <p:nvPr/>
          </p:nvSpPr>
          <p:spPr>
            <a:xfrm>
              <a:off x="5435640" y="2420640"/>
              <a:ext cx="1511280" cy="648000"/>
            </a:xfrm>
            <a:prstGeom prst="rect">
              <a:avLst/>
            </a:prstGeom>
            <a:solidFill>
              <a:srgbClr val="ffff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5506920" y="2349360"/>
              <a:ext cx="13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00"/>
                  </a:solidFill>
                  <a:latin typeface="Arial"/>
                  <a:ea typeface="楷体_GB2312"/>
                </a:rPr>
                <a:t>青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4"/>
          <p:cNvGrpSpPr/>
          <p:nvPr/>
        </p:nvGrpSpPr>
        <p:grpSpPr>
          <a:xfrm>
            <a:off x="684360" y="5950080"/>
            <a:ext cx="1511280" cy="764280"/>
            <a:chOff x="684360" y="5950080"/>
            <a:chExt cx="1511280" cy="764280"/>
          </a:xfrm>
        </p:grpSpPr>
        <p:sp>
          <p:nvSpPr>
            <p:cNvPr id="62" name="Rectangle 15"/>
            <p:cNvSpPr/>
            <p:nvPr/>
          </p:nvSpPr>
          <p:spPr>
            <a:xfrm>
              <a:off x="684360" y="6021000"/>
              <a:ext cx="1511280" cy="647640"/>
            </a:xfrm>
            <a:prstGeom prst="rect">
              <a:avLst/>
            </a:prstGeom>
            <a:solidFill>
              <a:srgbClr val="ffff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755640" y="5950080"/>
              <a:ext cx="13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00"/>
                  </a:solidFill>
                  <a:latin typeface="Arial"/>
                  <a:ea typeface="楷体_GB2312"/>
                </a:rPr>
                <a:t>京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6588000" y="5948280"/>
            <a:ext cx="1511280" cy="764280"/>
            <a:chOff x="6588000" y="5948280"/>
            <a:chExt cx="1511280" cy="764280"/>
          </a:xfrm>
        </p:grpSpPr>
        <p:sp>
          <p:nvSpPr>
            <p:cNvPr id="65" name="Rectangle 18"/>
            <p:cNvSpPr/>
            <p:nvPr/>
          </p:nvSpPr>
          <p:spPr>
            <a:xfrm>
              <a:off x="6588000" y="6019560"/>
              <a:ext cx="1511280" cy="648000"/>
            </a:xfrm>
            <a:prstGeom prst="rect">
              <a:avLst/>
            </a:prstGeom>
            <a:solidFill>
              <a:srgbClr val="ffff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6659280" y="5948280"/>
              <a:ext cx="13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00"/>
                  </a:solidFill>
                  <a:latin typeface="Arial"/>
                  <a:ea typeface="楷体_GB2312"/>
                </a:rPr>
                <a:t>平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0"/>
          <p:cNvGrpSpPr/>
          <p:nvPr/>
        </p:nvGrpSpPr>
        <p:grpSpPr>
          <a:xfrm>
            <a:off x="3564000" y="5445000"/>
            <a:ext cx="1511280" cy="1269000"/>
            <a:chOff x="3564000" y="5445000"/>
            <a:chExt cx="1511280" cy="1269000"/>
          </a:xfrm>
        </p:grpSpPr>
        <p:grpSp>
          <p:nvGrpSpPr>
            <p:cNvPr id="68" name="Group 21"/>
            <p:cNvGrpSpPr/>
            <p:nvPr/>
          </p:nvGrpSpPr>
          <p:grpSpPr>
            <a:xfrm>
              <a:off x="3564000" y="5949720"/>
              <a:ext cx="1511280" cy="764280"/>
              <a:chOff x="3564000" y="5949720"/>
              <a:chExt cx="1511280" cy="764280"/>
            </a:xfrm>
          </p:grpSpPr>
          <p:sp>
            <p:nvSpPr>
              <p:cNvPr id="69" name="Rectangle 22"/>
              <p:cNvSpPr/>
              <p:nvPr/>
            </p:nvSpPr>
            <p:spPr>
              <a:xfrm>
                <a:off x="3564000" y="6021000"/>
                <a:ext cx="1511280" cy="64800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3"/>
              <p:cNvSpPr/>
              <p:nvPr/>
            </p:nvSpPr>
            <p:spPr>
              <a:xfrm>
                <a:off x="3635280" y="5949720"/>
                <a:ext cx="1368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9900"/>
                    </a:solidFill>
                    <a:latin typeface="Arial"/>
                    <a:ea typeface="楷体_GB2312"/>
                  </a:rPr>
                  <a:t>涛涛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24"/>
            <p:cNvSpPr/>
            <p:nvPr/>
          </p:nvSpPr>
          <p:spPr>
            <a:xfrm>
              <a:off x="3635280" y="544500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t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ā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25"/>
          <p:cNvSpPr/>
          <p:nvPr/>
        </p:nvSpPr>
        <p:spPr>
          <a:xfrm>
            <a:off x="0" y="0"/>
            <a:ext cx="97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说说图上分别画了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40160" y="1774800"/>
            <a:ext cx="498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8680" y="117360"/>
            <a:ext cx="3505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上画的是什么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海边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景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里的小朋友喜欢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喜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501336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捡贝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0" y="28526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船、海水、鱼、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海边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海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2356200" y="3357720"/>
            <a:ext cx="4539240" cy="33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涛涛的家乡在海边。他画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那么蓝，那么宽。一艘艘船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装满了鱼和虾。那个在海滩上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脚捡贝壳的孩子，就是涛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海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693440" y="3357720"/>
            <a:ext cx="5842440" cy="33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涛涛的家乡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海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他画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蓝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宽。一艘艘船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装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鱼和虾。那个在海滩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着脚捡贝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，就是涛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8040" y="11592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539640" y="476280"/>
            <a:ext cx="3672000" cy="2087640"/>
          </a:xfrm>
          <a:prstGeom prst="wedgeEllipseCallout">
            <a:avLst>
              <a:gd name="adj1" fmla="val -23106"/>
              <a:gd name="adj2" fmla="val 123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作者用上了“那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那么”表达了对大海的喜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826920" y="4005360"/>
            <a:ext cx="7561440" cy="936000"/>
            <a:chOff x="826920" y="4005360"/>
            <a:chExt cx="7561440" cy="936000"/>
          </a:xfrm>
        </p:grpSpPr>
        <p:grpSp>
          <p:nvGrpSpPr>
            <p:cNvPr id="88" name=""/>
            <p:cNvGrpSpPr/>
            <p:nvPr/>
          </p:nvGrpSpPr>
          <p:grpSpPr>
            <a:xfrm>
              <a:off x="6804000" y="4005360"/>
              <a:ext cx="1584360" cy="1080"/>
              <a:chOff x="6804000" y="4005360"/>
              <a:chExt cx="1584360" cy="108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6804000" y="4005360"/>
                <a:ext cx="158436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6804000" y="4005360"/>
                <a:ext cx="158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26920" y="4940280"/>
              <a:ext cx="4176720" cy="1080"/>
              <a:chOff x="826920" y="4940280"/>
              <a:chExt cx="4176720" cy="1080"/>
            </a:xfrm>
          </p:grpSpPr>
          <p:sp>
            <p:nvSpPr>
              <p:cNvPr id="92" name="Line 7"/>
              <p:cNvSpPr/>
              <p:nvPr/>
            </p:nvSpPr>
            <p:spPr>
              <a:xfrm>
                <a:off x="826920" y="4940280"/>
                <a:ext cx="417672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826920" y="4940280"/>
                <a:ext cx="4176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94D-8394-41B7-B172-C6EAC7D92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2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27" descr="船"/>
          <p:cNvPicPr/>
          <p:nvPr/>
        </p:nvPicPr>
        <p:blipFill>
          <a:blip r:embed="rId2"/>
          <a:stretch/>
        </p:blipFill>
        <p:spPr>
          <a:xfrm>
            <a:off x="5867280" y="4869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28" descr="船"/>
          <p:cNvPicPr/>
          <p:nvPr/>
        </p:nvPicPr>
        <p:blipFill>
          <a:blip r:embed="rId3"/>
          <a:stretch/>
        </p:blipFill>
        <p:spPr>
          <a:xfrm>
            <a:off x="2124000" y="4797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29" descr="船"/>
          <p:cNvPicPr/>
          <p:nvPr/>
        </p:nvPicPr>
        <p:blipFill>
          <a:blip r:embed="rId4"/>
          <a:stretch/>
        </p:blipFill>
        <p:spPr>
          <a:xfrm>
            <a:off x="7451640" y="4941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0" descr="船1"/>
          <p:cNvPicPr/>
          <p:nvPr/>
        </p:nvPicPr>
        <p:blipFill>
          <a:blip r:embed="rId5"/>
          <a:stretch/>
        </p:blipFill>
        <p:spPr>
          <a:xfrm>
            <a:off x="8667720" y="5127480"/>
            <a:ext cx="4762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1" descr="船1"/>
          <p:cNvPicPr/>
          <p:nvPr/>
        </p:nvPicPr>
        <p:blipFill>
          <a:blip r:embed="rId6"/>
          <a:stretch/>
        </p:blipFill>
        <p:spPr>
          <a:xfrm>
            <a:off x="4427640" y="5084640"/>
            <a:ext cx="47628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32" descr="船"/>
          <p:cNvPicPr/>
          <p:nvPr/>
        </p:nvPicPr>
        <p:blipFill>
          <a:blip r:embed="rId7"/>
          <a:stretch/>
        </p:blipFill>
        <p:spPr>
          <a:xfrm>
            <a:off x="8381880" y="522936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33"/>
          <p:cNvSpPr/>
          <p:nvPr/>
        </p:nvSpPr>
        <p:spPr>
          <a:xfrm>
            <a:off x="792000" y="1197000"/>
            <a:ext cx="835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他画的海那么蓝，那么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34" descr="fish17"/>
          <p:cNvPicPr/>
          <p:nvPr/>
        </p:nvPicPr>
        <p:blipFill>
          <a:blip r:embed="rId8"/>
          <a:stretch/>
        </p:blipFill>
        <p:spPr>
          <a:xfrm>
            <a:off x="5580000" y="6524640"/>
            <a:ext cx="504720" cy="92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5" descr="fish17"/>
          <p:cNvPicPr/>
          <p:nvPr/>
        </p:nvPicPr>
        <p:blipFill>
          <a:blip r:embed="rId9"/>
          <a:stretch/>
        </p:blipFill>
        <p:spPr>
          <a:xfrm>
            <a:off x="6300720" y="6361200"/>
            <a:ext cx="358920" cy="12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6" descr="fish17"/>
          <p:cNvPicPr/>
          <p:nvPr/>
        </p:nvPicPr>
        <p:blipFill>
          <a:blip r:embed="rId10"/>
          <a:stretch/>
        </p:blipFill>
        <p:spPr>
          <a:xfrm>
            <a:off x="6732720" y="5497560"/>
            <a:ext cx="360360" cy="12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37" descr="b1"/>
          <p:cNvPicPr/>
          <p:nvPr/>
        </p:nvPicPr>
        <p:blipFill>
          <a:blip r:embed="rId11"/>
          <a:stretch/>
        </p:blipFill>
        <p:spPr>
          <a:xfrm>
            <a:off x="250920" y="629280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38" descr="b1"/>
          <p:cNvPicPr/>
          <p:nvPr/>
        </p:nvPicPr>
        <p:blipFill>
          <a:blip r:embed="rId12"/>
          <a:stretch/>
        </p:blipFill>
        <p:spPr>
          <a:xfrm>
            <a:off x="2916360" y="5157720"/>
            <a:ext cx="320400" cy="40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39" descr="b1"/>
          <p:cNvPicPr/>
          <p:nvPr/>
        </p:nvPicPr>
        <p:blipFill>
          <a:blip r:embed="rId13"/>
          <a:stretch/>
        </p:blipFill>
        <p:spPr>
          <a:xfrm>
            <a:off x="1116000" y="6093000"/>
            <a:ext cx="441360" cy="620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40"/>
          <p:cNvSpPr/>
          <p:nvPr/>
        </p:nvSpPr>
        <p:spPr>
          <a:xfrm>
            <a:off x="826920" y="2349360"/>
            <a:ext cx="792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一艘艘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船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装满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了鱼和虾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41"/>
          <p:cNvSpPr/>
          <p:nvPr/>
        </p:nvSpPr>
        <p:spPr>
          <a:xfrm>
            <a:off x="3205080" y="1197000"/>
            <a:ext cx="187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42" descr="anniu"/>
          <p:cNvPicPr/>
          <p:nvPr/>
        </p:nvPicPr>
        <p:blipFill>
          <a:blip r:embed="rId14"/>
          <a:stretch/>
        </p:blipFill>
        <p:spPr>
          <a:xfrm>
            <a:off x="0" y="0"/>
            <a:ext cx="1187280" cy="549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43"/>
          <p:cNvSpPr/>
          <p:nvPr/>
        </p:nvSpPr>
        <p:spPr>
          <a:xfrm>
            <a:off x="5651640" y="1197000"/>
            <a:ext cx="187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44"/>
          <p:cNvSpPr/>
          <p:nvPr/>
        </p:nvSpPr>
        <p:spPr>
          <a:xfrm>
            <a:off x="2124000" y="3716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Arial"/>
                <a:ea typeface="黑体"/>
              </a:rPr>
              <a:t>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45"/>
          <p:cNvSpPr/>
          <p:nvPr/>
        </p:nvSpPr>
        <p:spPr>
          <a:xfrm>
            <a:off x="4427640" y="371628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，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  <a:ea typeface="黑体"/>
              </a:rPr>
              <a:t>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42920" y="4365720"/>
            <a:ext cx="1081080" cy="360"/>
            <a:chOff x="1042920" y="4365720"/>
            <a:chExt cx="1081080" cy="360"/>
          </a:xfrm>
        </p:grpSpPr>
        <p:sp>
          <p:nvSpPr>
            <p:cNvPr id="115" name="Line 1046"/>
            <p:cNvSpPr/>
            <p:nvPr/>
          </p:nvSpPr>
          <p:spPr>
            <a:xfrm>
              <a:off x="1042920" y="4365720"/>
              <a:ext cx="10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1042920" y="43657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564000" y="4365720"/>
            <a:ext cx="1079280" cy="360"/>
            <a:chOff x="3564000" y="4365720"/>
            <a:chExt cx="1079280" cy="360"/>
          </a:xfrm>
        </p:grpSpPr>
        <p:sp>
          <p:nvSpPr>
            <p:cNvPr id="118" name="Line 1047"/>
            <p:cNvSpPr/>
            <p:nvPr/>
          </p:nvSpPr>
          <p:spPr>
            <a:xfrm flipH="1">
              <a:off x="3564000" y="436572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564000" y="436572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443640" y="4365720"/>
            <a:ext cx="1152720" cy="360"/>
            <a:chOff x="6443640" y="4365720"/>
            <a:chExt cx="1152720" cy="360"/>
          </a:xfrm>
        </p:grpSpPr>
        <p:sp>
          <p:nvSpPr>
            <p:cNvPr id="121" name="Line 1048"/>
            <p:cNvSpPr/>
            <p:nvPr/>
          </p:nvSpPr>
          <p:spPr>
            <a:xfrm>
              <a:off x="6443640" y="4365720"/>
              <a:ext cx="11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6443640" y="436572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049"/>
          <p:cNvSpPr/>
          <p:nvPr/>
        </p:nvSpPr>
        <p:spPr>
          <a:xfrm>
            <a:off x="7667640" y="3716280"/>
            <a:ext cx="3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50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草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692360" y="404640"/>
            <a:ext cx="444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总结学习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55640" y="2060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看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76720" y="220500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读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427640" y="378936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抓住关键字词看图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68360" y="3645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再读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2771640" y="2349360"/>
            <a:ext cx="1225800" cy="362160"/>
          </a:xfrm>
          <a:custGeom>
            <a:avLst/>
            <a:gdLst>
              <a:gd name="textAreaLeft" fmla="*/ 153000 w 1225800"/>
              <a:gd name="textAreaRight" fmla="*/ 1072800 w 122580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7020000" y="292428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58" stAng="-5400000" swAng="5400000"/>
                <a:lnTo>
                  <a:pt x="21600" y="11880"/>
                </a:lnTo>
                <a:arcTo wR="21600" hR="7558" stAng="0" swAng="2682451"/>
                <a:lnTo>
                  <a:pt x="7199" y="21168"/>
                </a:lnTo>
                <a:lnTo>
                  <a:pt x="0" y="17277"/>
                </a:lnTo>
                <a:lnTo>
                  <a:pt x="7199" y="12522"/>
                </a:lnTo>
                <a:lnTo>
                  <a:pt x="7199" y="14684"/>
                </a:lnTo>
                <a:arcTo wR="21600" hR="7558" stAng="2682451" swAng="-2324829"/>
                <a:lnTo>
                  <a:pt x="20698" y="9719"/>
                </a:lnTo>
                <a:arcTo wR="21600" hR="7558" stAng="-357622" swAng="-5042378"/>
                <a:close/>
              </a:path>
              <a:path fill="darkenLess" w="21600" h="21600">
                <a:moveTo>
                  <a:pt x="0" y="0"/>
                </a:moveTo>
                <a:arcTo wR="21600" hR="7558" stAng="-5400000" swAng="5400000"/>
                <a:lnTo>
                  <a:pt x="21600" y="11880"/>
                </a:lnTo>
                <a:arcTo wR="21600" hR="7558" stAng="0" swAng="-357622"/>
                <a:lnTo>
                  <a:pt x="20698" y="9719"/>
                </a:lnTo>
                <a:arcTo wR="21600" hR="7558" stAng="-357622" swAng="-5042378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flipH="1" flipV="1">
            <a:off x="2771640" y="3859920"/>
            <a:ext cx="1224000" cy="360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97" y="5400"/>
                </a:lnTo>
                <a:lnTo>
                  <a:pt x="16197" y="0"/>
                </a:lnTo>
                <a:lnTo>
                  <a:pt x="21600" y="10800"/>
                </a:lnTo>
                <a:lnTo>
                  <a:pt x="16197" y="21600"/>
                </a:lnTo>
                <a:lnTo>
                  <a:pt x="16197" y="16200"/>
                </a:lnTo>
                <a:lnTo>
                  <a:pt x="0" y="16200"/>
                </a:lnTo>
                <a:lnTo>
                  <a:pt x="270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689-2416-4F44-8466-3B74717D248D}" type="slidenum">
              <a:t>8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22480" y="666720"/>
            <a:ext cx="150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1628640"/>
            <a:ext cx="428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图：            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这是谁的家乡？  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他的家乡在哪里？有什么事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他喜欢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读文：自由读、听同学读、找好词好句反复读、小组齐声表演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用自己的话说说图上的意思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95280" y="836640"/>
            <a:ext cx="26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宋体"/>
              </a:rPr>
              <a:t>学习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pic_253021"/>
          <p:cNvPicPr/>
          <p:nvPr/>
        </p:nvPicPr>
        <p:blipFill>
          <a:blip r:embed="rId1"/>
          <a:srcRect l="2000" t="5114" r="2000" b="5027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7948800" y="1908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画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0" y="18900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libri"/>
                <a:ea typeface="宋体"/>
              </a:rPr>
              <a:t>小组合作学习第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  <a:ea typeface="Calibri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Calibri"/>
                <a:ea typeface="宋体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03:3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45:03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