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979-CF94-4BAE-A34B-11285927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5BB-38DE-4A54-A1BB-95327526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0AB-44AF-490C-982F-CA21B7FB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C3D-FC74-45A1-AB04-2893A24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8C4-0001-466B-A688-6C4F664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A94-4CD8-41BA-B090-B0E2FF81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408-D004-4751-BF06-2A3A767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91C-3BEC-4136-9CA3-AB659EEE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514-54E1-46CF-8232-508555A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1C1-620E-49CA-A779-0C6233B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A8E-1901-41B4-A26F-B3F9920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C2B-D6AD-4D32-B834-CB37454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6BBF-11B9-4F73-8C7A-396DF3A5F2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52320" y="1225440"/>
            <a:ext cx="3486240" cy="12733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5559480" y="5229360"/>
            <a:ext cx="358452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6357960" cy="28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986200" y="3333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礼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7" descr=""/>
          <p:cNvPicPr/>
          <p:nvPr/>
        </p:nvPicPr>
        <p:blipFill>
          <a:blip r:embed="rId1"/>
          <a:stretch/>
        </p:blipFill>
        <p:spPr>
          <a:xfrm>
            <a:off x="743040" y="652320"/>
            <a:ext cx="3975120" cy="1756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2"/>
          <a:stretch/>
        </p:blipFill>
        <p:spPr>
          <a:xfrm>
            <a:off x="1255680" y="3236760"/>
            <a:ext cx="2646360" cy="1163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3"/>
          <a:stretch/>
        </p:blipFill>
        <p:spPr>
          <a:xfrm>
            <a:off x="1255680" y="2548080"/>
            <a:ext cx="2646360" cy="117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50864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30240" y="371520"/>
            <a:ext cx="6364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E55-C474-4215-B60B-9C067FE67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28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1:34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