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B82-BC31-4EA9-8810-565EF33A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515-B5BA-459F-B36E-F0A32A2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2E4-E1A3-4151-BF47-3EB3F5AC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BE0-8DDF-405D-BED8-E29B9982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84E6-A252-4458-AEDC-57E5BC1E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5C5-B8D6-445A-B242-CBA7660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7B4-D5BA-43F0-978C-2A70B2C4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8CF4-6EDE-4771-B521-CBB618B1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FE52-1773-44BE-8F24-403437D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C026-719E-4858-84D3-5DC0BA8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00CF-6BD4-4CB5-8908-3411C9C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DC4-7169-4782-AE81-ABD397A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D96-9053-4A4B-9F19-2DA4473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2D38-D5E5-40E9-B0DE-DE9807A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288-9569-4D00-A71F-7ACF0DDE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4412-3F79-477F-89DE-1B24B9FF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170-1E8F-4E6A-92DC-1606D60A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89A-76CA-4BDA-844B-64FD35A7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0A4-1731-4876-8551-B8554D5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B7D-FDF8-49B4-A7A4-C8CEB15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006-3F0F-4F16-A209-C7D0BE55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3F7-7B0D-46DA-8BAE-6F5509C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711-75DF-4E90-9538-F5DB74B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026-088F-4EC8-B26E-226DEF1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400"/>
            <a:ext cx="1525680" cy="1227240"/>
            <a:chOff x="152280" y="374400"/>
            <a:chExt cx="1525680" cy="1227240"/>
          </a:xfrm>
        </p:grpSpPr>
        <p:sp>
          <p:nvSpPr>
            <p:cNvPr id="2" name="Freeform 4"/>
            <p:cNvSpPr/>
            <p:nvPr/>
          </p:nvSpPr>
          <p:spPr>
            <a:xfrm>
              <a:off x="1171440" y="785520"/>
              <a:ext cx="506520" cy="50616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520"/>
              <a:ext cx="506520" cy="50616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400"/>
              <a:ext cx="1307160" cy="1227240"/>
              <a:chOff x="240480" y="374400"/>
              <a:chExt cx="1307160" cy="122724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400"/>
                <a:ext cx="1305000" cy="12250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52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244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01C-1FCE-45A2-951E-965E8B9A0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60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720" y="473040"/>
                <a:ext cx="209052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71bb96"/>
                </a:gs>
                <a:gs pos="50000">
                  <a:srgbClr val="000000"/>
                </a:gs>
                <a:gs pos="100000">
                  <a:srgbClr val="71bb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D4D7-3A2D-4D89-AD39-4B965E90A3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velopment  of Biomass in Three Gorges Zon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40280" y="419112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楷体"/>
                <a:ea typeface="楷体"/>
              </a:rPr>
              <a:t>灰绿色</a:t>
            </a:r>
            <a:r>
              <a:rPr b="0" lang="en-US" sz="4000" spc="-1" strike="noStrike">
                <a:solidFill>
                  <a:srgbClr val="eaeaea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eaeaea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2362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tent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22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  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 Our local biomass and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  Persp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  Current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248520" y="4343400"/>
            <a:ext cx="236196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quid  Produ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09880" y="609480"/>
            <a:ext cx="1524240" cy="60984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mas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285640" y="1219320"/>
            <a:ext cx="152388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495680" y="1219320"/>
            <a:ext cx="0" cy="1218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334120" y="1219320"/>
            <a:ext cx="152388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43000" y="2362320"/>
            <a:ext cx="1676520" cy="990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hysical metho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29000" y="2438280"/>
            <a:ext cx="198108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emical metho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095880" y="2438280"/>
            <a:ext cx="221004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engineering metho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1981080" y="335268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143000" y="4191120"/>
            <a:ext cx="175248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olid fuel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419720" y="3352680"/>
            <a:ext cx="289548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7391520" y="3352680"/>
            <a:ext cx="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29000" y="4267080"/>
            <a:ext cx="213372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Gas  Produ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419720" y="335268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495680" y="3352680"/>
            <a:ext cx="2895840" cy="83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200400" y="5638680"/>
            <a:ext cx="251460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419720" y="5181480"/>
            <a:ext cx="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7467480" y="51814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6172200" y="5715000"/>
            <a:ext cx="274320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actic acid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uel ethanol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ethanol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biodies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transformation of biomass (cellulos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gh temperature gasifica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yrolys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t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h/Ce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Rh/Ce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Si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formation of tar (complex liquid mixture of oxygenates and higher hydrocarbons), and char (the carbonaceous solid) and the tough conditions of the gasification reac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transformation of biomass (cellulos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t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h/Ce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Rh/Ce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/Si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w temperatures (823K-923K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w impurity cont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lcome  Pro.Alan G.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 give us your advice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 very much!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3BD-FE4E-40E3-A4D2-023D510DA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39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1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